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11.jpeg" ContentType="image/jpeg"/>
  <Override PartName="/ppt/media/image13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7D2-4DF6-469A-91BE-C1AA045A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6B2-734F-4C2D-8944-72476D9F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0C8-E4D6-4F6F-B775-93B206D6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E16-38F5-40B5-A699-6F3767DF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573-8756-40D1-B54C-78452BA0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664-5B59-453F-8C27-54171F5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D4D7-146D-4150-A540-72D324A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810E-D663-4B25-879F-D9CB468B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D309-8613-40B5-88E8-C518C11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71E7-B10D-4A9D-9A12-F725EC6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F9C2-06AB-4BCC-96BE-2153D9D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34E-3545-45D8-AE68-CA6326C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D0E-B301-455C-8D55-054C336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855B-6205-4701-A8FF-4533C878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6B7-5B8D-4F8A-9FDD-54295C29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1CF0-09D5-4FC0-BDBF-04399727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BE2C-F434-4605-A3F1-5172A99F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142-D76C-44DF-9C97-23CC8823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9FC-6F5E-4910-8864-1554394D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27F-7879-49D0-A6FF-FE0B4361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91E-FF3A-48A0-AA8F-F12A509F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BAE-35E5-4691-97DD-4536BCF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856-47B7-4705-A7D3-CE45E2B8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B83-AD33-4471-8FFD-BB84368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EC8D-DFBA-46EF-AD76-FB0092E20E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6B3-FCF2-42B5-B9C8-AB6DF41F4D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002.radikal.ru/i198/1003/6e/20ff713f375f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380880"/>
            <a:ext cx="8534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арший воспитатель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ДОУ «Детский сад № 185»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узнецова Марина  Владимировн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914400" y="76212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2060"/>
                </a:solidFill>
                <a:uFillTx/>
                <a:latin typeface="Arial"/>
              </a:rPr>
              <a:t>Семинар-практикум: «Организация и содержание работы педагогических работников в рамках самообразования»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2" name="Picture 2" descr="F:\консультация по плану\самообразование2\img7.jpg"/>
          <p:cNvPicPr/>
          <p:nvPr/>
        </p:nvPicPr>
        <p:blipFill>
          <a:blip r:embed="rId3"/>
          <a:stretch/>
        </p:blipFill>
        <p:spPr>
          <a:xfrm>
            <a:off x="380880" y="38088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3" name="Прямая со стрелкой 11"/>
          <p:cNvCxnSpPr/>
          <p:nvPr/>
        </p:nvCxnSpPr>
        <p:spPr>
          <a:xfrm flipH="1">
            <a:off x="6857640" y="1213920"/>
            <a:ext cx="2160" cy="7866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154" name="Прямая со стрелкой 10"/>
          <p:cNvCxnSpPr/>
          <p:nvPr/>
        </p:nvCxnSpPr>
        <p:spPr>
          <a:xfrm flipH="1">
            <a:off x="1928520" y="1213920"/>
            <a:ext cx="2160" cy="7866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solidFill>
            <a:srgbClr val="adffd6"/>
          </a:solidFill>
          <a:ln w="28440">
            <a:solidFill>
              <a:srgbClr val="cc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2060"/>
                </a:solidFill>
                <a:latin typeface="Garamond"/>
              </a:rPr>
              <a:t>Формы самообраз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2000160"/>
            <a:ext cx="3357360" cy="571680"/>
          </a:xfrm>
          <a:prstGeom prst="rect">
            <a:avLst/>
          </a:prstGeom>
          <a:solidFill>
            <a:srgbClr val="adffd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Индивиду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857840" y="2000160"/>
            <a:ext cx="4038480" cy="1857600"/>
          </a:xfrm>
          <a:prstGeom prst="rect">
            <a:avLst/>
          </a:prstGeom>
          <a:solidFill>
            <a:srgbClr val="adffd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Группов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МО, творческие группы, семинары, практику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D:\Ангелина\risunki\Рисунок2.png"/>
          <p:cNvPicPr/>
          <p:nvPr/>
        </p:nvPicPr>
        <p:blipFill>
          <a:blip r:embed="rId1"/>
          <a:stretch/>
        </p:blipFill>
        <p:spPr>
          <a:xfrm>
            <a:off x="5286240" y="4000680"/>
            <a:ext cx="3500640" cy="269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D:\Ангелина\risunki\рисунки\Рисунок2.emf"/>
          <p:cNvPicPr/>
          <p:nvPr/>
        </p:nvPicPr>
        <p:blipFill>
          <a:blip r:embed="rId2"/>
          <a:stretch/>
        </p:blipFill>
        <p:spPr>
          <a:xfrm>
            <a:off x="500040" y="2928960"/>
            <a:ext cx="2286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533520" y="1219320"/>
            <a:ext cx="82296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ственное профессиональное развит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редственная работа с детьми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Сотрудничество с семьёй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Тесная связь с коллегами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Сетевые педагогические сообщества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533520" y="18288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ственное профессиональное развитие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посредственная работа с детьми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трудничество с семьёй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есная связь с коллегами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5. Сетевые педагогические сообщества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" name="Picture 3" descr="F:\консультация по плану\самообразование2\slide_12.jpg"/>
          <p:cNvPicPr/>
          <p:nvPr/>
        </p:nvPicPr>
        <p:blipFill>
          <a:blip r:embed="rId3"/>
          <a:stretch/>
        </p:blipFill>
        <p:spPr>
          <a:xfrm>
            <a:off x="295200" y="485640"/>
            <a:ext cx="855360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533520" y="60948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 Black"/>
                <a:ea typeface="Times New Roman"/>
              </a:rPr>
              <a:t>Технология организации  самообразования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 Black"/>
                <a:ea typeface="Times New Roman"/>
              </a:rPr>
              <a:t>1 этап – диагностически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 Black"/>
                <a:ea typeface="Times New Roman"/>
              </a:rPr>
              <a:t>2 этап - обучающи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 Black"/>
                <a:ea typeface="Times New Roman"/>
              </a:rPr>
              <a:t>3 этап - практически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 Black"/>
                <a:ea typeface="Times New Roman"/>
              </a:rPr>
              <a:t>4 этап - внедрение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 Black"/>
                <a:ea typeface="Times New Roman"/>
              </a:rPr>
              <a:t>5 этап – обобщающий (итогово-контрольный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609480" y="2057400"/>
            <a:ext cx="79250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циально-коммуникативной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ой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художественно-эстетической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ласти речевого развития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ласти физического развития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словно темы подразделяются на два вида: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раткосрочные (реализуются в течение года)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лгосрочные (реализуются от трех до пяти лет)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304920" y="685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емы по самообразованию для педагогов в детском саду по ФГОС формулируются в зависимости от области (сферы) применения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609480" y="1295280"/>
            <a:ext cx="792504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БИРАЮТСЯ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учетом индивидуального опыта и профессионального мастерства каждого педагога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аны с прогнозируемым результатом (что хотим узнать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ы на достижение качественно новых результатов работы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ГУТ БЫТЬ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а из годовых задач ДОУ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а, которая вызывает у педагога затруднение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полнение знаний по уже имеющемуся опыту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30492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БОР ТЕМЫ ДЛЯ САМООБРАЗОВАНИЯ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304920" y="304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лан работы по самообразованию</a:t>
            </a:r>
            <a:br>
              <a:rPr sz="1800"/>
            </a:b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воспитателя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Прямоугольник 7"/>
          <p:cNvSpPr/>
          <p:nvPr/>
        </p:nvSpPr>
        <p:spPr>
          <a:xfrm>
            <a:off x="228600" y="114300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_______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на 20____ / ____ учебный год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Тема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___________________________________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Актуальность: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___________________________________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Дата начала работы над темой ______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редполагаемая дата окончания работы 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Цель работы по самообразованию :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Задачи: ___________________________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редполагаемый результат:_________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Действия и мероприятия, проводимые в процессе работы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Форма отчета по проделанной работе:_______________________________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304920" y="304920"/>
            <a:ext cx="792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228600" y="1143000"/>
            <a:ext cx="861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1523880"/>
          <a:ext cx="8642520" cy="3313080"/>
        </p:xfrm>
        <a:graphic>
          <a:graphicData uri="http://schemas.openxmlformats.org/drawingml/2006/table">
            <a:tbl>
              <a:tblPr/>
              <a:tblGrid>
                <a:gridCol w="1800360"/>
                <a:gridCol w="1296720"/>
                <a:gridCol w="2016360"/>
                <a:gridCol w="3529080"/>
              </a:tblGrid>
              <a:tr h="17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здел плана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роки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Форма работы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актические выходы (рефераты, доклады, открытый просмотр, выставка работ и т.д.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Выводы: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42840" y="304920"/>
            <a:ext cx="59720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Garamond"/>
              </a:rPr>
              <a:t>Контроль за самообразованием педагога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0" y="1980720"/>
            <a:ext cx="6500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це учебного года каждый педагог ДОУ               должен написать </a:t>
            </a: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подготовить </a:t>
            </a: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ю</a:t>
            </a: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 работе по самообразованию с анализом, выводами и рекомендациями для других педагог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це учебного года каждый педагог готовит план работы по самообразованию на следующий учебный го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педагога заслушивается на итоговом педсовете, заседании МО (творческой групп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9" descr="iCA852L5B.jpg"/>
          <p:cNvPicPr/>
          <p:nvPr/>
        </p:nvPicPr>
        <p:blipFill>
          <a:blip r:embed="rId1"/>
          <a:stretch/>
        </p:blipFill>
        <p:spPr>
          <a:xfrm>
            <a:off x="0" y="228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380880"/>
            <a:ext cx="8534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838080" y="7621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Я чувствую себя вправе сказать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 здравствует самообразование во всех областях!.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лько те знания прочны и ценны, которые Вы добывали сами, побуждаемые собственной страстью. Всякое знание должно быть открытием, которое вы делали сами…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.И.Чуковски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30492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Оформление пла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228600" y="11430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Титульный лис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Творческая визитка педаго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Научно-методическая и профессионально-педагогическая деятельность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Оценка профессиональной деятельности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304920" y="18288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Arial"/>
              </a:rPr>
              <a:t>Проблемы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304920" y="129528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Arial"/>
              </a:rPr>
              <a:t>Не могу определиться с темой самообразования, выделить ее актуальность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304920" y="129528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Выделите из многообразия проблем, которые вытекают из наблюдений за детьми, результатов диагностики, анализа работы  ту, которая является для вас главной и решение которой могло бы дать устойчивый положительный результат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Определите актуальность данной проблемы, перспективность и практическую значимость для повышения воспитательно-образовательного процесса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304920" y="129528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Arial"/>
              </a:rPr>
              <a:t>Не могу правильно сформулировать тему самообразования 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2" name="Picture 5" descr="D:\Ангелина\risunki\рисунки\Рисунок1.wmf"/>
          <p:cNvPicPr/>
          <p:nvPr/>
        </p:nvPicPr>
        <p:blipFill>
          <a:blip r:embed="rId3"/>
          <a:stretch/>
        </p:blipFill>
        <p:spPr>
          <a:xfrm>
            <a:off x="2819520" y="3657600"/>
            <a:ext cx="2743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304920" y="1295280"/>
            <a:ext cx="79246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Формулируйте  темы по схемам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- ЧТО-ТО как условие развития ЧЕГО-ЛИБО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- ЧТО-ТО как средство формирования ЧЕГО-ЛИБО;</a:t>
            </a: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- Использование ЧЕГО-ЛИБО как средство (или условие) развития  (или формирования, воспитания, становления) ЧЕГО-ТО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304920" y="129528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Arial"/>
              </a:rPr>
              <a:t>Подбор литературы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5" name="Picture 4" descr="rn_7"/>
          <p:cNvPicPr/>
          <p:nvPr/>
        </p:nvPicPr>
        <p:blipFill>
          <a:blip r:embed="rId3"/>
          <a:stretch/>
        </p:blipFill>
        <p:spPr>
          <a:xfrm>
            <a:off x="2438280" y="2884320"/>
            <a:ext cx="3843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Картинка 57 из 2285"/>
          <p:cNvPicPr/>
          <p:nvPr/>
        </p:nvPicPr>
        <p:blipFill>
          <a:blip r:embed="rId1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304920" y="6094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Подбор литературы осуществляйте следующим образом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- просмотр и обзор оглавления, введения, резюме дает общее представление о замысле книги, делает чтение осмысленным и целенаправленным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- ответьте на вопрос: могу ли я  узнать из книги то, что мне нужно, изучив оглавление содержания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С чего начать изучение подобранной литературы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- начните с изучения традиционных методик по данной проблеме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- изучите современные взгляды на проблему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- используйте опыт других педагогов и ДОУ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2" name="Picture 9" descr="j0284135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Картинка 57 из 2285"/>
          <p:cNvPicPr/>
          <p:nvPr/>
        </p:nvPicPr>
        <p:blipFill>
          <a:blip r:embed="rId1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304920" y="609480"/>
            <a:ext cx="838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24000" y="261360"/>
            <a:ext cx="33112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ВАЖНО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, чтобы знания по какому-­либо вопросу, приобретаемые из одного источника, дополнялись сведениями из другого документа. Это заставляет занимающегося сравнивать, анализировать, делать выводы и формировать свое собственное мнение по данному вопросу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364000" y="405720"/>
            <a:ext cx="324036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ВАЖНО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 научиться пользоваться библиотечными каталогами. Это сократит время поиска нужной литературы, так как многие карточки содержат краткую аннотацию или перечисление основных вопросов, раскрываемых в книге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2916360" y="4150080"/>
            <a:ext cx="352872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ВАЖНО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 уметь собирать, накапливать и хранить сведения, факты, выводы. Они пригодятся для выступления на семинарах, педагогических советах, участия в дискуссиях и т. д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Картинка 57 из 2285"/>
          <p:cNvPicPr/>
          <p:nvPr/>
        </p:nvPicPr>
        <p:blipFill>
          <a:blip r:embed="rId1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304920" y="17524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2060"/>
                </a:solidFill>
                <a:uFillTx/>
                <a:latin typeface="Arial"/>
              </a:rPr>
              <a:t>Трудность в формулировке цели и задач работы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8" name="Picture 6" descr="j0432640"/>
          <p:cNvPicPr/>
          <p:nvPr/>
        </p:nvPicPr>
        <p:blipFill>
          <a:blip r:embed="rId2"/>
          <a:stretch/>
        </p:blipFill>
        <p:spPr>
          <a:xfrm>
            <a:off x="3276720" y="3898800"/>
            <a:ext cx="2133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380880" y="3808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Самообразование —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целенаправленная, осознанная, активная, познавательная и творческая деятельность педагога, нацеленная на обогащение своих профессиональных знаний и совершенствование методических приёмов работы с детьми, соответствующих современному уровню развития педагогики и психологии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Картинка 57 из 2285"/>
          <p:cNvPicPr/>
          <p:nvPr/>
        </p:nvPicPr>
        <p:blipFill>
          <a:blip r:embed="rId1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12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304920" y="11430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 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то, что необходимо получить или показать в результате работы.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 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и достижения поставленной цели.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, что нужно сделать, чтобы подтвердить предположение?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Картинка 57 из 2285"/>
          <p:cNvPicPr/>
          <p:nvPr/>
        </p:nvPicPr>
        <p:blipFill>
          <a:blip r:embed="rId1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990720" y="137160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нальное самовоспитание, самообразование и самовыражение - это основные условия для формирования авторитета педагога ДОУ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Картинка 57 из 2285"/>
          <p:cNvPicPr/>
          <p:nvPr/>
        </p:nvPicPr>
        <p:blipFill>
          <a:blip r:embed="rId1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990720" y="1905120"/>
            <a:ext cx="7416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Arial"/>
              </a:rPr>
              <a:t>Успехов 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Arial"/>
              </a:rPr>
              <a:t>в работе!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8088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533520" y="1600200"/>
            <a:ext cx="83055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амообразование – это целенаправленная познавательная деятельность.</a:t>
            </a: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амообразование – это приобретение знаний путем самостоятельных занятий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помощи преподавател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               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С.И. ОЖЕГОВ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09480" y="47484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Цель-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Bookman Old Style"/>
              </a:rPr>
              <a:t>систематическое повышение педагогами своего профессионального уровня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Задачи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Bookman Old Style"/>
              </a:rPr>
              <a:t>совершенствование теоретических знаний, педагогического мастерства участников образовательного процесса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Bookman Old Style"/>
              </a:rPr>
              <a:t>овладение новыми формами, методами и приемами обучения и воспитания детей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Bookman Old Style"/>
              </a:rPr>
              <a:t>изучение и внедрение в практику передового педагогического опыта, новейших достижений педагогической, психологической и других специальных наук, новых педагогических технологий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Срок работы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над темой определяется индивидуально и может составлять от 1 года до 3-х (5-ти) лет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990720" y="609480"/>
            <a:ext cx="76960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РИНЦИПЫ САМООБРАЗОВАНИЯ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Непрерывност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Взаимосвяз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Соответствие направления раскрытия выбранной темы общей стратегии образовательного процесса в ДОУ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Доступност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8" name="Picture 2" descr="F:\консультация по плану\самообразование2\img3.jpg"/>
          <p:cNvPicPr/>
          <p:nvPr/>
        </p:nvPicPr>
        <p:blipFill>
          <a:blip r:embed="rId3"/>
          <a:stretch/>
        </p:blipFill>
        <p:spPr>
          <a:xfrm>
            <a:off x="571680" y="357120"/>
            <a:ext cx="8316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Organization Chart 2"/>
          <p:cNvGrpSpPr/>
          <p:nvPr/>
        </p:nvGrpSpPr>
        <p:grpSpPr>
          <a:xfrm>
            <a:off x="0" y="0"/>
            <a:ext cx="9143640" cy="6856920"/>
            <a:chOff x="0" y="0"/>
            <a:chExt cx="9143640" cy="6856920"/>
          </a:xfrm>
        </p:grpSpPr>
        <p:cxnSp>
          <p:nvCxnSpPr>
            <p:cNvPr id="131" name="_s1028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5662800" y="1559520"/>
              <a:ext cx="1372320" cy="373680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134" name="_s1029"/>
            <p:cNvCxnSpPr>
              <a:stCxn id="135" idx="0"/>
              <a:endCxn id="133" idx="3"/>
            </p:cNvCxnSpPr>
            <p:nvPr/>
          </p:nvCxnSpPr>
          <p:spPr>
            <a:xfrm flipV="1" rot="16200000">
              <a:off x="4478040" y="2745000"/>
              <a:ext cx="1372320" cy="136620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136" name="_s1030"/>
            <p:cNvCxnSpPr>
              <a:stCxn id="137" idx="0"/>
              <a:endCxn id="133" idx="3"/>
            </p:cNvCxnSpPr>
            <p:nvPr/>
          </p:nvCxnSpPr>
          <p:spPr>
            <a:xfrm flipH="1" flipV="1" rot="5400000">
              <a:off x="3292200" y="2925720"/>
              <a:ext cx="1372320" cy="100512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138" name="_s1031"/>
            <p:cNvCxnSpPr>
              <a:stCxn id="139" idx="0"/>
              <a:endCxn id="133" idx="3"/>
            </p:cNvCxnSpPr>
            <p:nvPr/>
          </p:nvCxnSpPr>
          <p:spPr>
            <a:xfrm flipH="1" flipV="1" rot="5400000">
              <a:off x="2106720" y="1739880"/>
              <a:ext cx="1372320" cy="3376440"/>
            </a:xfrm>
            <a:prstGeom prst="bentConnector3">
              <a:avLst>
                <a:gd name="adj1" fmla="val 14274"/>
              </a:avLst>
            </a:prstGeom>
            <a:ln w="28440">
              <a:solidFill>
                <a:srgbClr val="cccc99"/>
              </a:solidFill>
              <a:miter/>
            </a:ln>
          </p:spPr>
        </p:cxnSp>
        <p:sp>
          <p:nvSpPr>
            <p:cNvPr id="133" name="_s1032"/>
            <p:cNvSpPr/>
            <p:nvPr/>
          </p:nvSpPr>
          <p:spPr>
            <a:xfrm>
              <a:off x="3555360" y="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7cd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мпоненты 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отовности педагога  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амообразованию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0" y="411444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гнитивный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базовая культура личности,  профессиональные знания,  умение их применять)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>
              <a:off x="2370600" y="411444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й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осознание личной и общественной значимости непрерывного образования)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7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_s1035"/>
            <p:cNvSpPr/>
            <p:nvPr/>
          </p:nvSpPr>
          <p:spPr>
            <a:xfrm>
              <a:off x="4741560" y="4114440"/>
              <a:ext cx="203220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организационный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умение выбрать источники познания и формы самообразования)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_s1036"/>
            <p:cNvSpPr/>
            <p:nvPr/>
          </p:nvSpPr>
          <p:spPr>
            <a:xfrm>
              <a:off x="7112520" y="4114440"/>
              <a:ext cx="2031120" cy="2742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нравственно-волево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любознательность,  критичность, трудоспособность)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Картинка 57 из 2285">
            <a:hlinkClick r:id="rId1"/>
          </p:cNvPr>
          <p:cNvPicPr/>
          <p:nvPr/>
        </p:nvPicPr>
        <p:blipFill>
          <a:blip r:embed="rId2"/>
          <a:srcRect l="10978" t="25813" r="21787" b="402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685800" y="114300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uFillTx/>
                <a:latin typeface="Arial"/>
              </a:rPr>
              <a:t> 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uFillTx/>
              <a:latin typeface="Arial"/>
              <a:ea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219320" y="4876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990720" y="609480"/>
            <a:ext cx="769608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сточники знаний: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 знаний способствующие личностному росту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, способствующие профессиональному росту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6" name="Picture 4" descr="clip_image001"/>
          <p:cNvPicPr/>
          <p:nvPr/>
        </p:nvPicPr>
        <p:blipFill>
          <a:blip r:embed="rId3"/>
          <a:stretch/>
        </p:blipFill>
        <p:spPr>
          <a:xfrm rot="1696800">
            <a:off x="307440" y="339840"/>
            <a:ext cx="18846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006520</dc:creator>
  <dc:description/>
  <dc:language>en-US</dc:language>
  <cp:lastModifiedBy>1006520</cp:lastModifiedBy>
  <dcterms:modified xsi:type="dcterms:W3CDTF">2022-04-05T20:13:04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