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8A47-AE7D-4AB4-B732-118CA310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63F-2FA7-4961-B326-6C80A64D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7E00-CA41-4F0E-A010-06F4CE79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B75-251D-4C6D-9D72-23850998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8965-4DF1-4789-963B-C036AE90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9E72-5356-4976-A8C3-EA6918DB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D663-467B-4A5B-89F8-463CCC8A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53BA-BE23-42DE-918B-84827B2D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DC2C-B34E-46CA-BFED-F764619D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E604-F43E-41CA-9153-4F4F5590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53B9-86E0-468D-BF30-FD9FEA0C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6B5-DFBB-432C-B96A-65ABF7FD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DBAF-069F-4C9C-8EFD-FDA8F2D3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2F01-2DF1-448F-ADD7-90FFB6FC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CEC4-D9A8-4435-A1AC-4EFFE5E2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1F75-CAB0-4C3A-BE3D-0B28091A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ED53-692A-4BF5-B949-95ACF335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00D-6472-4A55-8100-DC04A7D8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235-DBC6-4F76-B5BA-00E999CE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01A-AB75-454F-8FD8-B006BC3D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800-620F-41BC-8E94-B2597678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30F1-8704-4A51-A4E0-81B18267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5BB7-8D16-474D-8F47-7B4101E5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47C-9A49-4B88-A4FC-0A66E2F2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EAB4-E891-422B-9217-D2ADBA68FB9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B96F-5BBB-4D9F-9CEC-A3AEDBAAD2E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125360" y="1857240"/>
            <a:ext cx="6564600" cy="4357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9" name="WordArt 5"/>
          <p:cNvSpPr txBox="1"/>
          <p:nvPr/>
        </p:nvSpPr>
        <p:spPr>
          <a:xfrm>
            <a:off x="395280" y="214200"/>
            <a:ext cx="844236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Психология </a:t>
            </a:r>
            <a:endParaRPr b="0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ейных   взаимоотношений»</a:t>
            </a:r>
            <a:endParaRPr b="0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Главные ошибки во взаимоотношении родителей и детей в семь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шком мало ласки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оцелуи и прочие нежности -не так уж важны для ребёнк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различие.   «Делай ,что хочешь- мне всё равно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шком много строгости:  «Ты должен делать то, что я тебе сказала, потому что я в доме главная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ей надо баловать. «Пожалуй, я сделаю  сама. Моему ребёнку- это пока не силам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олеоновские планы.   «Мой ребёнок будет заниматься английским языком, музыкой, вязанием, ходить в бассейн, я не позволю ему упустить свой шанс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шком мало времени остаётся для воспитания ребён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 сожалению, у меня совсем нет времени 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ше настроение.   «Можно или нет? Это зависит от настроения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анк родительской мудрости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Будьте терпеливыми и последовательным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гда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е кричите на ребёнк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ите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об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айтесь научить ребёнка, как исправить неправильный поступ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говаривайте с ребёнком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 тоне уважения и сотрудничества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аточно часто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ибегайте к похвале и поощрению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ем самым вы будете способствовать развитию у ребёнка уверенности в себ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держивайтесь от заявлений, что ребёнок ни к чему не пригоден, от грубостей в стиле «гадкий, злой, бестолковый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уйте любую возможность, чтобы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ысказать ребёнку свою любов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Дмитрий\Desktop\hello_html_m66636574 (1).gif"/>
          <p:cNvPicPr/>
          <p:nvPr/>
        </p:nvPicPr>
        <p:blipFill>
          <a:blip r:embed="rId1"/>
          <a:stretch/>
        </p:blipFill>
        <p:spPr>
          <a:xfrm>
            <a:off x="785880" y="231840"/>
            <a:ext cx="750096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25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b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500040"/>
            <a:ext cx="855504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Пусть в мире будет </a:t>
            </a:r>
            <a:r>
              <a:rPr b="1" i="1" lang="ru-RU" sz="2000" spc="-1" strike="noStrike">
                <a:solidFill>
                  <a:srgbClr val="ff9900"/>
                </a:solidFill>
                <a:latin typeface="Tahoma"/>
              </a:rPr>
              <a:t>больше счастливых семей</a:t>
            </a: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, а значит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9900"/>
                </a:solidFill>
                <a:latin typeface="Tahoma"/>
              </a:rPr>
              <a:t>ДОБРА, счастья и улыбок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00"/>
                </a:solidFill>
                <a:latin typeface="Tahoma"/>
              </a:rPr>
              <a:t>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00"/>
                </a:solidFill>
                <a:latin typeface="Tahoma"/>
              </a:rPr>
              <a:t>                                                                        </a:t>
            </a:r>
            <a:r>
              <a:rPr b="0" lang="ru-RU" sz="2000" spc="-1" strike="noStrike">
                <a:solidFill>
                  <a:srgbClr val="00b000"/>
                </a:solidFill>
                <a:latin typeface="Tahoma"/>
              </a:rPr>
              <a:t>С любовью, педагог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6" descr="C:\Users\Дмитрий\Desktop\5a83e55d6538e3eab51a939386e2ed71.jpeg"/>
          <p:cNvPicPr/>
          <p:nvPr/>
        </p:nvPicPr>
        <p:blipFill>
          <a:blip r:embed="rId1"/>
          <a:stretch/>
        </p:blipFill>
        <p:spPr>
          <a:xfrm>
            <a:off x="928800" y="142920"/>
            <a:ext cx="671508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07:53:05Z</dcterms:created>
  <dc:creator>Кондрашова</dc:creator>
  <dc:description/>
  <dc:language>en-US</dc:language>
  <cp:lastModifiedBy>Дмитрий</cp:lastModifiedBy>
  <dcterms:modified xsi:type="dcterms:W3CDTF">2020-03-11T12:58:57Z</dcterms:modified>
  <cp:revision>23</cp:revision>
  <dc:subject/>
  <dc:title>Слайд 1</dc:title>
</cp:coreProperties>
</file>