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259-45B6-401F-BEE9-F1477BC0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885-C602-4B4A-9A07-DA652CAB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03CE-D833-47BD-BDA7-EFF6424B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A838-B605-40BC-B09E-B68A877D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E98D-82B1-40CB-8440-C6B83BB8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6F00-307D-47A5-9005-900823EB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F998-9D19-4CA9-9B7F-6E9CBF97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D17F-06B0-47A0-8D85-17AA258C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2068-BF86-4F0A-84B8-BD3959CD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2750-B062-4CEA-A7A3-1BD20316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4C94-F718-46C8-92A7-622C23F2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CC39-B297-4678-9335-3DCB06C5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18C5-1E48-4975-8EE8-4B0ADD2C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AC70-F92F-408A-B934-89A3827F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BD94-FDAF-4971-B7FA-21490725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2C36-1610-4360-9B36-80379517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F41A-7C44-4BBF-9808-5CEDEED3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7A6-61FE-4574-8A31-C8608CD7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4DD-7105-400A-B000-D69BEE7D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85A-73A3-4287-BF17-F8DF238C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75E-6E9C-4E72-B662-8F2B86DC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1BA1-17CC-4702-A2C4-7673AB7A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E74-7461-49ED-A495-520A8010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3AA-EA72-46BA-8B92-FAC30998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F7C9-1181-4AEC-88FE-B87FF55048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F666-9163-48E2-A280-B8677D52834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14720" y="1285920"/>
            <a:ext cx="7772400" cy="322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Соотношения между сторонами и углами прямоугольного треугольника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1"/>
          <a:stretch/>
        </p:blipFill>
        <p:spPr>
          <a:xfrm>
            <a:off x="900000" y="3357720"/>
            <a:ext cx="235764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инус острого угла прямоугольного треугольник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23" name="Group 32"/>
          <p:cNvGrpSpPr/>
          <p:nvPr/>
        </p:nvGrpSpPr>
        <p:grpSpPr>
          <a:xfrm>
            <a:off x="468360" y="1125360"/>
            <a:ext cx="3166920" cy="3494520"/>
            <a:chOff x="468360" y="1125360"/>
            <a:chExt cx="3166920" cy="3494520"/>
          </a:xfrm>
        </p:grpSpPr>
        <p:sp>
          <p:nvSpPr>
            <p:cNvPr id="124" name="AutoShape 5"/>
            <p:cNvSpPr/>
            <p:nvPr/>
          </p:nvSpPr>
          <p:spPr>
            <a:xfrm>
              <a:off x="971640" y="1557360"/>
              <a:ext cx="2233440" cy="2663640"/>
            </a:xfrm>
            <a:prstGeom prst="rtTriangl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6"/>
            <p:cNvSpPr/>
            <p:nvPr/>
          </p:nvSpPr>
          <p:spPr>
            <a:xfrm>
              <a:off x="611280" y="4221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С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7"/>
            <p:cNvSpPr/>
            <p:nvPr/>
          </p:nvSpPr>
          <p:spPr>
            <a:xfrm>
              <a:off x="3203640" y="4076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468360" y="112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Rectangle 9"/>
            <p:cNvSpPr/>
            <p:nvPr/>
          </p:nvSpPr>
          <p:spPr>
            <a:xfrm>
              <a:off x="971640" y="3933720"/>
              <a:ext cx="287280" cy="28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Arc 10"/>
            <p:cNvSpPr/>
            <p:nvPr/>
          </p:nvSpPr>
          <p:spPr>
            <a:xfrm flipH="1">
              <a:off x="2699640" y="3933720"/>
              <a:ext cx="647640" cy="287280"/>
            </a:xfrm>
            <a:custGeom>
              <a:avLst/>
              <a:gdLst>
                <a:gd name="textAreaLeft" fmla="*/ -360 w 647640"/>
                <a:gd name="textAreaRight" fmla="*/ 647640 w 64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fill="none" w="21600" h="16129">
                  <a:moveTo>
                    <a:pt x="14367" y="-1"/>
                  </a:moveTo>
                  <a:cubicBezTo>
                    <a:pt x="18968" y="4098"/>
                    <a:pt x="21600" y="9967"/>
                    <a:pt x="21600" y="16129"/>
                  </a:cubicBezTo>
                </a:path>
                <a:path stroke="0" w="21600" h="16129">
                  <a:moveTo>
                    <a:pt x="14367" y="-1"/>
                  </a:moveTo>
                  <a:cubicBezTo>
                    <a:pt x="18968" y="4098"/>
                    <a:pt x="21600" y="9967"/>
                    <a:pt x="21600" y="16129"/>
                  </a:cubicBezTo>
                  <a:lnTo>
                    <a:pt x="0" y="16129"/>
                  </a:lnTo>
                  <a:lnTo>
                    <a:pt x="14367" y="-1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Group 33"/>
          <p:cNvGrpSpPr/>
          <p:nvPr/>
        </p:nvGrpSpPr>
        <p:grpSpPr>
          <a:xfrm>
            <a:off x="468360" y="1557000"/>
            <a:ext cx="2878200" cy="3195360"/>
            <a:chOff x="468360" y="1557000"/>
            <a:chExt cx="2878200" cy="3195360"/>
          </a:xfrm>
        </p:grpSpPr>
        <p:sp>
          <p:nvSpPr>
            <p:cNvPr id="131" name="Text Box 11"/>
            <p:cNvSpPr/>
            <p:nvPr/>
          </p:nvSpPr>
          <p:spPr>
            <a:xfrm>
              <a:off x="1258920" y="429264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рилежащи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 rot="16200000">
              <a:off x="-621360" y="2647080"/>
              <a:ext cx="26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cc00"/>
                  </a:solidFill>
                  <a:latin typeface="Times New Roman"/>
                </a:rPr>
                <a:t>противолежащи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Text Box 13"/>
            <p:cNvSpPr/>
            <p:nvPr/>
          </p:nvSpPr>
          <p:spPr>
            <a:xfrm rot="3109800">
              <a:off x="1366560" y="2455920"/>
              <a:ext cx="18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cc00"/>
                  </a:solidFill>
                  <a:latin typeface="Times New Roman"/>
                </a:rPr>
                <a:t>гипотенуз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Group 26"/>
          <p:cNvGrpSpPr/>
          <p:nvPr/>
        </p:nvGrpSpPr>
        <p:grpSpPr>
          <a:xfrm>
            <a:off x="3059280" y="1916280"/>
            <a:ext cx="5760720" cy="1295280"/>
            <a:chOff x="3059280" y="1916280"/>
            <a:chExt cx="5760720" cy="1295280"/>
          </a:xfrm>
        </p:grpSpPr>
        <p:sp>
          <p:nvSpPr>
            <p:cNvPr id="135" name="Rectangle 15"/>
            <p:cNvSpPr/>
            <p:nvPr/>
          </p:nvSpPr>
          <p:spPr>
            <a:xfrm>
              <a:off x="3130560" y="1916280"/>
              <a:ext cx="5689080" cy="129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14"/>
            <p:cNvSpPr/>
            <p:nvPr/>
          </p:nvSpPr>
          <p:spPr>
            <a:xfrm>
              <a:off x="3059280" y="1916280"/>
              <a:ext cx="57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инусом острого угла прямоугольного треугольника называется отношение противолежащего катета к гипотенузе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Group 25"/>
          <p:cNvGrpSpPr/>
          <p:nvPr/>
        </p:nvGrpSpPr>
        <p:grpSpPr>
          <a:xfrm>
            <a:off x="468360" y="5157720"/>
            <a:ext cx="3671640" cy="1152360"/>
            <a:chOff x="468360" y="5157720"/>
            <a:chExt cx="3671640" cy="1152360"/>
          </a:xfrm>
        </p:grpSpPr>
        <p:sp>
          <p:nvSpPr>
            <p:cNvPr id="140" name="Rectangle 23"/>
            <p:cNvSpPr/>
            <p:nvPr/>
          </p:nvSpPr>
          <p:spPr>
            <a:xfrm>
              <a:off x="468360" y="5157720"/>
              <a:ext cx="3097080" cy="115236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Text Box 16"/>
            <p:cNvSpPr/>
            <p:nvPr/>
          </p:nvSpPr>
          <p:spPr>
            <a:xfrm>
              <a:off x="539640" y="5230800"/>
              <a:ext cx="360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sin A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Object 21"/>
                <p:cNvSpPr txBox="1"/>
                <p:nvPr/>
              </p:nvSpPr>
              <p:spPr>
                <a:xfrm>
                  <a:off x="2773080" y="5157720"/>
                  <a:ext cx="71136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3" name="Rectangle 28"/>
          <p:cNvSpPr/>
          <p:nvPr/>
        </p:nvSpPr>
        <p:spPr>
          <a:xfrm>
            <a:off x="0" y="3030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Group 34"/>
          <p:cNvGrpSpPr/>
          <p:nvPr/>
        </p:nvGrpSpPr>
        <p:grpSpPr>
          <a:xfrm>
            <a:off x="4140360" y="3933720"/>
            <a:ext cx="4752720" cy="1224000"/>
            <a:chOff x="4140360" y="3933720"/>
            <a:chExt cx="4752720" cy="1224000"/>
          </a:xfrm>
        </p:grpSpPr>
        <p:sp>
          <p:nvSpPr>
            <p:cNvPr id="145" name="Rectangle 30"/>
            <p:cNvSpPr/>
            <p:nvPr/>
          </p:nvSpPr>
          <p:spPr>
            <a:xfrm>
              <a:off x="4140360" y="3933720"/>
              <a:ext cx="4752720" cy="1224000"/>
            </a:xfrm>
            <a:prstGeom prst="rect">
              <a:avLst/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Object 27"/>
                <p:cNvSpPr txBox="1"/>
                <p:nvPr/>
              </p:nvSpPr>
              <p:spPr>
                <a:xfrm>
                  <a:off x="5796000" y="4005360"/>
                  <a:ext cx="3058920" cy="104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противолежащий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гипотенуз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7" name="Text Box 29"/>
            <p:cNvSpPr/>
            <p:nvPr/>
          </p:nvSpPr>
          <p:spPr>
            <a:xfrm>
              <a:off x="4284720" y="4149720"/>
              <a:ext cx="18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sin A 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Line 31"/>
          <p:cNvSpPr/>
          <p:nvPr/>
        </p:nvSpPr>
        <p:spPr>
          <a:xfrm flipH="1" flipV="1">
            <a:off x="1115640" y="2997360"/>
            <a:ext cx="1152360" cy="86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синус  острого угла прямоугольного треугольн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32"/>
          <p:cNvGrpSpPr/>
          <p:nvPr/>
        </p:nvGrpSpPr>
        <p:grpSpPr>
          <a:xfrm>
            <a:off x="468360" y="1125360"/>
            <a:ext cx="3166920" cy="3494520"/>
            <a:chOff x="468360" y="1125360"/>
            <a:chExt cx="3166920" cy="3494520"/>
          </a:xfrm>
        </p:grpSpPr>
        <p:sp>
          <p:nvSpPr>
            <p:cNvPr id="151" name="AutoShape 6"/>
            <p:cNvSpPr/>
            <p:nvPr/>
          </p:nvSpPr>
          <p:spPr>
            <a:xfrm>
              <a:off x="971640" y="1557360"/>
              <a:ext cx="2233440" cy="2663640"/>
            </a:xfrm>
            <a:prstGeom prst="rtTriangl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Text Box 7"/>
            <p:cNvSpPr/>
            <p:nvPr/>
          </p:nvSpPr>
          <p:spPr>
            <a:xfrm>
              <a:off x="611280" y="4221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С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3203640" y="4076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468360" y="112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971640" y="3933720"/>
              <a:ext cx="287280" cy="28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Arc 11"/>
            <p:cNvSpPr/>
            <p:nvPr/>
          </p:nvSpPr>
          <p:spPr>
            <a:xfrm flipH="1">
              <a:off x="2699640" y="3933720"/>
              <a:ext cx="647640" cy="287280"/>
            </a:xfrm>
            <a:custGeom>
              <a:avLst/>
              <a:gdLst>
                <a:gd name="textAreaLeft" fmla="*/ -360 w 647640"/>
                <a:gd name="textAreaRight" fmla="*/ 647640 w 64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fill="none" w="21600" h="16129">
                  <a:moveTo>
                    <a:pt x="14367" y="-1"/>
                  </a:moveTo>
                  <a:cubicBezTo>
                    <a:pt x="18968" y="4098"/>
                    <a:pt x="21600" y="9967"/>
                    <a:pt x="21600" y="16129"/>
                  </a:cubicBezTo>
                </a:path>
                <a:path stroke="0" w="21600" h="16129">
                  <a:moveTo>
                    <a:pt x="14367" y="-1"/>
                  </a:moveTo>
                  <a:cubicBezTo>
                    <a:pt x="18968" y="4098"/>
                    <a:pt x="21600" y="9967"/>
                    <a:pt x="21600" y="16129"/>
                  </a:cubicBezTo>
                  <a:lnTo>
                    <a:pt x="0" y="16129"/>
                  </a:lnTo>
                  <a:lnTo>
                    <a:pt x="14367" y="-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Group 33"/>
          <p:cNvGrpSpPr/>
          <p:nvPr/>
        </p:nvGrpSpPr>
        <p:grpSpPr>
          <a:xfrm>
            <a:off x="1258920" y="1852920"/>
            <a:ext cx="2087640" cy="2899440"/>
            <a:chOff x="1258920" y="1852920"/>
            <a:chExt cx="2087640" cy="2899440"/>
          </a:xfrm>
        </p:grpSpPr>
        <p:sp>
          <p:nvSpPr>
            <p:cNvPr id="158" name="Text Box 12"/>
            <p:cNvSpPr/>
            <p:nvPr/>
          </p:nvSpPr>
          <p:spPr>
            <a:xfrm>
              <a:off x="1258920" y="429264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cc00"/>
                  </a:solidFill>
                  <a:latin typeface="Times New Roman"/>
                </a:rPr>
                <a:t>прилежащи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Text Box 14"/>
            <p:cNvSpPr/>
            <p:nvPr/>
          </p:nvSpPr>
          <p:spPr>
            <a:xfrm rot="2894400">
              <a:off x="1366560" y="2456280"/>
              <a:ext cx="18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cc00"/>
                  </a:solidFill>
                  <a:latin typeface="Times New Roman"/>
                </a:rPr>
                <a:t>гипотенуз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Group 30"/>
          <p:cNvGrpSpPr/>
          <p:nvPr/>
        </p:nvGrpSpPr>
        <p:grpSpPr>
          <a:xfrm>
            <a:off x="2843280" y="2133720"/>
            <a:ext cx="6013440" cy="1295280"/>
            <a:chOff x="2843280" y="2133720"/>
            <a:chExt cx="6013440" cy="1295280"/>
          </a:xfrm>
        </p:grpSpPr>
        <p:sp>
          <p:nvSpPr>
            <p:cNvPr id="161" name="Rectangle 16"/>
            <p:cNvSpPr/>
            <p:nvPr/>
          </p:nvSpPr>
          <p:spPr>
            <a:xfrm>
              <a:off x="2916360" y="2133720"/>
              <a:ext cx="5940360" cy="129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Text Box 17"/>
            <p:cNvSpPr/>
            <p:nvPr/>
          </p:nvSpPr>
          <p:spPr>
            <a:xfrm>
              <a:off x="2843280" y="2133720"/>
              <a:ext cx="601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Косинусом острого угла прямоугольного треугольника называется отношение прилежащего катета к гипотенузе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21"/>
          <p:cNvGrpSpPr/>
          <p:nvPr/>
        </p:nvGrpSpPr>
        <p:grpSpPr>
          <a:xfrm>
            <a:off x="468360" y="5157720"/>
            <a:ext cx="3671640" cy="1152360"/>
            <a:chOff x="468360" y="5157720"/>
            <a:chExt cx="3671640" cy="1152360"/>
          </a:xfrm>
        </p:grpSpPr>
        <p:sp>
          <p:nvSpPr>
            <p:cNvPr id="165" name="Rectangle 22"/>
            <p:cNvSpPr/>
            <p:nvPr/>
          </p:nvSpPr>
          <p:spPr>
            <a:xfrm>
              <a:off x="468360" y="5157720"/>
              <a:ext cx="3097080" cy="115236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23"/>
            <p:cNvSpPr/>
            <p:nvPr/>
          </p:nvSpPr>
          <p:spPr>
            <a:xfrm>
              <a:off x="539640" y="5230800"/>
              <a:ext cx="360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cos A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Object 24"/>
                <p:cNvSpPr txBox="1"/>
                <p:nvPr/>
              </p:nvSpPr>
              <p:spPr>
                <a:xfrm>
                  <a:off x="2757240" y="5157720"/>
                  <a:ext cx="7430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8" name="Group 31"/>
          <p:cNvGrpSpPr/>
          <p:nvPr/>
        </p:nvGrpSpPr>
        <p:grpSpPr>
          <a:xfrm>
            <a:off x="4284720" y="3860640"/>
            <a:ext cx="4390920" cy="1297080"/>
            <a:chOff x="4284720" y="3860640"/>
            <a:chExt cx="4390920" cy="1297080"/>
          </a:xfrm>
        </p:grpSpPr>
        <p:sp>
          <p:nvSpPr>
            <p:cNvPr id="169" name="Rectangle 28"/>
            <p:cNvSpPr/>
            <p:nvPr/>
          </p:nvSpPr>
          <p:spPr>
            <a:xfrm>
              <a:off x="4284720" y="3860640"/>
              <a:ext cx="4390920" cy="1297080"/>
            </a:xfrm>
            <a:prstGeom prst="rect">
              <a:avLst/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Object 25"/>
                <p:cNvSpPr txBox="1"/>
                <p:nvPr/>
              </p:nvSpPr>
              <p:spPr>
                <a:xfrm>
                  <a:off x="6227640" y="3979800"/>
                  <a:ext cx="2376720" cy="110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прилежащий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гипотенуз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Text Box 27"/>
            <p:cNvSpPr/>
            <p:nvPr/>
          </p:nvSpPr>
          <p:spPr>
            <a:xfrm>
              <a:off x="4500720" y="422100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os A 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ангенс острого угла прямоугольного треугольн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Group 29"/>
          <p:cNvGrpSpPr/>
          <p:nvPr/>
        </p:nvGrpSpPr>
        <p:grpSpPr>
          <a:xfrm>
            <a:off x="2843280" y="1484280"/>
            <a:ext cx="6300720" cy="1295280"/>
            <a:chOff x="2843280" y="1484280"/>
            <a:chExt cx="6300720" cy="1295280"/>
          </a:xfrm>
        </p:grpSpPr>
        <p:sp>
          <p:nvSpPr>
            <p:cNvPr id="174" name="Rectangle 16"/>
            <p:cNvSpPr/>
            <p:nvPr/>
          </p:nvSpPr>
          <p:spPr>
            <a:xfrm>
              <a:off x="2916360" y="1484280"/>
              <a:ext cx="5976720" cy="129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Text Box 17"/>
            <p:cNvSpPr/>
            <p:nvPr/>
          </p:nvSpPr>
          <p:spPr>
            <a:xfrm>
              <a:off x="2843280" y="1484280"/>
              <a:ext cx="630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Тангенсом острого угла прямоугольного треугольника называется отношение противолежащего катета к прилежащему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Group 19"/>
          <p:cNvGrpSpPr/>
          <p:nvPr/>
        </p:nvGrpSpPr>
        <p:grpSpPr>
          <a:xfrm>
            <a:off x="971640" y="5229360"/>
            <a:ext cx="3671640" cy="1152360"/>
            <a:chOff x="971640" y="5229360"/>
            <a:chExt cx="3671640" cy="1152360"/>
          </a:xfrm>
        </p:grpSpPr>
        <p:sp>
          <p:nvSpPr>
            <p:cNvPr id="178" name="Rectangle 20"/>
            <p:cNvSpPr/>
            <p:nvPr/>
          </p:nvSpPr>
          <p:spPr>
            <a:xfrm>
              <a:off x="971640" y="5229360"/>
              <a:ext cx="3097080" cy="115236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21"/>
            <p:cNvSpPr/>
            <p:nvPr/>
          </p:nvSpPr>
          <p:spPr>
            <a:xfrm>
              <a:off x="1042920" y="5302440"/>
              <a:ext cx="360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tg A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22"/>
                <p:cNvSpPr txBox="1"/>
                <p:nvPr/>
              </p:nvSpPr>
              <p:spPr>
                <a:xfrm>
                  <a:off x="3260520" y="5229360"/>
                  <a:ext cx="7430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В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С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1" name="Rectangle 2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Group 30"/>
          <p:cNvGrpSpPr/>
          <p:nvPr/>
        </p:nvGrpSpPr>
        <p:grpSpPr>
          <a:xfrm>
            <a:off x="3851280" y="3141720"/>
            <a:ext cx="4390920" cy="1296720"/>
            <a:chOff x="3851280" y="3141720"/>
            <a:chExt cx="4390920" cy="1296720"/>
          </a:xfrm>
        </p:grpSpPr>
        <p:sp>
          <p:nvSpPr>
            <p:cNvPr id="183" name="Rectangle 5"/>
            <p:cNvSpPr/>
            <p:nvPr/>
          </p:nvSpPr>
          <p:spPr>
            <a:xfrm>
              <a:off x="3851280" y="3141720"/>
              <a:ext cx="4390920" cy="1296720"/>
            </a:xfrm>
            <a:prstGeom prst="rect">
              <a:avLst/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25"/>
            <p:cNvSpPr/>
            <p:nvPr/>
          </p:nvSpPr>
          <p:spPr>
            <a:xfrm>
              <a:off x="3924360" y="335736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g A 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Object 26"/>
                <p:cNvSpPr txBox="1"/>
                <p:nvPr/>
              </p:nvSpPr>
              <p:spPr>
                <a:xfrm>
                  <a:off x="5148000" y="3213000"/>
                  <a:ext cx="2880000" cy="98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противолежащий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прилежащий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6" name="Group 36"/>
          <p:cNvGrpSpPr/>
          <p:nvPr/>
        </p:nvGrpSpPr>
        <p:grpSpPr>
          <a:xfrm>
            <a:off x="468360" y="1125360"/>
            <a:ext cx="3166920" cy="3494520"/>
            <a:chOff x="468360" y="1125360"/>
            <a:chExt cx="3166920" cy="3494520"/>
          </a:xfrm>
        </p:grpSpPr>
        <p:sp>
          <p:nvSpPr>
            <p:cNvPr id="187" name="AutoShape 7"/>
            <p:cNvSpPr/>
            <p:nvPr/>
          </p:nvSpPr>
          <p:spPr>
            <a:xfrm>
              <a:off x="971640" y="1557360"/>
              <a:ext cx="2233440" cy="2663640"/>
            </a:xfrm>
            <a:prstGeom prst="rtTriangl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Text Box 8"/>
            <p:cNvSpPr/>
            <p:nvPr/>
          </p:nvSpPr>
          <p:spPr>
            <a:xfrm>
              <a:off x="611280" y="4221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С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9"/>
            <p:cNvSpPr/>
            <p:nvPr/>
          </p:nvSpPr>
          <p:spPr>
            <a:xfrm>
              <a:off x="3203640" y="4076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Text Box 10"/>
            <p:cNvSpPr/>
            <p:nvPr/>
          </p:nvSpPr>
          <p:spPr>
            <a:xfrm>
              <a:off x="468360" y="112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>
              <a:off x="971640" y="3933720"/>
              <a:ext cx="287280" cy="28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Arc 12"/>
            <p:cNvSpPr/>
            <p:nvPr/>
          </p:nvSpPr>
          <p:spPr>
            <a:xfrm flipH="1">
              <a:off x="2699640" y="3933720"/>
              <a:ext cx="647640" cy="287280"/>
            </a:xfrm>
            <a:custGeom>
              <a:avLst/>
              <a:gdLst>
                <a:gd name="textAreaLeft" fmla="*/ -360 w 647640"/>
                <a:gd name="textAreaRight" fmla="*/ 647640 w 64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fill="none" w="21600" h="16129">
                  <a:moveTo>
                    <a:pt x="14367" y="-1"/>
                  </a:moveTo>
                  <a:cubicBezTo>
                    <a:pt x="18968" y="4098"/>
                    <a:pt x="21600" y="9967"/>
                    <a:pt x="21600" y="16129"/>
                  </a:cubicBezTo>
                </a:path>
                <a:path stroke="0" w="21600" h="16129">
                  <a:moveTo>
                    <a:pt x="14367" y="-1"/>
                  </a:moveTo>
                  <a:cubicBezTo>
                    <a:pt x="18968" y="4098"/>
                    <a:pt x="21600" y="9967"/>
                    <a:pt x="21600" y="16129"/>
                  </a:cubicBezTo>
                  <a:lnTo>
                    <a:pt x="0" y="16129"/>
                  </a:lnTo>
                  <a:lnTo>
                    <a:pt x="14367" y="-1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Group 37"/>
          <p:cNvGrpSpPr/>
          <p:nvPr/>
        </p:nvGrpSpPr>
        <p:grpSpPr>
          <a:xfrm>
            <a:off x="468360" y="1557000"/>
            <a:ext cx="2878200" cy="3195360"/>
            <a:chOff x="468360" y="1557000"/>
            <a:chExt cx="2878200" cy="3195360"/>
          </a:xfrm>
        </p:grpSpPr>
        <p:sp>
          <p:nvSpPr>
            <p:cNvPr id="194" name="Text Box 13"/>
            <p:cNvSpPr/>
            <p:nvPr/>
          </p:nvSpPr>
          <p:spPr>
            <a:xfrm>
              <a:off x="1258920" y="429264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cc00"/>
                  </a:solidFill>
                  <a:latin typeface="Times New Roman"/>
                </a:rPr>
                <a:t>прилежащи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Text Box 14"/>
            <p:cNvSpPr/>
            <p:nvPr/>
          </p:nvSpPr>
          <p:spPr>
            <a:xfrm rot="16200000">
              <a:off x="-621360" y="2647080"/>
              <a:ext cx="26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cc00"/>
                  </a:solidFill>
                  <a:latin typeface="Times New Roman"/>
                </a:rPr>
                <a:t>противолежащи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28"/>
            <p:cNvSpPr/>
            <p:nvPr/>
          </p:nvSpPr>
          <p:spPr>
            <a:xfrm flipH="1" flipV="1">
              <a:off x="1116000" y="3068640"/>
              <a:ext cx="1224000" cy="79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Group 31"/>
          <p:cNvGrpSpPr/>
          <p:nvPr/>
        </p:nvGrpSpPr>
        <p:grpSpPr>
          <a:xfrm>
            <a:off x="5219640" y="5157720"/>
            <a:ext cx="3672000" cy="1152360"/>
            <a:chOff x="5219640" y="5157720"/>
            <a:chExt cx="3672000" cy="1152360"/>
          </a:xfrm>
        </p:grpSpPr>
        <p:sp>
          <p:nvSpPr>
            <p:cNvPr id="198" name="Rectangle 32"/>
            <p:cNvSpPr/>
            <p:nvPr/>
          </p:nvSpPr>
          <p:spPr>
            <a:xfrm>
              <a:off x="5219640" y="5157720"/>
              <a:ext cx="3097080" cy="115236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Text Box 33"/>
            <p:cNvSpPr/>
            <p:nvPr/>
          </p:nvSpPr>
          <p:spPr>
            <a:xfrm>
              <a:off x="5290920" y="5230440"/>
              <a:ext cx="360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tg A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34"/>
                <p:cNvSpPr txBox="1"/>
                <p:nvPr/>
              </p:nvSpPr>
              <p:spPr>
                <a:xfrm>
                  <a:off x="7235640" y="5157720"/>
                  <a:ext cx="100188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начения синуса, косинуса, тангенса некоторых углов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39640" y="1989000"/>
          <a:ext cx="8218440" cy="4492800"/>
        </p:xfrm>
        <a:graphic>
          <a:graphicData uri="http://schemas.openxmlformats.org/drawingml/2006/table">
            <a:tbl>
              <a:tblPr/>
              <a:tblGrid>
                <a:gridCol w="2046240"/>
                <a:gridCol w="2057400"/>
                <a:gridCol w="2057400"/>
                <a:gridCol w="205740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5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ru-RU" sz="5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</a:t>
                      </a:r>
                      <a:r>
                        <a:rPr b="0" lang="ru-RU" sz="5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r>
                        <a:rPr b="0" lang="ru-RU" sz="5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l-GR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 </a:t>
                      </a:r>
                      <a:r>
                        <a:rPr b="0" lang="el-GR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 </a:t>
                      </a:r>
                      <a:r>
                        <a:rPr b="0" lang="el-GR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4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5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6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6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6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6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6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7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69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71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71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71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204"/>
          <p:cNvGrpSpPr/>
          <p:nvPr/>
        </p:nvGrpSpPr>
        <p:grpSpPr>
          <a:xfrm>
            <a:off x="3492360" y="2997360"/>
            <a:ext cx="4678200" cy="3381120"/>
            <a:chOff x="3492360" y="2997360"/>
            <a:chExt cx="4678200" cy="3381120"/>
          </a:xfrm>
        </p:grpSpPr>
        <mc:AlternateContent>
          <mc:Choice xmlns:a14="http://schemas.microsoft.com/office/drawing/2010/main" Requires="a14">
            <p:sp>
              <p:nvSpPr>
                <p:cNvPr id="216" name="Object 70"/>
                <p:cNvSpPr txBox="1"/>
                <p:nvPr/>
              </p:nvSpPr>
              <p:spPr>
                <a:xfrm>
                  <a:off x="7235640" y="5386320"/>
                  <a:ext cx="79200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Object 57"/>
                <p:cNvSpPr txBox="1"/>
                <p:nvPr/>
              </p:nvSpPr>
              <p:spPr>
                <a:xfrm>
                  <a:off x="7596000" y="4149720"/>
                  <a:ext cx="433440" cy="111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Object 63"/>
                <p:cNvSpPr txBox="1"/>
                <p:nvPr/>
              </p:nvSpPr>
              <p:spPr>
                <a:xfrm>
                  <a:off x="7524360" y="3070440"/>
                  <a:ext cx="646200" cy="10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Object 61"/>
                <p:cNvSpPr txBox="1"/>
                <p:nvPr/>
              </p:nvSpPr>
              <p:spPr>
                <a:xfrm>
                  <a:off x="5364000" y="4222800"/>
                  <a:ext cx="669960" cy="10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Object 59"/>
                <p:cNvSpPr txBox="1"/>
                <p:nvPr/>
              </p:nvSpPr>
              <p:spPr>
                <a:xfrm>
                  <a:off x="5292360" y="2997360"/>
                  <a:ext cx="714600" cy="11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1" name="Object 68"/>
                <p:cNvSpPr txBox="1"/>
                <p:nvPr/>
              </p:nvSpPr>
              <p:spPr>
                <a:xfrm>
                  <a:off x="3492360" y="5302440"/>
                  <a:ext cx="645840" cy="10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2" name="Object 66"/>
                <p:cNvSpPr txBox="1"/>
                <p:nvPr/>
              </p:nvSpPr>
              <p:spPr>
                <a:xfrm>
                  <a:off x="3563640" y="4222800"/>
                  <a:ext cx="646200" cy="10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Object 47"/>
                <p:cNvSpPr txBox="1"/>
                <p:nvPr/>
              </p:nvSpPr>
              <p:spPr>
                <a:xfrm>
                  <a:off x="3563640" y="2997360"/>
                  <a:ext cx="433440" cy="111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16"/>
          <p:cNvGrpSpPr/>
          <p:nvPr/>
        </p:nvGrpSpPr>
        <p:grpSpPr>
          <a:xfrm>
            <a:off x="324000" y="620640"/>
            <a:ext cx="8496000" cy="2521080"/>
            <a:chOff x="324000" y="620640"/>
            <a:chExt cx="8496000" cy="2521080"/>
          </a:xfrm>
        </p:grpSpPr>
        <p:sp>
          <p:nvSpPr>
            <p:cNvPr id="225" name="Rectangle 5"/>
            <p:cNvSpPr/>
            <p:nvPr/>
          </p:nvSpPr>
          <p:spPr>
            <a:xfrm>
              <a:off x="324000" y="620640"/>
              <a:ext cx="8496000" cy="2521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Text Box 4"/>
            <p:cNvSpPr/>
            <p:nvPr/>
          </p:nvSpPr>
          <p:spPr>
            <a:xfrm>
              <a:off x="395280" y="692280"/>
              <a:ext cx="82803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Если острый угол одного прямоугольного треугольника  равен острому углу другого прямоугольного треугольника, то синусы этих углов равны, косинусы этих углов равны и тангенсы этих углов равны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Group 13"/>
          <p:cNvGrpSpPr/>
          <p:nvPr/>
        </p:nvGrpSpPr>
        <p:grpSpPr>
          <a:xfrm>
            <a:off x="2484360" y="4797360"/>
            <a:ext cx="4608360" cy="1079280"/>
            <a:chOff x="2484360" y="4797360"/>
            <a:chExt cx="4608360" cy="1079280"/>
          </a:xfrm>
        </p:grpSpPr>
        <p:sp>
          <p:nvSpPr>
            <p:cNvPr id="228" name="Rectangle 12"/>
            <p:cNvSpPr/>
            <p:nvPr/>
          </p:nvSpPr>
          <p:spPr>
            <a:xfrm>
              <a:off x="2484360" y="4797360"/>
              <a:ext cx="4249800" cy="107928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Text Box 11"/>
            <p:cNvSpPr/>
            <p:nvPr/>
          </p:nvSpPr>
          <p:spPr>
            <a:xfrm>
              <a:off x="2628720" y="4941720"/>
              <a:ext cx="446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sin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A + cos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A = 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Text Box 15"/>
          <p:cNvSpPr/>
          <p:nvPr/>
        </p:nvSpPr>
        <p:spPr>
          <a:xfrm>
            <a:off x="971640" y="3429000"/>
            <a:ext cx="74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imes New Roman"/>
              </a:rPr>
              <a:t>Основное тригонометрическое тождеств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69"/>
          <p:cNvGrpSpPr/>
          <p:nvPr/>
        </p:nvGrpSpPr>
        <p:grpSpPr>
          <a:xfrm>
            <a:off x="6300720" y="2349360"/>
            <a:ext cx="2627280" cy="792360"/>
            <a:chOff x="6300720" y="2349360"/>
            <a:chExt cx="2627280" cy="792360"/>
          </a:xfrm>
        </p:grpSpPr>
        <p:sp>
          <p:nvSpPr>
            <p:cNvPr id="232" name="Rectangle 22"/>
            <p:cNvSpPr/>
            <p:nvPr/>
          </p:nvSpPr>
          <p:spPr>
            <a:xfrm>
              <a:off x="6300720" y="2349360"/>
              <a:ext cx="2305080" cy="79236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3" name="Group 34"/>
            <p:cNvGrpSpPr/>
            <p:nvPr/>
          </p:nvGrpSpPr>
          <p:grpSpPr>
            <a:xfrm>
              <a:off x="6335640" y="2349360"/>
              <a:ext cx="2592360" cy="792000"/>
              <a:chOff x="6335640" y="2349360"/>
              <a:chExt cx="2592360" cy="792000"/>
            </a:xfrm>
          </p:grpSpPr>
          <p:sp>
            <p:nvSpPr>
              <p:cNvPr id="234" name="Text Box 23"/>
              <p:cNvSpPr/>
              <p:nvPr/>
            </p:nvSpPr>
            <p:spPr>
              <a:xfrm>
                <a:off x="6335640" y="2422440"/>
                <a:ext cx="259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tg A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5" name="Object 24"/>
                  <p:cNvSpPr txBox="1"/>
                  <p:nvPr/>
                </p:nvSpPr>
                <p:spPr>
                  <a:xfrm>
                    <a:off x="7920000" y="2349360"/>
                    <a:ext cx="404640" cy="792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36" name="Group 63"/>
          <p:cNvGrpSpPr/>
          <p:nvPr/>
        </p:nvGrpSpPr>
        <p:grpSpPr>
          <a:xfrm>
            <a:off x="0" y="260280"/>
            <a:ext cx="5184720" cy="581400"/>
            <a:chOff x="0" y="260280"/>
            <a:chExt cx="5184720" cy="581400"/>
          </a:xfrm>
        </p:grpSpPr>
        <p:sp>
          <p:nvSpPr>
            <p:cNvPr id="237" name="Rectangle 43"/>
            <p:cNvSpPr/>
            <p:nvPr/>
          </p:nvSpPr>
          <p:spPr>
            <a:xfrm>
              <a:off x="0" y="260280"/>
              <a:ext cx="4932360" cy="57636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Text Box 15"/>
            <p:cNvSpPr/>
            <p:nvPr/>
          </p:nvSpPr>
          <p:spPr>
            <a:xfrm>
              <a:off x="0" y="260280"/>
              <a:ext cx="51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Найдите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cos A, sin A, tg 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Group 36"/>
          <p:cNvGrpSpPr/>
          <p:nvPr/>
        </p:nvGrpSpPr>
        <p:grpSpPr>
          <a:xfrm>
            <a:off x="324000" y="1341360"/>
            <a:ext cx="3166920" cy="3494520"/>
            <a:chOff x="324000" y="1341360"/>
            <a:chExt cx="3166920" cy="3494520"/>
          </a:xfrm>
        </p:grpSpPr>
        <p:sp>
          <p:nvSpPr>
            <p:cNvPr id="240" name="AutoShape 7"/>
            <p:cNvSpPr/>
            <p:nvPr/>
          </p:nvSpPr>
          <p:spPr>
            <a:xfrm>
              <a:off x="827280" y="1773360"/>
              <a:ext cx="2233440" cy="2663640"/>
            </a:xfrm>
            <a:prstGeom prst="rtTriangl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Text Box 8"/>
            <p:cNvSpPr/>
            <p:nvPr/>
          </p:nvSpPr>
          <p:spPr>
            <a:xfrm>
              <a:off x="466920" y="4437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С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Text Box 9"/>
            <p:cNvSpPr/>
            <p:nvPr/>
          </p:nvSpPr>
          <p:spPr>
            <a:xfrm>
              <a:off x="3059280" y="4292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Text Box 10"/>
            <p:cNvSpPr/>
            <p:nvPr/>
          </p:nvSpPr>
          <p:spPr>
            <a:xfrm>
              <a:off x="324000" y="1341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11"/>
            <p:cNvSpPr/>
            <p:nvPr/>
          </p:nvSpPr>
          <p:spPr>
            <a:xfrm>
              <a:off x="827280" y="4149720"/>
              <a:ext cx="287280" cy="28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Arc 12"/>
            <p:cNvSpPr/>
            <p:nvPr/>
          </p:nvSpPr>
          <p:spPr>
            <a:xfrm flipH="1">
              <a:off x="2555280" y="4149720"/>
              <a:ext cx="647640" cy="287280"/>
            </a:xfrm>
            <a:custGeom>
              <a:avLst/>
              <a:gdLst>
                <a:gd name="textAreaLeft" fmla="*/ -360 w 647640"/>
                <a:gd name="textAreaRight" fmla="*/ 647640 w 64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fill="none" w="21600" h="16129">
                  <a:moveTo>
                    <a:pt x="14367" y="-1"/>
                  </a:moveTo>
                  <a:cubicBezTo>
                    <a:pt x="18968" y="4098"/>
                    <a:pt x="21600" y="9967"/>
                    <a:pt x="21600" y="16129"/>
                  </a:cubicBezTo>
                </a:path>
                <a:path stroke="0" w="21600" h="16129">
                  <a:moveTo>
                    <a:pt x="14367" y="-1"/>
                  </a:moveTo>
                  <a:cubicBezTo>
                    <a:pt x="18968" y="4098"/>
                    <a:pt x="21600" y="9967"/>
                    <a:pt x="21600" y="16129"/>
                  </a:cubicBezTo>
                  <a:lnTo>
                    <a:pt x="0" y="16129"/>
                  </a:lnTo>
                  <a:lnTo>
                    <a:pt x="14367" y="-1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68"/>
          <p:cNvGrpSpPr/>
          <p:nvPr/>
        </p:nvGrpSpPr>
        <p:grpSpPr>
          <a:xfrm>
            <a:off x="4211640" y="1628640"/>
            <a:ext cx="2665440" cy="863640"/>
            <a:chOff x="4211640" y="1628640"/>
            <a:chExt cx="2665440" cy="863640"/>
          </a:xfrm>
        </p:grpSpPr>
        <p:sp>
          <p:nvSpPr>
            <p:cNvPr id="247" name="Rectangle 22"/>
            <p:cNvSpPr/>
            <p:nvPr/>
          </p:nvSpPr>
          <p:spPr>
            <a:xfrm>
              <a:off x="4211640" y="1700280"/>
              <a:ext cx="2305080" cy="79200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8" name="Group 27"/>
            <p:cNvGrpSpPr/>
            <p:nvPr/>
          </p:nvGrpSpPr>
          <p:grpSpPr>
            <a:xfrm>
              <a:off x="4284720" y="1628640"/>
              <a:ext cx="2592360" cy="792000"/>
              <a:chOff x="4284720" y="1628640"/>
              <a:chExt cx="2592360" cy="792000"/>
            </a:xfrm>
          </p:grpSpPr>
          <p:sp>
            <p:nvSpPr>
              <p:cNvPr id="249" name="Text Box 23"/>
              <p:cNvSpPr/>
              <p:nvPr/>
            </p:nvSpPr>
            <p:spPr>
              <a:xfrm>
                <a:off x="4284720" y="1701720"/>
                <a:ext cx="259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sin A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0" name="Object 24"/>
                  <p:cNvSpPr txBox="1"/>
                  <p:nvPr/>
                </p:nvSpPr>
                <p:spPr>
                  <a:xfrm>
                    <a:off x="5869080" y="1628640"/>
                    <a:ext cx="404640" cy="792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51" name="Group 32"/>
          <p:cNvGrpSpPr/>
          <p:nvPr/>
        </p:nvGrpSpPr>
        <p:grpSpPr>
          <a:xfrm>
            <a:off x="2050920" y="1268280"/>
            <a:ext cx="2735280" cy="792000"/>
            <a:chOff x="2050920" y="1268280"/>
            <a:chExt cx="2735280" cy="792000"/>
          </a:xfrm>
        </p:grpSpPr>
        <p:sp>
          <p:nvSpPr>
            <p:cNvPr id="252" name="Rectangle 22"/>
            <p:cNvSpPr/>
            <p:nvPr/>
          </p:nvSpPr>
          <p:spPr>
            <a:xfrm>
              <a:off x="2050920" y="1268280"/>
              <a:ext cx="2305080" cy="79200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3" name="Group 29"/>
            <p:cNvGrpSpPr/>
            <p:nvPr/>
          </p:nvGrpSpPr>
          <p:grpSpPr>
            <a:xfrm>
              <a:off x="2193840" y="1268280"/>
              <a:ext cx="2592360" cy="792000"/>
              <a:chOff x="2193840" y="1268280"/>
              <a:chExt cx="2592360" cy="792000"/>
            </a:xfrm>
          </p:grpSpPr>
          <p:sp>
            <p:nvSpPr>
              <p:cNvPr id="254" name="Text Box 23"/>
              <p:cNvSpPr/>
              <p:nvPr/>
            </p:nvSpPr>
            <p:spPr>
              <a:xfrm>
                <a:off x="2193840" y="1341360"/>
                <a:ext cx="259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cos A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5" name="Object 24"/>
                  <p:cNvSpPr txBox="1"/>
                  <p:nvPr/>
                </p:nvSpPr>
                <p:spPr>
                  <a:xfrm>
                    <a:off x="3778200" y="1268280"/>
                    <a:ext cx="404640" cy="792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56" name="Group 70"/>
          <p:cNvGrpSpPr/>
          <p:nvPr/>
        </p:nvGrpSpPr>
        <p:grpSpPr>
          <a:xfrm>
            <a:off x="3492360" y="3284640"/>
            <a:ext cx="5185080" cy="581400"/>
            <a:chOff x="3492360" y="3284640"/>
            <a:chExt cx="5185080" cy="581400"/>
          </a:xfrm>
        </p:grpSpPr>
        <p:sp>
          <p:nvSpPr>
            <p:cNvPr id="257" name="Rectangle 44"/>
            <p:cNvSpPr/>
            <p:nvPr/>
          </p:nvSpPr>
          <p:spPr>
            <a:xfrm>
              <a:off x="3492360" y="3284640"/>
              <a:ext cx="5112000" cy="5760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Text Box 42"/>
            <p:cNvSpPr/>
            <p:nvPr/>
          </p:nvSpPr>
          <p:spPr>
            <a:xfrm>
              <a:off x="3492360" y="3284640"/>
              <a:ext cx="518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Найдите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in B,</a:t>
              </a: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cos B, tg B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Group 45"/>
          <p:cNvGrpSpPr/>
          <p:nvPr/>
        </p:nvGrpSpPr>
        <p:grpSpPr>
          <a:xfrm>
            <a:off x="6300720" y="4149720"/>
            <a:ext cx="2592360" cy="792000"/>
            <a:chOff x="6300720" y="4149720"/>
            <a:chExt cx="2592360" cy="792000"/>
          </a:xfrm>
        </p:grpSpPr>
        <p:sp>
          <p:nvSpPr>
            <p:cNvPr id="260" name="Rectangle 22"/>
            <p:cNvSpPr/>
            <p:nvPr/>
          </p:nvSpPr>
          <p:spPr>
            <a:xfrm>
              <a:off x="6300720" y="4149720"/>
              <a:ext cx="2305080" cy="79200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Group 47"/>
            <p:cNvGrpSpPr/>
            <p:nvPr/>
          </p:nvGrpSpPr>
          <p:grpSpPr>
            <a:xfrm>
              <a:off x="6300720" y="4149720"/>
              <a:ext cx="2592360" cy="792000"/>
              <a:chOff x="6300720" y="4149720"/>
              <a:chExt cx="2592360" cy="792000"/>
            </a:xfrm>
          </p:grpSpPr>
          <p:sp>
            <p:nvSpPr>
              <p:cNvPr id="262" name="Text Box 23"/>
              <p:cNvSpPr/>
              <p:nvPr/>
            </p:nvSpPr>
            <p:spPr>
              <a:xfrm>
                <a:off x="6300720" y="4222800"/>
                <a:ext cx="259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tg B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3" name="Object 24"/>
                  <p:cNvSpPr txBox="1"/>
                  <p:nvPr/>
                </p:nvSpPr>
                <p:spPr>
                  <a:xfrm>
                    <a:off x="7885080" y="4149720"/>
                    <a:ext cx="404640" cy="792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64" name="Group 62"/>
          <p:cNvGrpSpPr/>
          <p:nvPr/>
        </p:nvGrpSpPr>
        <p:grpSpPr>
          <a:xfrm>
            <a:off x="395280" y="1953360"/>
            <a:ext cx="1871640" cy="3015000"/>
            <a:chOff x="395280" y="1953360"/>
            <a:chExt cx="1871640" cy="3015000"/>
          </a:xfrm>
        </p:grpSpPr>
        <p:sp>
          <p:nvSpPr>
            <p:cNvPr id="265" name="Text Box 5"/>
            <p:cNvSpPr/>
            <p:nvPr/>
          </p:nvSpPr>
          <p:spPr>
            <a:xfrm>
              <a:off x="395280" y="306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Text Box 6"/>
            <p:cNvSpPr/>
            <p:nvPr/>
          </p:nvSpPr>
          <p:spPr>
            <a:xfrm>
              <a:off x="1619280" y="45086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Text Box 7"/>
            <p:cNvSpPr/>
            <p:nvPr/>
          </p:nvSpPr>
          <p:spPr>
            <a:xfrm>
              <a:off x="1692360" y="256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Arc 55"/>
            <p:cNvSpPr/>
            <p:nvPr/>
          </p:nvSpPr>
          <p:spPr>
            <a:xfrm rot="7338000">
              <a:off x="788760" y="2095200"/>
              <a:ext cx="289080" cy="216000"/>
            </a:xfrm>
            <a:custGeom>
              <a:avLst/>
              <a:gdLst/>
              <a:ahLst/>
              <a:rect l="l" t="t" r="r" b="b"/>
              <a:pathLst>
                <a:path fill="none" w="21303" h="21600">
                  <a:moveTo>
                    <a:pt x="0" y="0"/>
                  </a:moveTo>
                  <a:cubicBezTo>
                    <a:pt x="10550" y="0"/>
                    <a:pt x="19557" y="7622"/>
                    <a:pt x="21302" y="18028"/>
                  </a:cubicBezTo>
                </a:path>
                <a:path stroke="0" w="21303" h="21600">
                  <a:moveTo>
                    <a:pt x="0" y="0"/>
                  </a:moveTo>
                  <a:cubicBezTo>
                    <a:pt x="10550" y="0"/>
                    <a:pt x="19557" y="7622"/>
                    <a:pt x="21302" y="18028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Arc 56"/>
            <p:cNvSpPr/>
            <p:nvPr/>
          </p:nvSpPr>
          <p:spPr>
            <a:xfrm rot="7338000">
              <a:off x="790200" y="2025360"/>
              <a:ext cx="289080" cy="216000"/>
            </a:xfrm>
            <a:custGeom>
              <a:avLst/>
              <a:gdLst/>
              <a:ahLst/>
              <a:rect l="l" t="t" r="r" b="b"/>
              <a:pathLst>
                <a:path fill="none" w="21303" h="21600">
                  <a:moveTo>
                    <a:pt x="0" y="0"/>
                  </a:moveTo>
                  <a:cubicBezTo>
                    <a:pt x="10550" y="0"/>
                    <a:pt x="19557" y="7622"/>
                    <a:pt x="21302" y="18028"/>
                  </a:cubicBezTo>
                </a:path>
                <a:path stroke="0" w="21303" h="21600">
                  <a:moveTo>
                    <a:pt x="0" y="0"/>
                  </a:moveTo>
                  <a:cubicBezTo>
                    <a:pt x="10550" y="0"/>
                    <a:pt x="19557" y="7622"/>
                    <a:pt x="21302" y="18028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Group 41"/>
          <p:cNvGrpSpPr/>
          <p:nvPr/>
        </p:nvGrpSpPr>
        <p:grpSpPr>
          <a:xfrm>
            <a:off x="4140360" y="4797360"/>
            <a:ext cx="2592360" cy="792000"/>
            <a:chOff x="4140360" y="4797360"/>
            <a:chExt cx="2592360" cy="792000"/>
          </a:xfrm>
        </p:grpSpPr>
        <p:sp>
          <p:nvSpPr>
            <p:cNvPr id="271" name="Rectangle 22"/>
            <p:cNvSpPr/>
            <p:nvPr/>
          </p:nvSpPr>
          <p:spPr>
            <a:xfrm>
              <a:off x="4140360" y="4797360"/>
              <a:ext cx="2305080" cy="79200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Group 38"/>
            <p:cNvGrpSpPr/>
            <p:nvPr/>
          </p:nvGrpSpPr>
          <p:grpSpPr>
            <a:xfrm>
              <a:off x="4140360" y="4797360"/>
              <a:ext cx="2592360" cy="792000"/>
              <a:chOff x="4140360" y="4797360"/>
              <a:chExt cx="2592360" cy="792000"/>
            </a:xfrm>
          </p:grpSpPr>
          <p:sp>
            <p:nvSpPr>
              <p:cNvPr id="273" name="Text Box 23"/>
              <p:cNvSpPr/>
              <p:nvPr/>
            </p:nvSpPr>
            <p:spPr>
              <a:xfrm>
                <a:off x="4140360" y="4870440"/>
                <a:ext cx="259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cos B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4" name="Object 24"/>
                  <p:cNvSpPr txBox="1"/>
                  <p:nvPr/>
                </p:nvSpPr>
                <p:spPr>
                  <a:xfrm>
                    <a:off x="5724720" y="4797360"/>
                    <a:ext cx="404640" cy="792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75" name="Group 57"/>
          <p:cNvGrpSpPr/>
          <p:nvPr/>
        </p:nvGrpSpPr>
        <p:grpSpPr>
          <a:xfrm>
            <a:off x="1908000" y="5300640"/>
            <a:ext cx="2592360" cy="719280"/>
            <a:chOff x="1908000" y="5300640"/>
            <a:chExt cx="2592360" cy="719280"/>
          </a:xfrm>
        </p:grpSpPr>
        <p:sp>
          <p:nvSpPr>
            <p:cNvPr id="276" name="Rectangle 22"/>
            <p:cNvSpPr/>
            <p:nvPr/>
          </p:nvSpPr>
          <p:spPr>
            <a:xfrm>
              <a:off x="1908000" y="5300640"/>
              <a:ext cx="2305080" cy="71928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7" name="Group 59"/>
            <p:cNvGrpSpPr/>
            <p:nvPr/>
          </p:nvGrpSpPr>
          <p:grpSpPr>
            <a:xfrm>
              <a:off x="1908000" y="5300640"/>
              <a:ext cx="2592360" cy="719280"/>
              <a:chOff x="1908000" y="5300640"/>
              <a:chExt cx="2592360" cy="719280"/>
            </a:xfrm>
          </p:grpSpPr>
          <p:sp>
            <p:nvSpPr>
              <p:cNvPr id="278" name="Text Box 23"/>
              <p:cNvSpPr/>
              <p:nvPr/>
            </p:nvSpPr>
            <p:spPr>
              <a:xfrm>
                <a:off x="1908000" y="5366880"/>
                <a:ext cx="259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sin B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9" name="Object 24"/>
                  <p:cNvSpPr txBox="1"/>
                  <p:nvPr/>
                </p:nvSpPr>
                <p:spPr>
                  <a:xfrm>
                    <a:off x="3492360" y="5300640"/>
                    <a:ext cx="404640" cy="719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41"/>
          <p:cNvGrpSpPr/>
          <p:nvPr/>
        </p:nvGrpSpPr>
        <p:grpSpPr>
          <a:xfrm>
            <a:off x="0" y="907920"/>
            <a:ext cx="2232000" cy="2343600"/>
            <a:chOff x="0" y="907920"/>
            <a:chExt cx="2232000" cy="2343600"/>
          </a:xfrm>
        </p:grpSpPr>
        <p:grpSp>
          <p:nvGrpSpPr>
            <p:cNvPr id="281" name="Group 36"/>
            <p:cNvGrpSpPr/>
            <p:nvPr/>
          </p:nvGrpSpPr>
          <p:grpSpPr>
            <a:xfrm>
              <a:off x="0" y="907920"/>
              <a:ext cx="2232000" cy="2343600"/>
              <a:chOff x="0" y="907920"/>
              <a:chExt cx="2232000" cy="2343600"/>
            </a:xfrm>
          </p:grpSpPr>
          <p:sp>
            <p:nvSpPr>
              <p:cNvPr id="282" name="AutoShape 7"/>
              <p:cNvSpPr/>
              <p:nvPr/>
            </p:nvSpPr>
            <p:spPr>
              <a:xfrm>
                <a:off x="354600" y="1179000"/>
                <a:ext cx="1573920" cy="1672200"/>
              </a:xfrm>
              <a:prstGeom prst="rtTriangl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Text Box 8"/>
              <p:cNvSpPr/>
              <p:nvPr/>
            </p:nvSpPr>
            <p:spPr>
              <a:xfrm>
                <a:off x="99360" y="2852640"/>
                <a:ext cx="3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00"/>
                    </a:solidFill>
                    <a:latin typeface="Times New Roman"/>
                  </a:rPr>
                  <a:t>С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Text Box 9"/>
              <p:cNvSpPr/>
              <p:nvPr/>
            </p:nvSpPr>
            <p:spPr>
              <a:xfrm>
                <a:off x="1928880" y="2759760"/>
                <a:ext cx="30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00"/>
                    </a:solidFill>
                    <a:latin typeface="Times New Roman"/>
                  </a:rPr>
                  <a:t>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Text Box 10"/>
              <p:cNvSpPr/>
              <p:nvPr/>
            </p:nvSpPr>
            <p:spPr>
              <a:xfrm>
                <a:off x="0" y="907920"/>
                <a:ext cx="35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00"/>
                    </a:solidFill>
                    <a:latin typeface="Times New Roman"/>
                  </a:rPr>
                  <a:t>В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Rectangle 11"/>
              <p:cNvSpPr/>
              <p:nvPr/>
            </p:nvSpPr>
            <p:spPr>
              <a:xfrm>
                <a:off x="354600" y="2671200"/>
                <a:ext cx="202320" cy="180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Arc 12"/>
              <p:cNvSpPr/>
              <p:nvPr/>
            </p:nvSpPr>
            <p:spPr>
              <a:xfrm flipH="1">
                <a:off x="1572120" y="2671200"/>
                <a:ext cx="456120" cy="180360"/>
              </a:xfrm>
              <a:custGeom>
                <a:avLst/>
                <a:gdLst>
                  <a:gd name="textAreaLeft" fmla="*/ -360 w 456120"/>
                  <a:gd name="textAreaRight" fmla="*/ 456120 w 45612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fill="none" w="21600" h="16129">
                    <a:moveTo>
                      <a:pt x="14367" y="-1"/>
                    </a:moveTo>
                    <a:cubicBezTo>
                      <a:pt x="18968" y="4098"/>
                      <a:pt x="21600" y="9967"/>
                      <a:pt x="21600" y="16129"/>
                    </a:cubicBezTo>
                  </a:path>
                  <a:path stroke="0" w="21600" h="16129">
                    <a:moveTo>
                      <a:pt x="14367" y="-1"/>
                    </a:moveTo>
                    <a:cubicBezTo>
                      <a:pt x="18968" y="4098"/>
                      <a:pt x="21600" y="9967"/>
                      <a:pt x="21600" y="16129"/>
                    </a:cubicBezTo>
                    <a:lnTo>
                      <a:pt x="0" y="16129"/>
                    </a:lnTo>
                    <a:lnTo>
                      <a:pt x="14367" y="-1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8" name="Text Box 32"/>
            <p:cNvSpPr/>
            <p:nvPr/>
          </p:nvSpPr>
          <p:spPr>
            <a:xfrm>
              <a:off x="1152360" y="2492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Text Box 33"/>
            <p:cNvSpPr/>
            <p:nvPr/>
          </p:nvSpPr>
          <p:spPr>
            <a:xfrm>
              <a:off x="1081080" y="1628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Text Box 34"/>
            <p:cNvSpPr/>
            <p:nvPr/>
          </p:nvSpPr>
          <p:spPr>
            <a:xfrm>
              <a:off x="0" y="16999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1" name="Group 43"/>
          <p:cNvGrpSpPr/>
          <p:nvPr/>
        </p:nvGrpSpPr>
        <p:grpSpPr>
          <a:xfrm>
            <a:off x="6912000" y="907920"/>
            <a:ext cx="2232000" cy="2343960"/>
            <a:chOff x="6912000" y="907920"/>
            <a:chExt cx="2232000" cy="2343960"/>
          </a:xfrm>
        </p:grpSpPr>
        <p:grpSp>
          <p:nvGrpSpPr>
            <p:cNvPr id="292" name="Group 36"/>
            <p:cNvGrpSpPr/>
            <p:nvPr/>
          </p:nvGrpSpPr>
          <p:grpSpPr>
            <a:xfrm>
              <a:off x="6912000" y="907920"/>
              <a:ext cx="2232000" cy="2343960"/>
              <a:chOff x="6912000" y="907920"/>
              <a:chExt cx="2232000" cy="2343960"/>
            </a:xfrm>
          </p:grpSpPr>
          <p:sp>
            <p:nvSpPr>
              <p:cNvPr id="293" name="AutoShape 7"/>
              <p:cNvSpPr/>
              <p:nvPr/>
            </p:nvSpPr>
            <p:spPr>
              <a:xfrm>
                <a:off x="7266600" y="1179000"/>
                <a:ext cx="1573920" cy="1672560"/>
              </a:xfrm>
              <a:prstGeom prst="rtTriangl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Text Box 8"/>
              <p:cNvSpPr/>
              <p:nvPr/>
            </p:nvSpPr>
            <p:spPr>
              <a:xfrm>
                <a:off x="7011360" y="2853000"/>
                <a:ext cx="3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00"/>
                    </a:solidFill>
                    <a:latin typeface="Times New Roman"/>
                  </a:rPr>
                  <a:t>С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Text Box 9"/>
              <p:cNvSpPr/>
              <p:nvPr/>
            </p:nvSpPr>
            <p:spPr>
              <a:xfrm>
                <a:off x="8840880" y="2760120"/>
                <a:ext cx="30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00"/>
                    </a:solidFill>
                    <a:latin typeface="Times New Roman"/>
                  </a:rPr>
                  <a:t>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Text Box 10"/>
              <p:cNvSpPr/>
              <p:nvPr/>
            </p:nvSpPr>
            <p:spPr>
              <a:xfrm>
                <a:off x="6912000" y="907920"/>
                <a:ext cx="35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00"/>
                    </a:solidFill>
                    <a:latin typeface="Times New Roman"/>
                  </a:rPr>
                  <a:t>В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Rectangle 11"/>
              <p:cNvSpPr/>
              <p:nvPr/>
            </p:nvSpPr>
            <p:spPr>
              <a:xfrm>
                <a:off x="7266600" y="2671200"/>
                <a:ext cx="202320" cy="180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rc 12"/>
              <p:cNvSpPr/>
              <p:nvPr/>
            </p:nvSpPr>
            <p:spPr>
              <a:xfrm flipH="1">
                <a:off x="8484120" y="2671200"/>
                <a:ext cx="456120" cy="180360"/>
              </a:xfrm>
              <a:custGeom>
                <a:avLst/>
                <a:gdLst>
                  <a:gd name="textAreaLeft" fmla="*/ -360 w 456120"/>
                  <a:gd name="textAreaRight" fmla="*/ 456120 w 45612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fill="none" w="21600" h="16129">
                    <a:moveTo>
                      <a:pt x="14367" y="-1"/>
                    </a:moveTo>
                    <a:cubicBezTo>
                      <a:pt x="18968" y="4098"/>
                      <a:pt x="21600" y="9967"/>
                      <a:pt x="21600" y="16129"/>
                    </a:cubicBezTo>
                  </a:path>
                  <a:path stroke="0" w="21600" h="16129">
                    <a:moveTo>
                      <a:pt x="14367" y="-1"/>
                    </a:moveTo>
                    <a:cubicBezTo>
                      <a:pt x="18968" y="4098"/>
                      <a:pt x="21600" y="9967"/>
                      <a:pt x="21600" y="16129"/>
                    </a:cubicBezTo>
                    <a:lnTo>
                      <a:pt x="0" y="16129"/>
                    </a:lnTo>
                    <a:lnTo>
                      <a:pt x="14367" y="-1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9" name="Text Box 37"/>
            <p:cNvSpPr/>
            <p:nvPr/>
          </p:nvSpPr>
          <p:spPr>
            <a:xfrm>
              <a:off x="8136000" y="2492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Text Box 38"/>
            <p:cNvSpPr/>
            <p:nvPr/>
          </p:nvSpPr>
          <p:spPr>
            <a:xfrm>
              <a:off x="7848720" y="2852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Text Box 39"/>
            <p:cNvSpPr/>
            <p:nvPr/>
          </p:nvSpPr>
          <p:spPr>
            <a:xfrm>
              <a:off x="6912000" y="1771560"/>
              <a:ext cx="2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Group 57"/>
          <p:cNvGrpSpPr/>
          <p:nvPr/>
        </p:nvGrpSpPr>
        <p:grpSpPr>
          <a:xfrm>
            <a:off x="2484360" y="981000"/>
            <a:ext cx="4535640" cy="2404440"/>
            <a:chOff x="2484360" y="981000"/>
            <a:chExt cx="4535640" cy="2404440"/>
          </a:xfrm>
        </p:grpSpPr>
        <p:grpSp>
          <p:nvGrpSpPr>
            <p:cNvPr id="303" name="Group 42"/>
            <p:cNvGrpSpPr/>
            <p:nvPr/>
          </p:nvGrpSpPr>
          <p:grpSpPr>
            <a:xfrm>
              <a:off x="2484360" y="981000"/>
              <a:ext cx="2232000" cy="2404440"/>
              <a:chOff x="2484360" y="981000"/>
              <a:chExt cx="2232000" cy="2404440"/>
            </a:xfrm>
          </p:grpSpPr>
          <p:grpSp>
            <p:nvGrpSpPr>
              <p:cNvPr id="304" name="Group 36"/>
              <p:cNvGrpSpPr/>
              <p:nvPr/>
            </p:nvGrpSpPr>
            <p:grpSpPr>
              <a:xfrm>
                <a:off x="2484360" y="981000"/>
                <a:ext cx="2232000" cy="2343600"/>
                <a:chOff x="2484360" y="981000"/>
                <a:chExt cx="2232000" cy="2343600"/>
              </a:xfrm>
            </p:grpSpPr>
            <p:sp>
              <p:nvSpPr>
                <p:cNvPr id="305" name="AutoShape 7"/>
                <p:cNvSpPr/>
                <p:nvPr/>
              </p:nvSpPr>
              <p:spPr>
                <a:xfrm>
                  <a:off x="2838960" y="1252080"/>
                  <a:ext cx="1573920" cy="1672200"/>
                </a:xfrm>
                <a:prstGeom prst="rtTriangle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Text Box 8"/>
                <p:cNvSpPr/>
                <p:nvPr/>
              </p:nvSpPr>
              <p:spPr>
                <a:xfrm>
                  <a:off x="2583720" y="2925720"/>
                  <a:ext cx="303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00"/>
                      </a:solidFill>
                      <a:latin typeface="Times New Roman"/>
                    </a:rPr>
                    <a:t>С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Text Box 9"/>
                <p:cNvSpPr/>
                <p:nvPr/>
              </p:nvSpPr>
              <p:spPr>
                <a:xfrm>
                  <a:off x="4413240" y="2832840"/>
                  <a:ext cx="303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00"/>
                      </a:solidFill>
                      <a:latin typeface="Times New Roman"/>
                    </a:rPr>
                    <a:t>А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Text Box 10"/>
                <p:cNvSpPr/>
                <p:nvPr/>
              </p:nvSpPr>
              <p:spPr>
                <a:xfrm>
                  <a:off x="2484360" y="981000"/>
                  <a:ext cx="35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00"/>
                      </a:solidFill>
                      <a:latin typeface="Times New Roman"/>
                    </a:rPr>
                    <a:t>В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Rectangle 11"/>
                <p:cNvSpPr/>
                <p:nvPr/>
              </p:nvSpPr>
              <p:spPr>
                <a:xfrm>
                  <a:off x="2838960" y="2744280"/>
                  <a:ext cx="202320" cy="1803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Arc 12"/>
                <p:cNvSpPr/>
                <p:nvPr/>
              </p:nvSpPr>
              <p:spPr>
                <a:xfrm flipH="1">
                  <a:off x="4056480" y="2744280"/>
                  <a:ext cx="456120" cy="180360"/>
                </a:xfrm>
                <a:custGeom>
                  <a:avLst/>
                  <a:gdLst>
                    <a:gd name="textAreaLeft" fmla="*/ -360 w 456120"/>
                    <a:gd name="textAreaRight" fmla="*/ 456120 w 456120"/>
                    <a:gd name="textAreaTop" fmla="*/ 0 h 180360"/>
                    <a:gd name="textAreaBottom" fmla="*/ 180720 h 180360"/>
                  </a:gdLst>
                  <a:ahLst/>
                  <a:rect l="textAreaLeft" t="textAreaTop" r="textAreaRight" b="textAreaBottom"/>
                  <a:pathLst>
                    <a:path fill="none" w="21600" h="16129">
                      <a:moveTo>
                        <a:pt x="14367" y="-1"/>
                      </a:moveTo>
                      <a:cubicBezTo>
                        <a:pt x="18968" y="4098"/>
                        <a:pt x="21600" y="9967"/>
                        <a:pt x="21600" y="16129"/>
                      </a:cubicBezTo>
                    </a:path>
                    <a:path stroke="0" w="21600" h="16129">
                      <a:moveTo>
                        <a:pt x="14367" y="-1"/>
                      </a:moveTo>
                      <a:cubicBezTo>
                        <a:pt x="18968" y="4098"/>
                        <a:pt x="21600" y="9967"/>
                        <a:pt x="21600" y="16129"/>
                      </a:cubicBezTo>
                      <a:lnTo>
                        <a:pt x="0" y="16129"/>
                      </a:lnTo>
                      <a:lnTo>
                        <a:pt x="14367" y="-1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Text Box 35"/>
              <p:cNvSpPr/>
              <p:nvPr/>
            </p:nvSpPr>
            <p:spPr>
              <a:xfrm>
                <a:off x="3564000" y="177300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Text Box 36"/>
              <p:cNvSpPr/>
              <p:nvPr/>
            </p:nvSpPr>
            <p:spPr>
              <a:xfrm>
                <a:off x="3419640" y="29257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Text Box 40"/>
              <p:cNvSpPr/>
              <p:nvPr/>
            </p:nvSpPr>
            <p:spPr>
              <a:xfrm>
                <a:off x="3635280" y="256536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30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Group 44"/>
            <p:cNvGrpSpPr/>
            <p:nvPr/>
          </p:nvGrpSpPr>
          <p:grpSpPr>
            <a:xfrm>
              <a:off x="4788000" y="981000"/>
              <a:ext cx="2232000" cy="2404440"/>
              <a:chOff x="4788000" y="981000"/>
              <a:chExt cx="2232000" cy="2404440"/>
            </a:xfrm>
          </p:grpSpPr>
          <p:grpSp>
            <p:nvGrpSpPr>
              <p:cNvPr id="315" name="Group 36"/>
              <p:cNvGrpSpPr/>
              <p:nvPr/>
            </p:nvGrpSpPr>
            <p:grpSpPr>
              <a:xfrm>
                <a:off x="4788000" y="981000"/>
                <a:ext cx="2232000" cy="2343960"/>
                <a:chOff x="4788000" y="981000"/>
                <a:chExt cx="2232000" cy="2343960"/>
              </a:xfrm>
            </p:grpSpPr>
            <p:sp>
              <p:nvSpPr>
                <p:cNvPr id="316" name="AutoShape 7"/>
                <p:cNvSpPr/>
                <p:nvPr/>
              </p:nvSpPr>
              <p:spPr>
                <a:xfrm>
                  <a:off x="5142600" y="1252080"/>
                  <a:ext cx="1573920" cy="1672560"/>
                </a:xfrm>
                <a:prstGeom prst="rtTriangle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Text Box 8"/>
                <p:cNvSpPr/>
                <p:nvPr/>
              </p:nvSpPr>
              <p:spPr>
                <a:xfrm>
                  <a:off x="4887360" y="2926080"/>
                  <a:ext cx="303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00"/>
                      </a:solidFill>
                      <a:latin typeface="Times New Roman"/>
                    </a:rPr>
                    <a:t>С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Text Box 9"/>
                <p:cNvSpPr/>
                <p:nvPr/>
              </p:nvSpPr>
              <p:spPr>
                <a:xfrm>
                  <a:off x="6716880" y="2833200"/>
                  <a:ext cx="303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00"/>
                      </a:solidFill>
                      <a:latin typeface="Times New Roman"/>
                    </a:rPr>
                    <a:t>А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Text Box 10"/>
                <p:cNvSpPr/>
                <p:nvPr/>
              </p:nvSpPr>
              <p:spPr>
                <a:xfrm>
                  <a:off x="4788000" y="981000"/>
                  <a:ext cx="35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00"/>
                      </a:solidFill>
                      <a:latin typeface="Times New Roman"/>
                    </a:rPr>
                    <a:t>В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Rectangle 11"/>
                <p:cNvSpPr/>
                <p:nvPr/>
              </p:nvSpPr>
              <p:spPr>
                <a:xfrm>
                  <a:off x="5142600" y="2744280"/>
                  <a:ext cx="202320" cy="1803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Arc 12"/>
                <p:cNvSpPr/>
                <p:nvPr/>
              </p:nvSpPr>
              <p:spPr>
                <a:xfrm flipH="1">
                  <a:off x="6360120" y="2744280"/>
                  <a:ext cx="456120" cy="180360"/>
                </a:xfrm>
                <a:custGeom>
                  <a:avLst/>
                  <a:gdLst>
                    <a:gd name="textAreaLeft" fmla="*/ -360 w 456120"/>
                    <a:gd name="textAreaRight" fmla="*/ 456120 w 456120"/>
                    <a:gd name="textAreaTop" fmla="*/ 0 h 180360"/>
                    <a:gd name="textAreaBottom" fmla="*/ 180720 h 180360"/>
                  </a:gdLst>
                  <a:ahLst/>
                  <a:rect l="textAreaLeft" t="textAreaTop" r="textAreaRight" b="textAreaBottom"/>
                  <a:pathLst>
                    <a:path fill="none" w="21600" h="16129">
                      <a:moveTo>
                        <a:pt x="14367" y="-1"/>
                      </a:moveTo>
                      <a:cubicBezTo>
                        <a:pt x="18968" y="4098"/>
                        <a:pt x="21600" y="9967"/>
                        <a:pt x="21600" y="16129"/>
                      </a:cubicBezTo>
                    </a:path>
                    <a:path stroke="0" w="21600" h="16129">
                      <a:moveTo>
                        <a:pt x="14367" y="-1"/>
                      </a:moveTo>
                      <a:cubicBezTo>
                        <a:pt x="18968" y="4098"/>
                        <a:pt x="21600" y="9967"/>
                        <a:pt x="21600" y="16129"/>
                      </a:cubicBezTo>
                      <a:lnTo>
                        <a:pt x="0" y="16129"/>
                      </a:lnTo>
                      <a:lnTo>
                        <a:pt x="14367" y="-1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Text Box 52"/>
              <p:cNvSpPr/>
              <p:nvPr/>
            </p:nvSpPr>
            <p:spPr>
              <a:xfrm>
                <a:off x="6012000" y="256536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30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Text Box 53"/>
              <p:cNvSpPr/>
              <p:nvPr/>
            </p:nvSpPr>
            <p:spPr>
              <a:xfrm>
                <a:off x="5724720" y="2925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Text Box 54"/>
              <p:cNvSpPr/>
              <p:nvPr/>
            </p:nvSpPr>
            <p:spPr>
              <a:xfrm>
                <a:off x="4788000" y="1844640"/>
                <a:ext cx="28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Group 58"/>
          <p:cNvGrpSpPr/>
          <p:nvPr/>
        </p:nvGrpSpPr>
        <p:grpSpPr>
          <a:xfrm>
            <a:off x="2411280" y="189000"/>
            <a:ext cx="4033800" cy="547560"/>
            <a:chOff x="2411280" y="189000"/>
            <a:chExt cx="4033800" cy="547560"/>
          </a:xfrm>
        </p:grpSpPr>
        <p:sp>
          <p:nvSpPr>
            <p:cNvPr id="326" name="Rectangle 56"/>
            <p:cNvSpPr/>
            <p:nvPr/>
          </p:nvSpPr>
          <p:spPr>
            <a:xfrm>
              <a:off x="2411280" y="260280"/>
              <a:ext cx="4033800" cy="4762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Text Box 55"/>
            <p:cNvSpPr/>
            <p:nvPr/>
          </p:nvSpPr>
          <p:spPr>
            <a:xfrm>
              <a:off x="2482920" y="189000"/>
              <a:ext cx="39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Реши задачи по чертежу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Group 61"/>
          <p:cNvGrpSpPr/>
          <p:nvPr/>
        </p:nvGrpSpPr>
        <p:grpSpPr>
          <a:xfrm>
            <a:off x="3780000" y="3357720"/>
            <a:ext cx="2089080" cy="576000"/>
            <a:chOff x="3780000" y="3357720"/>
            <a:chExt cx="2089080" cy="576000"/>
          </a:xfrm>
        </p:grpSpPr>
        <p:sp>
          <p:nvSpPr>
            <p:cNvPr id="329" name="Rectangle 60"/>
            <p:cNvSpPr/>
            <p:nvPr/>
          </p:nvSpPr>
          <p:spPr>
            <a:xfrm>
              <a:off x="3780000" y="3357720"/>
              <a:ext cx="1800000" cy="5760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3853080" y="335772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ровер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1" name="Group 84"/>
          <p:cNvGrpSpPr/>
          <p:nvPr/>
        </p:nvGrpSpPr>
        <p:grpSpPr>
          <a:xfrm>
            <a:off x="324000" y="3357720"/>
            <a:ext cx="1944360" cy="2816640"/>
            <a:chOff x="324000" y="3357720"/>
            <a:chExt cx="1944360" cy="2816640"/>
          </a:xfrm>
        </p:grpSpPr>
        <p:grpSp>
          <p:nvGrpSpPr>
            <p:cNvPr id="332" name="Group 79"/>
            <p:cNvGrpSpPr/>
            <p:nvPr/>
          </p:nvGrpSpPr>
          <p:grpSpPr>
            <a:xfrm>
              <a:off x="324000" y="3357720"/>
              <a:ext cx="1801800" cy="2160720"/>
              <a:chOff x="324000" y="3357720"/>
              <a:chExt cx="1801800" cy="2160720"/>
            </a:xfrm>
          </p:grpSpPr>
          <p:sp>
            <p:nvSpPr>
              <p:cNvPr id="333" name="Rectangle 12"/>
              <p:cNvSpPr/>
              <p:nvPr/>
            </p:nvSpPr>
            <p:spPr>
              <a:xfrm>
                <a:off x="324000" y="3357720"/>
                <a:ext cx="1800000" cy="2160720"/>
              </a:xfrm>
              <a:prstGeom prst="rect">
                <a:avLst/>
              </a:prstGeom>
              <a:gradFill rotWithShape="0">
                <a:gsLst>
                  <a:gs pos="0">
                    <a:srgbClr val="766d44"/>
                  </a:gs>
                  <a:gs pos="50000">
                    <a:srgbClr val="feec94"/>
                  </a:gs>
                  <a:gs pos="100000">
                    <a:srgbClr val="766d44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4" name="Object 81"/>
                  <p:cNvSpPr txBox="1"/>
                  <p:nvPr/>
                </p:nvSpPr>
                <p:spPr>
                  <a:xfrm>
                    <a:off x="1692360" y="3357720"/>
                    <a:ext cx="43344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ВС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5" name="Object 82"/>
                  <p:cNvSpPr txBox="1"/>
                  <p:nvPr/>
                </p:nvSpPr>
                <p:spPr>
                  <a:xfrm>
                    <a:off x="1332000" y="4510080"/>
                    <a:ext cx="23652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36" name="Text Box 11"/>
            <p:cNvSpPr/>
            <p:nvPr/>
          </p:nvSpPr>
          <p:spPr>
            <a:xfrm>
              <a:off x="395280" y="3429000"/>
              <a:ext cx="1873080" cy="27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in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С=1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sin 3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C=10·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C=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Group 99"/>
          <p:cNvGrpSpPr/>
          <p:nvPr/>
        </p:nvGrpSpPr>
        <p:grpSpPr>
          <a:xfrm>
            <a:off x="2484360" y="4149720"/>
            <a:ext cx="1873440" cy="2745360"/>
            <a:chOff x="2484360" y="4149720"/>
            <a:chExt cx="1873440" cy="2745360"/>
          </a:xfrm>
        </p:grpSpPr>
        <p:grpSp>
          <p:nvGrpSpPr>
            <p:cNvPr id="338" name="Group 86"/>
            <p:cNvGrpSpPr/>
            <p:nvPr/>
          </p:nvGrpSpPr>
          <p:grpSpPr>
            <a:xfrm>
              <a:off x="2484360" y="4149720"/>
              <a:ext cx="1811160" cy="2160360"/>
              <a:chOff x="2484360" y="4149720"/>
              <a:chExt cx="1811160" cy="2160360"/>
            </a:xfrm>
          </p:grpSpPr>
          <p:sp>
            <p:nvSpPr>
              <p:cNvPr id="339" name="Rectangle 12"/>
              <p:cNvSpPr/>
              <p:nvPr/>
            </p:nvSpPr>
            <p:spPr>
              <a:xfrm>
                <a:off x="2484360" y="4149720"/>
                <a:ext cx="1800000" cy="2160360"/>
              </a:xfrm>
              <a:prstGeom prst="rect">
                <a:avLst/>
              </a:prstGeom>
              <a:gradFill rotWithShape="0">
                <a:gsLst>
                  <a:gs pos="0">
                    <a:srgbClr val="766d44"/>
                  </a:gs>
                  <a:gs pos="50000">
                    <a:srgbClr val="feec94"/>
                  </a:gs>
                  <a:gs pos="100000">
                    <a:srgbClr val="766d44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0" name="Object 88"/>
                  <p:cNvSpPr txBox="1"/>
                  <p:nvPr/>
                </p:nvSpPr>
                <p:spPr>
                  <a:xfrm>
                    <a:off x="3843000" y="4149720"/>
                    <a:ext cx="452520" cy="609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1" name="Object 89"/>
                  <p:cNvSpPr txBox="1"/>
                  <p:nvPr/>
                </p:nvSpPr>
                <p:spPr>
                  <a:xfrm>
                    <a:off x="3414600" y="5271840"/>
                    <a:ext cx="393480" cy="669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42" name="Text Box 11"/>
            <p:cNvSpPr/>
            <p:nvPr/>
          </p:nvSpPr>
          <p:spPr>
            <a:xfrm>
              <a:off x="2484360" y="4149720"/>
              <a:ext cx="1873440" cy="27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s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=1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cos 3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C=10·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C=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3" name="Group 93"/>
            <p:cNvGrpSpPr/>
            <p:nvPr/>
          </p:nvGrpSpPr>
          <p:grpSpPr>
            <a:xfrm>
              <a:off x="3205080" y="5805360"/>
              <a:ext cx="360360" cy="360360"/>
              <a:chOff x="3205080" y="5805360"/>
              <a:chExt cx="360360" cy="360360"/>
            </a:xfrm>
          </p:grpSpPr>
          <p:sp>
            <p:nvSpPr>
              <p:cNvPr id="344" name="AutoShape 92"/>
              <p:cNvSpPr/>
              <p:nvPr/>
            </p:nvSpPr>
            <p:spPr>
              <a:xfrm>
                <a:off x="3205080" y="5805360"/>
                <a:ext cx="360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Line 94"/>
              <p:cNvSpPr/>
              <p:nvPr/>
            </p:nvSpPr>
            <p:spPr>
              <a:xfrm flipV="1">
                <a:off x="3249720" y="6012720"/>
                <a:ext cx="316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Line 95"/>
              <p:cNvSpPr/>
              <p:nvPr/>
            </p:nvSpPr>
            <p:spPr>
              <a:xfrm>
                <a:off x="3281400" y="6018120"/>
                <a:ext cx="4464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Line 96"/>
              <p:cNvSpPr/>
              <p:nvPr/>
            </p:nvSpPr>
            <p:spPr>
              <a:xfrm flipV="1">
                <a:off x="3330720" y="5855760"/>
                <a:ext cx="58680" cy="2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Line 97"/>
              <p:cNvSpPr/>
              <p:nvPr/>
            </p:nvSpPr>
            <p:spPr>
              <a:xfrm>
                <a:off x="3389400" y="5856120"/>
                <a:ext cx="128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Rectangle 98"/>
              <p:cNvSpPr/>
              <p:nvPr/>
            </p:nvSpPr>
            <p:spPr>
              <a:xfrm>
                <a:off x="3397320" y="587196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0" name="Group 113"/>
          <p:cNvGrpSpPr/>
          <p:nvPr/>
        </p:nvGrpSpPr>
        <p:grpSpPr>
          <a:xfrm>
            <a:off x="4932360" y="4149720"/>
            <a:ext cx="1944720" cy="2745360"/>
            <a:chOff x="4932360" y="4149720"/>
            <a:chExt cx="1944720" cy="2745360"/>
          </a:xfrm>
        </p:grpSpPr>
        <p:sp>
          <p:nvSpPr>
            <p:cNvPr id="351" name="Rectangle 12"/>
            <p:cNvSpPr/>
            <p:nvPr/>
          </p:nvSpPr>
          <p:spPr>
            <a:xfrm>
              <a:off x="4932360" y="4149720"/>
              <a:ext cx="1800360" cy="216072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2" name="Object 103"/>
                <p:cNvSpPr txBox="1"/>
                <p:nvPr/>
              </p:nvSpPr>
              <p:spPr>
                <a:xfrm>
                  <a:off x="6291360" y="4149720"/>
                  <a:ext cx="4525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3" name="Object 104"/>
                <p:cNvSpPr txBox="1"/>
                <p:nvPr/>
              </p:nvSpPr>
              <p:spPr>
                <a:xfrm>
                  <a:off x="5796000" y="5229360"/>
                  <a:ext cx="39384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54" name="Text Box 11"/>
            <p:cNvSpPr/>
            <p:nvPr/>
          </p:nvSpPr>
          <p:spPr>
            <a:xfrm>
              <a:off x="5003640" y="4149720"/>
              <a:ext cx="1873440" cy="27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g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=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tg 3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C=6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C=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AutoShape 107"/>
            <p:cNvSpPr/>
            <p:nvPr/>
          </p:nvSpPr>
          <p:spPr>
            <a:xfrm>
              <a:off x="5796000" y="580536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Line 108"/>
            <p:cNvSpPr/>
            <p:nvPr/>
          </p:nvSpPr>
          <p:spPr>
            <a:xfrm flipV="1">
              <a:off x="5840280" y="6013080"/>
              <a:ext cx="32040" cy="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Line 109"/>
            <p:cNvSpPr/>
            <p:nvPr/>
          </p:nvSpPr>
          <p:spPr>
            <a:xfrm>
              <a:off x="5867280" y="6021360"/>
              <a:ext cx="4464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Line 110"/>
            <p:cNvSpPr/>
            <p:nvPr/>
          </p:nvSpPr>
          <p:spPr>
            <a:xfrm flipV="1">
              <a:off x="5921280" y="5855760"/>
              <a:ext cx="5868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Line 111"/>
            <p:cNvSpPr/>
            <p:nvPr/>
          </p:nvSpPr>
          <p:spPr>
            <a:xfrm>
              <a:off x="5979960" y="5856120"/>
              <a:ext cx="128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Rectangle 112"/>
            <p:cNvSpPr/>
            <p:nvPr/>
          </p:nvSpPr>
          <p:spPr>
            <a:xfrm>
              <a:off x="6012000" y="58770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Group 126"/>
          <p:cNvGrpSpPr/>
          <p:nvPr/>
        </p:nvGrpSpPr>
        <p:grpSpPr>
          <a:xfrm>
            <a:off x="7093080" y="3429000"/>
            <a:ext cx="1873080" cy="2745360"/>
            <a:chOff x="7093080" y="3429000"/>
            <a:chExt cx="1873080" cy="2745360"/>
          </a:xfrm>
        </p:grpSpPr>
        <p:sp>
          <p:nvSpPr>
            <p:cNvPr id="362" name="Rectangle 12"/>
            <p:cNvSpPr/>
            <p:nvPr/>
          </p:nvSpPr>
          <p:spPr>
            <a:xfrm>
              <a:off x="7165800" y="3429000"/>
              <a:ext cx="1800360" cy="216036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Text Box 11"/>
            <p:cNvSpPr/>
            <p:nvPr/>
          </p:nvSpPr>
          <p:spPr>
            <a:xfrm>
              <a:off x="7093080" y="3429000"/>
              <a:ext cx="1873080" cy="27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g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=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tg 3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C=9·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DC=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4" name="Group 125"/>
            <p:cNvGrpSpPr/>
            <p:nvPr/>
          </p:nvGrpSpPr>
          <p:grpSpPr>
            <a:xfrm>
              <a:off x="7634160" y="3429000"/>
              <a:ext cx="1187640" cy="2087280"/>
              <a:chOff x="7634160" y="3429000"/>
              <a:chExt cx="1187640" cy="2087280"/>
            </a:xfrm>
          </p:grpSpPr>
          <mc:AlternateContent>
            <mc:Choice xmlns:a14="http://schemas.microsoft.com/office/drawing/2010/main" Requires="a14">
              <p:sp>
                <p:nvSpPr>
                  <p:cNvPr id="365" name="Object 116"/>
                  <p:cNvSpPr txBox="1"/>
                  <p:nvPr/>
                </p:nvSpPr>
                <p:spPr>
                  <a:xfrm>
                    <a:off x="8389800" y="3429000"/>
                    <a:ext cx="43200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ВС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66" name="Object 117"/>
                  <p:cNvSpPr txBox="1"/>
                  <p:nvPr/>
                </p:nvSpPr>
                <p:spPr>
                  <a:xfrm>
                    <a:off x="7850160" y="4498920"/>
                    <a:ext cx="393840" cy="66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7" name="AutoShape 119"/>
              <p:cNvSpPr/>
              <p:nvPr/>
            </p:nvSpPr>
            <p:spPr>
              <a:xfrm>
                <a:off x="7634160" y="5155920"/>
                <a:ext cx="360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Line 120"/>
              <p:cNvSpPr/>
              <p:nvPr/>
            </p:nvSpPr>
            <p:spPr>
              <a:xfrm flipV="1">
                <a:off x="7923240" y="5300640"/>
                <a:ext cx="3168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Line 121"/>
              <p:cNvSpPr/>
              <p:nvPr/>
            </p:nvSpPr>
            <p:spPr>
              <a:xfrm>
                <a:off x="7956360" y="5300640"/>
                <a:ext cx="4464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Line 122"/>
              <p:cNvSpPr/>
              <p:nvPr/>
            </p:nvSpPr>
            <p:spPr>
              <a:xfrm flipV="1">
                <a:off x="7994520" y="5155560"/>
                <a:ext cx="58680" cy="2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Line 123"/>
              <p:cNvSpPr/>
              <p:nvPr/>
            </p:nvSpPr>
            <p:spPr>
              <a:xfrm>
                <a:off x="8069400" y="5135400"/>
                <a:ext cx="128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Rectangle 124"/>
              <p:cNvSpPr/>
              <p:nvPr/>
            </p:nvSpPr>
            <p:spPr>
              <a:xfrm>
                <a:off x="8101080" y="515592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6:49:43Z</dcterms:created>
  <dc:creator>Юзер</dc:creator>
  <dc:description/>
  <dc:language>en-US</dc:language>
  <cp:lastModifiedBy>Елена Ванденко</cp:lastModifiedBy>
  <dcterms:modified xsi:type="dcterms:W3CDTF">2022-04-05T08:57:22Z</dcterms:modified>
  <cp:revision>9</cp:revision>
  <dc:subject/>
  <dc:title>Соотношения между сторонами и углами прямоугольного треугольника.</dc:title>
</cp:coreProperties>
</file>