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9B8-6047-4E51-81A8-FA631A73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6F8-C862-4D03-B444-14F53C1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B87-A93D-4899-B9B4-7CEBC88E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F63-657B-4A89-BDD4-D534D71C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840-CC41-4C8F-A880-8EC5E446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08C-2525-478B-B9C7-EAD2851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AD1-C71D-4D7A-885E-9E033E25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DEF-642F-4C20-9E4F-123EB8FE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39B-7EB4-4282-8C98-BF080E29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489-6573-47C6-AB69-179C705E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6D9-F3CF-4751-B3F1-BAC9DF55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501-E954-4D71-B0A8-035B8A7C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FBD3-D2A1-4BD3-81E7-B83CFE4CD9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32523"/>
                </a:solidFill>
                <a:latin typeface="Bookman Old Style"/>
              </a:rPr>
              <a:t>Ваш ребёнок идёт в школу</a:t>
            </a:r>
            <a:endParaRPr b="0" lang="en-US" sz="4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Подготовил: педагог-психолог Полесовщикова Н.А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595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ланируйте одновременно с поступлением ребенка в первый класс других крупных начинаний (музыкальная, художественная школа и т.д.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енок придет в школу, чтобы учиться. Когда человек учится, у него может что-то не сразу получаться, это естественно. Ребенок имеет право на ошибку. Объясните, что сделано неправильно и, если требуется, помогите исправить.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те первоклассника в его желании добиться успеха. В каждой работе обязательно найдите, за что можно было бы его похвалить. Помните, что похвала и эмоциональная поддержка («Молодец!», «Ты так хорошо справился!») способны заметно повысить интеллектуальные достижения человека. Постепенно переставайте хвалить ребенка за каждый шаг в работе - хвалите за готовый результа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чаще звучит не Ваша оценка его деятельности, а его собственная «Тебе самому понравилось, как ты выступил? Почему?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58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ритерии социально-психологическая готовности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устанавливать контакт со взросл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важительно относится к учителю и соблюдает необходимую дистанцию в общении с ним. Прислушивается к замечаниям и требованиям учителя, старается их выполнить 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работать в группе сверстник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ктивен в общении со сверстниками, сам выбирает себе партнеров для игр и занятий. Не провоцирует конфликты со сверстниками, не бьет первым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417080" cy="480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екомендации по формированию социально-психологической готов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ступлением в школу в жизни вашего ребенка появился человек более авторитетный, чем Вы. Это Учитель. Уважайте мнение первоклассника о своем педагог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тобы ребёнок умел слышать учителя, обращайте внимание, 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91280" cy="47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райтесь, чтобы ребенок привыкал работать самостоятельно, не требовал постоянного внимания и поощрения со стороны взрослого. Ведь на уроке учитель вряд ли сможет уделить каждому одинаковое внимани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 ребенка договариваться на примере Ваших с ним отношений, чтобы учитывались и его, и Ваши желания – не уступайте все время, но и не ущемляйте постоянно ег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енно в семье формируется «культ интеллекта» и мотивация учения, культура общения – в создании домашней библиотеки, в интересных  беседах, дискуссия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подготовке к школе вы должны оставаться для вашего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любящим и понимающим родител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 не брать на себя роль учител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старайтесь достижения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 сравни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 со своими, ни с достижениями старшего брата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Placeholder 2" descr="111111.jpg"/>
          <p:cNvPicPr/>
          <p:nvPr/>
        </p:nvPicPr>
        <p:blipFill>
          <a:blip r:embed="rId1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3564000" y="1197000"/>
            <a:ext cx="5146560" cy="3929040"/>
          </a:xfrm>
          <a:prstGeom prst="rect">
            <a:avLst/>
          </a:prstGeom>
          <a:ln w="0">
            <a:noFill/>
          </a:ln>
        </p:spPr>
      </p:pic>
      <p:sp>
        <p:nvSpPr>
          <p:cNvPr id="291" name="WordArt 7"/>
          <p:cNvSpPr txBox="1"/>
          <p:nvPr/>
        </p:nvSpPr>
        <p:spPr>
          <a:xfrm>
            <a:off x="4140360" y="0"/>
            <a:ext cx="4419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343640" cy="487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ребенка к школе важно формировать и не столько  знания, сколько  психологическую готовность будущего первоклассника к наступлению нового этапа в его жизни -  школьного детств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одителей также требуется определенная психологическая готовность помочь юному человеку вступить в новый мир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2"/>
          <p:cNvSpPr/>
          <p:nvPr/>
        </p:nvSpPr>
        <p:spPr>
          <a:xfrm>
            <a:off x="3203640" y="620640"/>
            <a:ext cx="576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й готовност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школьному обучению понимается уровень психического развития ребёнка необходимый и достаточный для успешного освоения школьной учебной программы в условиях обучения в коллективе сверс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.В. Дубров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4"/>
          <p:cNvSpPr/>
          <p:nvPr/>
        </p:nvSpPr>
        <p:spPr>
          <a:xfrm>
            <a:off x="714240" y="428760"/>
            <a:ext cx="8001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ребенка к обучению в школе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ую готов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статочный уровень интеллектуального развит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ую готов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ольная регуляция поведения и деятельности, внутренняя положительная мотивация уч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у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тов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мение общаться со взрослыми и сверстник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сех этих качеств в их единстве способно обеспечить освоение школьной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1699920"/>
            <a:ext cx="8143920" cy="51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</a:t>
            </a:r>
            <a:r>
              <a:rPr b="1" lang="ru-RU" sz="2800" spc="-1" strike="noStrike">
                <a:solidFill>
                  <a:srgbClr val="953735"/>
                </a:solidFill>
                <a:latin typeface="Segoe Script"/>
              </a:rPr>
              <a:t>Критерии  интеллектуальной готовности</a:t>
            </a: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кругозора, достаточный словарный запас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азвернутой фразовой реч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ая и вербальная  (словесная) память (7+/-2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нимания (концентрация, устойчивость, распределение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слительн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мение сравнивать, анализировать, выделять существенные признаки, обобщать, классифицировать, понимать связи между явлениями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ориентация (умение ориентироваться в пространстве и тетради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онкой моторики (способен рисовать мелкие детали, точно обводить контур)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549360"/>
            <a:ext cx="8143920" cy="57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400" spc="-1" strike="noStrike">
                <a:solidFill>
                  <a:srgbClr val="953735"/>
                </a:solidFill>
                <a:latin typeface="Segoe Script"/>
              </a:rPr>
              <a:t>Рекомендации по формированию интеллектуальной готовност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езно учить ребенка строить несложные рассуждения, выводы, используя слова: «потому, что»; «если, то»; «поэтому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 задавать вопросы. Мышление всегда начинается с вопроса. Важно стараться, чтобы ребёнок дольше оставался «почемучкой». Школьник, не задающий вопросов, - это повод для родительской тревоги. «Любознательность создаёт учёных».       (Франс А.)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389800" cy="669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Segoe Script"/>
              </a:rPr>
              <a:t>Критерии личностной  готовности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стать школьник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учитьс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познавательной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добиться положительной оценк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импульсивных реакци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устойчивость, эмоциональное реагирование адекватное ситуации, умение выражать негативные эмоции социально-приемлемым способ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выполнять умственную работу по инструкции или образц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дчинять свое поведение нормам и правила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длительное время выполнять не очень привлекательное задание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80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Segoe Script"/>
              </a:rPr>
              <a:t>Рекомендации по формированию личностной готовности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угайте ребёнка будущими трудностями в школе.</a:t>
            </a:r>
            <a:br>
              <a:rPr sz="2400"/>
            </a:b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те в ребенке его стремление стать школьником. Необходимо проявлять интерес к школьным делам ребёнка, к школе, классу, к каждому прожитому в школе дню. Искренняя родительская заинтересованность в его школьном будущем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с ребенком те правила и нормы, с которыми он встретится в школе. Объясните их необходимость и целесообразнос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сейчас следует  постепенно соотносить режим дня ребенка с режимом дня школьника. Вместе составьте распорядок дня, следите за его соблюдение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, адаптировать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user</cp:lastModifiedBy>
  <dcterms:modified xsi:type="dcterms:W3CDTF">2014-11-18T09:31:20Z</dcterms:modified>
  <cp:revision>41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