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5FD-0D27-468D-A545-DE6CDC97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1E5-28E7-4D25-853E-D0C594D8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2C4-0770-47F4-8CA3-939E485F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B6D-9B82-443A-9DF4-7E3EE31A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4D3D-8326-4083-8E2F-1E1A1CE8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7B78-9661-4DB6-8B9F-17472C79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6D3F-88E6-44D5-92B7-38CB9867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27FD-35A8-4675-9944-ED2DA9C2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DD02-01BD-47E3-AA41-7CFFBB3F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ACF9-17DD-4D03-B069-180CE1F3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94AD-3B9F-4A45-A86B-78DA6804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60D-C116-487E-853E-7946073D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3296-F667-4C54-A9FF-888FD1D6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F77B-3D90-4430-9E27-B1C052D6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A24F-D27B-4E3E-AFED-25BF60E4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39FA-3D85-495A-A339-C1E86019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AE9B-25F7-4D7C-81FF-217A06C3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E7DE0-3301-4190-85F3-B2EB8FD7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F297-D7D8-4E9F-BD13-91F91AC8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1BEAD-05BF-43EA-A634-EBC13348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910B3-F44C-4631-B4B3-431E1E86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EA535-60B7-4822-9103-75D46603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784-6255-4636-8B57-A75397D5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F79F-ACF3-45F2-96B1-4650CF5B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E286C-0AFC-4126-9B44-AD0F8EB3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8456D-8B62-4C71-BF64-5A74D2C3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C3D55-726E-4CB4-AA8C-03C027C1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B2D7E-5AAE-4ED0-A39D-2B97FFDF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09937-5AEA-482F-94EE-A6B5D97F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F0284-00F4-428D-AC22-123DC8F0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0A8-7F8A-4BD9-89DF-C91D0439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877-59BD-4CFE-886E-51F3A62F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6A6-B615-4E7F-B969-4F2CC064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3C0-2A4F-45DB-91F2-1D19BDF7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85B-5D01-4486-BF73-730A7D78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407-2743-4570-B369-EA76C424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E431-7F8A-433F-B13F-8F1CCB55B5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3660-432E-4752-B465-44D61A998C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42FD-7773-4841-A6EA-A59807812B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123640" y="5516640"/>
            <a:ext cx="521676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05"/>
                </a:solidFill>
                <a:latin typeface="Calibri"/>
              </a:rPr>
              <a:t>старшая группа компенсирующей направленности «Колокольчи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52600" y="78912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тенгазе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«Ходим по правила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2780640" y="55872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МБДОУ ДС №56 «Улыб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2268360" y="2090880"/>
            <a:ext cx="4607280" cy="327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29" name="Рисунок 1" descr=""/>
          <p:cNvPicPr/>
          <p:nvPr/>
        </p:nvPicPr>
        <p:blipFill>
          <a:blip r:embed="rId1"/>
          <a:stretch/>
        </p:blipFill>
        <p:spPr>
          <a:xfrm>
            <a:off x="179280" y="1425600"/>
            <a:ext cx="4084920" cy="5445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" descr=""/>
          <p:cNvPicPr/>
          <p:nvPr/>
        </p:nvPicPr>
        <p:blipFill>
          <a:blip r:embed="rId2"/>
          <a:stretch/>
        </p:blipFill>
        <p:spPr>
          <a:xfrm>
            <a:off x="4552920" y="1425600"/>
            <a:ext cx="4083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32" name="Рисунок 3" descr=""/>
          <p:cNvPicPr/>
          <p:nvPr/>
        </p:nvPicPr>
        <p:blipFill>
          <a:blip r:embed="rId1"/>
          <a:stretch/>
        </p:blipFill>
        <p:spPr>
          <a:xfrm>
            <a:off x="250920" y="1328760"/>
            <a:ext cx="4371840" cy="51069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"/>
          <p:cNvPicPr/>
          <p:nvPr/>
        </p:nvPicPr>
        <p:blipFill>
          <a:blip r:embed="rId2"/>
          <a:srcRect l="0" t="0" r="0" b="-430"/>
          <a:stretch/>
        </p:blipFill>
        <p:spPr>
          <a:xfrm>
            <a:off x="4753080" y="1228680"/>
            <a:ext cx="39672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1116000" y="963720"/>
            <a:ext cx="3408480" cy="45432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"/>
          <p:cNvPicPr/>
          <p:nvPr/>
        </p:nvPicPr>
        <p:blipFill>
          <a:blip r:embed="rId2"/>
          <a:stretch/>
        </p:blipFill>
        <p:spPr>
          <a:xfrm>
            <a:off x="4621320" y="963720"/>
            <a:ext cx="35701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37" name="Рисунок 3" descr=""/>
          <p:cNvPicPr/>
          <p:nvPr/>
        </p:nvPicPr>
        <p:blipFill>
          <a:blip r:embed="rId1"/>
          <a:stretch/>
        </p:blipFill>
        <p:spPr>
          <a:xfrm>
            <a:off x="838080" y="1341360"/>
            <a:ext cx="748980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пользователь1</cp:lastModifiedBy>
  <dcterms:modified xsi:type="dcterms:W3CDTF">2022-04-05T10:49:44Z</dcterms:modified>
  <cp:revision>51</cp:revision>
  <dc:subject/>
  <dc:title>Слайд 1</dc:title>
</cp:coreProperties>
</file>