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253-F0A5-4753-8627-49B7A897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099-9510-4624-867E-5369B2F1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0E9-6FC1-4C36-8775-314D4454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C87-F01C-43DE-9E49-2DA9A2E7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E452-B28E-4489-8548-14C12180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485-CEC5-44F4-A6FA-D5FA850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AB90-C0BB-48B7-BEAF-A204805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419D-1B5D-4647-9A09-098D897A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FBF2-DBA4-4918-97B3-11BDC108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CA4B-CDB7-4311-AFEF-40F93653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8D46-2EF8-49A1-B529-54AAEB95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F50-04CD-4304-A8F2-4D853ED1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667C-16B7-4143-A676-B280AB2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83F6-4702-4549-875F-F882AB9F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0895-06E0-41B9-BA97-84E6E8EA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1839-1FD8-4C92-9878-5AB315DD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F0A3-B2B0-444F-A69D-BA54B75A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B030-7001-4716-B3E3-9D689CA4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CFD3-06E5-4A44-A005-B5D857E6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027B-515A-4BA7-AE7C-E8AB5B19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13EB-47BB-4716-9132-536540B4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73A7-D9B5-4A72-9672-0ACC8CB9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939-320A-48DD-B91A-7C435CA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417E-AF97-4A31-9E64-6980438E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A577-25E2-4C22-92E9-11D7272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EEEC-06C8-4D55-9951-961AF798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B9FF-857C-4B76-9457-E02640EC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5E9D-4F8B-4C3E-9DE9-E2854380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0858-526E-435A-9A71-570D617A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E119-3BC6-4003-A164-61D43449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B4A-880C-4A7C-A0B7-7EA58D6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F75-E17E-4BDA-B78C-A0854817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168-FF7D-4394-B0F1-2E0BC206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A3B-197D-4835-B1A7-32627C4F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BCD-2407-4DA4-83F2-2D99B2DE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81D-F1DA-439B-9FAA-B9FF5E9E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2883-953D-42FF-BA03-D14CFCBEA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94E6-4563-4869-BD96-B530F60AA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3C7-7542-432F-BC5E-CD220D7A4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123640" y="5516640"/>
            <a:ext cx="52167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05"/>
                </a:solidFill>
                <a:latin typeface="Calibri"/>
              </a:rPr>
              <a:t>старшая группа компенсирующей направленности «Колокольч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52600" y="7891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енгаз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Ходим по правил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780640" y="55872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МБДОУ ДС №56 «Улыб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2268360" y="2090880"/>
            <a:ext cx="4607280" cy="327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179280" y="1425600"/>
            <a:ext cx="4084920" cy="5445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2"/>
          <a:stretch/>
        </p:blipFill>
        <p:spPr>
          <a:xfrm>
            <a:off x="4552920" y="1425600"/>
            <a:ext cx="4083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250920" y="1328760"/>
            <a:ext cx="4371840" cy="51069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"/>
          <p:cNvPicPr/>
          <p:nvPr/>
        </p:nvPicPr>
        <p:blipFill>
          <a:blip r:embed="rId2"/>
          <a:srcRect l="0" t="0" r="0" b="-430"/>
          <a:stretch/>
        </p:blipFill>
        <p:spPr>
          <a:xfrm>
            <a:off x="4753080" y="1228680"/>
            <a:ext cx="39672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1116000" y="963720"/>
            <a:ext cx="3408480" cy="4543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4621320" y="963720"/>
            <a:ext cx="3570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>
            <a:off x="838080" y="1341360"/>
            <a:ext cx="74898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1</cp:lastModifiedBy>
  <dcterms:modified xsi:type="dcterms:W3CDTF">2022-04-05T10:49:44Z</dcterms:modified>
  <cp:revision>51</cp:revision>
  <dc:subject/>
  <dc:title>Слайд 1</dc:title>
</cp:coreProperties>
</file>