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C95-C29D-4BAD-9739-F2777A69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B6A-E695-4516-A535-BA2829ED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9D1-5EF8-4D69-A4A7-A5BC73E8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C4C-3AD1-4369-9557-44DED0ED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E3A5-1D56-4ABE-82EF-26C8A6D0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D4FF-7816-49C3-BD58-4A3B42A3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BFA1-BAC0-4A7C-96BC-856FFF12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81A3-89D5-46FB-8F96-1BEDB29D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2F98-AA2E-4471-BF7B-D89A3221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9A3C-9FAF-4F74-A64D-BC9C68D8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B62C-057D-4D29-90DF-1DDCB826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ADA2-4752-4207-9DD6-DE85AE22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03BC-70FF-48B8-989B-D12FC76B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833A-192D-41AD-BA64-25DD7952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699B-E8EC-4F54-A277-5B6BF2FC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7498-587D-4F3A-AAFE-9619E9C6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419F-E293-41BF-84C6-9426FF62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021A-998D-442B-822A-89DA74D4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02905-06F1-49EA-B622-710F12D4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F2BEF-936A-44B5-A1FC-11D235DF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F8BAE-61F0-4236-BCCD-74C1A13B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9864E-3CD9-4C87-90DE-7B404724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ACB-7226-4756-9750-48BE63E9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382B6-3720-4F3D-AB55-A7CCC39D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41BB-CA68-45E0-82BE-33C3E466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5BB0E-8422-4BB4-B409-19D94644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D4CF3-799E-4927-9F8C-CC67BF1D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7E021-E710-43FC-B9B2-CA302C37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4B62-3ABE-4AF5-85E4-E2D872CB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CB79-9B99-4446-A836-8677E0B2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6C25B-57A1-446C-B8B3-641AE73C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0C103-4204-4995-B0F1-8F5D16C5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718B7-EA34-46E8-A221-3F405F08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CF0-2FC5-4163-9766-C998EAE3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EB6EE-2527-4804-A915-60C3875A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42918-2B1C-4D88-9346-958A990F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A25C3-3A94-4207-A322-7327497F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90326-0F9D-4401-A523-43C95F4B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93B46-4C00-4195-B6C1-3A1D8E5C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D5161-BBC9-4997-AF96-A84E32FA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8094-FFA4-4528-AEA8-D4AFE6EF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DAE4C-A11D-46BF-8A62-4CF7FAE1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1EB7D-F3F2-4908-A0BC-4C851277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F59A2-1B19-43BF-8DD2-49F985AC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1D69-F66E-43D2-B6F9-D782E4B1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D6671-6DFD-4F6E-BF5E-FCFA2319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D6065-80EC-4503-8F76-7D50A257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A4982-2853-4F9A-90AE-2C6844A2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DC603-30C0-4D53-B378-B93100D9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4E9A4-375E-432C-8DDD-DC6419EA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3A59A-72FC-45FA-9A4D-2AD548B4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4B678-C935-4142-9309-44FF94ED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0CF01-0100-47C8-A0BB-9B488DDC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5BD58-93ED-41E6-B594-697059E7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37D71-4B25-47F2-A39E-F3E7EC27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3A0-ECF3-4018-A403-2469EFC3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98B71-F8A2-4FF7-9901-00E66C5B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924D2-0A0D-4426-A510-DE01C8DB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D7F22-65AE-43AC-A607-1FAAEDC5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05AAD-7EDF-4B59-888E-D5AC36F5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8FC3A-6D95-4239-A607-275E0658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3D5E5-95EE-440D-A44E-CDA6D8B3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ECC4E-5A61-485C-9B10-4543774C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BB386-76D4-4320-9A58-2EE8C756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0E678-DF5F-4556-ACAE-B311A3D9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D8FDC-5CE1-4B83-9624-5C8D2F40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975-91F0-4D9E-93F5-81FCE899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AA66B-7ECA-4DE9-AA07-85A12389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8D352-1D39-4058-9577-6B6A34A9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E4A75-A0EE-4B4B-81D6-CC13F313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EF8-E899-47BB-9F5D-C6740710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EDD-BA48-4757-BB45-DD6B0BB2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C94AC-B122-43E5-863B-84562A80247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DBCA8-3C2B-439A-A1A3-EE81116BAF9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55A7B-9924-4A83-A334-6A9E2BA64BD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9397A-60E5-4FA9-A018-5F1074F5950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651D5-A115-4BCF-A778-94376FB99A1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8BF07-7C25-4D15-B9D5-3A4DA9AA40C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0.png"/><Relationship Id="rId3" Type="http://schemas.openxmlformats.org/officeDocument/2006/relationships/slide" Target="slide15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" Target="slide15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" Target="slide2.xml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e3Jxjx7ABs" TargetMode="External"/><Relationship Id="rId2" Type="http://schemas.openxmlformats.org/officeDocument/2006/relationships/hyperlink" Target="http://www.himikatus.ru/art/nvideo_neorg/razlojenem.php" TargetMode="External"/><Relationship Id="rId3" Type="http://schemas.openxmlformats.org/officeDocument/2006/relationships/hyperlink" Target="http://www.himikatus.ru/art/nvideo_neorg/razlojenem.php" TargetMode="External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slide" Target="slide15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5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27160" y="4508280"/>
            <a:ext cx="61214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br>
              <a:rPr sz="32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Типы химических реакций»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Лисенкова Елена Петровна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2987640" y="836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Эпиграф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5580000" cy="79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ндотермическая реакц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ндотермические реакции</a:t>
            </a:r>
            <a:r>
              <a:rPr b="1" i="1" lang="ru-RU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акции,</a:t>
            </a:r>
            <a:r>
              <a:rPr b="1" i="1" lang="ru-RU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отекающие с поглощением энергии (тепла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ение азота в атмосфере кислород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</a:t>
            </a:r>
            <a:r>
              <a:rPr b="0" lang="en-US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+ O</a:t>
            </a:r>
            <a:r>
              <a:rPr b="0" lang="en-US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= 2NO – Q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Дж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ложение оксида ртути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gO = 2Hg↓ + O</a:t>
            </a:r>
            <a:r>
              <a:rPr b="0" lang="en-US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↑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Q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Дж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ение аммиака в кислороде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NH</a:t>
            </a:r>
            <a:r>
              <a:rPr b="0" lang="en-US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+ 5O</a:t>
            </a:r>
            <a:r>
              <a:rPr b="0" lang="en-US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= 4NO + 6H</a:t>
            </a:r>
            <a:r>
              <a:rPr b="0" lang="en-US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 – Q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Дж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AutoShape 7">
            <a:hlinkClick r:id="rId1" action="ppaction://hlinksldjump"/>
          </p:cNvPr>
          <p:cNvSpPr/>
          <p:nvPr/>
        </p:nvSpPr>
        <p:spPr>
          <a:xfrm>
            <a:off x="8782200" y="6502320"/>
            <a:ext cx="361800" cy="355680"/>
          </a:xfrm>
          <a:custGeom>
            <a:avLst/>
            <a:gdLst>
              <a:gd name="textAreaLeft" fmla="*/ 23040 w 361800"/>
              <a:gd name="textAreaRight" fmla="*/ 338760 w 36180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21971" h="21600">
                <a:moveTo>
                  <a:pt x="0" y="0"/>
                </a:moveTo>
                <a:lnTo>
                  <a:pt x="21971" y="0"/>
                </a:lnTo>
                <a:lnTo>
                  <a:pt x="21971" y="21600"/>
                </a:lnTo>
                <a:lnTo>
                  <a:pt x="0" y="21600"/>
                </a:lnTo>
                <a:close/>
              </a:path>
              <a:path fill="lightenLess" w="21971" h="21600">
                <a:moveTo>
                  <a:pt x="0" y="0"/>
                </a:moveTo>
                <a:lnTo>
                  <a:pt x="21971" y="0"/>
                </a:lnTo>
                <a:lnTo>
                  <a:pt x="20571" y="1400"/>
                </a:lnTo>
                <a:lnTo>
                  <a:pt x="1400" y="1400"/>
                </a:lnTo>
                <a:close/>
              </a:path>
              <a:path fill="darken" w="21971" h="21600">
                <a:moveTo>
                  <a:pt x="21971" y="0"/>
                </a:moveTo>
                <a:lnTo>
                  <a:pt x="21971" y="21600"/>
                </a:lnTo>
                <a:lnTo>
                  <a:pt x="20571" y="20200"/>
                </a:lnTo>
                <a:lnTo>
                  <a:pt x="20571" y="1400"/>
                </a:lnTo>
                <a:close/>
              </a:path>
              <a:path fill="darkenLess" w="21971" h="21600">
                <a:moveTo>
                  <a:pt x="21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71" y="20200"/>
                </a:lnTo>
                <a:close/>
              </a:path>
              <a:path fill="lighten" w="21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71" h="21600">
                <a:moveTo>
                  <a:pt x="10986" y="3837"/>
                </a:moveTo>
                <a:lnTo>
                  <a:pt x="13562" y="6448"/>
                </a:ln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lnTo>
                  <a:pt x="17949" y="10800"/>
                </a:lnTo>
                <a:lnTo>
                  <a:pt x="16295" y="10800"/>
                </a:lnTo>
                <a:lnTo>
                  <a:pt x="16295" y="17989"/>
                </a:lnTo>
                <a:lnTo>
                  <a:pt x="5676" y="17989"/>
                </a:lnTo>
                <a:lnTo>
                  <a:pt x="5676" y="10800"/>
                </a:lnTo>
                <a:lnTo>
                  <a:pt x="4023" y="10800"/>
                </a:lnTo>
                <a:close/>
              </a:path>
              <a:path fill="darkenLess" w="21971" h="21600">
                <a:moveTo>
                  <a:pt x="13562" y="6448"/>
                </a:move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close/>
              </a:path>
              <a:path fill="darkenLess" w="21971" h="21600">
                <a:moveTo>
                  <a:pt x="10063" y="14299"/>
                </a:moveTo>
                <a:lnTo>
                  <a:pt x="11908" y="14299"/>
                </a:lnTo>
                <a:lnTo>
                  <a:pt x="11908" y="17989"/>
                </a:lnTo>
                <a:lnTo>
                  <a:pt x="16295" y="17989"/>
                </a:lnTo>
                <a:lnTo>
                  <a:pt x="16295" y="10800"/>
                </a:lnTo>
                <a:lnTo>
                  <a:pt x="5676" y="10800"/>
                </a:lnTo>
                <a:lnTo>
                  <a:pt x="5676" y="17989"/>
                </a:lnTo>
                <a:lnTo>
                  <a:pt x="1006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AutoShape 8">
            <a:hlinkClick r:id="rId2" action="ppaction://hlinksldjump"/>
          </p:cNvPr>
          <p:cNvSpPr/>
          <p:nvPr/>
        </p:nvSpPr>
        <p:spPr>
          <a:xfrm rot="10800000">
            <a:off x="0" y="6515280"/>
            <a:ext cx="347760" cy="342720"/>
          </a:xfrm>
          <a:custGeom>
            <a:avLst/>
            <a:gdLst>
              <a:gd name="textAreaLeft" fmla="*/ 21960 w 347760"/>
              <a:gd name="textAreaRight" fmla="*/ 325800 w 34776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21917" h="21600">
                <a:moveTo>
                  <a:pt x="0" y="0"/>
                </a:moveTo>
                <a:lnTo>
                  <a:pt x="21917" y="0"/>
                </a:lnTo>
                <a:lnTo>
                  <a:pt x="21917" y="21600"/>
                </a:lnTo>
                <a:lnTo>
                  <a:pt x="0" y="21600"/>
                </a:lnTo>
                <a:close/>
              </a:path>
              <a:path fill="lightenLess" w="21917" h="21600">
                <a:moveTo>
                  <a:pt x="0" y="0"/>
                </a:moveTo>
                <a:lnTo>
                  <a:pt x="21917" y="0"/>
                </a:lnTo>
                <a:lnTo>
                  <a:pt x="20517" y="1400"/>
                </a:lnTo>
                <a:lnTo>
                  <a:pt x="1400" y="1400"/>
                </a:lnTo>
                <a:close/>
              </a:path>
              <a:path fill="darken" w="21917" h="21600">
                <a:moveTo>
                  <a:pt x="21917" y="0"/>
                </a:moveTo>
                <a:lnTo>
                  <a:pt x="21917" y="21600"/>
                </a:lnTo>
                <a:lnTo>
                  <a:pt x="20517" y="20200"/>
                </a:lnTo>
                <a:lnTo>
                  <a:pt x="20517" y="1400"/>
                </a:lnTo>
                <a:close/>
              </a:path>
              <a:path fill="darkenLess" w="21917" h="21600">
                <a:moveTo>
                  <a:pt x="21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7" y="20200"/>
                </a:lnTo>
                <a:close/>
              </a:path>
              <a:path fill="lighten" w="21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17" h="21600">
                <a:moveTo>
                  <a:pt x="3952" y="3794"/>
                </a:moveTo>
                <a:lnTo>
                  <a:pt x="17965" y="10800"/>
                </a:lnTo>
                <a:lnTo>
                  <a:pt x="39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ver dir="l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5435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верьте свои зна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218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пределите тип химической реакции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спределите предложенные вам уравнения, расставьте коэффициенты в  уравнениях реакций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O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H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aOH + H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O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Na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O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H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e(OH)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Fe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H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H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 = H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O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</a:t>
            </a:r>
            <a:r>
              <a:rPr b="1" lang="ru-RU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g(OH)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HNO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Mg(NO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H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 + H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 = Ca(OH)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H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CO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CaO + CO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e + HCl = FeCl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H</a:t>
            </a:r>
            <a:r>
              <a:rPr b="1" lang="en-US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00720" y="4149720"/>
          <a:ext cx="4109760" cy="1511280"/>
        </p:xfrm>
        <a:graphic>
          <a:graphicData uri="http://schemas.openxmlformats.org/drawingml/2006/table">
            <a:tbl>
              <a:tblPr/>
              <a:tblGrid>
                <a:gridCol w="2055600"/>
                <a:gridCol w="20541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соеди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обмена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ae7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раз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1c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заме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fd0df"/>
                    </a:solidFill>
                  </a:tcPr>
                </a:tc>
              </a:tr>
            </a:tbl>
          </a:graphicData>
        </a:graphic>
      </p:graphicFrame>
      <p:sp>
        <p:nvSpPr>
          <p:cNvPr id="369" name="AutoShape 5">
            <a:hlinkClick r:id="rId1" action="ppaction://hlinksldjump"/>
          </p:cNvPr>
          <p:cNvSpPr/>
          <p:nvPr/>
        </p:nvSpPr>
        <p:spPr>
          <a:xfrm>
            <a:off x="8793000" y="6508800"/>
            <a:ext cx="351000" cy="349200"/>
          </a:xfrm>
          <a:custGeom>
            <a:avLst/>
            <a:gdLst>
              <a:gd name="textAreaLeft" fmla="*/ 22320 w 351000"/>
              <a:gd name="textAreaRight" fmla="*/ 328680 w 351000"/>
              <a:gd name="textAreaTop" fmla="*/ 22320 h 349200"/>
              <a:gd name="textAreaBottom" fmla="*/ 326880 h 349200"/>
            </a:gdLst>
            <a:ahLst/>
            <a:rect l="textAreaLeft" t="textAreaTop" r="textAreaRight" b="textAreaBottom"/>
            <a:pathLst>
              <a:path w="21711" h="21600">
                <a:moveTo>
                  <a:pt x="0" y="0"/>
                </a:moveTo>
                <a:lnTo>
                  <a:pt x="21711" y="0"/>
                </a:lnTo>
                <a:lnTo>
                  <a:pt x="21711" y="21600"/>
                </a:lnTo>
                <a:lnTo>
                  <a:pt x="0" y="21600"/>
                </a:lnTo>
                <a:close/>
              </a:path>
              <a:path fill="lightenLess" w="21711" h="21600">
                <a:moveTo>
                  <a:pt x="0" y="0"/>
                </a:moveTo>
                <a:lnTo>
                  <a:pt x="21711" y="0"/>
                </a:lnTo>
                <a:lnTo>
                  <a:pt x="20311" y="1400"/>
                </a:lnTo>
                <a:lnTo>
                  <a:pt x="1400" y="1400"/>
                </a:lnTo>
                <a:close/>
              </a:path>
              <a:path fill="darken" w="21711" h="21600">
                <a:moveTo>
                  <a:pt x="21711" y="0"/>
                </a:moveTo>
                <a:lnTo>
                  <a:pt x="21711" y="21600"/>
                </a:lnTo>
                <a:lnTo>
                  <a:pt x="20311" y="20200"/>
                </a:lnTo>
                <a:lnTo>
                  <a:pt x="20311" y="1400"/>
                </a:lnTo>
                <a:close/>
              </a:path>
              <a:path fill="darkenLess" w="21711" h="21600">
                <a:moveTo>
                  <a:pt x="217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11" y="20200"/>
                </a:lnTo>
                <a:close/>
              </a:path>
              <a:path fill="lighten" w="217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11" h="21600">
                <a:moveTo>
                  <a:pt x="3849" y="3794"/>
                </a:moveTo>
                <a:lnTo>
                  <a:pt x="17862" y="10800"/>
                </a:lnTo>
                <a:lnTo>
                  <a:pt x="38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2"/>
          <a:stretch/>
        </p:blipFill>
        <p:spPr>
          <a:xfrm>
            <a:off x="7047000" y="333360"/>
            <a:ext cx="1746000" cy="1366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C:\Documents and Settings\User\Мои документы\Мои рисунки\иконки\ico_tex.png">
            <a:hlinkClick r:id="rId3" action="ppaction://hlinksldjump"/>
          </p:cNvPr>
          <p:cNvPicPr/>
          <p:nvPr/>
        </p:nvPicPr>
        <p:blipFill>
          <a:blip r:embed="rId4">
            <a:grayscl/>
          </a:blip>
          <a:stretch/>
        </p:blipFill>
        <p:spPr>
          <a:xfrm>
            <a:off x="8115480" y="2330280"/>
            <a:ext cx="556920" cy="571680"/>
          </a:xfrm>
          <a:prstGeom prst="rect">
            <a:avLst/>
          </a:prstGeom>
          <a:ln w="19080">
            <a:solidFill>
              <a:srgbClr val="6c911d"/>
            </a:solidFill>
            <a:miter/>
          </a:ln>
        </p:spPr>
      </p:pic>
    </p:spTree>
  </p:cSld>
  <p:transition>
    <p:cover dir="l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5508720" cy="10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равни и оцен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68360" y="1628640"/>
          <a:ext cx="8229600" cy="273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еакция соеди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еакция обмен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ae7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еакция раз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1c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еакция зам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fd0df"/>
                    </a:solidFill>
                  </a:tcPr>
                </a:tc>
              </a:tr>
            </a:tbl>
          </a:graphicData>
        </a:graphic>
      </p:graphicFrame>
      <p:sp>
        <p:nvSpPr>
          <p:cNvPr id="374" name="Rectangle 19"/>
          <p:cNvSpPr/>
          <p:nvPr/>
        </p:nvSpPr>
        <p:spPr>
          <a:xfrm>
            <a:off x="468360" y="4365720"/>
            <a:ext cx="8207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O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aOH + H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O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Na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O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e(OH)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Fe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 = 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O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g(OH)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NO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Mg(NO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 + 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 = Ca(OH)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H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CO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CaO + CO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e +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Cl = FeCl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H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AutoShape 20">
            <a:hlinkClick r:id="rId1" action="ppaction://hlinksldjump"/>
          </p:cNvPr>
          <p:cNvSpPr/>
          <p:nvPr/>
        </p:nvSpPr>
        <p:spPr>
          <a:xfrm rot="10800000">
            <a:off x="0" y="6515280"/>
            <a:ext cx="347760" cy="342720"/>
          </a:xfrm>
          <a:custGeom>
            <a:avLst/>
            <a:gdLst>
              <a:gd name="textAreaLeft" fmla="*/ 21960 w 347760"/>
              <a:gd name="textAreaRight" fmla="*/ 325800 w 34776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21917" h="21600">
                <a:moveTo>
                  <a:pt x="0" y="0"/>
                </a:moveTo>
                <a:lnTo>
                  <a:pt x="21917" y="0"/>
                </a:lnTo>
                <a:lnTo>
                  <a:pt x="21917" y="21600"/>
                </a:lnTo>
                <a:lnTo>
                  <a:pt x="0" y="21600"/>
                </a:lnTo>
                <a:close/>
              </a:path>
              <a:path fill="lightenLess" w="21917" h="21600">
                <a:moveTo>
                  <a:pt x="0" y="0"/>
                </a:moveTo>
                <a:lnTo>
                  <a:pt x="21917" y="0"/>
                </a:lnTo>
                <a:lnTo>
                  <a:pt x="20517" y="1400"/>
                </a:lnTo>
                <a:lnTo>
                  <a:pt x="1400" y="1400"/>
                </a:lnTo>
                <a:close/>
              </a:path>
              <a:path fill="darken" w="21917" h="21600">
                <a:moveTo>
                  <a:pt x="21917" y="0"/>
                </a:moveTo>
                <a:lnTo>
                  <a:pt x="21917" y="21600"/>
                </a:lnTo>
                <a:lnTo>
                  <a:pt x="20517" y="20200"/>
                </a:lnTo>
                <a:lnTo>
                  <a:pt x="20517" y="1400"/>
                </a:lnTo>
                <a:close/>
              </a:path>
              <a:path fill="darkenLess" w="21917" h="21600">
                <a:moveTo>
                  <a:pt x="21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7" y="20200"/>
                </a:lnTo>
                <a:close/>
              </a:path>
              <a:path fill="lighten" w="21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17" h="21600">
                <a:moveTo>
                  <a:pt x="3952" y="3794"/>
                </a:moveTo>
                <a:lnTo>
                  <a:pt x="17965" y="10800"/>
                </a:lnTo>
                <a:lnTo>
                  <a:pt x="39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AutoShape 36">
            <a:hlinkClick r:id="rId2" action="ppaction://hlinksldjump"/>
          </p:cNvPr>
          <p:cNvSpPr/>
          <p:nvPr/>
        </p:nvSpPr>
        <p:spPr>
          <a:xfrm>
            <a:off x="8782200" y="6502320"/>
            <a:ext cx="361800" cy="355680"/>
          </a:xfrm>
          <a:custGeom>
            <a:avLst/>
            <a:gdLst>
              <a:gd name="textAreaLeft" fmla="*/ 23040 w 361800"/>
              <a:gd name="textAreaRight" fmla="*/ 338760 w 36180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21971" h="21600">
                <a:moveTo>
                  <a:pt x="0" y="0"/>
                </a:moveTo>
                <a:lnTo>
                  <a:pt x="21971" y="0"/>
                </a:lnTo>
                <a:lnTo>
                  <a:pt x="21971" y="21600"/>
                </a:lnTo>
                <a:lnTo>
                  <a:pt x="0" y="21600"/>
                </a:lnTo>
                <a:close/>
              </a:path>
              <a:path fill="lightenLess" w="21971" h="21600">
                <a:moveTo>
                  <a:pt x="0" y="0"/>
                </a:moveTo>
                <a:lnTo>
                  <a:pt x="21971" y="0"/>
                </a:lnTo>
                <a:lnTo>
                  <a:pt x="20571" y="1400"/>
                </a:lnTo>
                <a:lnTo>
                  <a:pt x="1400" y="1400"/>
                </a:lnTo>
                <a:close/>
              </a:path>
              <a:path fill="darken" w="21971" h="21600">
                <a:moveTo>
                  <a:pt x="21971" y="0"/>
                </a:moveTo>
                <a:lnTo>
                  <a:pt x="21971" y="21600"/>
                </a:lnTo>
                <a:lnTo>
                  <a:pt x="20571" y="20200"/>
                </a:lnTo>
                <a:lnTo>
                  <a:pt x="20571" y="1400"/>
                </a:lnTo>
                <a:close/>
              </a:path>
              <a:path fill="darkenLess" w="21971" h="21600">
                <a:moveTo>
                  <a:pt x="21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71" y="20200"/>
                </a:lnTo>
                <a:close/>
              </a:path>
              <a:path fill="lighten" w="21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71" h="21600">
                <a:moveTo>
                  <a:pt x="10986" y="3837"/>
                </a:moveTo>
                <a:lnTo>
                  <a:pt x="13562" y="6448"/>
                </a:ln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lnTo>
                  <a:pt x="17949" y="10800"/>
                </a:lnTo>
                <a:lnTo>
                  <a:pt x="16295" y="10800"/>
                </a:lnTo>
                <a:lnTo>
                  <a:pt x="16295" y="17989"/>
                </a:lnTo>
                <a:lnTo>
                  <a:pt x="5676" y="17989"/>
                </a:lnTo>
                <a:lnTo>
                  <a:pt x="5676" y="10800"/>
                </a:lnTo>
                <a:lnTo>
                  <a:pt x="4023" y="10800"/>
                </a:lnTo>
                <a:close/>
              </a:path>
              <a:path fill="darkenLess" w="21971" h="21600">
                <a:moveTo>
                  <a:pt x="13562" y="6448"/>
                </a:move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close/>
              </a:path>
              <a:path fill="darkenLess" w="21971" h="21600">
                <a:moveTo>
                  <a:pt x="10063" y="14299"/>
                </a:moveTo>
                <a:lnTo>
                  <a:pt x="11908" y="14299"/>
                </a:lnTo>
                <a:lnTo>
                  <a:pt x="11908" y="17989"/>
                </a:lnTo>
                <a:lnTo>
                  <a:pt x="16295" y="17989"/>
                </a:lnTo>
                <a:lnTo>
                  <a:pt x="16295" y="10800"/>
                </a:lnTo>
                <a:lnTo>
                  <a:pt x="5676" y="10800"/>
                </a:lnTo>
                <a:lnTo>
                  <a:pt x="5676" y="17989"/>
                </a:lnTo>
                <a:lnTo>
                  <a:pt x="1006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TextBox 1"/>
          <p:cNvSpPr/>
          <p:nvPr/>
        </p:nvSpPr>
        <p:spPr>
          <a:xfrm>
            <a:off x="393840" y="6375240"/>
            <a:ext cx="84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54a021"/>
                </a:solidFill>
                <a:latin typeface="Times New Roman"/>
                <a:ea typeface="Times New Roman"/>
              </a:rPr>
              <a:t>0 ошибок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«5»     </a:t>
            </a:r>
            <a:r>
              <a:rPr b="1" lang="ru-RU" sz="2000" spc="-1" strike="noStrike">
                <a:solidFill>
                  <a:srgbClr val="54a021"/>
                </a:solidFill>
                <a:latin typeface="Times New Roman"/>
                <a:ea typeface="Times New Roman"/>
              </a:rPr>
              <a:t>1-2 ошибки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 «4»     </a:t>
            </a:r>
            <a:r>
              <a:rPr b="1" lang="ru-RU" sz="2000" spc="-1" strike="noStrike">
                <a:solidFill>
                  <a:srgbClr val="54a021"/>
                </a:solidFill>
                <a:latin typeface="Times New Roman"/>
                <a:ea typeface="Times New Roman"/>
              </a:rPr>
              <a:t>3-4 ошибки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 «3»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    5 и боле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 «2»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a02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ver dir="l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82 -0.0037 L -0.34653 -0.32886 E">
                                      <p:cBhvr>
                                        <p:cTn id="366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771 -0.37766 E">
                                      <p:cBhvr>
                                        <p:cTn id="369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9913 -0.22017 E">
                                      <p:cBhvr>
                                        <p:cTn id="372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0.00485 L -0.2599 -0.37281 E">
                                      <p:cBhvr>
                                        <p:cTn id="375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41 -0.41951 E">
                                      <p:cBhvr>
                                        <p:cTn id="378" dur="3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771 -0.31475 E">
                                      <p:cBhvr>
                                        <p:cTn id="381" dur="3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5.64292E-007 L -0.26771 -0.30111 E">
                                      <p:cBhvr>
                                        <p:cTn id="384" dur="30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-0.00116 L 0.2283 -0.31592 E">
                                      <p:cBhvr>
                                        <p:cTn id="387" dur="30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800" y="259920"/>
            <a:ext cx="5568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флекс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9" name="AutoShape 7">
            <a:hlinkClick r:id="rId1" action="ppaction://hlinksldjump"/>
          </p:cNvPr>
          <p:cNvSpPr/>
          <p:nvPr/>
        </p:nvSpPr>
        <p:spPr>
          <a:xfrm>
            <a:off x="8782200" y="6502320"/>
            <a:ext cx="361800" cy="355680"/>
          </a:xfrm>
          <a:custGeom>
            <a:avLst/>
            <a:gdLst>
              <a:gd name="textAreaLeft" fmla="*/ 23040 w 361800"/>
              <a:gd name="textAreaRight" fmla="*/ 338760 w 36180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21971" h="21600">
                <a:moveTo>
                  <a:pt x="0" y="0"/>
                </a:moveTo>
                <a:lnTo>
                  <a:pt x="21971" y="0"/>
                </a:lnTo>
                <a:lnTo>
                  <a:pt x="21971" y="21600"/>
                </a:lnTo>
                <a:lnTo>
                  <a:pt x="0" y="21600"/>
                </a:lnTo>
                <a:close/>
              </a:path>
              <a:path fill="lightenLess" w="21971" h="21600">
                <a:moveTo>
                  <a:pt x="0" y="0"/>
                </a:moveTo>
                <a:lnTo>
                  <a:pt x="21971" y="0"/>
                </a:lnTo>
                <a:lnTo>
                  <a:pt x="20571" y="1400"/>
                </a:lnTo>
                <a:lnTo>
                  <a:pt x="1400" y="1400"/>
                </a:lnTo>
                <a:close/>
              </a:path>
              <a:path fill="darken" w="21971" h="21600">
                <a:moveTo>
                  <a:pt x="21971" y="0"/>
                </a:moveTo>
                <a:lnTo>
                  <a:pt x="21971" y="21600"/>
                </a:lnTo>
                <a:lnTo>
                  <a:pt x="20571" y="20200"/>
                </a:lnTo>
                <a:lnTo>
                  <a:pt x="20571" y="1400"/>
                </a:lnTo>
                <a:close/>
              </a:path>
              <a:path fill="darkenLess" w="21971" h="21600">
                <a:moveTo>
                  <a:pt x="21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71" y="20200"/>
                </a:lnTo>
                <a:close/>
              </a:path>
              <a:path fill="lighten" w="21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71" h="21600">
                <a:moveTo>
                  <a:pt x="10986" y="3837"/>
                </a:moveTo>
                <a:lnTo>
                  <a:pt x="13562" y="6448"/>
                </a:ln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lnTo>
                  <a:pt x="17949" y="10800"/>
                </a:lnTo>
                <a:lnTo>
                  <a:pt x="16295" y="10800"/>
                </a:lnTo>
                <a:lnTo>
                  <a:pt x="16295" y="17989"/>
                </a:lnTo>
                <a:lnTo>
                  <a:pt x="5676" y="17989"/>
                </a:lnTo>
                <a:lnTo>
                  <a:pt x="5676" y="10800"/>
                </a:lnTo>
                <a:lnTo>
                  <a:pt x="4023" y="10800"/>
                </a:lnTo>
                <a:close/>
              </a:path>
              <a:path fill="darkenLess" w="21971" h="21600">
                <a:moveTo>
                  <a:pt x="13562" y="6448"/>
                </a:move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close/>
              </a:path>
              <a:path fill="darkenLess" w="21971" h="21600">
                <a:moveTo>
                  <a:pt x="10063" y="14299"/>
                </a:moveTo>
                <a:lnTo>
                  <a:pt x="11908" y="14299"/>
                </a:lnTo>
                <a:lnTo>
                  <a:pt x="11908" y="17989"/>
                </a:lnTo>
                <a:lnTo>
                  <a:pt x="16295" y="17989"/>
                </a:lnTo>
                <a:lnTo>
                  <a:pt x="16295" y="10800"/>
                </a:lnTo>
                <a:lnTo>
                  <a:pt x="5676" y="10800"/>
                </a:lnTo>
                <a:lnTo>
                  <a:pt x="5676" y="17989"/>
                </a:lnTo>
                <a:lnTo>
                  <a:pt x="1006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TextBox 2"/>
          <p:cNvSpPr/>
          <p:nvPr/>
        </p:nvSpPr>
        <p:spPr>
          <a:xfrm>
            <a:off x="174600" y="1574640"/>
            <a:ext cx="87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делай вывод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539640" y="2421000"/>
          <a:ext cx="8064720" cy="298620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760"/>
              </a:tblGrid>
              <a:tr h="1295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было трудно запомнить на уро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нового уз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уро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вызвало интерес на уро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169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8"/>
          <p:cNvSpPr/>
          <p:nvPr/>
        </p:nvSpPr>
        <p:spPr>
          <a:xfrm>
            <a:off x="179280" y="54450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й, кого из одноклассников ты бы отметил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работу на урок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ver dir="l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550872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AutoShape 7">
            <a:hlinkClick r:id="rId1" action="ppaction://hlinksldjump"/>
          </p:cNvPr>
          <p:cNvSpPr/>
          <p:nvPr/>
        </p:nvSpPr>
        <p:spPr>
          <a:xfrm>
            <a:off x="8782200" y="6502320"/>
            <a:ext cx="361800" cy="355680"/>
          </a:xfrm>
          <a:custGeom>
            <a:avLst/>
            <a:gdLst>
              <a:gd name="textAreaLeft" fmla="*/ 23040 w 361800"/>
              <a:gd name="textAreaRight" fmla="*/ 338760 w 36180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21971" h="21600">
                <a:moveTo>
                  <a:pt x="0" y="0"/>
                </a:moveTo>
                <a:lnTo>
                  <a:pt x="21971" y="0"/>
                </a:lnTo>
                <a:lnTo>
                  <a:pt x="21971" y="21600"/>
                </a:lnTo>
                <a:lnTo>
                  <a:pt x="0" y="21600"/>
                </a:lnTo>
                <a:close/>
              </a:path>
              <a:path fill="lightenLess" w="21971" h="21600">
                <a:moveTo>
                  <a:pt x="0" y="0"/>
                </a:moveTo>
                <a:lnTo>
                  <a:pt x="21971" y="0"/>
                </a:lnTo>
                <a:lnTo>
                  <a:pt x="20571" y="1400"/>
                </a:lnTo>
                <a:lnTo>
                  <a:pt x="1400" y="1400"/>
                </a:lnTo>
                <a:close/>
              </a:path>
              <a:path fill="darken" w="21971" h="21600">
                <a:moveTo>
                  <a:pt x="21971" y="0"/>
                </a:moveTo>
                <a:lnTo>
                  <a:pt x="21971" y="21600"/>
                </a:lnTo>
                <a:lnTo>
                  <a:pt x="20571" y="20200"/>
                </a:lnTo>
                <a:lnTo>
                  <a:pt x="20571" y="1400"/>
                </a:lnTo>
                <a:close/>
              </a:path>
              <a:path fill="darkenLess" w="21971" h="21600">
                <a:moveTo>
                  <a:pt x="21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71" y="20200"/>
                </a:lnTo>
                <a:close/>
              </a:path>
              <a:path fill="lighten" w="21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71" h="21600">
                <a:moveTo>
                  <a:pt x="10986" y="3837"/>
                </a:moveTo>
                <a:lnTo>
                  <a:pt x="13562" y="6448"/>
                </a:ln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lnTo>
                  <a:pt x="17949" y="10800"/>
                </a:lnTo>
                <a:lnTo>
                  <a:pt x="16295" y="10800"/>
                </a:lnTo>
                <a:lnTo>
                  <a:pt x="16295" y="17989"/>
                </a:lnTo>
                <a:lnTo>
                  <a:pt x="5676" y="17989"/>
                </a:lnTo>
                <a:lnTo>
                  <a:pt x="5676" y="10800"/>
                </a:lnTo>
                <a:lnTo>
                  <a:pt x="4023" y="10800"/>
                </a:lnTo>
                <a:close/>
              </a:path>
              <a:path fill="darkenLess" w="21971" h="21600">
                <a:moveTo>
                  <a:pt x="13562" y="6448"/>
                </a:move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close/>
              </a:path>
              <a:path fill="darkenLess" w="21971" h="21600">
                <a:moveTo>
                  <a:pt x="10063" y="14299"/>
                </a:moveTo>
                <a:lnTo>
                  <a:pt x="11908" y="14299"/>
                </a:lnTo>
                <a:lnTo>
                  <a:pt x="11908" y="17989"/>
                </a:lnTo>
                <a:lnTo>
                  <a:pt x="16295" y="17989"/>
                </a:lnTo>
                <a:lnTo>
                  <a:pt x="16295" y="10800"/>
                </a:lnTo>
                <a:lnTo>
                  <a:pt x="5676" y="10800"/>
                </a:lnTo>
                <a:lnTo>
                  <a:pt x="5676" y="17989"/>
                </a:lnTo>
                <a:lnTo>
                  <a:pt x="1006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5" name="TextBox 3" descr=""/>
          <p:cNvPicPr/>
          <p:nvPr/>
        </p:nvPicPr>
        <p:blipFill>
          <a:blip r:embed="rId2"/>
          <a:stretch/>
        </p:blipFill>
        <p:spPr>
          <a:xfrm>
            <a:off x="0" y="6327720"/>
            <a:ext cx="8601120" cy="7682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C:\Users\Света\Pictures\химия-рисунки\27.png"/>
          <p:cNvPicPr/>
          <p:nvPr/>
        </p:nvPicPr>
        <p:blipFill>
          <a:blip r:embed="rId3"/>
          <a:stretch/>
        </p:blipFill>
        <p:spPr>
          <a:xfrm>
            <a:off x="1116000" y="0"/>
            <a:ext cx="8028000" cy="623736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20" descr=""/>
          <p:cNvPicPr/>
          <p:nvPr/>
        </p:nvPicPr>
        <p:blipFill>
          <a:blip r:embed="rId4"/>
          <a:stretch/>
        </p:blipFill>
        <p:spPr>
          <a:xfrm>
            <a:off x="4095720" y="2127240"/>
            <a:ext cx="2444760" cy="9446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50872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оссарий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789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Химическая реакция</a:t>
            </a:r>
            <a:r>
              <a:rPr b="0" lang="ru-RU" sz="18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процесс превращения исходных веществ в продукты реакц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Физические явления</a:t>
            </a:r>
            <a:r>
              <a:rPr b="0" lang="ru-RU" sz="18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явления, приводящие к изменению формы или агрегатного состояния вещества, но не приводящие к образованию новых вещест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Химические явления</a:t>
            </a:r>
            <a:r>
              <a:rPr b="0" lang="ru-RU" sz="18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явления, при которых одни вещества превращаются в другие, отличающиеся от исходных составом и свойствам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Электролиз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 процесс, протекающий на электродах при пропускании электрического то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Горение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физико-химический процесс, при котором превращение вещества сопровождается интенсивным выделением энергии (тепла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оэффициенты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оказывают количество молекул данного веществ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Индексы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показывают количество атомов элемента в веществ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равнения реакций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условная запись химической реак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редством химических формул и математических знак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90" name="Рисунок 6" descr="http://www.proteogenix.fr/images/Peptides.jpg"/>
          <p:cNvPicPr/>
          <p:nvPr/>
        </p:nvPicPr>
        <p:blipFill>
          <a:blip r:embed="rId7"/>
          <a:stretch/>
        </p:blipFill>
        <p:spPr>
          <a:xfrm>
            <a:off x="6591240" y="4361040"/>
            <a:ext cx="2357640" cy="17143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6"/>
          <p:cNvSpPr/>
          <p:nvPr/>
        </p:nvSpPr>
        <p:spPr>
          <a:xfrm>
            <a:off x="8782200" y="6502320"/>
            <a:ext cx="361800" cy="355680"/>
          </a:xfrm>
          <a:custGeom>
            <a:avLst/>
            <a:gdLst>
              <a:gd name="textAreaLeft" fmla="*/ 23040 w 361800"/>
              <a:gd name="textAreaRight" fmla="*/ 338760 w 36180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21971" h="21600">
                <a:moveTo>
                  <a:pt x="0" y="0"/>
                </a:moveTo>
                <a:lnTo>
                  <a:pt x="21971" y="0"/>
                </a:lnTo>
                <a:lnTo>
                  <a:pt x="21971" y="21600"/>
                </a:lnTo>
                <a:lnTo>
                  <a:pt x="0" y="21600"/>
                </a:lnTo>
                <a:close/>
              </a:path>
              <a:path fill="lightenLess" w="21971" h="21600">
                <a:moveTo>
                  <a:pt x="0" y="0"/>
                </a:moveTo>
                <a:lnTo>
                  <a:pt x="21971" y="0"/>
                </a:lnTo>
                <a:lnTo>
                  <a:pt x="20571" y="1400"/>
                </a:lnTo>
                <a:lnTo>
                  <a:pt x="1400" y="1400"/>
                </a:lnTo>
                <a:close/>
              </a:path>
              <a:path fill="darken" w="21971" h="21600">
                <a:moveTo>
                  <a:pt x="21971" y="0"/>
                </a:moveTo>
                <a:lnTo>
                  <a:pt x="21971" y="21600"/>
                </a:lnTo>
                <a:lnTo>
                  <a:pt x="20571" y="20200"/>
                </a:lnTo>
                <a:lnTo>
                  <a:pt x="20571" y="1400"/>
                </a:lnTo>
                <a:close/>
              </a:path>
              <a:path fill="darkenLess" w="21971" h="21600">
                <a:moveTo>
                  <a:pt x="21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71" y="20200"/>
                </a:lnTo>
                <a:close/>
              </a:path>
              <a:path fill="lighten" w="21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71" h="21600">
                <a:moveTo>
                  <a:pt x="10986" y="3837"/>
                </a:moveTo>
                <a:lnTo>
                  <a:pt x="13562" y="6448"/>
                </a:ln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lnTo>
                  <a:pt x="17949" y="10800"/>
                </a:lnTo>
                <a:lnTo>
                  <a:pt x="16295" y="10800"/>
                </a:lnTo>
                <a:lnTo>
                  <a:pt x="16295" y="17989"/>
                </a:lnTo>
                <a:lnTo>
                  <a:pt x="5676" y="17989"/>
                </a:lnTo>
                <a:lnTo>
                  <a:pt x="5676" y="10800"/>
                </a:lnTo>
                <a:lnTo>
                  <a:pt x="4023" y="10800"/>
                </a:lnTo>
                <a:close/>
              </a:path>
              <a:path fill="darkenLess" w="21971" h="21600">
                <a:moveTo>
                  <a:pt x="13562" y="6448"/>
                </a:move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close/>
              </a:path>
              <a:path fill="darkenLess" w="21971" h="21600">
                <a:moveTo>
                  <a:pt x="10063" y="14299"/>
                </a:moveTo>
                <a:lnTo>
                  <a:pt x="11908" y="14299"/>
                </a:lnTo>
                <a:lnTo>
                  <a:pt x="11908" y="17989"/>
                </a:lnTo>
                <a:lnTo>
                  <a:pt x="16295" y="17989"/>
                </a:lnTo>
                <a:lnTo>
                  <a:pt x="16295" y="10800"/>
                </a:lnTo>
                <a:lnTo>
                  <a:pt x="5676" y="10800"/>
                </a:lnTo>
                <a:lnTo>
                  <a:pt x="5676" y="17989"/>
                </a:lnTo>
                <a:lnTo>
                  <a:pt x="1006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550872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дзитис  Г. Е.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имия. Неорганическая химия. 8 класс : учеб, для общеобразоват. уч­реждений / Г. Е. Рудзитис, Ф. Г. Фельдман. - 13-е изд. - М. : Просвещение, 2011. - 176 с.: и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рейгер, Л. М.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тандартные уроки. Химия. 8, 10, 11 классы / Л. М. Брейгер. - Вол­гоград : Учитель, 200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ttp://www.nachalka.com/book/export/html/132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ttp://www.youtube.com/watch?v=Le3Jxjx7AB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AutoShape 4"/>
          <p:cNvSpPr/>
          <p:nvPr/>
        </p:nvSpPr>
        <p:spPr>
          <a:xfrm>
            <a:off x="8782200" y="6502320"/>
            <a:ext cx="361800" cy="355680"/>
          </a:xfrm>
          <a:custGeom>
            <a:avLst/>
            <a:gdLst>
              <a:gd name="textAreaLeft" fmla="*/ 23040 w 361800"/>
              <a:gd name="textAreaRight" fmla="*/ 338760 w 36180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21971" h="21600">
                <a:moveTo>
                  <a:pt x="0" y="0"/>
                </a:moveTo>
                <a:lnTo>
                  <a:pt x="21971" y="0"/>
                </a:lnTo>
                <a:lnTo>
                  <a:pt x="21971" y="21600"/>
                </a:lnTo>
                <a:lnTo>
                  <a:pt x="0" y="21600"/>
                </a:lnTo>
                <a:close/>
              </a:path>
              <a:path fill="lightenLess" w="21971" h="21600">
                <a:moveTo>
                  <a:pt x="0" y="0"/>
                </a:moveTo>
                <a:lnTo>
                  <a:pt x="21971" y="0"/>
                </a:lnTo>
                <a:lnTo>
                  <a:pt x="20571" y="1400"/>
                </a:lnTo>
                <a:lnTo>
                  <a:pt x="1400" y="1400"/>
                </a:lnTo>
                <a:close/>
              </a:path>
              <a:path fill="darken" w="21971" h="21600">
                <a:moveTo>
                  <a:pt x="21971" y="0"/>
                </a:moveTo>
                <a:lnTo>
                  <a:pt x="21971" y="21600"/>
                </a:lnTo>
                <a:lnTo>
                  <a:pt x="20571" y="20200"/>
                </a:lnTo>
                <a:lnTo>
                  <a:pt x="20571" y="1400"/>
                </a:lnTo>
                <a:close/>
              </a:path>
              <a:path fill="darkenLess" w="21971" h="21600">
                <a:moveTo>
                  <a:pt x="21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71" y="20200"/>
                </a:lnTo>
                <a:close/>
              </a:path>
              <a:path fill="lighten" w="21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71" h="21600">
                <a:moveTo>
                  <a:pt x="10986" y="3837"/>
                </a:moveTo>
                <a:lnTo>
                  <a:pt x="13562" y="6448"/>
                </a:ln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lnTo>
                  <a:pt x="17949" y="10800"/>
                </a:lnTo>
                <a:lnTo>
                  <a:pt x="16295" y="10800"/>
                </a:lnTo>
                <a:lnTo>
                  <a:pt x="16295" y="17989"/>
                </a:lnTo>
                <a:lnTo>
                  <a:pt x="5676" y="17989"/>
                </a:lnTo>
                <a:lnTo>
                  <a:pt x="5676" y="10800"/>
                </a:lnTo>
                <a:lnTo>
                  <a:pt x="4023" y="10800"/>
                </a:lnTo>
                <a:close/>
              </a:path>
              <a:path fill="darkenLess" w="21971" h="21600">
                <a:moveTo>
                  <a:pt x="13562" y="6448"/>
                </a:move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close/>
              </a:path>
              <a:path fill="darkenLess" w="21971" h="21600">
                <a:moveTo>
                  <a:pt x="10063" y="14299"/>
                </a:moveTo>
                <a:lnTo>
                  <a:pt x="11908" y="14299"/>
                </a:lnTo>
                <a:lnTo>
                  <a:pt x="11908" y="17989"/>
                </a:lnTo>
                <a:lnTo>
                  <a:pt x="16295" y="17989"/>
                </a:lnTo>
                <a:lnTo>
                  <a:pt x="16295" y="10800"/>
                </a:lnTo>
                <a:lnTo>
                  <a:pt x="5676" y="10800"/>
                </a:lnTo>
                <a:lnTo>
                  <a:pt x="5676" y="17989"/>
                </a:lnTo>
                <a:lnTo>
                  <a:pt x="1006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55087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и соответств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0" name="Picture 10" descr="index"/>
          <p:cNvPicPr/>
          <p:nvPr/>
        </p:nvPicPr>
        <p:blipFill>
          <a:blip r:embed="rId1"/>
          <a:stretch/>
        </p:blipFill>
        <p:spPr>
          <a:xfrm>
            <a:off x="5292720" y="4330800"/>
            <a:ext cx="3168720" cy="2089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janc_004"/>
          <p:cNvPicPr/>
          <p:nvPr/>
        </p:nvPicPr>
        <p:blipFill>
          <a:blip r:embed="rId2"/>
          <a:stretch/>
        </p:blipFill>
        <p:spPr>
          <a:xfrm>
            <a:off x="179280" y="1301760"/>
            <a:ext cx="3168720" cy="2089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1" descr="9fef95b9959e"/>
          <p:cNvPicPr/>
          <p:nvPr/>
        </p:nvPicPr>
        <p:blipFill>
          <a:blip r:embed="rId3"/>
          <a:stretch/>
        </p:blipFill>
        <p:spPr>
          <a:xfrm>
            <a:off x="1068480" y="3597120"/>
            <a:ext cx="2235240" cy="3095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4" descr="0_68620_920e1e52_XL"/>
          <p:cNvPicPr/>
          <p:nvPr/>
        </p:nvPicPr>
        <p:blipFill>
          <a:blip r:embed="rId4"/>
          <a:stretch/>
        </p:blipFill>
        <p:spPr>
          <a:xfrm>
            <a:off x="5003640" y="1351080"/>
            <a:ext cx="3168720" cy="213984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25">
            <a:hlinkClick r:id="rId5" action="ppaction://hlinksldjump"/>
          </p:cNvPr>
          <p:cNvSpPr/>
          <p:nvPr/>
        </p:nvSpPr>
        <p:spPr>
          <a:xfrm>
            <a:off x="8793000" y="6508800"/>
            <a:ext cx="351000" cy="349200"/>
          </a:xfrm>
          <a:custGeom>
            <a:avLst/>
            <a:gdLst>
              <a:gd name="textAreaLeft" fmla="*/ 22320 w 351000"/>
              <a:gd name="textAreaRight" fmla="*/ 328680 w 351000"/>
              <a:gd name="textAreaTop" fmla="*/ 22320 h 349200"/>
              <a:gd name="textAreaBottom" fmla="*/ 326880 h 349200"/>
            </a:gdLst>
            <a:ahLst/>
            <a:rect l="textAreaLeft" t="textAreaTop" r="textAreaRight" b="textAreaBottom"/>
            <a:pathLst>
              <a:path w="21711" h="21600">
                <a:moveTo>
                  <a:pt x="0" y="0"/>
                </a:moveTo>
                <a:lnTo>
                  <a:pt x="21711" y="0"/>
                </a:lnTo>
                <a:lnTo>
                  <a:pt x="21711" y="21600"/>
                </a:lnTo>
                <a:lnTo>
                  <a:pt x="0" y="21600"/>
                </a:lnTo>
                <a:close/>
              </a:path>
              <a:path fill="lightenLess" w="21711" h="21600">
                <a:moveTo>
                  <a:pt x="0" y="0"/>
                </a:moveTo>
                <a:lnTo>
                  <a:pt x="21711" y="0"/>
                </a:lnTo>
                <a:lnTo>
                  <a:pt x="20311" y="1400"/>
                </a:lnTo>
                <a:lnTo>
                  <a:pt x="1400" y="1400"/>
                </a:lnTo>
                <a:close/>
              </a:path>
              <a:path fill="darken" w="21711" h="21600">
                <a:moveTo>
                  <a:pt x="21711" y="0"/>
                </a:moveTo>
                <a:lnTo>
                  <a:pt x="21711" y="21600"/>
                </a:lnTo>
                <a:lnTo>
                  <a:pt x="20311" y="20200"/>
                </a:lnTo>
                <a:lnTo>
                  <a:pt x="20311" y="1400"/>
                </a:lnTo>
                <a:close/>
              </a:path>
              <a:path fill="darkenLess" w="21711" h="21600">
                <a:moveTo>
                  <a:pt x="217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11" y="20200"/>
                </a:lnTo>
                <a:close/>
              </a:path>
              <a:path fill="lighten" w="217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11" h="21600">
                <a:moveTo>
                  <a:pt x="3849" y="3794"/>
                </a:moveTo>
                <a:lnTo>
                  <a:pt x="17862" y="10800"/>
                </a:lnTo>
                <a:lnTo>
                  <a:pt x="38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5508720" cy="10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вни и оцен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560" y="534600"/>
            <a:ext cx="8597880" cy="59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AutoShape 8">
            <a:hlinkClick r:id="rId1" action="ppaction://hlinksldjump"/>
          </p:cNvPr>
          <p:cNvSpPr/>
          <p:nvPr/>
        </p:nvSpPr>
        <p:spPr>
          <a:xfrm>
            <a:off x="8782200" y="6502320"/>
            <a:ext cx="361800" cy="355680"/>
          </a:xfrm>
          <a:custGeom>
            <a:avLst/>
            <a:gdLst>
              <a:gd name="textAreaLeft" fmla="*/ 23040 w 361800"/>
              <a:gd name="textAreaRight" fmla="*/ 338760 w 36180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21971" h="21600">
                <a:moveTo>
                  <a:pt x="0" y="0"/>
                </a:moveTo>
                <a:lnTo>
                  <a:pt x="21971" y="0"/>
                </a:lnTo>
                <a:lnTo>
                  <a:pt x="21971" y="21600"/>
                </a:lnTo>
                <a:lnTo>
                  <a:pt x="0" y="21600"/>
                </a:lnTo>
                <a:close/>
              </a:path>
              <a:path fill="lightenLess" w="21971" h="21600">
                <a:moveTo>
                  <a:pt x="0" y="0"/>
                </a:moveTo>
                <a:lnTo>
                  <a:pt x="21971" y="0"/>
                </a:lnTo>
                <a:lnTo>
                  <a:pt x="20571" y="1400"/>
                </a:lnTo>
                <a:lnTo>
                  <a:pt x="1400" y="1400"/>
                </a:lnTo>
                <a:close/>
              </a:path>
              <a:path fill="darken" w="21971" h="21600">
                <a:moveTo>
                  <a:pt x="21971" y="0"/>
                </a:moveTo>
                <a:lnTo>
                  <a:pt x="21971" y="21600"/>
                </a:lnTo>
                <a:lnTo>
                  <a:pt x="20571" y="20200"/>
                </a:lnTo>
                <a:lnTo>
                  <a:pt x="20571" y="1400"/>
                </a:lnTo>
                <a:close/>
              </a:path>
              <a:path fill="darkenLess" w="21971" h="21600">
                <a:moveTo>
                  <a:pt x="21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71" y="20200"/>
                </a:lnTo>
                <a:close/>
              </a:path>
              <a:path fill="lighten" w="21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71" h="21600">
                <a:moveTo>
                  <a:pt x="10986" y="3837"/>
                </a:moveTo>
                <a:lnTo>
                  <a:pt x="13562" y="6448"/>
                </a:ln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lnTo>
                  <a:pt x="17949" y="10800"/>
                </a:lnTo>
                <a:lnTo>
                  <a:pt x="16295" y="10800"/>
                </a:lnTo>
                <a:lnTo>
                  <a:pt x="16295" y="17989"/>
                </a:lnTo>
                <a:lnTo>
                  <a:pt x="5676" y="17989"/>
                </a:lnTo>
                <a:lnTo>
                  <a:pt x="5676" y="10800"/>
                </a:lnTo>
                <a:lnTo>
                  <a:pt x="4023" y="10800"/>
                </a:lnTo>
                <a:close/>
              </a:path>
              <a:path fill="darkenLess" w="21971" h="21600">
                <a:moveTo>
                  <a:pt x="13562" y="6448"/>
                </a:move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close/>
              </a:path>
              <a:path fill="darkenLess" w="21971" h="21600">
                <a:moveTo>
                  <a:pt x="10063" y="14299"/>
                </a:moveTo>
                <a:lnTo>
                  <a:pt x="11908" y="14299"/>
                </a:lnTo>
                <a:lnTo>
                  <a:pt x="11908" y="17989"/>
                </a:lnTo>
                <a:lnTo>
                  <a:pt x="16295" y="17989"/>
                </a:lnTo>
                <a:lnTo>
                  <a:pt x="16295" y="10800"/>
                </a:lnTo>
                <a:lnTo>
                  <a:pt x="5676" y="10800"/>
                </a:lnTo>
                <a:lnTo>
                  <a:pt x="5676" y="17989"/>
                </a:lnTo>
                <a:lnTo>
                  <a:pt x="1006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8" name="Picture 11" descr="9fef95b9959e"/>
          <p:cNvPicPr/>
          <p:nvPr/>
        </p:nvPicPr>
        <p:blipFill>
          <a:blip r:embed="rId2"/>
          <a:stretch/>
        </p:blipFill>
        <p:spPr>
          <a:xfrm>
            <a:off x="5624640" y="631800"/>
            <a:ext cx="2879640" cy="1943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5" descr="1266930687_061"/>
          <p:cNvPicPr/>
          <p:nvPr/>
        </p:nvPicPr>
        <p:blipFill>
          <a:blip r:embed="rId3"/>
          <a:stretch/>
        </p:blipFill>
        <p:spPr>
          <a:xfrm>
            <a:off x="2600280" y="4476600"/>
            <a:ext cx="2881440" cy="1916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8" descr="index"/>
          <p:cNvPicPr/>
          <p:nvPr/>
        </p:nvPicPr>
        <p:blipFill>
          <a:blip r:embed="rId4"/>
          <a:stretch/>
        </p:blipFill>
        <p:spPr>
          <a:xfrm>
            <a:off x="5905440" y="3691080"/>
            <a:ext cx="2881440" cy="19335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" descr="janc_004"/>
          <p:cNvPicPr/>
          <p:nvPr/>
        </p:nvPicPr>
        <p:blipFill>
          <a:blip r:embed="rId5"/>
          <a:stretch/>
        </p:blipFill>
        <p:spPr>
          <a:xfrm>
            <a:off x="357120" y="2352600"/>
            <a:ext cx="2881440" cy="19083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36"/>
          <p:cNvSpPr/>
          <p:nvPr/>
        </p:nvSpPr>
        <p:spPr>
          <a:xfrm>
            <a:off x="250920" y="1628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изические явл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5729400" y="573408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мические явл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4" name="Picture 6" descr="C:\Documents and Settings\User\Мои документы\Мои рисунки\иконки\ico_tex.png">
            <a:hlinkClick r:id="rId6" action="ppaction://hlinksldjump"/>
          </p:cNvPr>
          <p:cNvPicPr/>
          <p:nvPr/>
        </p:nvPicPr>
        <p:blipFill>
          <a:blip r:embed="rId7">
            <a:grayscl/>
          </a:blip>
          <a:stretch/>
        </p:blipFill>
        <p:spPr>
          <a:xfrm>
            <a:off x="3419640" y="1628640"/>
            <a:ext cx="475920" cy="490680"/>
          </a:xfrm>
          <a:prstGeom prst="rect">
            <a:avLst/>
          </a:prstGeom>
          <a:ln w="19080">
            <a:solidFill>
              <a:srgbClr val="6c911d"/>
            </a:solidFill>
            <a:miter/>
          </a:ln>
        </p:spPr>
      </p:pic>
    </p:spTree>
  </p:cSld>
  <p:transition>
    <p:cover dir="l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.00324 L 0.04671 -0.27732 E">
                                      <p:cBhvr>
                                        <p:cTn id="25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0.00781 0.31505 E">
                                      <p:cBhvr>
                                        <p:cTn id="29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00799 0.30787 E">
                                      <p:cBhvr>
                                        <p:cTn id="33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7.40741E-007 L -0.53525 0.11597 E">
                                      <p:cBhvr>
                                        <p:cTn id="3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55087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лассификация реакций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9280" y="1557360"/>
            <a:ext cx="8785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 числу и составу исходных веществ и продуктов реак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реакция соедин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реакция разлож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реакция замещ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реакция обмен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 тепловому эффект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экзотермическая реакц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эндотермическая реакц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7" name="Рисунок 6" descr="http://www.proteogenix.fr/images/Peptides.jpg"/>
          <p:cNvPicPr/>
          <p:nvPr/>
        </p:nvPicPr>
        <p:blipFill>
          <a:blip r:embed="rId7"/>
          <a:stretch/>
        </p:blipFill>
        <p:spPr>
          <a:xfrm>
            <a:off x="6012000" y="4221000"/>
            <a:ext cx="2357280" cy="171468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6" descr="http://www.proteogenix.fr/images/Peptides.jpg"/>
          <p:cNvPicPr/>
          <p:nvPr/>
        </p:nvPicPr>
        <p:blipFill>
          <a:blip r:embed="rId8"/>
          <a:stretch/>
        </p:blipFill>
        <p:spPr>
          <a:xfrm>
            <a:off x="6012000" y="4221000"/>
            <a:ext cx="2357280" cy="171468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6" descr="http://www.proteogenix.fr/images/Peptides.jpg"/>
          <p:cNvPicPr/>
          <p:nvPr/>
        </p:nvPicPr>
        <p:blipFill>
          <a:blip r:embed="rId9"/>
          <a:stretch/>
        </p:blipFill>
        <p:spPr>
          <a:xfrm>
            <a:off x="6012000" y="4221000"/>
            <a:ext cx="2357280" cy="171468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11">
            <a:hlinkClick r:id="rId10" action="ppaction://hlinksldjump"/>
          </p:cNvPr>
          <p:cNvSpPr/>
          <p:nvPr/>
        </p:nvSpPr>
        <p:spPr>
          <a:xfrm>
            <a:off x="8782200" y="6502320"/>
            <a:ext cx="361800" cy="355680"/>
          </a:xfrm>
          <a:custGeom>
            <a:avLst/>
            <a:gdLst>
              <a:gd name="textAreaLeft" fmla="*/ 23040 w 361800"/>
              <a:gd name="textAreaRight" fmla="*/ 338760 w 36180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21971" h="21600">
                <a:moveTo>
                  <a:pt x="0" y="0"/>
                </a:moveTo>
                <a:lnTo>
                  <a:pt x="21971" y="0"/>
                </a:lnTo>
                <a:lnTo>
                  <a:pt x="21971" y="21600"/>
                </a:lnTo>
                <a:lnTo>
                  <a:pt x="0" y="21600"/>
                </a:lnTo>
                <a:close/>
              </a:path>
              <a:path fill="lightenLess" w="21971" h="21600">
                <a:moveTo>
                  <a:pt x="0" y="0"/>
                </a:moveTo>
                <a:lnTo>
                  <a:pt x="21971" y="0"/>
                </a:lnTo>
                <a:lnTo>
                  <a:pt x="20571" y="1400"/>
                </a:lnTo>
                <a:lnTo>
                  <a:pt x="1400" y="1400"/>
                </a:lnTo>
                <a:close/>
              </a:path>
              <a:path fill="darken" w="21971" h="21600">
                <a:moveTo>
                  <a:pt x="21971" y="0"/>
                </a:moveTo>
                <a:lnTo>
                  <a:pt x="21971" y="21600"/>
                </a:lnTo>
                <a:lnTo>
                  <a:pt x="20571" y="20200"/>
                </a:lnTo>
                <a:lnTo>
                  <a:pt x="20571" y="1400"/>
                </a:lnTo>
                <a:close/>
              </a:path>
              <a:path fill="darkenLess" w="21971" h="21600">
                <a:moveTo>
                  <a:pt x="21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71" y="20200"/>
                </a:lnTo>
                <a:close/>
              </a:path>
              <a:path fill="lighten" w="21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71" h="21600">
                <a:moveTo>
                  <a:pt x="10986" y="3837"/>
                </a:moveTo>
                <a:lnTo>
                  <a:pt x="13562" y="6448"/>
                </a:ln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lnTo>
                  <a:pt x="17949" y="10800"/>
                </a:lnTo>
                <a:lnTo>
                  <a:pt x="16295" y="10800"/>
                </a:lnTo>
                <a:lnTo>
                  <a:pt x="16295" y="17989"/>
                </a:lnTo>
                <a:lnTo>
                  <a:pt x="5676" y="17989"/>
                </a:lnTo>
                <a:lnTo>
                  <a:pt x="5676" y="10800"/>
                </a:lnTo>
                <a:lnTo>
                  <a:pt x="4023" y="10800"/>
                </a:lnTo>
                <a:close/>
              </a:path>
              <a:path fill="darkenLess" w="21971" h="21600">
                <a:moveTo>
                  <a:pt x="13562" y="6448"/>
                </a:move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close/>
              </a:path>
              <a:path fill="darkenLess" w="21971" h="21600">
                <a:moveTo>
                  <a:pt x="10063" y="14299"/>
                </a:moveTo>
                <a:lnTo>
                  <a:pt x="11908" y="14299"/>
                </a:lnTo>
                <a:lnTo>
                  <a:pt x="11908" y="17989"/>
                </a:lnTo>
                <a:lnTo>
                  <a:pt x="16295" y="17989"/>
                </a:lnTo>
                <a:lnTo>
                  <a:pt x="16295" y="10800"/>
                </a:lnTo>
                <a:lnTo>
                  <a:pt x="5676" y="10800"/>
                </a:lnTo>
                <a:lnTo>
                  <a:pt x="5676" y="17989"/>
                </a:lnTo>
                <a:lnTo>
                  <a:pt x="1006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1" name="Picture 22" descr="1266930687_061"/>
          <p:cNvPicPr/>
          <p:nvPr/>
        </p:nvPicPr>
        <p:blipFill>
          <a:blip r:embed="rId11"/>
          <a:stretch/>
        </p:blipFill>
        <p:spPr>
          <a:xfrm>
            <a:off x="6435720" y="189000"/>
            <a:ext cx="2527200" cy="17143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55087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 числу и составу исходных </a:t>
            </a:r>
            <a:br>
              <a:rPr sz="2900"/>
            </a:br>
            <a:r>
              <a:rPr b="0" lang="ru-RU" sz="2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еществ и продуктов реакции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Реакция соединения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кция, в ходе, которой из нескольких простых и сложных веществ образуется одно более сложное веществ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заимодействие оксида кальция с водо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O + H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 = Ca(OH)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заимодействие оксида серы (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V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 с водо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O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H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 = H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O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AutoShape 9">
            <a:hlinkClick r:id="rId1" action="ppaction://hlinksldjump"/>
          </p:cNvPr>
          <p:cNvSpPr/>
          <p:nvPr/>
        </p:nvSpPr>
        <p:spPr>
          <a:xfrm>
            <a:off x="8793000" y="6508800"/>
            <a:ext cx="351000" cy="349200"/>
          </a:xfrm>
          <a:custGeom>
            <a:avLst/>
            <a:gdLst>
              <a:gd name="textAreaLeft" fmla="*/ 22320 w 351000"/>
              <a:gd name="textAreaRight" fmla="*/ 328680 w 351000"/>
              <a:gd name="textAreaTop" fmla="*/ 22320 h 349200"/>
              <a:gd name="textAreaBottom" fmla="*/ 326880 h 349200"/>
            </a:gdLst>
            <a:ahLst/>
            <a:rect l="textAreaLeft" t="textAreaTop" r="textAreaRight" b="textAreaBottom"/>
            <a:pathLst>
              <a:path w="21711" h="21600">
                <a:moveTo>
                  <a:pt x="0" y="0"/>
                </a:moveTo>
                <a:lnTo>
                  <a:pt x="21711" y="0"/>
                </a:lnTo>
                <a:lnTo>
                  <a:pt x="21711" y="21600"/>
                </a:lnTo>
                <a:lnTo>
                  <a:pt x="0" y="21600"/>
                </a:lnTo>
                <a:close/>
              </a:path>
              <a:path fill="lightenLess" w="21711" h="21600">
                <a:moveTo>
                  <a:pt x="0" y="0"/>
                </a:moveTo>
                <a:lnTo>
                  <a:pt x="21711" y="0"/>
                </a:lnTo>
                <a:lnTo>
                  <a:pt x="20311" y="1400"/>
                </a:lnTo>
                <a:lnTo>
                  <a:pt x="1400" y="1400"/>
                </a:lnTo>
                <a:close/>
              </a:path>
              <a:path fill="darken" w="21711" h="21600">
                <a:moveTo>
                  <a:pt x="21711" y="0"/>
                </a:moveTo>
                <a:lnTo>
                  <a:pt x="21711" y="21600"/>
                </a:lnTo>
                <a:lnTo>
                  <a:pt x="20311" y="20200"/>
                </a:lnTo>
                <a:lnTo>
                  <a:pt x="20311" y="1400"/>
                </a:lnTo>
                <a:close/>
              </a:path>
              <a:path fill="darkenLess" w="21711" h="21600">
                <a:moveTo>
                  <a:pt x="217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11" y="20200"/>
                </a:lnTo>
                <a:close/>
              </a:path>
              <a:path fill="lighten" w="217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11" h="21600">
                <a:moveTo>
                  <a:pt x="3849" y="3794"/>
                </a:moveTo>
                <a:lnTo>
                  <a:pt x="17862" y="10800"/>
                </a:lnTo>
                <a:lnTo>
                  <a:pt x="38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ver dir="l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55087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кция разло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24000" y="162864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Реакция разлож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кция, в которой из одного исходного вещества образуется несколько новых вещест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Электролиз вод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H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H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+ O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Wingdings 3"/>
                <a:ea typeface="Wingdings 3"/>
              </a:rPr>
              <a:t>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2"/>
              </a:rPr>
              <a:t>Разложение нитрата калия</a:t>
            </a:r>
            <a:r>
              <a:rPr b="0" lang="ru-RU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3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NO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NO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Wingdings 3"/>
                <a:ea typeface="Wingdings 3"/>
              </a:rPr>
              <a:t>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зложение перманганата кал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KMnO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nO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MnO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O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Wingdings 3"/>
                <a:ea typeface="Wingdings 3"/>
              </a:rPr>
              <a:t>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AutoShape 8">
            <a:hlinkClick r:id="rId4" action="ppaction://hlinksldjump"/>
          </p:cNvPr>
          <p:cNvSpPr/>
          <p:nvPr/>
        </p:nvSpPr>
        <p:spPr>
          <a:xfrm>
            <a:off x="8793000" y="6508800"/>
            <a:ext cx="351000" cy="349200"/>
          </a:xfrm>
          <a:custGeom>
            <a:avLst/>
            <a:gdLst>
              <a:gd name="textAreaLeft" fmla="*/ 22320 w 351000"/>
              <a:gd name="textAreaRight" fmla="*/ 328680 w 351000"/>
              <a:gd name="textAreaTop" fmla="*/ 22320 h 349200"/>
              <a:gd name="textAreaBottom" fmla="*/ 326880 h 349200"/>
            </a:gdLst>
            <a:ahLst/>
            <a:rect l="textAreaLeft" t="textAreaTop" r="textAreaRight" b="textAreaBottom"/>
            <a:pathLst>
              <a:path w="21711" h="21600">
                <a:moveTo>
                  <a:pt x="0" y="0"/>
                </a:moveTo>
                <a:lnTo>
                  <a:pt x="21711" y="0"/>
                </a:lnTo>
                <a:lnTo>
                  <a:pt x="21711" y="21600"/>
                </a:lnTo>
                <a:lnTo>
                  <a:pt x="0" y="21600"/>
                </a:lnTo>
                <a:close/>
              </a:path>
              <a:path fill="lightenLess" w="21711" h="21600">
                <a:moveTo>
                  <a:pt x="0" y="0"/>
                </a:moveTo>
                <a:lnTo>
                  <a:pt x="21711" y="0"/>
                </a:lnTo>
                <a:lnTo>
                  <a:pt x="20311" y="1400"/>
                </a:lnTo>
                <a:lnTo>
                  <a:pt x="1400" y="1400"/>
                </a:lnTo>
                <a:close/>
              </a:path>
              <a:path fill="darken" w="21711" h="21600">
                <a:moveTo>
                  <a:pt x="21711" y="0"/>
                </a:moveTo>
                <a:lnTo>
                  <a:pt x="21711" y="21600"/>
                </a:lnTo>
                <a:lnTo>
                  <a:pt x="20311" y="20200"/>
                </a:lnTo>
                <a:lnTo>
                  <a:pt x="20311" y="1400"/>
                </a:lnTo>
                <a:close/>
              </a:path>
              <a:path fill="darkenLess" w="21711" h="21600">
                <a:moveTo>
                  <a:pt x="217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11" y="20200"/>
                </a:lnTo>
                <a:close/>
              </a:path>
              <a:path fill="lighten" w="217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11" h="21600">
                <a:moveTo>
                  <a:pt x="3849" y="3794"/>
                </a:moveTo>
                <a:lnTo>
                  <a:pt x="17862" y="10800"/>
                </a:lnTo>
                <a:lnTo>
                  <a:pt x="38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AutoShape 9">
            <a:hlinkClick r:id="rId5" action="ppaction://hlinksldjump"/>
          </p:cNvPr>
          <p:cNvSpPr/>
          <p:nvPr/>
        </p:nvSpPr>
        <p:spPr>
          <a:xfrm rot="10800000">
            <a:off x="0" y="6515280"/>
            <a:ext cx="347760" cy="342720"/>
          </a:xfrm>
          <a:custGeom>
            <a:avLst/>
            <a:gdLst>
              <a:gd name="textAreaLeft" fmla="*/ 21960 w 347760"/>
              <a:gd name="textAreaRight" fmla="*/ 325800 w 34776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21917" h="21600">
                <a:moveTo>
                  <a:pt x="0" y="0"/>
                </a:moveTo>
                <a:lnTo>
                  <a:pt x="21917" y="0"/>
                </a:lnTo>
                <a:lnTo>
                  <a:pt x="21917" y="21600"/>
                </a:lnTo>
                <a:lnTo>
                  <a:pt x="0" y="21600"/>
                </a:lnTo>
                <a:close/>
              </a:path>
              <a:path fill="lightenLess" w="21917" h="21600">
                <a:moveTo>
                  <a:pt x="0" y="0"/>
                </a:moveTo>
                <a:lnTo>
                  <a:pt x="21917" y="0"/>
                </a:lnTo>
                <a:lnTo>
                  <a:pt x="20517" y="1400"/>
                </a:lnTo>
                <a:lnTo>
                  <a:pt x="1400" y="1400"/>
                </a:lnTo>
                <a:close/>
              </a:path>
              <a:path fill="darken" w="21917" h="21600">
                <a:moveTo>
                  <a:pt x="21917" y="0"/>
                </a:moveTo>
                <a:lnTo>
                  <a:pt x="21917" y="21600"/>
                </a:lnTo>
                <a:lnTo>
                  <a:pt x="20517" y="20200"/>
                </a:lnTo>
                <a:lnTo>
                  <a:pt x="20517" y="1400"/>
                </a:lnTo>
                <a:close/>
              </a:path>
              <a:path fill="darkenLess" w="21917" h="21600">
                <a:moveTo>
                  <a:pt x="21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7" y="20200"/>
                </a:lnTo>
                <a:close/>
              </a:path>
              <a:path fill="lighten" w="21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17" h="21600">
                <a:moveTo>
                  <a:pt x="3952" y="3794"/>
                </a:moveTo>
                <a:lnTo>
                  <a:pt x="17965" y="10800"/>
                </a:lnTo>
                <a:lnTo>
                  <a:pt x="39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9" name="Picture 6" descr="C:\Documents and Settings\User\Мои документы\Мои рисунки\иконки\ico_tex.png">
            <a:hlinkClick r:id="rId6" action="ppaction://hlinksldjump"/>
          </p:cNvPr>
          <p:cNvPicPr/>
          <p:nvPr/>
        </p:nvPicPr>
        <p:blipFill>
          <a:blip r:embed="rId7">
            <a:grayscl/>
          </a:blip>
          <a:stretch/>
        </p:blipFill>
        <p:spPr>
          <a:xfrm>
            <a:off x="7451640" y="2857680"/>
            <a:ext cx="557280" cy="571320"/>
          </a:xfrm>
          <a:prstGeom prst="rect">
            <a:avLst/>
          </a:prstGeom>
          <a:ln w="19080">
            <a:solidFill>
              <a:srgbClr val="6c911d"/>
            </a:solidFill>
            <a:miter/>
          </a:ln>
        </p:spPr>
      </p:pic>
    </p:spTree>
  </p:cSld>
  <p:transition>
    <p:cover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55800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кция замещ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Реакция замещения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кция между простым и сложным веществами, в результате которой атомы простого вещества замещают атомы одного из элементов сложного веществ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заимодействие цинка с соляной кислотой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Zn + 2HCl =</a:t>
            </a: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ZnCl</a:t>
            </a:r>
            <a:r>
              <a:rPr b="0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+ H</a:t>
            </a:r>
            <a:r>
              <a:rPr b="0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3366"/>
                </a:solidFill>
                <a:latin typeface="Wingdings 3"/>
                <a:ea typeface="Wingdings 3"/>
              </a:rPr>
              <a:t>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заимодействие натрия с водой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Na + 2H</a:t>
            </a:r>
            <a:r>
              <a:rPr b="0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 =</a:t>
            </a: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NaOH</a:t>
            </a: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+ H</a:t>
            </a:r>
            <a:r>
              <a:rPr b="0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3366"/>
                </a:solidFill>
                <a:latin typeface="Wingdings 3"/>
                <a:ea typeface="Wingdings 3"/>
              </a:rPr>
              <a:t>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заимодействие железа с раствором сульфата меди (</a:t>
            </a:r>
            <a:r>
              <a:rPr b="1" lang="en-US" sz="1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I</a:t>
            </a:r>
            <a:r>
              <a:rPr b="1" lang="ru-RU" sz="1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e + CuSO</a:t>
            </a:r>
            <a:r>
              <a:rPr b="0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</a:t>
            </a: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eSO</a:t>
            </a:r>
            <a:r>
              <a:rPr b="0" lang="en-US" sz="1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Cu↓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AutoShape 7">
            <a:hlinkClick r:id="rId1" action="ppaction://hlinksldjump"/>
          </p:cNvPr>
          <p:cNvSpPr/>
          <p:nvPr/>
        </p:nvSpPr>
        <p:spPr>
          <a:xfrm>
            <a:off x="8793000" y="6508800"/>
            <a:ext cx="351000" cy="349200"/>
          </a:xfrm>
          <a:custGeom>
            <a:avLst/>
            <a:gdLst>
              <a:gd name="textAreaLeft" fmla="*/ 22320 w 351000"/>
              <a:gd name="textAreaRight" fmla="*/ 328680 w 351000"/>
              <a:gd name="textAreaTop" fmla="*/ 22320 h 349200"/>
              <a:gd name="textAreaBottom" fmla="*/ 326880 h 349200"/>
            </a:gdLst>
            <a:ahLst/>
            <a:rect l="textAreaLeft" t="textAreaTop" r="textAreaRight" b="textAreaBottom"/>
            <a:pathLst>
              <a:path w="21711" h="21600">
                <a:moveTo>
                  <a:pt x="0" y="0"/>
                </a:moveTo>
                <a:lnTo>
                  <a:pt x="21711" y="0"/>
                </a:lnTo>
                <a:lnTo>
                  <a:pt x="21711" y="21600"/>
                </a:lnTo>
                <a:lnTo>
                  <a:pt x="0" y="21600"/>
                </a:lnTo>
                <a:close/>
              </a:path>
              <a:path fill="lightenLess" w="21711" h="21600">
                <a:moveTo>
                  <a:pt x="0" y="0"/>
                </a:moveTo>
                <a:lnTo>
                  <a:pt x="21711" y="0"/>
                </a:lnTo>
                <a:lnTo>
                  <a:pt x="20311" y="1400"/>
                </a:lnTo>
                <a:lnTo>
                  <a:pt x="1400" y="1400"/>
                </a:lnTo>
                <a:close/>
              </a:path>
              <a:path fill="darken" w="21711" h="21600">
                <a:moveTo>
                  <a:pt x="21711" y="0"/>
                </a:moveTo>
                <a:lnTo>
                  <a:pt x="21711" y="21600"/>
                </a:lnTo>
                <a:lnTo>
                  <a:pt x="20311" y="20200"/>
                </a:lnTo>
                <a:lnTo>
                  <a:pt x="20311" y="1400"/>
                </a:lnTo>
                <a:close/>
              </a:path>
              <a:path fill="darkenLess" w="21711" h="21600">
                <a:moveTo>
                  <a:pt x="217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11" y="20200"/>
                </a:lnTo>
                <a:close/>
              </a:path>
              <a:path fill="lighten" w="217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11" h="21600">
                <a:moveTo>
                  <a:pt x="3849" y="3794"/>
                </a:moveTo>
                <a:lnTo>
                  <a:pt x="17862" y="10800"/>
                </a:lnTo>
                <a:lnTo>
                  <a:pt x="38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AutoShape 8">
            <a:hlinkClick r:id="rId2" action="ppaction://hlinksldjump"/>
          </p:cNvPr>
          <p:cNvSpPr/>
          <p:nvPr/>
        </p:nvSpPr>
        <p:spPr>
          <a:xfrm rot="10800000">
            <a:off x="0" y="6515280"/>
            <a:ext cx="347760" cy="342720"/>
          </a:xfrm>
          <a:custGeom>
            <a:avLst/>
            <a:gdLst>
              <a:gd name="textAreaLeft" fmla="*/ 21960 w 347760"/>
              <a:gd name="textAreaRight" fmla="*/ 325800 w 34776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21917" h="21600">
                <a:moveTo>
                  <a:pt x="0" y="0"/>
                </a:moveTo>
                <a:lnTo>
                  <a:pt x="21917" y="0"/>
                </a:lnTo>
                <a:lnTo>
                  <a:pt x="21917" y="21600"/>
                </a:lnTo>
                <a:lnTo>
                  <a:pt x="0" y="21600"/>
                </a:lnTo>
                <a:close/>
              </a:path>
              <a:path fill="lightenLess" w="21917" h="21600">
                <a:moveTo>
                  <a:pt x="0" y="0"/>
                </a:moveTo>
                <a:lnTo>
                  <a:pt x="21917" y="0"/>
                </a:lnTo>
                <a:lnTo>
                  <a:pt x="20517" y="1400"/>
                </a:lnTo>
                <a:lnTo>
                  <a:pt x="1400" y="1400"/>
                </a:lnTo>
                <a:close/>
              </a:path>
              <a:path fill="darken" w="21917" h="21600">
                <a:moveTo>
                  <a:pt x="21917" y="0"/>
                </a:moveTo>
                <a:lnTo>
                  <a:pt x="21917" y="21600"/>
                </a:lnTo>
                <a:lnTo>
                  <a:pt x="20517" y="20200"/>
                </a:lnTo>
                <a:lnTo>
                  <a:pt x="20517" y="1400"/>
                </a:lnTo>
                <a:close/>
              </a:path>
              <a:path fill="darkenLess" w="21917" h="21600">
                <a:moveTo>
                  <a:pt x="21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7" y="20200"/>
                </a:lnTo>
                <a:close/>
              </a:path>
              <a:path fill="lighten" w="21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17" h="21600">
                <a:moveTo>
                  <a:pt x="3952" y="3794"/>
                </a:moveTo>
                <a:lnTo>
                  <a:pt x="17965" y="10800"/>
                </a:lnTo>
                <a:lnTo>
                  <a:pt x="39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ver dir="l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55087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кция обмен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Реакция обмен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кция, в результате которой два вещества обмениваются своими составными частями, образуя два новых вещест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заимодействие растворов сульфата меди (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I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 и гидроксида кал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uSO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2KOH = Cu(OH)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Wingdings 3"/>
                <a:ea typeface="Wingdings 3"/>
              </a:rPr>
              <a:t>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K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O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заимодействие раствора гидроксида натрия с азотной кислото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aOH + HNO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aNO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+ H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заимодействие хлорида аммония с гидроксидом кальц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NH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l + Ca(OH)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CaCl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2NH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3366"/>
                </a:solidFill>
                <a:latin typeface="Wingdings 3"/>
                <a:ea typeface="Wingdings 3"/>
              </a:rPr>
              <a:t>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 2H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AutoShape 6">
            <a:hlinkClick r:id="rId1" action="ppaction://hlinksldjump"/>
          </p:cNvPr>
          <p:cNvSpPr/>
          <p:nvPr/>
        </p:nvSpPr>
        <p:spPr>
          <a:xfrm>
            <a:off x="8782200" y="6502320"/>
            <a:ext cx="361800" cy="355680"/>
          </a:xfrm>
          <a:custGeom>
            <a:avLst/>
            <a:gdLst>
              <a:gd name="textAreaLeft" fmla="*/ 23040 w 361800"/>
              <a:gd name="textAreaRight" fmla="*/ 338760 w 36180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21971" h="21600">
                <a:moveTo>
                  <a:pt x="0" y="0"/>
                </a:moveTo>
                <a:lnTo>
                  <a:pt x="21971" y="0"/>
                </a:lnTo>
                <a:lnTo>
                  <a:pt x="21971" y="21600"/>
                </a:lnTo>
                <a:lnTo>
                  <a:pt x="0" y="21600"/>
                </a:lnTo>
                <a:close/>
              </a:path>
              <a:path fill="lightenLess" w="21971" h="21600">
                <a:moveTo>
                  <a:pt x="0" y="0"/>
                </a:moveTo>
                <a:lnTo>
                  <a:pt x="21971" y="0"/>
                </a:lnTo>
                <a:lnTo>
                  <a:pt x="20571" y="1400"/>
                </a:lnTo>
                <a:lnTo>
                  <a:pt x="1400" y="1400"/>
                </a:lnTo>
                <a:close/>
              </a:path>
              <a:path fill="darken" w="21971" h="21600">
                <a:moveTo>
                  <a:pt x="21971" y="0"/>
                </a:moveTo>
                <a:lnTo>
                  <a:pt x="21971" y="21600"/>
                </a:lnTo>
                <a:lnTo>
                  <a:pt x="20571" y="20200"/>
                </a:lnTo>
                <a:lnTo>
                  <a:pt x="20571" y="1400"/>
                </a:lnTo>
                <a:close/>
              </a:path>
              <a:path fill="darkenLess" w="21971" h="21600">
                <a:moveTo>
                  <a:pt x="21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71" y="20200"/>
                </a:lnTo>
                <a:close/>
              </a:path>
              <a:path fill="lighten" w="21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71" h="21600">
                <a:moveTo>
                  <a:pt x="10986" y="3837"/>
                </a:moveTo>
                <a:lnTo>
                  <a:pt x="13562" y="6448"/>
                </a:ln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lnTo>
                  <a:pt x="17949" y="10800"/>
                </a:lnTo>
                <a:lnTo>
                  <a:pt x="16295" y="10800"/>
                </a:lnTo>
                <a:lnTo>
                  <a:pt x="16295" y="17989"/>
                </a:lnTo>
                <a:lnTo>
                  <a:pt x="5676" y="17989"/>
                </a:lnTo>
                <a:lnTo>
                  <a:pt x="5676" y="10800"/>
                </a:lnTo>
                <a:lnTo>
                  <a:pt x="4023" y="10800"/>
                </a:lnTo>
                <a:close/>
              </a:path>
              <a:path fill="darkenLess" w="21971" h="21600">
                <a:moveTo>
                  <a:pt x="13562" y="6448"/>
                </a:moveTo>
                <a:lnTo>
                  <a:pt x="13562" y="4707"/>
                </a:lnTo>
                <a:lnTo>
                  <a:pt x="15337" y="4707"/>
                </a:lnTo>
                <a:lnTo>
                  <a:pt x="15337" y="8224"/>
                </a:lnTo>
                <a:close/>
              </a:path>
              <a:path fill="darkenLess" w="21971" h="21600">
                <a:moveTo>
                  <a:pt x="10063" y="14299"/>
                </a:moveTo>
                <a:lnTo>
                  <a:pt x="11908" y="14299"/>
                </a:lnTo>
                <a:lnTo>
                  <a:pt x="11908" y="17989"/>
                </a:lnTo>
                <a:lnTo>
                  <a:pt x="16295" y="17989"/>
                </a:lnTo>
                <a:lnTo>
                  <a:pt x="16295" y="10800"/>
                </a:lnTo>
                <a:lnTo>
                  <a:pt x="5676" y="10800"/>
                </a:lnTo>
                <a:lnTo>
                  <a:pt x="5676" y="17989"/>
                </a:lnTo>
                <a:lnTo>
                  <a:pt x="1006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AutoShape 7"/>
          <p:cNvSpPr/>
          <p:nvPr/>
        </p:nvSpPr>
        <p:spPr>
          <a:xfrm rot="10800000">
            <a:off x="0" y="6515280"/>
            <a:ext cx="347760" cy="342720"/>
          </a:xfrm>
          <a:custGeom>
            <a:avLst/>
            <a:gdLst>
              <a:gd name="textAreaLeft" fmla="*/ 21960 w 347760"/>
              <a:gd name="textAreaRight" fmla="*/ 325800 w 34776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21917" h="21600">
                <a:moveTo>
                  <a:pt x="0" y="0"/>
                </a:moveTo>
                <a:lnTo>
                  <a:pt x="21917" y="0"/>
                </a:lnTo>
                <a:lnTo>
                  <a:pt x="21917" y="21600"/>
                </a:lnTo>
                <a:lnTo>
                  <a:pt x="0" y="21600"/>
                </a:lnTo>
                <a:close/>
              </a:path>
              <a:path fill="lightenLess" w="21917" h="21600">
                <a:moveTo>
                  <a:pt x="0" y="0"/>
                </a:moveTo>
                <a:lnTo>
                  <a:pt x="21917" y="0"/>
                </a:lnTo>
                <a:lnTo>
                  <a:pt x="20517" y="1400"/>
                </a:lnTo>
                <a:lnTo>
                  <a:pt x="1400" y="1400"/>
                </a:lnTo>
                <a:close/>
              </a:path>
              <a:path fill="darken" w="21917" h="21600">
                <a:moveTo>
                  <a:pt x="21917" y="0"/>
                </a:moveTo>
                <a:lnTo>
                  <a:pt x="21917" y="21600"/>
                </a:lnTo>
                <a:lnTo>
                  <a:pt x="20517" y="20200"/>
                </a:lnTo>
                <a:lnTo>
                  <a:pt x="20517" y="1400"/>
                </a:lnTo>
                <a:close/>
              </a:path>
              <a:path fill="darkenLess" w="21917" h="21600">
                <a:moveTo>
                  <a:pt x="21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7" y="20200"/>
                </a:lnTo>
                <a:close/>
              </a:path>
              <a:path fill="lighten" w="21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17" h="21600">
                <a:moveTo>
                  <a:pt x="3952" y="3794"/>
                </a:moveTo>
                <a:lnTo>
                  <a:pt x="17965" y="10800"/>
                </a:lnTo>
                <a:lnTo>
                  <a:pt x="39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ver dir="l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55087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 тепловому эффекту   </a:t>
            </a:r>
            <a:br>
              <a:rPr sz="2900"/>
            </a:br>
            <a:r>
              <a:rPr b="0" lang="ru-RU" sz="2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химической реакции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 u="sng">
                <a:solidFill>
                  <a:srgbClr val="254061"/>
                </a:solidFill>
                <a:uFillTx/>
                <a:latin typeface="Times New Roman"/>
                <a:ea typeface="Times New Roman"/>
              </a:rPr>
              <a:t>Экзотермические реакции</a:t>
            </a:r>
            <a:r>
              <a:rPr b="1" i="1" lang="ru-RU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акции,</a:t>
            </a:r>
            <a:r>
              <a:rPr b="1" i="1" lang="ru-RU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отекающие с выделением энергии (тепла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ение фосфора в кислороде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 + 5O</a:t>
            </a:r>
            <a:r>
              <a:rPr b="0" lang="en-US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= 2P</a:t>
            </a:r>
            <a:r>
              <a:rPr b="0" lang="en-US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</a:t>
            </a:r>
            <a:r>
              <a:rPr b="0" lang="en-US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+ Q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Дж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ение этилового спир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C</a:t>
            </a:r>
            <a:r>
              <a:rPr b="0" lang="en-US" sz="13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H</a:t>
            </a:r>
            <a:r>
              <a:rPr b="0" lang="en-US" sz="13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5</a:t>
            </a:r>
            <a:r>
              <a:rPr b="0" lang="en-US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OH + 3O</a:t>
            </a:r>
            <a:r>
              <a:rPr b="0" lang="en-US" sz="13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= 2CO</a:t>
            </a:r>
            <a:r>
              <a:rPr b="0" lang="en-US" sz="13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+ 3H</a:t>
            </a:r>
            <a:r>
              <a:rPr b="0" lang="en-US" sz="13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O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 Q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Дж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AutoShape 7">
            <a:hlinkClick r:id="rId1" action="ppaction://hlinksldjump"/>
          </p:cNvPr>
          <p:cNvSpPr/>
          <p:nvPr/>
        </p:nvSpPr>
        <p:spPr>
          <a:xfrm>
            <a:off x="8793000" y="6486480"/>
            <a:ext cx="351000" cy="349200"/>
          </a:xfrm>
          <a:custGeom>
            <a:avLst/>
            <a:gdLst>
              <a:gd name="textAreaLeft" fmla="*/ 22320 w 351000"/>
              <a:gd name="textAreaRight" fmla="*/ 328680 w 351000"/>
              <a:gd name="textAreaTop" fmla="*/ 22320 h 349200"/>
              <a:gd name="textAreaBottom" fmla="*/ 326880 h 349200"/>
            </a:gdLst>
            <a:ahLst/>
            <a:rect l="textAreaLeft" t="textAreaTop" r="textAreaRight" b="textAreaBottom"/>
            <a:pathLst>
              <a:path w="21711" h="21600">
                <a:moveTo>
                  <a:pt x="0" y="0"/>
                </a:moveTo>
                <a:lnTo>
                  <a:pt x="21711" y="0"/>
                </a:lnTo>
                <a:lnTo>
                  <a:pt x="21711" y="21600"/>
                </a:lnTo>
                <a:lnTo>
                  <a:pt x="0" y="21600"/>
                </a:lnTo>
                <a:close/>
              </a:path>
              <a:path fill="lightenLess" w="21711" h="21600">
                <a:moveTo>
                  <a:pt x="0" y="0"/>
                </a:moveTo>
                <a:lnTo>
                  <a:pt x="21711" y="0"/>
                </a:lnTo>
                <a:lnTo>
                  <a:pt x="20311" y="1400"/>
                </a:lnTo>
                <a:lnTo>
                  <a:pt x="1400" y="1400"/>
                </a:lnTo>
                <a:close/>
              </a:path>
              <a:path fill="darken" w="21711" h="21600">
                <a:moveTo>
                  <a:pt x="21711" y="0"/>
                </a:moveTo>
                <a:lnTo>
                  <a:pt x="21711" y="21600"/>
                </a:lnTo>
                <a:lnTo>
                  <a:pt x="20311" y="20200"/>
                </a:lnTo>
                <a:lnTo>
                  <a:pt x="20311" y="1400"/>
                </a:lnTo>
                <a:close/>
              </a:path>
              <a:path fill="darkenLess" w="21711" h="21600">
                <a:moveTo>
                  <a:pt x="217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11" y="20200"/>
                </a:lnTo>
                <a:close/>
              </a:path>
              <a:path fill="lighten" w="217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11" h="21600">
                <a:moveTo>
                  <a:pt x="3849" y="3794"/>
                </a:moveTo>
                <a:lnTo>
                  <a:pt x="17862" y="10800"/>
                </a:lnTo>
                <a:lnTo>
                  <a:pt x="38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1" name="Picture 6" descr="C:\Documents and Settings\User\Мои документы\Мои рисунки\иконки\ico_tex.png">
            <a:hlinkClick r:id="rId2" action="ppaction://hlinksldjump"/>
          </p:cNvPr>
          <p:cNvPicPr/>
          <p:nvPr/>
        </p:nvPicPr>
        <p:blipFill>
          <a:blip r:embed="rId3">
            <a:grayscl/>
          </a:blip>
          <a:stretch/>
        </p:blipFill>
        <p:spPr>
          <a:xfrm>
            <a:off x="7885080" y="2349360"/>
            <a:ext cx="555480" cy="571680"/>
          </a:xfrm>
          <a:prstGeom prst="rect">
            <a:avLst/>
          </a:prstGeom>
          <a:ln w="19080">
            <a:solidFill>
              <a:srgbClr val="6c911d"/>
            </a:solidFill>
            <a:miter/>
          </a:ln>
        </p:spPr>
      </p:pic>
    </p:spTree>
  </p:cSld>
  <p:transition>
    <p:cover dir="l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0:21:55Z</dcterms:created>
  <dc:creator>Светлана Викторовна</dc:creator>
  <dc:description/>
  <dc:language>en-US</dc:language>
  <cp:lastModifiedBy>lisenkova elena</cp:lastModifiedBy>
  <dcterms:modified xsi:type="dcterms:W3CDTF">2022-04-05T20:17:49Z</dcterms:modified>
  <cp:revision>240</cp:revision>
  <dc:subject/>
  <dc:title>«Типы химических реакций»</dc:title>
</cp:coreProperties>
</file>