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camera.wav" ContentType="audio/x-wav"/>
  <Override PartName="/ppt/media/image7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30F4C-6BEE-4674-A994-63CE94097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A5CB5-A4C7-4C49-852A-52637914B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64FF5-6457-4587-9C8D-F80E5BBCD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0B574-CE39-4BD5-9BE0-174B68AB9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20625-2F86-473B-B2E8-383ECF7B4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7EB96-C00D-4704-991A-0398EE389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48588-2A48-4B6B-B4FE-5CF8D46A2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82FAF-19D0-4662-BC53-0A667D2A1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794FA-4FC5-4A73-898C-FCBE58FCD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E888E-8F8D-44D9-937D-D45DD391A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01F5F-DFB9-475A-B3A8-04385E041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77748-5DF9-451F-A2E4-7966CCEC5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91424-98AF-40A0-907A-A3BF65B96B8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0" spc="-1" strike="noStrike">
                <a:solidFill>
                  <a:srgbClr val="ff0000"/>
                </a:solidFill>
                <a:latin typeface="Arial"/>
              </a:rPr>
              <a:t>Тема 5.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Прямоугольник 1"/>
          <p:cNvSpPr/>
          <p:nvPr/>
        </p:nvSpPr>
        <p:spPr>
          <a:xfrm>
            <a:off x="228600" y="1981080"/>
            <a:ext cx="89154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b050"/>
                </a:solidFill>
                <a:latin typeface="Arial"/>
              </a:rPr>
              <a:t>«Профилактика лесных и торфяных пожаров. Защита населения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bf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2"/>
          <p:cNvSpPr/>
          <p:nvPr/>
        </p:nvSpPr>
        <p:spPr>
          <a:xfrm>
            <a:off x="380880" y="304920"/>
            <a:ext cx="8458200" cy="659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ведённый специалистами анализ размещения источников пожаров показал, что более 90% пожаров происходит в местах, связанных с жизнедеятельностью человека.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Отмечено, что наиболее часто местами возникновения лесных пожаров являютс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оянки рыбаков, места, посещаемые охотниками и туристам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ста традиционного отдыха населени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очины дорог общего пользовани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ста лесозаготовок, включая дороги, по которым ведётся вывоз древеси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1"/>
          <p:cNvSpPr/>
          <p:nvPr/>
        </p:nvSpPr>
        <p:spPr>
          <a:xfrm>
            <a:off x="380880" y="228600"/>
            <a:ext cx="83822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помните!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сновной причиной лесных пожаров является безответственное поведение людей, которые не проявляют в лесу должной осторожности при пользовании огнём и нарушают правила пожарной безопас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Рисунок 2" descr=""/>
          <p:cNvPicPr/>
          <p:nvPr/>
        </p:nvPicPr>
        <p:blipFill>
          <a:blip r:embed="rId1"/>
          <a:stretch/>
        </p:blipFill>
        <p:spPr>
          <a:xfrm>
            <a:off x="1523880" y="2143080"/>
            <a:ext cx="6448680" cy="500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Прямоугольник 1"/>
          <p:cNvSpPr/>
          <p:nvPr/>
        </p:nvSpPr>
        <p:spPr>
          <a:xfrm>
            <a:off x="76320" y="750960"/>
            <a:ext cx="899136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В пожароопасный сезон в лесу запрещаетс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росать на землю горящие спички — попав в сухую траву или мох, они вызовут их возгорани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ставлять на освещенной солнцем лесной поляне бутылки или осколки стекла, которые, фокусируя лучи солнца, как линзы, могут вызвать возгорание сухой трав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ыжигать траву под деревьями, на лесных полянах, прогалинах и лугах, а также стерню на полях, расположенных в лес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зводить костры в хвойных молодняках, торфяниках, лесосеках с порубочными остатками, в местах с подсохшей трав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Запишите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Запишите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Рисунок 1" descr=""/>
          <p:cNvPicPr/>
          <p:nvPr/>
        </p:nvPicPr>
        <p:blipFill>
          <a:blip r:embed="rId2"/>
          <a:stretch/>
        </p:blipFill>
        <p:spPr>
          <a:xfrm>
            <a:off x="128520" y="152280"/>
            <a:ext cx="669960" cy="66996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2" descr=""/>
          <p:cNvPicPr/>
          <p:nvPr/>
        </p:nvPicPr>
        <p:blipFill>
          <a:blip r:embed="rId3"/>
          <a:stretch/>
        </p:blipFill>
        <p:spPr>
          <a:xfrm>
            <a:off x="2590920" y="609480"/>
            <a:ext cx="3962160" cy="2878200"/>
          </a:xfrm>
          <a:prstGeom prst="rect">
            <a:avLst/>
          </a:prstGeom>
          <a:ln w="0">
            <a:noFill/>
          </a:ln>
        </p:spPr>
      </p:pic>
      <p:sp>
        <p:nvSpPr>
          <p:cNvPr id="51" name="Прямоугольник 3"/>
          <p:cNvSpPr/>
          <p:nvPr/>
        </p:nvSpPr>
        <p:spPr>
          <a:xfrm>
            <a:off x="196920" y="3581280"/>
            <a:ext cx="89406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6600"/>
                </a:solidFill>
                <a:latin typeface="Arial"/>
              </a:rPr>
              <a:t>Правила разведения костров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6600"/>
                </a:solidFill>
                <a:latin typeface="Arial"/>
              </a:rPr>
              <a:t>1 — площадку для костра желательно выбрать около вод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6600"/>
                </a:solidFill>
                <a:latin typeface="Arial"/>
              </a:rPr>
              <a:t>Все сухие листья и ветки, которые могут легко загореться, необходимо отгрести от кострища на расстояние 1 — 1,5 м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6600"/>
                </a:solidFill>
                <a:latin typeface="Arial"/>
              </a:rPr>
              <a:t>2 — нельзя разводить костёр ближе чем 4—6 м от деревьев, смолистых пней или корней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6600"/>
                </a:solidFill>
                <a:latin typeface="Arial"/>
              </a:rPr>
              <a:t>3 — не рекомендуется разводить костёр в лесу на каменистых россыпях. Огонь, проникший в щели между камнями, может очень быстро распространиться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6600"/>
                </a:solidFill>
                <a:latin typeface="Arial"/>
              </a:rPr>
              <a:t>4 — никогда не следует оставлять костёр (даже гаснущий) без присмотра. Его нужно обязательно залить вод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Прямоугольник 1"/>
          <p:cNvSpPr/>
          <p:nvPr/>
        </p:nvSpPr>
        <p:spPr>
          <a:xfrm>
            <a:off x="304920" y="762120"/>
            <a:ext cx="8458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Запомнит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Никогда не оставляйте костёр (даже гаснущий) без присмотра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Рисунок 1" descr=""/>
          <p:cNvPicPr/>
          <p:nvPr/>
        </p:nvPicPr>
        <p:blipFill>
          <a:blip r:embed="rId2"/>
          <a:stretch/>
        </p:blipFill>
        <p:spPr>
          <a:xfrm>
            <a:off x="2897280" y="3505320"/>
            <a:ext cx="3273480" cy="24987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21-02-13T02:25:49Z</dcterms:modified>
  <cp:revision>4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