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AF74-0D8D-47EF-903F-DF1714421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93E2-5684-4D02-BDFB-96163B50B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1638-C29D-4687-B3AB-FC8E1B4AD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7AE2-8B3E-4F98-A599-6891E60D3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4344-F5BF-4094-9F04-D0E229808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3CA3-3F56-4134-B8B3-1BA983738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E689-267B-4FE1-B377-C62D7824C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3343-CD41-4B89-BCAD-D5BEEC053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568B-EE27-4F73-8243-3D2D20983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35C2-0160-4136-A763-DD5608F93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757E-0E73-4DA4-8FC8-9C2CC3DBA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3EB1-1976-4243-8F00-92269C328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2941F-3288-43D4-BD60-FC4FC7C2CD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s://youtu.be/ZY4v-Dwf3pw" TargetMode="External"/><Relationship Id="rId3" Type="http://schemas.openxmlformats.org/officeDocument/2006/relationships/hyperlink" Target="https://youtu.be/ZY4v-Dwf3pw" TargetMode="External"/><Relationship Id="rId4" Type="http://schemas.openxmlformats.org/officeDocument/2006/relationships/hyperlink" Target="https://youtu.be/ZY4v-Dwf3pw" TargetMode="External"/><Relationship Id="rId5" Type="http://schemas.openxmlformats.org/officeDocument/2006/relationships/hyperlink" Target="https://youtu.be/ZY4v-Dwf3pw" TargetMode="External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s://youtu.be/3a-V04Tha0o" TargetMode="External"/><Relationship Id="rId3" Type="http://schemas.openxmlformats.org/officeDocument/2006/relationships/hyperlink" Target="https://youtu.be/3a-V04Tha0o" TargetMode="External"/><Relationship Id="rId4" Type="http://schemas.openxmlformats.org/officeDocument/2006/relationships/hyperlink" Target="https://youtu.be/3a-V04Tha0o" TargetMode="External"/><Relationship Id="rId5" Type="http://schemas.openxmlformats.org/officeDocument/2006/relationships/hyperlink" Target="https://youtu.be/3a-V04Tha0o" TargetMode="External"/><Relationship Id="rId6" Type="http://schemas.openxmlformats.org/officeDocument/2006/relationships/hyperlink" Target="https://youtu.be/3jZmBoXnWRQ" TargetMode="External"/><Relationship Id="rId7" Type="http://schemas.openxmlformats.org/officeDocument/2006/relationships/hyperlink" Target="https://youtu.be/3jZmBoXnWRQ" TargetMode="External"/><Relationship Id="rId8" Type="http://schemas.openxmlformats.org/officeDocument/2006/relationships/hyperlink" Target="https://youtu.be/3jZmBoXnWRQ" TargetMode="External"/><Relationship Id="rId9" Type="http://schemas.openxmlformats.org/officeDocument/2006/relationships/hyperlink" Target="https://youtu.be/3jZmBoXnWRQ" TargetMode="External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s://rutube.ru/video/580568386d13840a7d5e2496b57a4c0b/" TargetMode="External"/><Relationship Id="rId3" Type="http://schemas.openxmlformats.org/officeDocument/2006/relationships/hyperlink" Target="https://rutube.ru/video/580568386d13840a7d5e2496b57a4c0b/" TargetMode="External"/><Relationship Id="rId4" Type="http://schemas.openxmlformats.org/officeDocument/2006/relationships/hyperlink" Target="https://rutube.ru/video/580568386d13840a7d5e2496b57a4c0b/" TargetMode="External"/><Relationship Id="rId5" Type="http://schemas.openxmlformats.org/officeDocument/2006/relationships/hyperlink" Target="https://rutube.ru/video/580568386d13840a7d5e2496b57a4c0b/" TargetMode="External"/><Relationship Id="rId6" Type="http://schemas.openxmlformats.org/officeDocument/2006/relationships/hyperlink" Target="https://rutube.ru/video/580568386d13840a7d5e2496b57a4c0b/" TargetMode="External"/><Relationship Id="rId7" Type="http://schemas.openxmlformats.org/officeDocument/2006/relationships/hyperlink" Target="https://rutube.ru/video/580568386d13840a7d5e2496b57a4c0b/" TargetMode="External"/><Relationship Id="rId8" Type="http://schemas.openxmlformats.org/officeDocument/2006/relationships/hyperlink" Target="https://youtu.be/HvG4iwcNXWk" TargetMode="External"/><Relationship Id="rId9" Type="http://schemas.openxmlformats.org/officeDocument/2006/relationships/hyperlink" Target="https://youtu.be/HvG4iwcNXWk" TargetMode="External"/><Relationship Id="rId10" Type="http://schemas.openxmlformats.org/officeDocument/2006/relationships/hyperlink" Target="https://youtu.be/HvG4iwcNXWk" TargetMode="External"/><Relationship Id="rId11" Type="http://schemas.openxmlformats.org/officeDocument/2006/relationships/hyperlink" Target="https://youtu.be/HvG4iwcNXWk" TargetMode="External"/><Relationship Id="rId12" Type="http://schemas.openxmlformats.org/officeDocument/2006/relationships/hyperlink" Target="https://ptici.info/penie-ptic.html" TargetMode="External"/><Relationship Id="rId13" Type="http://schemas.openxmlformats.org/officeDocument/2006/relationships/hyperlink" Target="https://ptici.info/penie-ptic.html" TargetMode="External"/><Relationship Id="rId14" Type="http://schemas.openxmlformats.org/officeDocument/2006/relationships/hyperlink" Target="https://ptici.info/penie-ptic.html" TargetMode="External"/><Relationship Id="rId15" Type="http://schemas.openxmlformats.org/officeDocument/2006/relationships/hyperlink" Target="https://ptici.info/penie-ptic.html" TargetMode="External"/><Relationship Id="rId16" Type="http://schemas.openxmlformats.org/officeDocument/2006/relationships/hyperlink" Target="https://ptici.info/penie-ptic.html" TargetMode="External"/><Relationship Id="rId1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s://youtu.be/EXA7Xs9Lem0" TargetMode="External"/><Relationship Id="rId3" Type="http://schemas.openxmlformats.org/officeDocument/2006/relationships/hyperlink" Target="https://youtu.be/EXA7Xs9Lem0" TargetMode="External"/><Relationship Id="rId4" Type="http://schemas.openxmlformats.org/officeDocument/2006/relationships/hyperlink" Target="https://youtu.be/EXA7Xs9Lem0" TargetMode="External"/><Relationship Id="rId5" Type="http://schemas.openxmlformats.org/officeDocument/2006/relationships/hyperlink" Target="https://youtu.be/EXA7Xs9Lem0" TargetMode="Externa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s://www.igraemsa.ru/igry-dlja-detej/risovalki/pticy/raskraska-pavlin" TargetMode="External"/><Relationship Id="rId3" Type="http://schemas.openxmlformats.org/officeDocument/2006/relationships/hyperlink" Target="https://www.igraemsa.ru/igry-dlja-detej/risovalki/pticy/raskraska-pavlin" TargetMode="External"/><Relationship Id="rId4" Type="http://schemas.openxmlformats.org/officeDocument/2006/relationships/hyperlink" Target="https://www.igraemsa.ru/igry-dlja-detej/risovalki/pticy/raskraska-pavlin" TargetMode="External"/><Relationship Id="rId5" Type="http://schemas.openxmlformats.org/officeDocument/2006/relationships/hyperlink" Target="https://www.igraemsa.ru/igry-dlja-detej/risovalki/pticy/raskraska-pavlin" TargetMode="External"/><Relationship Id="rId6" Type="http://schemas.openxmlformats.org/officeDocument/2006/relationships/hyperlink" Target="https://www.igraemsa.ru/igry-dlja-detej/risovalki/pticy/raskraska-pavlin" TargetMode="External"/><Relationship Id="rId7" Type="http://schemas.openxmlformats.org/officeDocument/2006/relationships/hyperlink" Target="https://www.igraemsa.ru/igry-dlja-detej/risovalki/pticy/raskraska-pavlin" TargetMode="External"/><Relationship Id="rId8" Type="http://schemas.openxmlformats.org/officeDocument/2006/relationships/hyperlink" Target="https://www.igraemsa.ru/igry-dlja-detej/risovalki/pticy/raskraska-pavlin" TargetMode="External"/><Relationship Id="rId9" Type="http://schemas.openxmlformats.org/officeDocument/2006/relationships/hyperlink" Target="https://www.igraemsa.ru/igry-dlja-detej/risovalki/pticy/raskraska-pavlin" TargetMode="External"/><Relationship Id="rId10" Type="http://schemas.openxmlformats.org/officeDocument/2006/relationships/hyperlink" Target="https://www.igraemsa.ru/igry-dlja-detej/risovalki/pticy/raskraska-pavlin" TargetMode="External"/><Relationship Id="rId11" Type="http://schemas.openxmlformats.org/officeDocument/2006/relationships/hyperlink" Target="https://www.igraemsa.ru/igry-dlja-detej/risovalki/pticy/raskraska-pavlin" TargetMode="External"/><Relationship Id="rId12" Type="http://schemas.openxmlformats.org/officeDocument/2006/relationships/hyperlink" Target="https://www.igraemsa.ru/igry-dlja-detej/risovalki/pticy/raskraska-pavlin" TargetMode="External"/><Relationship Id="rId13" Type="http://schemas.openxmlformats.org/officeDocument/2006/relationships/hyperlink" Target="https://yandex.ru/video/preview/12511392574413098956" TargetMode="External"/><Relationship Id="rId14" Type="http://schemas.openxmlformats.org/officeDocument/2006/relationships/hyperlink" Target="https://yandex.ru/video/preview/12511392574413098956" TargetMode="External"/><Relationship Id="rId15" Type="http://schemas.openxmlformats.org/officeDocument/2006/relationships/hyperlink" Target="https://yandex.ru/video/preview/12511392574413098956" TargetMode="External"/><Relationship Id="rId16" Type="http://schemas.openxmlformats.org/officeDocument/2006/relationships/hyperlink" Target="https://yandex.ru/video/preview/12511392574413098956" TargetMode="External"/><Relationship Id="rId17" Type="http://schemas.openxmlformats.org/officeDocument/2006/relationships/hyperlink" Target="https://yandex.ru/video/preview/12511392574413098956" TargetMode="External"/><Relationship Id="rId18" Type="http://schemas.openxmlformats.org/officeDocument/2006/relationships/hyperlink" Target="https://yandex.ru/video/preview/12511392574413098956" TargetMode="External"/><Relationship Id="rId19" Type="http://schemas.openxmlformats.org/officeDocument/2006/relationships/hyperlink" Target="https://yandex.ru/video/preview/12511392574413098956" TargetMode="External"/><Relationship Id="rId20" Type="http://schemas.openxmlformats.org/officeDocument/2006/relationships/hyperlink" Target="https://yandex.ru/video/preview/12511392574413098956" TargetMode="External"/><Relationship Id="rId21" Type="http://schemas.openxmlformats.org/officeDocument/2006/relationships/hyperlink" Target="https://youtu.be/MqwxMiU8xGI" TargetMode="External"/><Relationship Id="rId22" Type="http://schemas.openxmlformats.org/officeDocument/2006/relationships/hyperlink" Target="https://youtu.be/MqwxMiU8xGI" TargetMode="External"/><Relationship Id="rId23" Type="http://schemas.openxmlformats.org/officeDocument/2006/relationships/hyperlink" Target="https://youtu.be/MqwxMiU8xGI" TargetMode="External"/><Relationship Id="rId24" Type="http://schemas.openxmlformats.org/officeDocument/2006/relationships/hyperlink" Target="https://youtu.be/MqwxMiU8xGI" TargetMode="External"/><Relationship Id="rId2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s://www.igraemsa.ru/igry-dlja-detej/poznavatelnye-igry/igra-pro-ptic" TargetMode="External"/><Relationship Id="rId3" Type="http://schemas.openxmlformats.org/officeDocument/2006/relationships/hyperlink" Target="https://www.igraemsa.ru/igry-dlja-detej/poznavatelnye-igry/igra-pro-ptic" TargetMode="External"/><Relationship Id="rId4" Type="http://schemas.openxmlformats.org/officeDocument/2006/relationships/hyperlink" Target="https://www.igraemsa.ru/igry-dlja-detej/poznavatelnye-igry/igra-pro-ptic" TargetMode="External"/><Relationship Id="rId5" Type="http://schemas.openxmlformats.org/officeDocument/2006/relationships/hyperlink" Target="https://www.igraemsa.ru/igry-dlja-detej/poznavatelnye-igry/igra-pro-ptic" TargetMode="External"/><Relationship Id="rId6" Type="http://schemas.openxmlformats.org/officeDocument/2006/relationships/hyperlink" Target="https://www.igraemsa.ru/igry-dlja-detej/poznavatelnye-igry/igra-pro-ptic" TargetMode="External"/><Relationship Id="rId7" Type="http://schemas.openxmlformats.org/officeDocument/2006/relationships/hyperlink" Target="https://www.igraemsa.ru/igry-dlja-detej/poznavatelnye-igry/igra-pro-ptic" TargetMode="External"/><Relationship Id="rId8" Type="http://schemas.openxmlformats.org/officeDocument/2006/relationships/hyperlink" Target="https://www.igraemsa.ru/igry-dlja-detej/poznavatelnye-igry/igra-pro-ptic" TargetMode="External"/><Relationship Id="rId9" Type="http://schemas.openxmlformats.org/officeDocument/2006/relationships/hyperlink" Target="https://www.igraemsa.ru/igry-dlja-detej/poznavatelnye-igry/igra-pro-ptic" TargetMode="External"/><Relationship Id="rId10" Type="http://schemas.openxmlformats.org/officeDocument/2006/relationships/hyperlink" Target="https://www.igraemsa.ru/igry-dlja-detej/poznavatelnye-igry/igra-pro-ptic" TargetMode="External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бразовательный маршрут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ля детей 5-6 лет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«Птицы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908000" y="4292640"/>
            <a:ext cx="511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готовил: Ерофеева Т.П. воспитатель МБДОУ «ЦРР-детский сад №402» г.о Сама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0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270880" y="1784520"/>
            <a:ext cx="460188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Шаг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аступило время поговорить о пользе птиц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 природе и размноже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роведите с детьми беседу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Какую пользу приносят птиц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Чем они питаются в природе и в город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Почему птиц называют «санитарами леса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Как птицы размножаютс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Для чего птица вьёт гнезд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979640" y="2111040"/>
            <a:ext cx="5400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смотрите вместе видео «Птичьи гнёзд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s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youtu.be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/ZY4v-Dwf3p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месте с ребёнком порассуждайте на тему: «Что было бы на Земле, если бы исчезли птицы?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могите сделать вывод: птицы приносят огромную пользу, поедая вредных насекомых, тем самым спасая деревья, переносят семена растений. Птицы своим пением украшают мир и радуют на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692360" y="1692720"/>
            <a:ext cx="561636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Шаг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т и подошёл к завершению наш маршру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верьте знания своего ребёнк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гадайте ребёнку загадки  о птицах. Пусть ребёнок объяснит и докажет свой отв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s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youtu.be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/3a-V04Tha0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играйте в викторину «Знаешь ли ты птиц?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https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8"/>
              </a:rPr>
              <a:t>youtu.be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9"/>
              </a:rPr>
              <a:t>/3jZmBoXnWR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крепить представления о перелётных и зимующих птицах поможет интерактивная иг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https://learningapps.org/view157310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47984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908000" y="1238760"/>
            <a:ext cx="554364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 напоследок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зготовьте с детьми кормуш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https://youtu.be/SFY6PnFCVM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местите её за окном или на балконе и регулярно подкармливайте пти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усть ребёнок сам готовит корм и подсыпает в кормуш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блюдайте вместе какие птицы прилетают за кормом, какой корм предпочитаю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егулярная забота о птицах поможет воспитать в ребёнке добрые чувства, желание заботиться о птицах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835280" y="1973880"/>
            <a:ext cx="5473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важаемые родител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ступила весна! Природа пробуждается ото сна и первыми о её приходе нас извещают птицы - «вестники весны». Вы, наверное, вместе с детьми уже обратили внимание на их неугомонный весёлый гом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длагаю Вам и Вашим детям пройти образовательный маршрут “Птицы”, который поможет систематизировать уже имеющиеся представления о птицах у детей 5-6 л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835280" y="1856880"/>
            <a:ext cx="5832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 помощью этого маршрута вы поможете ребенку легко усвоить новую информацию о птицах, расширить уже имеющиеся знания ребенка по данной теме. Маршрут построен таким образом, что помимо расширения знаний ребенка о птицах, у него будут развиваться коммуникативные навыки, а именно -  формироваться грамматически правильная связная речь, пополняться активный словарный запас. Кроме того,  в предлагаемом маршруте имеются задания и упражнения, направленные на развитие творческих способностей детей, их логического мышления, внимания, памяти, мелкой мотор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35280" y="1617480"/>
            <a:ext cx="5400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роцессе прохождения маршрута Вашему ребенку будут предложены игры, пазлы, задания,  которые направлены на закрепление знаний о  зимующих и перелётных птицах самарского кр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ок прохождения маршрута – 7 дней (7 шаг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того, чтобы выполнить задание, перейдите по ссылке под описанием. Перед просмотром попросите ребёнка внимательно смотреть ролик и запоминать. И чаще хвалите ребёнк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лагаю Вам приступить к прохожд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ршрута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ятного обучения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258920" y="2105280"/>
            <a:ext cx="698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Шаг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то они такие, «вестники весны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 дороге в детский сад, на прогулках наблюдайте с детьми птиц, послушайте их голоса. Попросите ребёнка назвать птицу, описать её внешний ви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s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rutube.r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video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/580568386d13840a7d5e2496b57a4c0b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8"/>
              </a:rPr>
              <a:t>https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9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10"/>
              </a:rPr>
              <a:t>youtu.be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11"/>
              </a:rPr>
              <a:t>/HvG4iwcNXW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12"/>
              </a:rPr>
              <a:t>https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13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14"/>
              </a:rPr>
              <a:t>ptici.info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15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16"/>
              </a:rPr>
              <a:t>penie-ptic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403280" y="2060280"/>
            <a:ext cx="5832720" cy="27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Шаг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 приходом весны в родные края возвращаются перелётные птиц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s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youtu.be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/EXA7Xs9Lem0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могите ребёнку вспомнить их название и внешний вид. Объясните, почему эти птицы улетают в тёплые края осень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03280" y="1125000"/>
            <a:ext cx="655344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Шаг 3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Огромное количество художественных произведений написано о птицах, их повадках, образе жизни. Познакомьте ребёнка с некоторыми из н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47640" y="2492280"/>
            <a:ext cx="69962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9000"/>
          </a:bodyPr>
          <a:p>
            <a:pPr marL="99360" indent="-99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удиосказка. Мамин-Сибиряк  «Серая шей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9360" indent="-99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https://nukadeti.ru/skazki/mamin_sibiryak_seraya_shej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9360" indent="-99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.Н.Толстой «Птич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9360" indent="-99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https://youtu.be/MwfDf95Qq8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9360" indent="-99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.Бианки «Чей нос лучш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9360" indent="-99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https://yandex.ru/video/preview/159902891072778332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9360" indent="-99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/ф «Кукушка и скворец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9360" indent="-99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https://youtu.be/jjpmKZxPb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476000" y="4797000"/>
            <a:ext cx="626436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о окончании знакомства побеседуйте о прочитанном. Спросите, что больше всего понравилось, про что или про кого это произведение? Пусть ребёнок перескажет события, которые описаны, выскажет своё отношение к ни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332000" y="1658880"/>
            <a:ext cx="7056360" cy="38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Шаг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актически все дети обожают рисовать и раскрашивать картинки, лепить и мастер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 время раскрашивания, рисования и лепки можно повторить с ребёнком известных ему птиц и выучить новых, выделить среди них диких и домашн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кра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s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www.igraemsa.r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igry-dlja-detej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8"/>
              </a:rPr>
              <a:t>risovalki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9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10"/>
              </a:rPr>
              <a:t>pticy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11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12"/>
              </a:rPr>
              <a:t>raskraska-pav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исование«Снегир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13"/>
              </a:rPr>
              <a:t>https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14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15"/>
              </a:rPr>
              <a:t>yandex.r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16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17"/>
              </a:rPr>
              <a:t>video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18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19"/>
              </a:rPr>
              <a:t>preview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20"/>
              </a:rPr>
              <a:t>/125113925744130989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епка «Птич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21"/>
              </a:rPr>
              <a:t>https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22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23"/>
              </a:rPr>
              <a:t>youtu.be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24"/>
              </a:rPr>
              <a:t>/MqwxMiU8xG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979640" y="1643400"/>
            <a:ext cx="518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Шаг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ольше всего на свете  дети любят играть. Воспользуйтесь  этим для закрепления представлений детей о птицах. Предложите ребёнк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идактическую игру про птиц с картинками и названи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s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www.igraemsa.r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igry-dlja-detej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8"/>
              </a:rPr>
              <a:t>poznavatelnye-igry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9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10"/>
              </a:rPr>
              <a:t>igra-pro-ptic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 также предложите сложить сказочный пазл "Гадкий утёнок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https://www.igraemsa.ru/igry-dlja-detej/pazly/pazl-gadkij-uteno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3-29T05:27:21Z</dcterms:created>
  <dc:creator>Ерофеева</dc:creator>
  <dc:description/>
  <dc:language>en-US</dc:language>
  <cp:lastModifiedBy>Ерофеева</cp:lastModifiedBy>
  <dcterms:modified xsi:type="dcterms:W3CDTF">2022-03-29T07:53:36Z</dcterms:modified>
  <cp:revision>3</cp:revision>
  <dc:subject/>
  <dc:title>Элетронный образовательный маршрут «Птицы»</dc:title>
</cp:coreProperties>
</file>