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0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2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6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9BFB-D423-4C0B-A027-6E41FED94A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098B-9446-41C2-AC59-74CB160B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D301-121E-4FE8-9D0E-1366DDF7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EB7A-5666-4271-B282-05B371ED95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D2C2B-4A5D-4879-87B9-C8725ACCD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C89E1-594A-41B0-851A-1BDED148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E1899-3492-4517-9D86-A348699E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15B84-8F49-4727-8559-09B2F631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0713F-9E52-4C51-A546-943E7043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B9ABA-76C5-4471-B3BD-403C6B11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CF07E-8605-4237-905E-D4C74B66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DD02C-EA45-451F-8FE3-F42FAB0E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E3BB9-AA99-4D23-A14B-B37B0D7B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F1AC6-A471-4BAC-B316-581BE144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FE5FF-1A4F-4F48-9D71-8720F091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D4DFB-EE52-4D9A-8D9B-9B4603E6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4FBF3-B36F-4A9E-8461-552F1F5D60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46AD-0CEA-41F1-AFF4-8C0364DFEB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8630-9C76-45EA-82AA-5DB5DB7C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8916-840E-40E6-BED4-C2FF2D0C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3F8C-19BA-43AA-9E27-85BE9097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200D-4860-4247-A26A-9EF033A3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876D-E52A-486F-9856-98C60DA8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F6A2-4833-479C-8DD1-F4D3C0B4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E228-1725-432E-82B3-2AF3D318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81A3-3D4C-45A0-B873-7319725B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2FC0-0A73-4624-B059-E7E0F51E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3042-62BD-4DEC-BA88-A1C0DF1E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2BB2-9B47-4F36-BDF6-8F4A0270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31E1-6A50-454A-8FEB-6C1423548A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267A-764D-4013-B49A-3A122105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BDFB-9F6D-42E1-9A65-3A3786EB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6E40-8BF8-44A3-9B2C-88FD091A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95F5A-9D5E-46DC-B705-B5CBAB13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2987-241B-46D3-A5CB-4F96D798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3915F-7EB6-469F-8867-248AFD4C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B21F77-5071-4282-8DAB-3F48A565503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BF0155-63F0-41C4-AD16-D59C1DDEFC9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767ECA-E969-4EA6-9A95-3B0E07059F5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863640" y="1079640"/>
            <a:ext cx="6264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АЗБУКА </a:t>
            </a:r>
            <a:br>
              <a:rPr sz="6000"/>
            </a:br>
            <a:r>
              <a:rPr b="1" i="1" lang="ru-RU" sz="5800" spc="-1" strike="noStrike">
                <a:solidFill>
                  <a:srgbClr val="ffcc00"/>
                </a:solidFill>
                <a:latin typeface="Times New Roman"/>
              </a:rPr>
              <a:t>БЕЗОПАСНОСТИ</a:t>
            </a:r>
            <a:br>
              <a:rPr sz="6000"/>
            </a:b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НА ДОРОГЕ </a:t>
            </a:r>
            <a:br>
              <a:rPr sz="66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303960" y="3311640"/>
            <a:ext cx="1976400" cy="3024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492120" y="503280"/>
            <a:ext cx="81486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934920" y="28083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792000" y="57636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РОГИЕ РЕБЯТА! ПОМНИТЕ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Ы ДОЛЖНЫ ЗНАТЬ И СОБЛЮ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АВИЛА ПОВЕДЕНИЯ НА ДОРОГЕ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527280" y="2664000"/>
            <a:ext cx="48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ОСТОРОЖНО НА ДОРОГ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БЕРЕГИТЕ РУКИ, НОГ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ПОМНИ ПРАВИЛА ВЕЗД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А ИНАЧЕ БЫТЬ БЕД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ДО СВИДАНИЯ, РЕБЯТА!!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47640" y="165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144360" y="3456000"/>
            <a:ext cx="2519640" cy="34020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1944720" y="28728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рогие ребята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иглашаю вас совершить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увлекательное путешествие в страну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авил дорожного движе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и дорожных знаков!!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перед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4"/>
          <a:stretch/>
        </p:blipFill>
        <p:spPr>
          <a:xfrm>
            <a:off x="5688000" y="3527280"/>
            <a:ext cx="3240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863640" y="2860560"/>
            <a:ext cx="4103640" cy="3299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792000" y="415800"/>
            <a:ext cx="763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826"/>
                </a:solidFill>
                <a:latin typeface="Times New Roman"/>
                <a:ea typeface="Segoe UI"/>
              </a:rPr>
              <a:t>Ну вот мы и перед дорогой! Сколько здесь машин!!! Как же правильно перейти дорогу, чтобы не нарушать прави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  <a:ea typeface="Segoe UI"/>
              </a:rPr>
              <a:t>Всегда ищи знак «пешеходный переход»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На помощь нам придет «зебра». Ее белые полосы на дороге т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часто видишь в местах перехода пешеходов. Это наземный пешеходный переход. Рядом с ним ты всегда увидишь либо светофор, либо знак «пешеходный переход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4967280" y="3024360"/>
            <a:ext cx="3240000" cy="29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89080" y="488880"/>
            <a:ext cx="835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Times New Roman"/>
                <a:ea typeface="Segoe UI"/>
              </a:rPr>
              <a:t>А если  рядом с пешеходным переходом вы увидели светофор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Segoe UI"/>
              </a:rPr>
              <a:t>всегда помните  правила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863640" y="1295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52360" y="1079640"/>
            <a:ext cx="597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 </a:t>
            </a:r>
            <a:br>
              <a:rPr sz="6600"/>
            </a:br>
            <a:r>
              <a:rPr b="1" i="1" lang="ru-RU" sz="6600" spc="-1" strike="noStrike">
                <a:solidFill>
                  <a:srgbClr val="0000cc"/>
                </a:solidFill>
                <a:latin typeface="Calibri"/>
              </a:rPr>
              <a:t>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63640" y="557280"/>
            <a:ext cx="74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чиная переход, посмотрите налево,потом направо. Убедитес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что машин нет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2376360" y="2131920"/>
            <a:ext cx="5688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792000" y="431640"/>
            <a:ext cx="75679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Бывает так, что в месте, где нужно перейти дорогу, зебры нет. Что делать? Тогда следует искать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Segoe UI"/>
              </a:rPr>
              <a:t>надземные или подземные пешеходные переходы.</a:t>
            </a: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934920" y="3240000"/>
            <a:ext cx="3600720" cy="3002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1440000" y="1474920"/>
            <a:ext cx="2087280" cy="190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4540320" y="1566720"/>
            <a:ext cx="3666960" cy="46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3814920"/>
            <a:ext cx="2160720" cy="30430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"/>
          <p:cNvSpPr/>
          <p:nvPr/>
        </p:nvSpPr>
        <p:spPr>
          <a:xfrm>
            <a:off x="1368360" y="-712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d320"/>
          </a:solidFill>
          <a:ln w="82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Ходить можно только по тротуарам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очинам, пешеходным дорожка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Если их нет, то можно идти по краю проезжей част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о только лицом к движущимся машин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273528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144360" y="4103640"/>
            <a:ext cx="180036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3"/>
          <p:cNvSpPr/>
          <p:nvPr/>
        </p:nvSpPr>
        <p:spPr>
          <a:xfrm>
            <a:off x="863640" y="14436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420e"/>
          </a:solidFill>
          <a:ln w="82800">
            <a:solidFill>
              <a:srgbClr val="ffd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аходясь на остановке, переходи дорогу только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тогда, когда общественный транспорт отойдет о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. Если транспорт не отходи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язательно нужно отойти о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 на безопасно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расстояние так, чтобы видеть едущи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справа и слева маши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2"/>
          <a:stretch/>
        </p:blipFill>
        <p:spPr>
          <a:xfrm>
            <a:off x="0" y="4535640"/>
            <a:ext cx="15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1655640" y="4354560"/>
            <a:ext cx="3940200" cy="2381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4"/>
          <a:stretch/>
        </p:blipFill>
        <p:spPr>
          <a:xfrm>
            <a:off x="5226120" y="2519280"/>
            <a:ext cx="3917880" cy="25956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431640" y="730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009900"/>
          </a:solidFill>
          <a:ln w="82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Нельзя играть на проезжей части, та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ак можно не заметить приближающую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машину. Играть можно толь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 специально отведенных места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—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о дворах, парках, сквер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ходя из подъезда, уже будь внимателе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и остороже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6551640" y="496728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User</cp:lastModifiedBy>
  <dcterms:modified xsi:type="dcterms:W3CDTF">2022-04-05T12:04:32Z</dcterms:modified>
  <cp:revision>4</cp:revision>
  <dc:subject/>
  <dc:title>Слайд 1</dc:title>
</cp:coreProperties>
</file>