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8.jpeg" ContentType="image/jpeg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9E819-9C9C-4EAB-9E97-385479E61C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92951-8999-4391-A112-BDE1DBBAC97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AA8D7-9AC1-4453-B645-8ABF41F631E1}" type="slidenum">
              <a:rPr b="0" lang="en-GB" sz="1200" spc="-1" strike="noStrike">
                <a:solidFill>
                  <a:srgbClr val="8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29DDC-F053-4A3B-B00B-8BFE947F8D64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9009F-2816-4A7B-BB5A-BC4AF8DAC81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A075E-00C3-4AFE-B64E-E7B3B61B59F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7D772-330D-4050-A625-9519EC5AA80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8E07C-3798-4028-A539-54554E03549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8A080-A0BE-4A36-A718-C63B9FE79E0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185B-5CB0-4C7D-9679-5D8E74C1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7F32-AFF9-42F9-8AD9-B7385170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228C-B293-4F0E-BAAB-36FF9D7D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D1F-8830-40BC-A433-6ACAEDE9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A950-B95F-4E20-85B0-D0673524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408F-0CC1-4E50-AA14-264559B4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12E4-AEA5-4DBE-8F1D-999BD758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856E-9328-4B2E-87AF-A758E1F1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081E-10BD-47DC-B9E1-46D78AA3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BE5A-441D-46D7-AF33-C0BBF85C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18CC-F93E-4B3F-A821-DB767D38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C3FA-720B-4008-989C-214331CB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8360" indent="-28116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ac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ac8989"/>
                </a:solidFill>
                <a:latin typeface="Calibri"/>
                <a:ea typeface="Arial"/>
              </a:rPr>
              <a:t>15.12.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160"/>
            <a:ext cx="2890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ac8989"/>
                </a:solidFill>
                <a:latin typeface="Calibri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ac8989"/>
                </a:solidFill>
                <a:latin typeface="Calibri"/>
                <a:ea typeface="Arial"/>
              </a:rPr>
              <a:t>http://aida.ucoz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3C80F-2A74-464F-9B64-FF2F03DD18BB}" type="slidenum">
              <a:rPr b="0" lang="en-GB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2"/>
          <a:stretch/>
        </p:blipFill>
        <p:spPr>
          <a:xfrm>
            <a:off x="3714840" y="5715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3"/>
          <a:stretch/>
        </p:blipFill>
        <p:spPr>
          <a:xfrm>
            <a:off x="4000680" y="6000840"/>
            <a:ext cx="409320" cy="285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4"/>
          <a:stretch/>
        </p:blipFill>
        <p:spPr>
          <a:xfrm>
            <a:off x="8072280" y="4929120"/>
            <a:ext cx="743040" cy="981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5"/>
          <a:stretch/>
        </p:blipFill>
        <p:spPr>
          <a:xfrm>
            <a:off x="2286000" y="5929200"/>
            <a:ext cx="514440" cy="325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6"/>
          <a:stretch/>
        </p:blipFill>
        <p:spPr>
          <a:xfrm>
            <a:off x="50004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7"/>
          <a:stretch/>
        </p:blipFill>
        <p:spPr>
          <a:xfrm>
            <a:off x="0" y="214200"/>
            <a:ext cx="5715000" cy="1247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685800" y="857160"/>
            <a:ext cx="7772400" cy="1470240"/>
          </a:xfrm>
          <a:prstGeom prst="rect">
            <a:avLst/>
          </a:prstGeom>
          <a:solidFill>
            <a:srgbClr val="ffffff">
              <a:alpha val="85000"/>
            </a:srgbClr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Тексты к уроку развитие ре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428840" y="214200"/>
            <a:ext cx="67863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5214960" y="621180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Arial"/>
              </a:rPr>
              <a:t>Учит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Елена Петровна Жмури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ac8989"/>
                </a:solidFill>
                <a:latin typeface="Calibri"/>
              </a:rPr>
              <a:t>15.12.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BF546-0F23-4B7C-AAB4-5DABBAC2F5AC}" type="slidenum">
              <a:rPr b="0" lang="en-GB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15800" y="500040"/>
            <a:ext cx="4156200" cy="5857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4357800" y="71424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1859c"/>
                </a:solidFill>
                <a:latin typeface="Arial"/>
              </a:rPr>
              <a:t>Волчиш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2060"/>
                </a:solidFill>
                <a:latin typeface="Arial"/>
              </a:rPr>
              <a:t>Жил в лесу волчишка с матерью. Ушла мать на охоту. Поймал волчишку человек. Он сунул его в мешок и принёс дом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2060"/>
                </a:solidFill>
                <a:latin typeface="Arial"/>
              </a:rPr>
              <a:t>Ночью волчишка подполз к двери. А дверь была открыта. Волчишка вылез на улицу и убежал в лес. А там была  волчиха – мать. Обрадовались звери и убежали в глубину ле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ac8989"/>
                </a:solidFill>
                <a:latin typeface="Calibri"/>
              </a:rPr>
              <a:t>15.12.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C81DC-0641-4A6F-A3BE-C7A280EC7618}" type="slidenum">
              <a:rPr b="0" lang="en-GB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415800" y="500040"/>
            <a:ext cx="4156200" cy="58579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4357800" y="642960"/>
            <a:ext cx="450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84807"/>
                </a:solidFill>
                <a:latin typeface="Arial"/>
              </a:rPr>
              <a:t>Где и с кем жил волчиш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84807"/>
                </a:solidFill>
                <a:latin typeface="Arial"/>
              </a:rPr>
              <a:t>Почему человеку удалось его пойма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84807"/>
                </a:solidFill>
                <a:latin typeface="Arial"/>
              </a:rPr>
              <a:t>Сумел ли волчишка убежать? Почем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84807"/>
                </a:solidFill>
                <a:latin typeface="Arial"/>
              </a:rPr>
              <a:t>Кто его ждал в лес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4357800" y="31431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46c0a"/>
                </a:solidFill>
                <a:latin typeface="Arial"/>
              </a:rPr>
              <a:t>Правильно ли расположены рисун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46c0a"/>
                </a:solidFill>
                <a:latin typeface="Arial"/>
              </a:rPr>
              <a:t>Пронумеруйте рисунки в нужном поряд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46c0a"/>
                </a:solidFill>
                <a:latin typeface="Arial"/>
              </a:rPr>
              <a:t>Какой рисунок лишни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46c0a"/>
                </a:solidFill>
                <a:latin typeface="Arial"/>
              </a:rPr>
              <a:t>Объясните, почем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857160" y="257184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857160" y="78588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714760" y="43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714760" y="78588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928800" y="43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ac8989"/>
                </a:solidFill>
                <a:latin typeface="Calibri"/>
              </a:rPr>
              <a:t>15.12.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39451-9672-41AA-AB88-5CE2463F4878}" type="slidenum">
              <a:rPr b="0" lang="en-GB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415800" y="500040"/>
            <a:ext cx="4156200" cy="5857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4286160" y="71424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1859c"/>
                </a:solidFill>
                <a:latin typeface="Arial"/>
              </a:rPr>
              <a:t>Волчиш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2060"/>
                </a:solidFill>
                <a:latin typeface="Arial"/>
              </a:rPr>
              <a:t>Жил в лесу волчишка с матерью. Ушла мать на охоту. Поймал волчишку человек. Он сунул его в мешок и принёс дом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2060"/>
                </a:solidFill>
                <a:latin typeface="Arial"/>
              </a:rPr>
              <a:t>Ночью волчишка подполз к двери. А дверь была открыта. Волчишка вылез на улицу и убежал в лес. А там была  волчиха – мать. Обрадовались звери и убежали в глубину ле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57160" y="257184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857160" y="78588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2714760" y="43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714760" y="78588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928800" y="43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6858000" y="1214280"/>
            <a:ext cx="192888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4357800" y="15717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4357800" y="1928880"/>
            <a:ext cx="117936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6929280" y="1928880"/>
            <a:ext cx="192888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4357800" y="2643120"/>
            <a:ext cx="357192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 flipV="1">
            <a:off x="4357800" y="3429000"/>
            <a:ext cx="171432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4357800" y="3786120"/>
            <a:ext cx="13572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18"/>
          <p:cNvSpPr/>
          <p:nvPr/>
        </p:nvSpPr>
        <p:spPr>
          <a:xfrm>
            <a:off x="5929200" y="4071960"/>
            <a:ext cx="242892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6215040" y="4500720"/>
            <a:ext cx="257184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20"/>
          <p:cNvSpPr/>
          <p:nvPr/>
        </p:nvSpPr>
        <p:spPr>
          <a:xfrm>
            <a:off x="4357800" y="5214960"/>
            <a:ext cx="364320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4071960" y="28584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b0f0"/>
                </a:solidFill>
                <a:latin typeface="Arial"/>
              </a:rPr>
              <a:t>Читайте текст с «дыркам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ac8989"/>
                </a:solidFill>
                <a:latin typeface="Calibri"/>
              </a:rPr>
              <a:t>15.12.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E030C-4C07-4AA1-A912-F5E89D1334FD}" type="slidenum">
              <a:rPr b="0" lang="en-GB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4000320" cy="57006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4214880" y="500040"/>
            <a:ext cx="4572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b050"/>
                </a:solidFill>
                <a:latin typeface="Arial"/>
              </a:rPr>
              <a:t>На горке</a:t>
            </a:r>
            <a:r>
              <a:rPr b="1" lang="en-GB" sz="2200" spc="-1" strike="noStrike">
                <a:solidFill>
                  <a:srgbClr val="4f6228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4f6228"/>
                </a:solidFill>
                <a:latin typeface="Arial"/>
              </a:rPr>
              <a:t>    </a:t>
            </a:r>
            <a:r>
              <a:rPr b="1" lang="en-GB" sz="2200" spc="-1" strike="noStrike">
                <a:solidFill>
                  <a:srgbClr val="4f6228"/>
                </a:solidFill>
                <a:latin typeface="Arial"/>
              </a:rPr>
              <a:t>За нашим двором есть большая горка. Подъём на горку покрыт льдом. Каждый день бегут туда ребятишки с санками. С утра до вечера стоит на горке шум. Страшно ехать только первый раз. Вот мальчики сели на санки все вместе и помчались стрелой. А Костя съехал на коньках. С лаем бежит за ним Жучка. А шалунья катя с горки скатилась  и в сугроб свалилась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ac8989"/>
                </a:solidFill>
                <a:latin typeface="Calibri"/>
              </a:rPr>
              <a:t>15.12.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D90B0-14B1-4EC4-9230-213AC9BBE06F}" type="slidenum">
              <a:rPr b="0" lang="en-GB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4000320" cy="57006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572000" y="500040"/>
            <a:ext cx="45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Где находится гор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Какая о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Что делают дети на горк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Какая картинка лишня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Придумайте к ней 2-3 предлож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933c"/>
                </a:solidFill>
                <a:latin typeface="Arial"/>
              </a:rPr>
              <a:t>Пронумеруйте картинки в нужном поряд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428920" y="5000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1a1a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642960" y="400068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1a1a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642960" y="57168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1a1a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2428920" y="400068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1a1a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2428920" y="228600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1a1a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ac8989"/>
                </a:solidFill>
                <a:latin typeface="Calibri"/>
              </a:rPr>
              <a:t>15.12.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43359-2668-4038-BAE3-7C5AA73AD703}" type="slidenum">
              <a:rPr b="0" lang="en-GB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4000320" cy="5700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2428920" y="5000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1a1a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42960" y="400068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1a1a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642960" y="5000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1a1a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428920" y="400068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1a1a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2428920" y="228600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1a1a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214880" y="357120"/>
            <a:ext cx="4572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b050"/>
                </a:solidFill>
                <a:latin typeface="Arial"/>
              </a:rPr>
              <a:t>На горке</a:t>
            </a:r>
            <a:r>
              <a:rPr b="1" lang="en-GB" sz="2200" spc="-1" strike="noStrike">
                <a:solidFill>
                  <a:srgbClr val="4f6228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4f6228"/>
                </a:solidFill>
                <a:latin typeface="Arial"/>
              </a:rPr>
              <a:t>    </a:t>
            </a:r>
            <a:r>
              <a:rPr b="1" lang="en-GB" sz="2200" spc="-1" strike="noStrike">
                <a:solidFill>
                  <a:srgbClr val="4f6228"/>
                </a:solidFill>
                <a:latin typeface="Arial"/>
              </a:rPr>
              <a:t>За нашим двором есть большая горка. Подъём на горку покрыт льдом. Каждый день бегут туда ребятишки с санками. С утра до вечера стоит на горке шум. Страшно ехать только первый раз. Вот мальчики сели на санки все вместе и помчались стрелой. А Костя съехал на коньках. С лаем бежит за ним Жучка. </a:t>
            </a:r>
            <a:r>
              <a:rPr b="1" lang="ru-RU" sz="2200" spc="-1" strike="noStrike">
                <a:solidFill>
                  <a:srgbClr val="4f6228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4f6228"/>
                </a:solidFill>
                <a:latin typeface="Arial"/>
              </a:rPr>
              <a:t>А шалунья </a:t>
            </a:r>
            <a:r>
              <a:rPr b="1" lang="ru-RU" sz="2200" spc="-1" strike="noStrike">
                <a:solidFill>
                  <a:srgbClr val="4f6228"/>
                </a:solidFill>
                <a:latin typeface="Arial"/>
              </a:rPr>
              <a:t>К</a:t>
            </a:r>
            <a:r>
              <a:rPr b="1" lang="en-GB" sz="2200" spc="-1" strike="noStrike">
                <a:solidFill>
                  <a:srgbClr val="4f6228"/>
                </a:solidFill>
                <a:latin typeface="Arial"/>
              </a:rPr>
              <a:t>атя с горки скатилась</a:t>
            </a:r>
            <a:r>
              <a:rPr b="1" lang="ru-RU" sz="22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4f6228"/>
                </a:solidFill>
                <a:latin typeface="Arial"/>
              </a:rPr>
              <a:t>и в сугроб свалилась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1143000" y="5857920"/>
            <a:ext cx="72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Найдите и прочитайте предложения к каждой картин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>http://aida.ucoz.ru</dc:description>
  <dc:language>en-US</dc:language>
  <cp:lastModifiedBy>Наталия Вл. Тимофеева</cp:lastModifiedBy>
  <dcterms:modified xsi:type="dcterms:W3CDTF">2022-04-06T07:02:56Z</dcterms:modified>
  <cp:revision>5</cp:revision>
  <dc:subject/>
  <dc:title>Слайд 1</dc:title>
</cp:coreProperties>
</file>