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C82EC-0374-4E9B-9E44-95E4E90F2A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1AA0A-DD4F-4C02-B052-A7E000BAEDD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75AC0-22DF-4D7A-8080-2AB0AAD3B818}" type="slidenum">
              <a:rPr b="0" lang="en-GB" sz="1200" spc="-1" strike="noStrike">
                <a:solidFill>
                  <a:srgbClr val="8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EF409-8E9B-44D8-B149-8647ADFAB76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55836-E941-4F72-AA3D-C0421687A0A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96D81-6882-4A3B-959F-E3773CD12AD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5DDAF-6E4C-47D6-854D-F5B1EA46B1A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6C50E-C5CA-4C33-B7E3-4F1AB2D5497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9AE64-F226-4A17-89C2-406FCA7FD1A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344-F499-470E-B134-3B149F0C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FA4-D542-4716-929A-1CD48629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D4D-D19D-4410-B4C6-67B7465B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AD9-4E39-42D7-AF3A-AFE894E3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96E-AA23-4C45-911F-1BDCA4A6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989-2282-4016-8A28-7E081595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85E-B788-41ED-B2A9-D331B52D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360-6C39-4AF1-8A94-B55E721E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7BE3-93EA-4BD8-9D4A-31E7F851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02B-208A-44A5-9FCA-B72AC267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B4E-628B-4999-A84C-4DBCE447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596-F501-4240-901E-828F8374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8360" indent="-28116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ac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  <a:ea typeface="Arial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160"/>
            <a:ext cx="289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ac8989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  <a:ea typeface="Arial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1EF14-F78B-48E8-940D-4AD3B1014A7A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6"/>
          <a:stretch/>
        </p:blipFill>
        <p:spPr>
          <a:xfrm>
            <a:off x="50004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7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685800" y="857160"/>
            <a:ext cx="7772400" cy="147024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Тексты к уроку развитие ре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428840" y="214200"/>
            <a:ext cx="6786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214960" y="62118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</a:rPr>
              <a:t>Учи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Елена Петровна Жмур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774E8-0332-42ED-B209-E39224BC62E8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15800" y="500040"/>
            <a:ext cx="4156200" cy="585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357800" y="7142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1859c"/>
                </a:solidFill>
                <a:latin typeface="Arial"/>
              </a:rPr>
              <a:t>Волчиш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Жил в лесу волчишка с матерью. Ушла мать на охоту. Поймал волчишку человек. Он сунул его в мешок и принёс до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Ночью волчишка подполз к двери. А дверь была открыта. Волчишка вылез на улицу и убежал в лес. А там была  волчиха – мать. Обрадовались звери и убежали в глубину ле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91AA5-91AC-4DCC-BDEA-C862AF96EE18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415800" y="500040"/>
            <a:ext cx="4156200" cy="5857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4357800" y="642960"/>
            <a:ext cx="450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84807"/>
                </a:solidFill>
                <a:latin typeface="Arial"/>
              </a:rPr>
              <a:t>Где и с кем жил волчиш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84807"/>
                </a:solidFill>
                <a:latin typeface="Arial"/>
              </a:rPr>
              <a:t>Почему человеку удалось его пойм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84807"/>
                </a:solidFill>
                <a:latin typeface="Arial"/>
              </a:rPr>
              <a:t>Сумел ли волчишка убежать? 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84807"/>
                </a:solidFill>
                <a:latin typeface="Arial"/>
              </a:rPr>
              <a:t>Кто его ждал в лес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357800" y="31431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46c0a"/>
                </a:solidFill>
                <a:latin typeface="Arial"/>
              </a:rPr>
              <a:t>Правильно ли расположены рисун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46c0a"/>
                </a:solidFill>
                <a:latin typeface="Arial"/>
              </a:rPr>
              <a:t>Пронумеруйте рисунки в нужном поряд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46c0a"/>
                </a:solidFill>
                <a:latin typeface="Arial"/>
              </a:rPr>
              <a:t>Какой рисунок лишни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46c0a"/>
                </a:solidFill>
                <a:latin typeface="Arial"/>
              </a:rPr>
              <a:t>Объясните, 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857160" y="25718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857160" y="7858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14760" y="43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714760" y="7858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928800" y="43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8A9E2-FE25-4B12-8DFE-AC4DA71A235E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415800" y="500040"/>
            <a:ext cx="4156200" cy="5857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286160" y="7142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1859c"/>
                </a:solidFill>
                <a:latin typeface="Arial"/>
              </a:rPr>
              <a:t>Волчиш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Жил в лесу волчишка с матерью. Ушла мать на охоту. Поймал волчишку человек. Он сунул его в мешок и принёс до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Ночью волчишка подполз к двери. А дверь была открыта. Волчишка вылез на улицу и убежал в лес. А там была  волчиха – мать. Обрадовались звери и убежали в глубину ле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57160" y="25718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857160" y="7858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714760" y="43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714760" y="7858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28800" y="43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6858000" y="1214280"/>
            <a:ext cx="1928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357800" y="15717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357800" y="1928880"/>
            <a:ext cx="117936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6929280" y="1928880"/>
            <a:ext cx="1928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4357800" y="2643120"/>
            <a:ext cx="357192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 flipV="1">
            <a:off x="4357800" y="3429000"/>
            <a:ext cx="171432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4357800" y="3786120"/>
            <a:ext cx="13572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5929200" y="4071960"/>
            <a:ext cx="242892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6215040" y="4500720"/>
            <a:ext cx="25718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4357800" y="5214960"/>
            <a:ext cx="36432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4071960" y="28584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b0f0"/>
                </a:solidFill>
                <a:latin typeface="Arial"/>
              </a:rPr>
              <a:t>Читайте текст с «дыркам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AF822-7916-457A-9C45-381C69E98C12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00320" cy="57006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214880" y="500040"/>
            <a:ext cx="4572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b050"/>
                </a:solidFill>
                <a:latin typeface="Arial"/>
              </a:rPr>
              <a:t>На горке</a:t>
            </a: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    </a:t>
            </a: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За нашим двором есть большая горка. Подъём на горку покрыт льдом. Каждый день бегут туда ребятишки с санками. С утра до вечера стоит на горке шум. Страшно ехать только первый раз. Вот мальчики сели на санки все вместе и помчались стрелой. А Костя съехал на коньках. С лаем бежит за ним Жучка. А шалунья катя с горки скатилась  и в сугроб свалилас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606C7-14FC-4D50-B140-96D08526E5FF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00320" cy="5700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572000" y="500040"/>
            <a:ext cx="45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Где находится гор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Какая о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Что делают дети на гор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Какая картинка лишня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Придумайте к ней 2-3 предло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933c"/>
                </a:solidFill>
                <a:latin typeface="Arial"/>
              </a:rPr>
              <a:t>Пронумеруйте картинки в нужном поряд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428920" y="5000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4296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42960" y="571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42892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428920" y="2286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5B634-AA37-400E-B53E-6F9F1B490EFE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00320" cy="570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428920" y="5000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4296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42960" y="5000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42892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428920" y="2286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214880" y="357120"/>
            <a:ext cx="4572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b050"/>
                </a:solidFill>
                <a:latin typeface="Arial"/>
              </a:rPr>
              <a:t>На горке</a:t>
            </a: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    </a:t>
            </a: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За нашим двором есть большая горка. Подъём на горку покрыт льдом. Каждый день бегут туда ребятишки с санками. С утра до вечера стоит на горке шум. Страшно ехать только первый раз. Вот мальчики сели на санки все вместе и помчались стрелой. А Костя съехал на коньках. С лаем бежит за ним Жучка. 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А шалунья 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К</a:t>
            </a: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атя с горки скатилась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и в сугроб свалилас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143000" y="5857920"/>
            <a:ext cx="72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Найдите и прочитайте предложения к каждой картин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>http://aida.ucoz.ru</dc:description>
  <dc:language>en-US</dc:language>
  <cp:lastModifiedBy>Наталия Вл. Тимофеева</cp:lastModifiedBy>
  <dcterms:modified xsi:type="dcterms:W3CDTF">2022-04-06T07:02:56Z</dcterms:modified>
  <cp:revision>5</cp:revision>
  <dc:subject/>
  <dc:title>Слайд 1</dc:title>
</cp:coreProperties>
</file>