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AD4-AF8B-41AE-A38B-6BFA6EAD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A89-DC1B-4540-BC30-BDDA5FE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6A2-CFA9-40DF-8BBD-76631684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5F3-10E9-4D23-A08A-10AEA7DE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CAD3-B56E-43CE-B4DB-0AB5EB22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D9CF-A7DF-4F2D-9986-86FC4B9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93A-75EC-4932-B188-5EB98CA6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419D-B967-41A9-8C58-5F99D83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4C66-B7D0-4D80-9ECA-092562D0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686-FB9A-4E7A-B24B-7224BB36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4C9-1ABF-413F-9A01-F87A3A5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6B6-83D4-488B-8C6F-5A013CB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A21-46BC-410C-B7C9-8D874D9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E4EC-0EE5-4B2C-9431-57497FD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7C04-9BB9-46BC-A257-540A608E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28C-64E4-4E75-B211-A44A55C3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3DD1-C147-42FD-AE99-6B0A732F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21D0-9538-4FF1-B2D3-3CA3B19E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5724-48C9-4A39-AB12-0228B19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F00A-5F31-494A-BFD5-E189105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EAB2-EAEE-470F-8942-B8FA291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FEBE-7BDD-45D8-8B3C-FCA859D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01-1DAE-4D59-81FF-724AD05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9E34-BD48-4F80-94B8-3296792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67AF-EFE2-458D-ACD4-0634F0C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BDDB-B38B-45F4-8AFA-62E13F2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948E-471A-4C5A-84B4-7EB0AF4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3C7C-0B5F-49FE-BE2C-244CE3E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B1BB-F14F-4274-9C80-B8EA6C37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714B-CE08-48C9-8297-A4032135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5629-8C36-47D8-87B8-B867F44F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95EB-66FE-428B-BF50-C967BC46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7FCF-6AD6-4250-ACCC-AD00B337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EAC-9C0D-495C-94A8-6039DD9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973D-888F-4DA6-96B3-9662ECF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9024-63AE-4DEA-994B-D5EC641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CC98-0FC8-4F83-8D39-9F4519D9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3644-10A9-4F43-BF30-86701CA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F9D7-4591-4614-A7EB-F0880F4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EB11-747B-4956-B1C3-21EFAC6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C336-6E21-4702-A24B-962DC1DD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52B3-B87B-44FB-A288-C711983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A590-63D0-4AE3-9563-63B21AC6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4736-639C-4525-9EE2-D909EABB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58B-F739-4422-8CC4-F28750A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2452-DED4-47AE-B537-6193F58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732E6-5955-4BBB-8E6C-FCA1E75D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9563-0971-4842-8B1F-DD345AC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AD01-67E1-4865-AA8B-8BFA3AB3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9118-850B-4D88-AA1C-DC51F92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7752-687C-4932-AF84-B34A864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C800-0A63-4F27-B446-41C6E78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B7C8-D15D-4154-8D96-93B753A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40F1-2A19-4B60-8854-A553C43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0E80-A1BA-4BEA-9020-191A0E4B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520-E5E7-41BB-8F96-03BA722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E9544-9FEE-4C01-8D68-3AD8D3C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981-2C1C-43D5-86C2-FE0EC0B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C06-7EEE-447C-908D-AADC165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C05-67B2-410F-84AC-BDC5268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1DD-C2F6-4E86-B41C-72B2B2B919D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0AA-61D2-429A-B314-4897CFCDAD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C838-6F88-4E96-9BE5-FE5F3B151B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2794-D77F-4AA9-A2D1-84BDD55458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7FA-1EF1-489C-82AF-47E1A2C694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ССИЙСКАЯ ФЕДЕРАЦИЯ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ЛУЖСКАЯ ОБЛАСТЬ, ГОРОД ЛЮДИНОВО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ДЕЛ ОБРАЗОВАНИЯ МУНИЦИПАЛЬНОГО РАЙОНА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ГОРОД ЛЮДИНОВО И ЛЮДИНОВСКИЙ РАЙОН»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КОУ ДО ППМС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ЦЕНТР ДИАГНОСТИКИ И КОНСУЛЬТИРОВАНИЯ»</a:t>
            </a:r>
            <a:r>
              <a:rPr b="0" lang="ru-RU" sz="12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07324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гры с нейропланшетом»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л учитель-логопед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монова Т.С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1 марта 202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0" name="Picture 2" descr="https://lydinovo.ru/uploads/lydinovo/flex/content_photo_body/image/503/preview_coat_of_arms_of_lyudinovo__kaluga_oblast_.png?1544890817"/>
          <p:cNvPicPr/>
          <p:nvPr/>
        </p:nvPicPr>
        <p:blipFill>
          <a:blip r:embed="rId1"/>
          <a:stretch/>
        </p:blipFill>
        <p:spPr>
          <a:xfrm>
            <a:off x="316080" y="368280"/>
            <a:ext cx="1222200" cy="154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s://cdntaxitoday.ru/imag/ludinovo1.jpg"/>
          <p:cNvPicPr/>
          <p:nvPr/>
        </p:nvPicPr>
        <p:blipFill>
          <a:blip r:embed="rId2"/>
          <a:srcRect l="30336" t="13682" r="29446" b="10010"/>
          <a:stretch/>
        </p:blipFill>
        <p:spPr>
          <a:xfrm>
            <a:off x="7596360" y="396720"/>
            <a:ext cx="12524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Содержимое 3" descr="https://sun9-84.userapi.com/impf/FHvioi1l7UDE0kXU7XVw7Vx0CkufHOk-YSymHg/G9swiRpDO_U.jpg?size=1080x1080&amp;quality=95&amp;sign=2f6d08a10bcad89e4081d614da8661a5&amp;type=album"/>
          <p:cNvPicPr/>
          <p:nvPr/>
        </p:nvPicPr>
        <p:blipFill>
          <a:blip r:embed="rId1"/>
          <a:srcRect l="6124" t="1816" r="2040" b="7272"/>
          <a:stretch/>
        </p:blipFill>
        <p:spPr>
          <a:xfrm>
            <a:off x="5429160" y="3000240"/>
            <a:ext cx="3214800" cy="35719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https://sun9-6.userapi.com/impf/PfloHch24DVXE8snn8lnlmew-nJJoz_wpm1TUA/IE0P8ZfVWWU.jpg?size=1080x1080&amp;quality=95&amp;sign=4322c97c72c1517a4c7a719eba0a4eb2&amp;type=album"/>
          <p:cNvPicPr/>
          <p:nvPr/>
        </p:nvPicPr>
        <p:blipFill>
          <a:blip r:embed="rId2"/>
          <a:srcRect l="9326" t="3731" r="4850" b="8581"/>
          <a:stretch/>
        </p:blipFill>
        <p:spPr>
          <a:xfrm>
            <a:off x="500040" y="3143160"/>
            <a:ext cx="3286080" cy="3357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https://sun9-86.userapi.com/impf/Ef8odkw2S29rKhkgUW6qgikkfaxDwYZhSIF2jQ/3E45Ojo5B08.jpg?size=1080x1080&amp;quality=95&amp;sign=9255b2571535ab4128e5c60d078f0b53&amp;type=album"/>
          <p:cNvPicPr/>
          <p:nvPr/>
        </p:nvPicPr>
        <p:blipFill>
          <a:blip r:embed="rId3"/>
          <a:srcRect l="0" t="5939" r="0" b="14908"/>
          <a:stretch/>
        </p:blipFill>
        <p:spPr>
          <a:xfrm>
            <a:off x="2857680" y="214200"/>
            <a:ext cx="3609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8" descr="https://sun9-41.userapi.com/impf/6AcyMygP-NxINeNZC_HYAxLri-WTOh6HkAuyaQ/LupWI0yPdiw.jpg?size=1080x1080&amp;quality=95&amp;sign=d2398956e9cafe20f7022feadb8afdc4&amp;type=album"/>
          <p:cNvPicPr/>
          <p:nvPr/>
        </p:nvPicPr>
        <p:blipFill>
          <a:blip r:embed="rId1"/>
          <a:srcRect l="0" t="0" r="0" b="14285"/>
          <a:stretch/>
        </p:blipFill>
        <p:spPr>
          <a:xfrm>
            <a:off x="214200" y="1714680"/>
            <a:ext cx="4214880" cy="44290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https://sun9-8.userapi.com/impf/CgYLgXgJO3N0QU8cleRavCtdKPesqA4xO-_E1A/iXsqYkof1C4.jpg?size=1080x1080&amp;quality=95&amp;sign=d9938575420a67c1e32969055cec6952&amp;type=album"/>
          <p:cNvPicPr/>
          <p:nvPr/>
        </p:nvPicPr>
        <p:blipFill>
          <a:blip r:embed="rId2"/>
          <a:srcRect l="0" t="3685" r="0" b="13389"/>
          <a:stretch/>
        </p:blipFill>
        <p:spPr>
          <a:xfrm>
            <a:off x="4500720" y="171468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кладыши нейропланше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040" y="1643040"/>
            <a:ext cx="73724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смотр видео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мероприятия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480" y="1071360"/>
            <a:ext cx="86439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монстрировать опыт работы через игры с нейропалншетом,  способствующие развитию и активизации познавательных процессов как: внимание, память, мышление, воображение, речь, развитие межполушарного взаимодействия, пространственной ориентации и зрительной координ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с преимуществами использования нейроигр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ть понятие нейроигр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казать о пособии «Нейропланшет» (для кого разработано и на что направленно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демонстрировать элементы видео с занятий с использованием нейропланшет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знакомить непосредственно на практике с нейропланшет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428400"/>
            <a:ext cx="84294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видом деятельности детей дошкольного возраста является, конечно же, игра. А нейроигры являются доступным средством, позволяющим создать новые нейронные связи и улучшить работу головного мозга, отвечающего за развитие психических процессов и интеллекта.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речевыми нарушениями часто бывают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неустойчивой психикой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ются нестабильное эмоциональное состояние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женная работоспособность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страя утомляемость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все используем нейропсихологические упражнения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йроигры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− это эффективнейшая методика, позволяющая без использования медикаментов, помочь детям при нескольких видах нарушени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имущества использования нейроигр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гровая форма обучения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моциональная привлекательность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гофункциональность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втоматизация звуков в сочетании с двигательной активностью, а не статичное выполнение заданий только за столо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стойкой мотивации и произвольных познавательных интересов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партнерского взаимодействия между ребенком и педагого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ктивизация работы с родителями, повышение компетентности родителей в коррекционно-развивающем процесс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двигательные упражнения, которые задействуют мозг малыша, влияют на концентрацию внимания, память, речь и работоспособность.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могают провести диагностику развития ребенка психических процессов головного мозга, понять сильные и слабые стороны малыша, улучшить учебные навык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ван Петрович Павл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Руки учат голову, затем поумневшая голова учит руки, а умелые руки снова способствуют развитию мозга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Содержимое 5" descr="https://www.istmira.com/uploads/posts/2019-03/1553025607_ipavlov.png"/>
          <p:cNvPicPr/>
          <p:nvPr/>
        </p:nvPicPr>
        <p:blipFill>
          <a:blip r:embed="rId1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евянный нейропланшет с кожаными мешочками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3840" y="144792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разработано  с учетом возрастных и интеллектуальных потребностей детей дошкольного и младшего школьного возраста. В данном пособии собран ряд заданий и игр,  способствующих развитию и активизации познавательных процессов как: внимание, память, мышление, воображение, речь, развитие межполушарного взаимодействия, пространственной ориентации и зрительной координации.</a:t>
            </a:r>
            <a:br>
              <a:rPr sz="2600"/>
            </a:b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Рисунок 4" descr="https://sun9-88.userapi.com/impf/5b9haiUQltEsLZ3Y1cItnnIvR9Xztc57bcGs5Q/4g4HT6c80mI.jpg?size=1080x1080&amp;quality=95&amp;sign=9153e022781da1cfcf8789af3b843317&amp;type=album"/>
          <p:cNvPicPr/>
          <p:nvPr/>
        </p:nvPicPr>
        <p:blipFill>
          <a:blip r:embed="rId1"/>
          <a:stretch/>
        </p:blipFill>
        <p:spPr>
          <a:xfrm>
            <a:off x="4786200" y="1500120"/>
            <a:ext cx="414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тегория дет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9680" y="1785600"/>
            <a:ext cx="81867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трудностями обучения и проблемами поведения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трудно бывает сосредоточиться на занятии, упорядочить и запомнить информаци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быстро переключаться с одного задания на друго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дефицитом вним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ость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ой импульсивностью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зличными задержками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ми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ладыши нейропланше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9" name="Рисунок 5" descr="https://sun9-65.userapi.com/impf/N9Z5u2UjgIsVPXvU4wGh2RVulqw3Hm4y6_4w2Q/gtDLToSRYY0.jpg?size=1080x1080&amp;quality=95&amp;sign=4e0560a90712b7b3639a27cd77f652bb&amp;type=album"/>
          <p:cNvPicPr/>
          <p:nvPr/>
        </p:nvPicPr>
        <p:blipFill>
          <a:blip r:embed="rId1"/>
          <a:srcRect l="4010" t="4010" r="3745" b="3745"/>
          <a:stretch/>
        </p:blipFill>
        <p:spPr>
          <a:xfrm>
            <a:off x="4714920" y="1571760"/>
            <a:ext cx="4143240" cy="428616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6" descr="https://sun9-60.userapi.com/impf/MTyL1pKrTNH7H1TwmYbMrQ-bq_ikH4a_NXzFDg/0RZoNuVWjrU.jpg?size=1080x1080&amp;quality=95&amp;sign=814076f94d7b67443a1affb7cc6ebb1a&amp;type=album"/>
          <p:cNvPicPr/>
          <p:nvPr/>
        </p:nvPicPr>
        <p:blipFill>
          <a:blip r:embed="rId2"/>
          <a:srcRect l="4689" t="3125" r="7815" b="9375"/>
          <a:stretch/>
        </p:blipFill>
        <p:spPr>
          <a:xfrm>
            <a:off x="214200" y="1571760"/>
            <a:ext cx="4357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20:47Z</dcterms:created>
  <dc:creator>Юрий</dc:creator>
  <dc:description/>
  <dc:language>en-US</dc:language>
  <cp:lastModifiedBy>Secretar</cp:lastModifiedBy>
  <dcterms:modified xsi:type="dcterms:W3CDTF">2022-03-29T13:39:25Z</dcterms:modified>
  <cp:revision>234</cp:revision>
  <dc:subject/>
  <dc:title>Характер человека</dc:title>
</cp:coreProperties>
</file>