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F3C-33B9-4B78-9BE5-5A400481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5CE-6A71-407C-8F52-3C9AEDAF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C31-6AAE-4BAE-9ADE-824E88F3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A9A-7956-401D-8764-FB4BD55D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0E53-78F0-4A12-86A5-4BB5FCBB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7327-27C4-46F7-8581-3E2551E8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769E-E73F-4280-91F6-228AD6C8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45AE-E344-4CE2-A681-71091F9F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F20-64BB-4783-9EE7-2B23089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E61F-8F0B-42DB-8641-9E601B0F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7647-1B05-4250-8C65-B8CD690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BC6-E509-468D-AB4F-85504335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11F1-C383-4AAF-8715-928689B4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03C9-0E99-4179-9A88-3A344A99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56EF-4F0C-4322-8514-E1234F2F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86CE-7FF1-4543-91C9-DADC0C40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458C-C728-408D-B562-404E124B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E07F-1D0F-405F-8BD1-B46BADA3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7A1F-AB4D-4BD5-BE10-9380DB31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8748-6C06-4283-99EA-199C4E67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4CA8-4CB0-4561-82A0-281C3B3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0A60-AEAB-43DC-8FA9-9A0DCA1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306-21E0-4D1B-AD23-39622557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E22B-6356-43F9-A0EB-46B02B7F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3781-17B6-417D-8987-0D0090E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AB48-6C9A-4BB1-A51E-BC2F394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3383-C8DE-4DF6-914F-8D62691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91D6-F209-4941-800A-765D51FF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5847-EF2D-4959-9D78-E30FFCFC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89E6-802B-4623-BAC1-FF381254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719A-6DBD-4773-A3B9-AC68AAE1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1F71-42BD-4E49-AB40-E351AE8B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9293-3837-488D-A35B-5CA052ED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C64-CB7A-49D3-A741-742774C9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8FD2-E2E4-4967-9DC0-4E311D7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80C0-78CE-47B7-965D-118F3E9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FDB0-90C0-4D0D-995D-3AC545E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01857-A3EC-4B3A-8423-F08021F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130F-A664-4A6A-8C58-B739E57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69A0-EAE6-42BC-9A16-C3E819E5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973B-8B7F-4D32-BEE0-A100315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3AAA-7917-4EBB-80EF-993180EA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53C2-8CF9-4BD4-BD21-8E5F473C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A50B5-A132-4870-8E4B-62F759C5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EC7-139D-4FB6-BED7-3DDC1755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2312B-754C-4F8E-BEFE-66AF72F9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8321-9859-46DB-BF2C-E16BF2D1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1C0D9-CECA-40ED-9843-1F2F4C6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D20D-2CE6-41F5-8376-FE469692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2687-29A6-4E2E-9FD2-8C746168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A594-2888-4974-940C-F81478B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6902D-E673-4E57-B252-495D320D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D72C9-FDA5-4AFD-A61E-D1C7777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7F27-EEBB-4B2F-A41B-46AA841F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7072-2054-4898-AF3D-4B59238E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111-1A61-427D-B610-0B7DED01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F1BF-5487-4968-82E8-3554A9E9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FC9-F922-4E30-A101-D5CB34A3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901-0594-45F6-83B2-E78933C1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2CF-F95E-4553-90CD-78CAD57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01C3-0FD3-4073-8652-A9A3FFD7DC0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97D5-3D8F-49E4-B7B1-DD6D4E78B1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90BC-5D96-4D8D-85DA-5E924C7F03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9110-6152-459C-ADC9-980B750800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0881-670C-43ED-9CFF-333BFE708B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ССИЙСКАЯ ФЕДЕРАЦИЯ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ЛУЖСКАЯ ОБЛАСТЬ, ГОРОД ЛЮДИНОВО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ДЕЛ ОБРАЗОВАНИЯ МУНИЦИПАЛЬНОГО РАЙОНА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ГОРОД ЛЮДИНОВО И ЛЮДИНОВСКИЙ РАЙОН»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КОУ ДО ППМС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ЦЕНТР ДИАГНОСТИКИ И КОНСУЛЬТИРОВАНИЯ»</a:t>
            </a:r>
            <a:r>
              <a:rPr b="0" lang="ru-RU" sz="12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07324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Игры с нейропланшетом»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готовил учитель-логопед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амонова Т.С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1 марта 202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0" name="Picture 2" descr="https://lydinovo.ru/uploads/lydinovo/flex/content_photo_body/image/503/preview_coat_of_arms_of_lyudinovo__kaluga_oblast_.png?1544890817"/>
          <p:cNvPicPr/>
          <p:nvPr/>
        </p:nvPicPr>
        <p:blipFill>
          <a:blip r:embed="rId1"/>
          <a:stretch/>
        </p:blipFill>
        <p:spPr>
          <a:xfrm>
            <a:off x="316080" y="368280"/>
            <a:ext cx="1222200" cy="154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s://cdntaxitoday.ru/imag/ludinovo1.jpg"/>
          <p:cNvPicPr/>
          <p:nvPr/>
        </p:nvPicPr>
        <p:blipFill>
          <a:blip r:embed="rId2"/>
          <a:srcRect l="30336" t="13682" r="29446" b="10010"/>
          <a:stretch/>
        </p:blipFill>
        <p:spPr>
          <a:xfrm>
            <a:off x="7596360" y="396720"/>
            <a:ext cx="12524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2" name="Содержимое 3" descr="https://sun9-84.userapi.com/impf/FHvioi1l7UDE0kXU7XVw7Vx0CkufHOk-YSymHg/G9swiRpDO_U.jpg?size=1080x1080&amp;quality=95&amp;sign=2f6d08a10bcad89e4081d614da8661a5&amp;type=album"/>
          <p:cNvPicPr/>
          <p:nvPr/>
        </p:nvPicPr>
        <p:blipFill>
          <a:blip r:embed="rId1"/>
          <a:srcRect l="6124" t="1816" r="2040" b="7272"/>
          <a:stretch/>
        </p:blipFill>
        <p:spPr>
          <a:xfrm>
            <a:off x="5429160" y="3000240"/>
            <a:ext cx="3214800" cy="35719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https://sun9-6.userapi.com/impf/PfloHch24DVXE8snn8lnlmew-nJJoz_wpm1TUA/IE0P8ZfVWWU.jpg?size=1080x1080&amp;quality=95&amp;sign=4322c97c72c1517a4c7a719eba0a4eb2&amp;type=album"/>
          <p:cNvPicPr/>
          <p:nvPr/>
        </p:nvPicPr>
        <p:blipFill>
          <a:blip r:embed="rId2"/>
          <a:srcRect l="9326" t="3731" r="4850" b="8581"/>
          <a:stretch/>
        </p:blipFill>
        <p:spPr>
          <a:xfrm>
            <a:off x="500040" y="3143160"/>
            <a:ext cx="3286080" cy="3357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" descr="https://sun9-86.userapi.com/impf/Ef8odkw2S29rKhkgUW6qgikkfaxDwYZhSIF2jQ/3E45Ojo5B08.jpg?size=1080x1080&amp;quality=95&amp;sign=9255b2571535ab4128e5c60d078f0b53&amp;type=album"/>
          <p:cNvPicPr/>
          <p:nvPr/>
        </p:nvPicPr>
        <p:blipFill>
          <a:blip r:embed="rId3"/>
          <a:srcRect l="0" t="5939" r="0" b="14908"/>
          <a:stretch/>
        </p:blipFill>
        <p:spPr>
          <a:xfrm>
            <a:off x="2857680" y="214200"/>
            <a:ext cx="3609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8" descr="https://sun9-41.userapi.com/impf/6AcyMygP-NxINeNZC_HYAxLri-WTOh6HkAuyaQ/LupWI0yPdiw.jpg?size=1080x1080&amp;quality=95&amp;sign=d2398956e9cafe20f7022feadb8afdc4&amp;type=album"/>
          <p:cNvPicPr/>
          <p:nvPr/>
        </p:nvPicPr>
        <p:blipFill>
          <a:blip r:embed="rId1"/>
          <a:srcRect l="0" t="0" r="0" b="14285"/>
          <a:stretch/>
        </p:blipFill>
        <p:spPr>
          <a:xfrm>
            <a:off x="214200" y="1714680"/>
            <a:ext cx="4214880" cy="44290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9" descr="https://sun9-8.userapi.com/impf/CgYLgXgJO3N0QU8cleRavCtdKPesqA4xO-_E1A/iXsqYkof1C4.jpg?size=1080x1080&amp;quality=95&amp;sign=d9938575420a67c1e32969055cec6952&amp;type=album"/>
          <p:cNvPicPr/>
          <p:nvPr/>
        </p:nvPicPr>
        <p:blipFill>
          <a:blip r:embed="rId2"/>
          <a:srcRect l="0" t="3685" r="0" b="13389"/>
          <a:stretch/>
        </p:blipFill>
        <p:spPr>
          <a:xfrm>
            <a:off x="4500720" y="171468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кладыши нейропланшет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040" y="1643040"/>
            <a:ext cx="73724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смотр видео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мероприятия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480" y="1071360"/>
            <a:ext cx="86439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монстрировать опыт работы через игры с нейропалншетом,  способствующие развитию и активизации познавательных процессов как: внимание, память, мышление, воображение, речь, развитие межполушарного взаимодействия, пространственной ориентации и зрительной координ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с преимуществами использования нейроигр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ть понятие нейроигр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казать о пособии «Нейропланшет» (для кого разработано и на что направленно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демонстрировать элементы видео с занятий с использованием нейропланшет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знакомить непосредственно на практике с нейропланшето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400" y="428400"/>
            <a:ext cx="84294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 видом деятельности детей дошкольного возраста является, конечно же, игра. А нейроигры являются доступным средством, позволяющим создать новые нейронные связи и улучшить работу головного мозга, отвечающего за развитие психических процессов и интеллекта.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речевыми нарушениями часто бывают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неустойчивой психикой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аются нестабильное эмоциональное состояние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иженная работоспособность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страя утомляемость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мы все используем нейропсихологические упражнения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йроигры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− это эффективнейшая методика, позволяющая без использования медикаментов, помочь детям при нескольких видах нарушени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имущества использования нейроигр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гровая форма обучения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эмоциональная привлекательность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ногофункциональность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втоматизация звуков в сочетании с двигательной активностью, а не статичное выполнение заданий только за столом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ормирование стойкой мотивации и произвольных познавательных интересов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ормирование партнерского взаимодействия между ребенком и педагогом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ктивизация работы с родителями, повышение компетентности родителей в коррекционно-развивающем процесс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двигательные упражнения, которые задействуют мозг малыша, влияют на концентрацию внимания, память, речь и работоспособность.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могают провести диагностику развития ребенка психических процессов головного мозга, понять сильные и слабые стороны малыша, улучшить учебные навык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ван Петрович Павл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Руки учат голову, затем поумневшая голова учит руки, а умелые руки снова способствуют развитию мозга»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Содержимое 5" descr="https://www.istmira.com/uploads/posts/2019-03/1553025607_ipavlov.png"/>
          <p:cNvPicPr/>
          <p:nvPr/>
        </p:nvPicPr>
        <p:blipFill>
          <a:blip r:embed="rId1"/>
          <a:stretch/>
        </p:blipFill>
        <p:spPr>
          <a:xfrm>
            <a:off x="4933800" y="185904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ревянный нейропланшет с кожаными мешочками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3840" y="144792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разработано  с учетом возрастных и интеллектуальных потребностей детей дошкольного и младшего школьного возраста. В данном пособии собран ряд заданий и игр,  способствующих развитию и активизации познавательных процессов как: внимание, память, мышление, воображение, речь, развитие межполушарного взаимодействия, пространственной ориентации и зрительной координации.</a:t>
            </a:r>
            <a:br>
              <a:rPr sz="2600"/>
            </a:b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Рисунок 4" descr="https://sun9-88.userapi.com/impf/5b9haiUQltEsLZ3Y1cItnnIvR9Xztc57bcGs5Q/4g4HT6c80mI.jpg?size=1080x1080&amp;quality=95&amp;sign=9153e022781da1cfcf8789af3b843317&amp;type=album"/>
          <p:cNvPicPr/>
          <p:nvPr/>
        </p:nvPicPr>
        <p:blipFill>
          <a:blip r:embed="rId1"/>
          <a:stretch/>
        </p:blipFill>
        <p:spPr>
          <a:xfrm>
            <a:off x="4786200" y="1500120"/>
            <a:ext cx="4143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тегория дете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9680" y="1785600"/>
            <a:ext cx="81867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трудностями обучения и проблемами поведения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трудно бывает сосредоточиться на занятии, упорядочить и запомнить информацию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быстро переключаться с одного задания на друго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дефицитом внима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активностью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ой импульсивностью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зличными задержками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ми психического развит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кладыши нейропланшет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9" name="Рисунок 5" descr="https://sun9-65.userapi.com/impf/N9Z5u2UjgIsVPXvU4wGh2RVulqw3Hm4y6_4w2Q/gtDLToSRYY0.jpg?size=1080x1080&amp;quality=95&amp;sign=4e0560a90712b7b3639a27cd77f652bb&amp;type=album"/>
          <p:cNvPicPr/>
          <p:nvPr/>
        </p:nvPicPr>
        <p:blipFill>
          <a:blip r:embed="rId1"/>
          <a:srcRect l="4010" t="4010" r="3745" b="3745"/>
          <a:stretch/>
        </p:blipFill>
        <p:spPr>
          <a:xfrm>
            <a:off x="4714920" y="1571760"/>
            <a:ext cx="4143240" cy="428616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6" descr="https://sun9-60.userapi.com/impf/MTyL1pKrTNH7H1TwmYbMrQ-bq_ikH4a_NXzFDg/0RZoNuVWjrU.jpg?size=1080x1080&amp;quality=95&amp;sign=814076f94d7b67443a1affb7cc6ebb1a&amp;type=album"/>
          <p:cNvPicPr/>
          <p:nvPr/>
        </p:nvPicPr>
        <p:blipFill>
          <a:blip r:embed="rId2"/>
          <a:srcRect l="4689" t="3125" r="7815" b="9375"/>
          <a:stretch/>
        </p:blipFill>
        <p:spPr>
          <a:xfrm>
            <a:off x="214200" y="1571760"/>
            <a:ext cx="4357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20:47Z</dcterms:created>
  <dc:creator>Юрий</dc:creator>
  <dc:description/>
  <dc:language>en-US</dc:language>
  <cp:lastModifiedBy>Secretar</cp:lastModifiedBy>
  <dcterms:modified xsi:type="dcterms:W3CDTF">2022-03-29T13:39:25Z</dcterms:modified>
  <cp:revision>234</cp:revision>
  <dc:subject/>
  <dc:title>Характер человека</dc:title>
</cp:coreProperties>
</file>