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57E-E567-4C8E-9A0E-6BE08354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3FF-680F-4628-A7E1-6CEDACA3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EE8-3912-44B3-8B27-C3FD8EDD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B19-7C35-4D5B-BA75-E61A8583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DA27-61E3-455B-8B75-6B1DCF8E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406F-36FF-45CE-A588-1FAF0550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7587-1891-4533-85DE-E0153412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5582-891A-4FCA-B97F-CDAAA1A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1442-5447-417B-9629-56A287A5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3BA1-8392-4FF7-BCE5-735A15DE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56CA-58C8-4AE8-90DB-9E58694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A1B-17F5-45BF-8C6B-822343E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2F8-B263-4F32-B075-16C6D321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A998-B3AF-45DB-8F48-67F791C0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70CC-BB27-4036-B608-81DE5642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6B8B-111D-4929-A60D-04407986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7BE1-61F0-47EE-B04F-5D17F093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A53F-363E-4575-AFFD-72C68C0A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EEC1-7D07-445D-813E-14AAE5E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C200-7194-4EA5-96A8-A7034AAA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DCE8-AB61-409D-9A5B-62A8E2AE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5A42-21F8-4DB4-8067-B3AF54C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7F3-A8F3-46A0-8BBA-6FBBC245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CAD6-FF3E-4492-B91E-1D830FC7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E368-DE3D-4A30-ACFD-559A72BC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537D-D8AF-49B8-B8ED-386661E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7DF2-3E34-409C-BF83-03FB76B5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06EC-15C0-4829-8C7C-E79443D2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5945-4991-419F-903C-7573E001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9EB4-C76A-43E7-B7DE-41B35118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4C60-F8A6-46FB-90E3-1A850411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F31F0-54E8-4737-B67E-43CE18D2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FAA80-5604-4FDA-A80C-05763B24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22D-F3A9-4844-B98D-FD9F3EEC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A0E0D-F0BA-403C-BD70-359553C6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A849-7D25-4371-B5CE-7E36C90F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3F1C-2F8B-4A3E-8911-FB6AA90D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C2F4-791F-4821-87F9-44D92CB6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6FD5F-47D8-44F7-A3F3-8EA12DB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D3EA-D3D7-4C7E-8B53-AE7CD0E4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141E-287C-47B4-9DF3-E7DBE6E3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1B614-F236-48B1-A08B-E8BF4692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F6219-81B9-4CC2-BAAE-CFAEE97C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7621-7181-41C1-9D2A-C3B23B6C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B83-7BE0-4486-A233-0B13E875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2041-B8EF-4CBD-9C7F-C87FCBCF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3F083-7AA6-407A-9EAB-7EA107F2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B969-0E69-438A-9A26-A9D628B0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612D4-6F07-434F-9F5F-9EDA4B3B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8BA3-3E5F-4D27-B90A-FE6D8CED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956E-19F0-4103-B0F3-D879D63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E27D-879E-41A8-B1C5-BE2F13F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313BF-9D51-41A3-8B6C-A22F387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EE9D-63A5-4637-9A9B-8E0D0A83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E79C-22B4-4152-B802-B0B44CEC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63A-3DF9-4B18-B9C1-7A53D32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FC0F-731D-457D-8F9F-4989894E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BAC-0F31-4AD9-9D23-CA93091A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CF4-F450-4DE9-95C2-E7B2644B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4B1-1D64-43DF-88D5-A6ACAC8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83C9-B1E2-4E71-9B5E-0CF3439938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2B1-6A7E-4903-BFDC-EB91E2A16F8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7C45-E5D5-4064-BAFD-A3D65C7B747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1A8A-A72F-4325-A4A0-21D36791210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5F69-88F0-4C79-A2EE-BAE42C86D3C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Блок-схема: перфолента 4"/>
          <p:cNvSpPr/>
          <p:nvPr/>
        </p:nvSpPr>
        <p:spPr>
          <a:xfrm>
            <a:off x="468360" y="765000"/>
            <a:ext cx="8172360" cy="5759640"/>
          </a:xfrm>
          <a:prstGeom prst="flowChartPunchedTape">
            <a:avLst/>
          </a:prstGeom>
          <a:solidFill>
            <a:srgbClr val="b3d6ac"/>
          </a:solidFill>
          <a:ln w="42480">
            <a:solidFill>
              <a:srgbClr val="bfa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971640" y="184464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Основ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равильного питания младшего школьника/  дошколь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643280" y="5805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 Трухина Зинаид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veterivoda.ru/wp-content/uploads/fruitbasket.jpg"/>
          <p:cNvPicPr/>
          <p:nvPr/>
        </p:nvPicPr>
        <p:blipFill>
          <a:blip r:embed="rId1"/>
          <a:srcRect l="0" t="7942" r="0" b="0"/>
          <a:stretch/>
        </p:blipFill>
        <p:spPr>
          <a:xfrm>
            <a:off x="395280" y="3860640"/>
            <a:ext cx="4248000" cy="2997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http://dreempics.com/img/picture/Jul/17/1bfc24b148725d347f2779f6e07d8565/mini_5.jpg"/>
          <p:cNvPicPr/>
          <p:nvPr/>
        </p:nvPicPr>
        <p:blipFill>
          <a:blip r:embed="rId2"/>
          <a:stretch/>
        </p:blipFill>
        <p:spPr>
          <a:xfrm>
            <a:off x="5543640" y="3860640"/>
            <a:ext cx="3600360" cy="2686320"/>
          </a:xfrm>
          <a:prstGeom prst="rect">
            <a:avLst/>
          </a:prstGeom>
          <a:ln w="0">
            <a:noFill/>
          </a:ln>
        </p:spPr>
      </p:pic>
      <p:sp>
        <p:nvSpPr>
          <p:cNvPr id="270" name="Блок-схема: перфолента 5"/>
          <p:cNvSpPr/>
          <p:nvPr/>
        </p:nvSpPr>
        <p:spPr>
          <a:xfrm>
            <a:off x="755640" y="333360"/>
            <a:ext cx="7956720" cy="1165320"/>
          </a:xfrm>
          <a:prstGeom prst="flowChartPunchedTape">
            <a:avLst/>
          </a:prstGeom>
          <a:solidFill>
            <a:srgbClr val="c4e1f2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925200" y="620640"/>
            <a:ext cx="77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вощи, ягоды и фрукты – витаминные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395280" y="1268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Фрукты содержат много незамени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итаминов и минер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могающих сохранить иммунит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этому они должны в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рацион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5435640" y="1628640"/>
            <a:ext cx="370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алаты  из зелени с растительными  масл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олжны быть в рационе питания  ежедне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http://img.7ya.ru/pub/img/19474/155314634.jpg"/>
          <p:cNvPicPr/>
          <p:nvPr/>
        </p:nvPicPr>
        <p:blipFill>
          <a:blip r:embed="rId1"/>
          <a:srcRect l="8403" t="12599" r="0" b="0"/>
          <a:stretch/>
        </p:blipFill>
        <p:spPr>
          <a:xfrm>
            <a:off x="5651640" y="1916280"/>
            <a:ext cx="3141360" cy="4495680"/>
          </a:xfrm>
          <a:prstGeom prst="rect">
            <a:avLst/>
          </a:prstGeom>
          <a:ln w="0">
            <a:noFill/>
          </a:ln>
        </p:spPr>
      </p:pic>
      <p:sp>
        <p:nvSpPr>
          <p:cNvPr id="275" name="Блок-схема: перфолента 5"/>
          <p:cNvSpPr/>
          <p:nvPr/>
        </p:nvSpPr>
        <p:spPr>
          <a:xfrm>
            <a:off x="826920" y="549360"/>
            <a:ext cx="7345440" cy="1439640"/>
          </a:xfrm>
          <a:prstGeom prst="flowChartPunchedTape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324000" y="1989000"/>
            <a:ext cx="741672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Перед едой мойте руки с мы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Фрукты овощи надо хорошо м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Не торопись! Ешь маленькими кусочками, 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тщательно пережёвывай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пищу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  с закрытым 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Соблюдай режим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Во время еды не разговаривай и не чит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- Не переедай! Ешь в ме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349640" y="836640"/>
            <a:ext cx="45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олотые правила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Блок-схема: перфолента 6"/>
          <p:cNvSpPr/>
          <p:nvPr/>
        </p:nvSpPr>
        <p:spPr>
          <a:xfrm>
            <a:off x="1908000" y="404640"/>
            <a:ext cx="4967640" cy="1165320"/>
          </a:xfrm>
          <a:prstGeom prst="flowChartPunchedTape">
            <a:avLst/>
          </a:prstGeom>
          <a:solidFill>
            <a:srgbClr val="c4e1f2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аконы детского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3276720" y="1557360"/>
            <a:ext cx="53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8542"/>
                </a:solidFill>
                <a:latin typeface="Arial"/>
              </a:rPr>
              <a:t>Питание ребенка должно быть достаточным, разнообразным и полноц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908000" y="2924280"/>
            <a:ext cx="64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6b77"/>
                </a:solidFill>
                <a:latin typeface="Arial"/>
              </a:rPr>
              <a:t>Пища должна содержать необходимые организму питательн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6b77"/>
                </a:solidFill>
                <a:latin typeface="Arial"/>
              </a:rPr>
              <a:t>и  миниралы, а также достаточное количество незаменимых аминокисл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755640" y="472428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е следует использовать какие-либо ограничительные диеты в питании ребенка. Организм ребенка сам определит, в чем он более всего нужд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Горизонтальный свиток 6"/>
          <p:cNvSpPr/>
          <p:nvPr/>
        </p:nvSpPr>
        <p:spPr>
          <a:xfrm>
            <a:off x="826920" y="0"/>
            <a:ext cx="7345440" cy="1484280"/>
          </a:xfrm>
          <a:prstGeom prst="horizontalScroll">
            <a:avLst>
              <a:gd name="adj" fmla="val 12500"/>
            </a:avLst>
          </a:prstGeom>
          <a:solidFill>
            <a:srgbClr val="c4e1f2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4500720" y="1628640"/>
            <a:ext cx="3958920" cy="4680000"/>
          </a:xfrm>
          <a:prstGeom prst="rect">
            <a:avLst/>
          </a:prstGeom>
          <a:solidFill>
            <a:srgbClr val="d9ead5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684360" y="1484280"/>
            <a:ext cx="3456000" cy="5040360"/>
          </a:xfrm>
          <a:prstGeom prst="rect">
            <a:avLst/>
          </a:prstGeom>
          <a:solidFill>
            <a:srgbClr val="d9ead5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авильное питание – залог 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826920" y="1557360"/>
            <a:ext cx="302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циональное питание, при котором пища содержит все необходимые пищевые вещества в соответствующем количестве и правильном соотношении, обеспечивает человеку оптимальный уровень здоровья и высокую работоспособ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 важна роль правильного питания в детском возра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4859280" y="1700280"/>
            <a:ext cx="34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зрослый организм нуждается в пище в основном только как в источнике энергии и средстве для поддержания обмена веществ, то ребенку нужна пища для обеспечения интенсивных процессов роста 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Блок-схема: перфолента 5"/>
          <p:cNvSpPr/>
          <p:nvPr/>
        </p:nvSpPr>
        <p:spPr>
          <a:xfrm>
            <a:off x="900000" y="260280"/>
            <a:ext cx="7056720" cy="1152720"/>
          </a:xfrm>
          <a:prstGeom prst="flowChartPunchedTape">
            <a:avLst/>
          </a:prstGeom>
          <a:solidFill>
            <a:srgbClr val="f3ead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124000" y="907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395280" y="1494360"/>
            <a:ext cx="8353440" cy="49726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323232"/>
                </a:solidFill>
                <a:latin typeface="Tahom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07f09"/>
                </a:solidFill>
                <a:latin typeface="Tahoma"/>
                <a:ea typeface="Times New Roman"/>
              </a:rPr>
              <a:t>Регулярност</a:t>
            </a:r>
            <a:r>
              <a:rPr b="0" lang="ru-RU" sz="2000" spc="-1" strike="noStrike">
                <a:solidFill>
                  <a:srgbClr val="f07f09"/>
                </a:solidFill>
                <a:latin typeface="Tahoma"/>
                <a:ea typeface="Times New Roman"/>
              </a:rPr>
              <a:t>ь</a:t>
            </a:r>
            <a:r>
              <a:rPr b="0" lang="ru-RU" sz="2000" spc="-1" strike="noStrike">
                <a:solidFill>
                  <a:srgbClr val="323232"/>
                </a:solidFill>
                <a:latin typeface="Tahom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– то есть режим питания. У ребенка должно быть сформировано представление о том, что ежедневная еда – это обязательно завтрак, обед, полдник и уж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b050"/>
                </a:solidFill>
                <a:latin typeface="Tahoma"/>
                <a:ea typeface="Times New Roman"/>
              </a:rPr>
              <a:t>Разнообразие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дача педагогов и родителей сформировать разнообразный вкусовой кругозор, чтобы ему нравились разные продукты и блюда. Надо помочь понять, что вкусная еда - не всегда полезная 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604a7b"/>
                </a:solidFill>
                <a:latin typeface="Tahom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04a7b"/>
                </a:solidFill>
                <a:latin typeface="Tahoma"/>
                <a:ea typeface="Times New Roman"/>
              </a:rPr>
              <a:t>Адекватнос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– это восполнение энергозатрат организма. У детей необходимо сформировать представление о том, какое количество пищи достаточно, недостаточно и избыто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953735"/>
                </a:solidFill>
                <a:latin typeface="Tahom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71f28"/>
                </a:solidFill>
                <a:latin typeface="Tahoma"/>
                <a:ea typeface="Times New Roman"/>
              </a:rPr>
              <a:t>Безопасность 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Безопасность питания обеспечивают 3 условия – это соблюдение правил личной гигиены, умение различать свежие и несвежие продукты, осторожное обращение с незнакомыми проду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e46c0a"/>
                </a:solidFill>
                <a:latin typeface="Tahoma"/>
                <a:ea typeface="Times New Roman"/>
              </a:rPr>
              <a:t>Удовольствие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ем пищи должен проходить в теплой, уютной атмосфере, за красиво сервированным ст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 принципов  правильного пита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Блок-схема: перфолента 4"/>
          <p:cNvSpPr/>
          <p:nvPr/>
        </p:nvSpPr>
        <p:spPr>
          <a:xfrm>
            <a:off x="1042920" y="260280"/>
            <a:ext cx="6388200" cy="1236600"/>
          </a:xfrm>
          <a:prstGeom prst="flowChartPunchedTape">
            <a:avLst/>
          </a:prstGeom>
          <a:solidFill>
            <a:srgbClr val="dfd7e7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Картинки по запросу пищевая пирамида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1476360" y="476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ирамида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Блок-схема: перфолента 10"/>
          <p:cNvSpPr/>
          <p:nvPr/>
        </p:nvSpPr>
        <p:spPr>
          <a:xfrm>
            <a:off x="900000" y="404640"/>
            <a:ext cx="7344000" cy="1136880"/>
          </a:xfrm>
          <a:prstGeom prst="flowChartPunchedTape">
            <a:avLst/>
          </a:prstGeom>
          <a:solidFill>
            <a:srgbClr val="c4e1f2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сновные компоненты пи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Прямая со стрелкой 4"/>
          <p:cNvCxnSpPr/>
          <p:nvPr/>
        </p:nvCxnSpPr>
        <p:spPr>
          <a:xfrm>
            <a:off x="6804000" y="1844280"/>
            <a:ext cx="432720" cy="3610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9" name="Прямая со стрелкой 6"/>
          <p:cNvCxnSpPr/>
          <p:nvPr/>
        </p:nvCxnSpPr>
        <p:spPr>
          <a:xfrm>
            <a:off x="4571640" y="1989000"/>
            <a:ext cx="1080" cy="6483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40" name="Прямая со стрелкой 12"/>
          <p:cNvCxnSpPr/>
          <p:nvPr/>
        </p:nvCxnSpPr>
        <p:spPr>
          <a:xfrm flipH="1">
            <a:off x="1979280" y="1844640"/>
            <a:ext cx="504000" cy="432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1" name="TextBox 17"/>
          <p:cNvSpPr/>
          <p:nvPr/>
        </p:nvSpPr>
        <p:spPr>
          <a:xfrm>
            <a:off x="1335600" y="2205000"/>
            <a:ext cx="1310040" cy="5814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Бел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4074120" y="2565360"/>
            <a:ext cx="1160640" cy="5205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Жи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9"/>
          <p:cNvSpPr/>
          <p:nvPr/>
        </p:nvSpPr>
        <p:spPr>
          <a:xfrm>
            <a:off x="6443640" y="2133720"/>
            <a:ext cx="1440000" cy="4597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Угле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1547640" y="3429000"/>
            <a:ext cx="583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6431"/>
                </a:solidFill>
                <a:latin typeface="Calibri"/>
              </a:rPr>
              <a:t>Оптимальным считается соотношение  белков, жиров и углеводов, близ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 : 1 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1062000" y="5373720"/>
            <a:ext cx="7839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6431"/>
                </a:solidFill>
                <a:latin typeface="Arial"/>
              </a:rPr>
              <a:t>Жиры обеспечивают до 45 % потребности в энер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6431"/>
                </a:solidFill>
                <a:latin typeface="Arial"/>
              </a:rPr>
              <a:t>Соотношение растительных и животных жиров: 1/3 – 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1" descr="00011146"/>
          <p:cNvPicPr/>
          <p:nvPr/>
        </p:nvPicPr>
        <p:blipFill>
          <a:blip r:embed="rId1"/>
          <a:srcRect l="0" t="26537" r="0" b="0"/>
          <a:stretch/>
        </p:blipFill>
        <p:spPr>
          <a:xfrm>
            <a:off x="7380360" y="285264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00012462"/>
          <p:cNvPicPr/>
          <p:nvPr/>
        </p:nvPicPr>
        <p:blipFill>
          <a:blip r:embed="rId2"/>
          <a:stretch/>
        </p:blipFill>
        <p:spPr>
          <a:xfrm>
            <a:off x="468360" y="3860640"/>
            <a:ext cx="2158920" cy="2376720"/>
          </a:xfrm>
          <a:prstGeom prst="rect">
            <a:avLst/>
          </a:prstGeom>
          <a:ln w="0">
            <a:noFill/>
          </a:ln>
        </p:spPr>
      </p:pic>
      <p:sp>
        <p:nvSpPr>
          <p:cNvPr id="248" name="Блок-схема: перфолента 4"/>
          <p:cNvSpPr/>
          <p:nvPr/>
        </p:nvSpPr>
        <p:spPr>
          <a:xfrm>
            <a:off x="971640" y="404640"/>
            <a:ext cx="7056360" cy="936720"/>
          </a:xfrm>
          <a:prstGeom prst="flowChartPunchedTape">
            <a:avLst/>
          </a:prstGeom>
          <a:solidFill>
            <a:srgbClr val="dfd7e7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403280" y="620640"/>
            <a:ext cx="66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авильное питание – залог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971640" y="2997360"/>
            <a:ext cx="259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Arial"/>
              </a:rPr>
              <a:t>Полезные продукты</a:t>
            </a:r>
            <a:r>
              <a:rPr b="1" lang="ru-RU" sz="2400" spc="-1" strike="noStrike">
                <a:solidFill>
                  <a:srgbClr val="9f293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мясо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я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м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ма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003640" y="2492280"/>
            <a:ext cx="3313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Arial"/>
              </a:rPr>
              <a:t>Продукты ограниченного 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кон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печ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морож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т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чип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пепси-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"/>
              </a:rPr>
              <a:t>шоко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 rot="19141800">
            <a:off x="1882800" y="18838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6431"/>
                </a:solidFill>
                <a:latin typeface="Arial"/>
              </a:rPr>
              <a:t>Дорога к здоров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 rot="2049000">
            <a:off x="4778640" y="1727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6431"/>
                </a:solidFill>
                <a:latin typeface="Arial"/>
              </a:rPr>
              <a:t>Дорога к ожи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5"/>
          <p:cNvSpPr/>
          <p:nvPr/>
        </p:nvSpPr>
        <p:spPr>
          <a:xfrm>
            <a:off x="684360" y="692280"/>
            <a:ext cx="49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6431"/>
                </a:solidFill>
                <a:latin typeface="Arial"/>
              </a:rPr>
              <a:t>Кальций – один из важных миниралов в организме человека. Наряду с фосфором он  обеспечивает прочность зубов и костей, способствует быстрому заживлению 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3780000" y="3860640"/>
            <a:ext cx="48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6431"/>
                </a:solidFill>
                <a:latin typeface="Arial"/>
              </a:rPr>
              <a:t>Богатые магнием продукты обеспечивают  ритмичную работу сердечной  мышцы, помогают снять  депрессию и раздражительность, поддерживают здоровое состояние зу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http://ic.pics.livejournal.com/sheil_la/12653656/23192/23192_900.jpg"/>
          <p:cNvPicPr/>
          <p:nvPr/>
        </p:nvPicPr>
        <p:blipFill>
          <a:blip r:embed="rId1"/>
          <a:stretch/>
        </p:blipFill>
        <p:spPr>
          <a:xfrm>
            <a:off x="5508720" y="83664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dom-semua.ru/images/pitanie/magniy.jpg"/>
          <p:cNvPicPr/>
          <p:nvPr/>
        </p:nvPicPr>
        <p:blipFill>
          <a:blip r:embed="rId2"/>
          <a:stretch/>
        </p:blipFill>
        <p:spPr>
          <a:xfrm>
            <a:off x="755640" y="4005360"/>
            <a:ext cx="2629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Блок-схема: перфолента 3"/>
          <p:cNvSpPr/>
          <p:nvPr/>
        </p:nvSpPr>
        <p:spPr>
          <a:xfrm>
            <a:off x="468360" y="404640"/>
            <a:ext cx="7343640" cy="1656000"/>
          </a:xfrm>
          <a:prstGeom prst="flowChartPunchedTape">
            <a:avLst/>
          </a:prstGeom>
          <a:solidFill>
            <a:srgbClr val="dfd7e7"/>
          </a:solidFill>
          <a:ln w="42480">
            <a:solidFill>
              <a:srgbClr val="bfa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1579320" y="90792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Хлеб да каша -  пища н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1258920" y="2060640"/>
            <a:ext cx="3097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6431"/>
                </a:solidFill>
                <a:latin typeface="Arial"/>
              </a:rPr>
              <a:t>Хлеб содержит белки, жиры, витамины, минера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4140360" y="5084640"/>
            <a:ext cx="399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6431"/>
                </a:solidFill>
                <a:latin typeface="Arial"/>
              </a:rPr>
              <a:t>Каша улучшает пищеварение, работу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http://cdn01.ru/files/users/images/84/39/8439b4d7f2b5c9049fd4cec138599684.jpg"/>
          <p:cNvPicPr/>
          <p:nvPr/>
        </p:nvPicPr>
        <p:blipFill>
          <a:blip r:embed="rId1"/>
          <a:stretch/>
        </p:blipFill>
        <p:spPr>
          <a:xfrm>
            <a:off x="0" y="4508640"/>
            <a:ext cx="4092480" cy="2057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vari-varenie.ru/pics/khleb-v-khlebopechke.jpg"/>
          <p:cNvPicPr/>
          <p:nvPr/>
        </p:nvPicPr>
        <p:blipFill>
          <a:blip r:embed="rId2"/>
          <a:stretch/>
        </p:blipFill>
        <p:spPr>
          <a:xfrm>
            <a:off x="5076720" y="2349360"/>
            <a:ext cx="32576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http://infosmi.net/images/stories/articles/2014/Zdorovie/03-2014/03/vitamins_03.jpg"/>
          <p:cNvPicPr/>
          <p:nvPr/>
        </p:nvPicPr>
        <p:blipFill>
          <a:blip r:embed="rId1"/>
          <a:srcRect l="7411" t="0" r="4405" b="0"/>
          <a:stretch/>
        </p:blipFill>
        <p:spPr>
          <a:xfrm>
            <a:off x="2340000" y="1268280"/>
            <a:ext cx="6480000" cy="522000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перфолента 4"/>
          <p:cNvSpPr/>
          <p:nvPr/>
        </p:nvSpPr>
        <p:spPr>
          <a:xfrm rot="7479600">
            <a:off x="-426960" y="2493720"/>
            <a:ext cx="4319640" cy="1224000"/>
          </a:xfrm>
          <a:prstGeom prst="flowChartPunchedTape">
            <a:avLst/>
          </a:prstGeom>
          <a:solidFill>
            <a:srgbClr val="eaeae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324000" y="260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Огромное значение для нормального обмена веществ и жизнедеятельности организма  име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 rot="17985600">
            <a:off x="324000" y="2788560"/>
            <a:ext cx="276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7:39:16Z</dcterms:created>
  <dc:creator>Вован</dc:creator>
  <dc:description/>
  <dc:language>en-US</dc:language>
  <cp:lastModifiedBy>Вован</cp:lastModifiedBy>
  <dcterms:modified xsi:type="dcterms:W3CDTF">2017-03-13T16:50:54Z</dcterms:modified>
  <cp:revision>37</cp:revision>
  <dc:subject/>
  <dc:title>Слайд 1</dc:title>
</cp:coreProperties>
</file>