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11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8AA-F981-494C-9E80-1BBB1105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0B3-0706-40FA-96DE-C9C219E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2CA-7D90-413F-A9AA-239D9E60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ADA-6D01-474A-98A6-266940E4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ECB2-30F2-47A1-9735-B65B914A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53CA-26F8-49CC-AF9E-1A96E251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69F-555A-4074-91E3-C6C10DC3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19F-A42D-4585-B0EC-690E2B2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E97-40EC-4DF1-98EC-6C536B69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0E93-19F4-464F-A7E3-B021376B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99DD-AD70-4E16-928F-2AC4987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D79-426B-45C5-97FA-D3B0300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B01C-BE1F-4D0B-8232-677AE0C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40A4-3E06-451A-BB4D-B12321B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23B-BAB8-495C-AF92-54C4ECA3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A33F-2CF3-482A-A88C-AD64F56D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426F-2264-489E-8FC8-0B5BF81F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6AC4-AA6A-4304-A0E6-7D727D0D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995A-9337-47F4-B716-D20A1DD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4893-707A-4E5A-AD83-0313244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08C0-98A8-4AB2-8A65-7189C61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BBBF-B993-4867-8D58-EF7DB1D0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1CD-7CAC-40B5-A540-F3FF59FF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A362-4342-4D60-BFB3-3C034119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B23B-914D-4D6F-BE74-4E3F11F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0C7A-2996-448B-A3F5-D543F9E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E465-3E89-4FA6-A15E-8C08B70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FBC8-1068-4981-99A3-BBE05F3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30C6-058C-41CE-8D8C-8BAD0686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B8B3-7D79-4E41-A053-16C26E03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F2C3-6C67-4299-84F4-A59804C2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56A4-F402-491F-873E-B017477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33AE-6CF7-4636-8B90-479AF3E4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378-AFBB-4F5E-9530-9FA9A94A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E721-9FAE-428D-B9F5-C1CF6F5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741A-6FA5-44F0-8BA9-F276346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4C4A-33DC-4FA9-8A1C-0C47F51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E90F-A595-4A8B-99DE-6A13F40F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2F56-19FD-471E-8860-1883F4D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5ABB-B3BB-444E-A3B5-96D93F6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B0A2-A19E-4F4B-B06D-7B74DDB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33180-0E44-4747-AE99-585A9DCD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7566-C2BA-46E0-ACF6-D3F0DB7A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1B30-F804-4A05-A10E-C5F36C15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CA0-1885-4975-B980-CD596A4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3616E-FF30-4FEE-9C35-DD45A6F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D9D1-6C4A-4AB4-AAF9-1788763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6B8A-C7D5-43C9-BB71-D7532E7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2576-1E90-41C9-90FD-0AC22888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7FEF-E31C-4A80-BF6D-AFD573DC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A81A-F3CD-419A-9686-D7037CA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9DFC-97E4-4925-A67D-4C7DE2F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0324-C381-4ABB-AEB7-12B4B47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BB09-2C40-40C9-AC64-E2094BB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D19E-B266-4ED3-884A-763A9755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86B-4245-4416-AC38-A6E48A72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F78A-D0C0-4A23-807D-F0D1B057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2D2B4-7381-46E4-9582-17F01707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2FA9-1878-4706-A43E-16C1295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3271-A849-4AB8-AF0E-0FE28242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8C11E-0EF7-40A0-8E7D-AD58029E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5626-6206-4DE7-A8BE-BB743C4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B3D5-51EF-4489-951D-824B0B73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31A2-CC3F-4C9C-A8B9-2811D99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77AB-8D23-4284-81A2-D5590976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E94E-3EC6-4480-A8E4-227F74E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38A-6268-4ADF-AB56-637A5F9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F816-E98F-4DED-9568-1664AA6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91356-86EC-46F7-86DF-FAE691D0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F68B-4840-4758-B075-DD5E6337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89E3-142F-40E3-9DD8-6054F964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8DFB-D03D-44F5-BD61-E0828A2B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3960-38F7-450F-8A6A-92812E9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9E716-C93E-480C-B78F-C2567DD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124A7-84A2-40BD-B6F9-1F0AB80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1EA3-87FB-49D2-878D-FF43EBC1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F778E-DEBC-4CD4-B15C-32B74CB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87A-3AF0-4190-AEA6-9C96186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E8038-F025-47FF-AF03-BB56C66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B0881-5C0C-4F4D-BDBE-46FF3E4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5C88-4D45-48F5-A7FF-715A7C88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4FD09-80DA-40D8-9F75-EB57AB31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B518-C67C-4C22-A00E-2CC468B5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6082-4A8F-4FCC-940C-50B0CD47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1EF65-69C4-4883-B09B-2843873B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721B1-21BE-4CEE-A7B7-C10CD37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5662-4AE1-49DA-83CD-7B9A844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AD45-756C-47C8-BFA8-6C0914D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A79-3837-4AD0-A002-98522F9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5983-3FAA-41FE-B061-C7515A6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798B9-1910-49E2-9437-FECCEC9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6E8E-6BF3-4C91-AE29-9ABDBBB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CA67-FF5E-4B44-96C3-89CFDE8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A681-F6E4-4F26-BF5D-ACE51E1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D36CE-29D9-44CB-865E-33FCD9CF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F99F-A9F1-4CEB-9121-ACCA0180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927C-6DB5-4593-949B-E57591156F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968-E353-4B91-8444-DC2C0AFD58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09FB-A5EC-4A01-9645-9E5B4E5F41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362A-DD6A-42F9-92F6-0DDAE9A71A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0E3-961D-42DC-B8E0-89FDD1D009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C9B-8D3A-410A-B3A8-927F096DBB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2C19-0EED-46B1-8E6D-8568AE90FF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E3E5-B49B-4AA1-8B87-7A6F9CD951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D:\6 СЕНТЯБРЯ\7! КРАСИВЫЕ ФОНЫ ФОТОШОП\Fon_Dlya_Ramok\k-48.jpg"/>
          <p:cNvPicPr/>
          <p:nvPr/>
        </p:nvPicPr>
        <p:blipFill>
          <a:blip r:embed="rId1"/>
          <a:stretch/>
        </p:blipFill>
        <p:spPr>
          <a:xfrm>
            <a:off x="1042920" y="549360"/>
            <a:ext cx="8101080" cy="6308640"/>
          </a:xfrm>
          <a:prstGeom prst="rect">
            <a:avLst/>
          </a:prstGeom>
          <a:ln w="0">
            <a:noFill/>
          </a:ln>
        </p:spPr>
      </p:pic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1255680" y="1841400"/>
            <a:ext cx="752328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042560" y="404280"/>
            <a:ext cx="789156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й группы сказок есть своя возрастная детская аудитор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3—5 лет наиболее понятны и близки сказки о животных 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о взаимодействии людей и животных. В этом возрасте де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идентифицируют себя с животными, легко перевоплощаются 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, копируя их манеру повед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5 лет, ребенок идентифицирует себя преимуществен 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ми персонажами: принцами, царевнами, солдатами 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равятся сказки о людях, потому что в этих история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ся рассказ о том, как человек познает ми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 сказкотерапии  можно работать с малышами от 3-х лет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кевич – Евстигнеева читает, что сказку, как лекарство, можн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с 4-х летнего возраста, потому, что результативны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м воздействия сказкотерапия становится только тогд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четко осознает отличие сказки и выдумки от жизни 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и. А у ребенка это осознание начинается как раз на рубеж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х л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Структура   сказкотерапевтического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занятия   содержит: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05228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 «входа в сказку»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трой на совместную работу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ередача волшебного  клубочка по кругу, проход через волшебный обруч,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ьная присказка: «Добрая волшебница в гости пригласила, двери в сказку нам тихонько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ткрыла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казка в гости к нам пришла, нам встречать ее пора!"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ую часть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едагог  рассказывает детям новую сказку, использует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е   приемы работы со сказкой (обсуждение, вопросы к детям, инсценирование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, рисование сказки)  Педагог обсуждает и анализирует вместе с детьми, в каких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х их жизни  они могут использовать тот опыт, что приобрели  сегодн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ирование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приобретенный опыт связать его с уже имеющимся  опытом. Воспитатель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 итоги занятия. Четко проговаривает последовательность происходившего на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х, отмечает отдельных детей за их заслуги, подчеркивает значимость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ого опыта, проговаривает конкретные ситуации реальной жизни, 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дети могут использовать опыт, что приобрели  сегодн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 «выхода из сказки». 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ти, стоя в кругу, проговаривают: «Мы берём с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ой  всё важное, что было сегодня с нами, всё, чему мы  научились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71640" y="981000"/>
          <a:ext cx="7993080" cy="5653080"/>
        </p:xfrm>
        <a:graphic>
          <a:graphicData uri="http://schemas.openxmlformats.org/drawingml/2006/table">
            <a:tbl>
              <a:tblPr/>
              <a:tblGrid>
                <a:gridCol w="2268360"/>
                <a:gridCol w="5724720"/>
              </a:tblGrid>
              <a:tr h="170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 – был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казки, встреча с ее героями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ую очередь подобрать героя, близкого ребенку по полу, возрасту, характеру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3-4 лет рекомендуют делать главными героями сказок игрушки, маленьких человечков и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ая с 5 лет – фей, волшебников, принцесс, принцев, солд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друг однажды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solidFill>
                      <a:srgbClr val="475a8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ой сталкивается с какой-то проблемой, конфликтом, совпадающей с проблемой ребенка. Описать жизнь героя в сказочной стране так, чтобы ребенок нашел сходство со своей жизнью, и приписать герою все переживания ребенка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solidFill>
                      <a:srgbClr val="475a8d">
                        <a:alpha val="20000"/>
                      </a:srgbClr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– за этого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о в чем состоит решение проблемы, и как это делают герои сказ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solidFill>
                      <a:srgbClr val="475a8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ои сказки справляются с трудност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solidFill>
                      <a:srgbClr val="475a8d">
                        <a:alpha val="20000"/>
                      </a:srgbClr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язка                                  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действий героев сказк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-» — герой, совершивший плохой поступок, наказа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 — герой, который проходит через все испытания, проявляет свои лучшие качества, вознагражд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язка  коррекционной  сказки должна быть позити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ль сей сказки такова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solidFill>
                      <a:srgbClr val="475a8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ои сказки извлекают уроки из своих действ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х жизнь радикально изменя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75a8d"/>
                      </a:solidFill>
                    </a:lnL>
                    <a:lnR w="5760">
                      <a:solidFill>
                        <a:srgbClr val="475a8d"/>
                      </a:solidFill>
                    </a:lnR>
                    <a:lnT w="5760">
                      <a:solidFill>
                        <a:srgbClr val="475a8d"/>
                      </a:solidFill>
                    </a:lnT>
                    <a:lnB w="5760">
                      <a:solidFill>
                        <a:srgbClr val="475a8d"/>
                      </a:solidFill>
                    </a:lnB>
                    <a:solidFill>
                      <a:srgbClr val="475a8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чинение сказок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того чтобы сказка или история обрела силу и оказала помощь, необходимо, чтобы сказочный сюжет должен разворачиваться в определенной последовательности: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br>
              <a:rPr sz="39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2" descr=""/>
          <p:cNvPicPr/>
          <p:nvPr/>
        </p:nvPicPr>
        <p:blipFill>
          <a:blip r:embed="rId1"/>
          <a:stretch/>
        </p:blipFill>
        <p:spPr>
          <a:xfrm>
            <a:off x="1427040" y="182520"/>
            <a:ext cx="757080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1"/>
          <p:cNvPicPr/>
          <p:nvPr/>
        </p:nvPicPr>
        <p:blipFill>
          <a:blip r:embed="rId2"/>
          <a:stretch/>
        </p:blipFill>
        <p:spPr>
          <a:xfrm>
            <a:off x="-39672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14200" y="285768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402920" y="188640"/>
            <a:ext cx="7497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i="1" lang="hr-HR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а - ложь, да в ней намек –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r>
              <a:rPr b="1" i="1" lang="hr-HR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ым молодцам урок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- это один из первых видов художественного творчества, 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м знакомится ребенок. Наверное, нет ни одного малыша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был бы равнодушен к сказк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казки полны народной мудрости, они помогают научитьс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другого человека, учат видеть добро и зло. Сказка помога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учиться справляться с трудностями и учит находить разны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  выхода из затруднительных положений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ремя рассказанная сказка может помочь малышу решить сво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ую проблему, обрести уверенность в себе, излечить детские страх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концов, сказки могут направить энергию ребенка в правильно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ло - русло самопознания и безграничного творче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Сказки могут помочь воспитать ум, дать ключи для того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  войти   в действительность новыми путями, може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очь ребёнку узнать мир  и одарить его воображение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. Родар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3" descr="D:\6 СЕНТЯБРЯ\5! КЛИП-АРТЫ\КЛИПАРТЫ ДЕТСКИЕ ))))\Klipart_Masha_i_Medved\3.png"/>
          <p:cNvPicPr/>
          <p:nvPr/>
        </p:nvPicPr>
        <p:blipFill>
          <a:blip r:embed="rId1"/>
          <a:srcRect l="0" t="0" r="5336" b="15480"/>
          <a:stretch/>
        </p:blipFill>
        <p:spPr>
          <a:xfrm>
            <a:off x="6948360" y="4292640"/>
            <a:ext cx="230364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WordArt 22"/>
          <p:cNvSpPr txBox="1"/>
          <p:nvPr/>
        </p:nvSpPr>
        <p:spPr>
          <a:xfrm>
            <a:off x="2987640" y="620640"/>
            <a:ext cx="34574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казкотерапи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76" name="Rectangle 23"/>
          <p:cNvSpPr/>
          <p:nvPr/>
        </p:nvSpPr>
        <p:spPr>
          <a:xfrm>
            <a:off x="468360" y="1341360"/>
            <a:ext cx="7275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одержимое 2"/>
          <p:cNvSpPr/>
          <p:nvPr/>
        </p:nvSpPr>
        <p:spPr>
          <a:xfrm>
            <a:off x="826920" y="1125360"/>
            <a:ext cx="81075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отерапия – один из видов  здоровьесберегающ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инновационным методом в работе с детьми, который, 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о и ненавязчиво воздействовать на ребенка при помощи сказки, ре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амые разные задачи. Сказка  является наиболее эффек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еренным способом и  средством воспитания и обучения  детей, 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из эффективных методов работы с детьми, испытывающими те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ные эмоциональные и поведенческие затруд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случаях уместно “лечение сказкой”? Оно необходимо, есл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наблюдаются эмоционально-личностные и повед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: агрессивность, тревожность, страхи, капризность, заст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уверенность в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 позволяет ребенку актуализировать,  осознать свои проблемы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ть различные пути   их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8207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c3300"/>
                </a:solidFill>
                <a:latin typeface="Corbel"/>
              </a:rPr>
              <a:t>                 </a:t>
            </a:r>
            <a:r>
              <a:rPr b="1" i="1" lang="ru-RU" sz="2900" spc="-1" strike="noStrike">
                <a:solidFill>
                  <a:srgbClr val="cc3300"/>
                </a:solidFill>
                <a:latin typeface="Corbel"/>
              </a:rPr>
              <a:t>Виды  сказок </a:t>
            </a:r>
            <a:br>
              <a:rPr sz="2900"/>
            </a:br>
            <a:r>
              <a:rPr b="1" i="1" lang="ru-RU" sz="2900" spc="-1" strike="noStrike">
                <a:solidFill>
                  <a:srgbClr val="cc3300"/>
                </a:solidFill>
                <a:latin typeface="Corbel"/>
              </a:rPr>
              <a:t>(классификация   Зинкевич  - Евстигнеевой):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Picture 4" descr="5 cka3ok"/>
          <p:cNvPicPr/>
          <p:nvPr/>
        </p:nvPicPr>
        <p:blipFill>
          <a:blip r:embed="rId1"/>
          <a:stretch/>
        </p:blipFill>
        <p:spPr>
          <a:xfrm>
            <a:off x="1476360" y="1197000"/>
            <a:ext cx="741672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rbel"/>
              </a:rPr>
              <a:t>Художественные    сказ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7850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Художественные  сказки делятся на народные   и авторск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 сказки  способствуют  воспитанию нравственных и эстетических чувств: взаимопомощи, поддержки, сопереживания, сочувствия, долга, ответственности и др. Так, в сказке «Репка» ярко отражается  то, что помощь и поддержка других люд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достигнуть цели, которая не по силам одном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мысль сказки «Маша и медведь - из любой трудной ситуации всегда можно найти выход, главное не сила, а смекал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2" descr="C:\Users\На\Desktop\1344598613_x_7f281fc0.jpg"/>
          <p:cNvPicPr/>
          <p:nvPr/>
        </p:nvPicPr>
        <p:blipFill>
          <a:blip r:embed="rId1"/>
          <a:stretch/>
        </p:blipFill>
        <p:spPr>
          <a:xfrm>
            <a:off x="3419640" y="4365720"/>
            <a:ext cx="31683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Дидактические  сказ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1125000"/>
            <a:ext cx="789156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 сказки используются для преподнесения детям новых для них знаний учебного характера. В этих сказках абстрактные для ребёнка символы: буквы, цифры, звуки  становятся одушевлёнными   и повествуют о новых для  ребёнка  понятиях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й материал, преподнесенный в контексте сказки  легче воспринимается ребенком, а значит, процесс обучения становится более эффектив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C:\Users\На\Desktop\i.jpg"/>
          <p:cNvPicPr/>
          <p:nvPr/>
        </p:nvPicPr>
        <p:blipFill>
          <a:blip r:embed="rId1"/>
          <a:stretch/>
        </p:blipFill>
        <p:spPr>
          <a:xfrm>
            <a:off x="1476360" y="407664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C:\Users\На\Desktop\77769609_12.png"/>
          <p:cNvPicPr/>
          <p:nvPr/>
        </p:nvPicPr>
        <p:blipFill>
          <a:blip r:embed="rId2"/>
          <a:stretch/>
        </p:blipFill>
        <p:spPr>
          <a:xfrm>
            <a:off x="5148360" y="4149720"/>
            <a:ext cx="295272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rbel"/>
              </a:rPr>
              <a:t>Диагностические   сказ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05228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 сказки позволяют определить налич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у ребёнка, а также определить его характер  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тому, что его окружает. Например, если ребёнок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ет предпочтение сказкам, где главным героем является зайка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сишка, то можно предположить, что он сам достаточ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енчивый, с повышенным  уровнем  тревож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сказка может способствовать выявлени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ребенка, о которых он не хочет или не может говори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у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2" descr="D:\6 СЕНТЯБРЯ\5! КЛИП-АРТЫ\КЛИПАРТЫ ДЕТСКИЕ ))))\Klipart_Masha_i_Medved\10.png"/>
          <p:cNvPicPr/>
          <p:nvPr/>
        </p:nvPicPr>
        <p:blipFill>
          <a:blip r:embed="rId1"/>
          <a:stretch/>
        </p:blipFill>
        <p:spPr>
          <a:xfrm>
            <a:off x="3419640" y="4149720"/>
            <a:ext cx="288108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rbe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Corbel"/>
              </a:rPr>
              <a:t>Психокоррекционные     сказ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77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коррекционные сказки помогают взрослому мягко влиять 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ребенка, «замещая» неэффективный  стиль поведения 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продуктивный и объясняя ребенку смысл происходящего, т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енавязчиво в сказочно-волшебной форме предлагается ребен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пример поведения, и нет ничего удивительного, чт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будет вести себя так же, как и сказочный герой. Он буде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ься пользоваться примером положительного героя в борьб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воими страхами и  проблемами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4" descr="03_1"/>
          <p:cNvPicPr/>
          <p:nvPr/>
        </p:nvPicPr>
        <p:blipFill>
          <a:blip r:embed="rId1"/>
          <a:stretch/>
        </p:blipFill>
        <p:spPr>
          <a:xfrm>
            <a:off x="5292720" y="3789360"/>
            <a:ext cx="24480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Медитативные  сказ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71640" y="1268280"/>
            <a:ext cx="7921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тативные сказки активизируют положительные эмоции дете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 позитивному настрою. Особенностью этих сказок являет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трицательных героев и конфликтных  ситуаци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тативные   сказк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ссказываются под специальную музыку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ющую расслаблению. Такие сказки успокаивают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т положительные эмоции, настраивают на гармонию 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 собой и  окружающими, внушают уверенность в себе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у позитива, спокойствия, комфорта, расслабления, снимаю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я и возбужде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этих сказок – путешествие. Принцип построения сказ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:  30-40 секунд звучит спокойная музыка. Ребенок делае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ий вдох и выдох. Педагог говорит: «Сейчас мы с ва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яемся в путешествие в прекрасную сказочную страну...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«в  волшебный  лес…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3" descr="D:\6 СЕНТЯБРЯ\5! КЛИП-АРТЫ\КЛИПАРТЫ ДЕТСКИЕ ))))\Klipart_Masha_i_Medved\3.png"/>
          <p:cNvPicPr/>
          <p:nvPr/>
        </p:nvPicPr>
        <p:blipFill>
          <a:blip r:embed="rId1"/>
          <a:srcRect l="0" t="0" r="5340" b="15480"/>
          <a:stretch/>
        </p:blipFill>
        <p:spPr>
          <a:xfrm>
            <a:off x="7236000" y="2924280"/>
            <a:ext cx="190800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1000</dc:creator>
  <dc:description/>
  <dc:language>en-US</dc:language>
  <cp:lastModifiedBy>an9rei</cp:lastModifiedBy>
  <dcterms:modified xsi:type="dcterms:W3CDTF">2022-04-06T15:17:33Z</dcterms:modified>
  <cp:revision>267</cp:revision>
  <dc:subject/>
  <dc:title>Роль сказки                               в   работе  с дошкольниками</dc:title>
</cp:coreProperties>
</file>