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E4C-AA21-42E0-8E70-71DB42A6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843-4246-4B7E-B4A2-441E5066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791-FB8B-4351-B301-2EBF8D6C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E40-E43D-48FA-8507-49AC5FFD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E794-B297-4066-BEDE-222B57C5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BCBE-80A9-4D54-B2CD-7C531C8F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FCFD-D768-44DF-949F-84FE3D01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29F4-1319-45A9-BA1C-B0A74638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58A9-9E51-4FE3-9FBA-9D86C90C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9F41-3A93-44A1-B0FC-294A4F61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BF0C-2D7F-4555-8F77-DDEEDB72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384-7CB9-4DF0-BE75-73F64A66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AE99-1462-40AA-9562-0A1651F7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2730-2AC4-4100-844B-C8C978EC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DA0E-03EC-43C6-9923-FB5E8990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70D2-5C87-46F2-91DA-90FE9352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67CF-3ED8-4C00-B2FC-06AF87B3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256AF-CDF1-4E32-8076-0FBF466A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07F00-4C01-4FA9-879D-666A32BA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C93B-E623-4A01-9F6F-A6492E47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3D845-5399-4E3B-AAC4-1C48303F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508C-3FAC-4B66-B350-28BF49FD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205-C045-473E-ABE4-867DA0C2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95B6D-7483-4755-A50C-EF773BBD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0176B-FB23-4BF2-97D0-1AE3C43C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140F9-E4EF-4B39-935B-F5FCE557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C916A-BB26-48CE-A0E5-78B18C05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F0EE9-872A-4E21-8B65-7347CDA9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CB8CF-BEE9-4A7D-A383-79E80880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228F2-9586-4E5A-BFF3-8E6D2CA0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67FA1-DBEA-4E9F-86F7-F7B7A2E0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15C4B-26B9-4331-88C3-9AE3B1CC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8D26F-EE9B-4D17-89F8-0665C276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5C5-06AF-4C5E-B1C7-753A91C2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09A12-C069-4FC8-B3D5-34FA3DE8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A7349-B5E1-4945-8581-3BCD9AC2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7A474-19F9-4F5E-8F7B-5F759D8C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EEAFA-7285-4517-ADA6-4EAA1AF3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D6318-A7A5-4DA1-907B-2D50CBA2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91A20-7436-4353-BBAC-EA24F602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EB8C4-91BA-487F-9A29-C340139A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C5124-3CB5-460D-864D-F1D7CA23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4A6E4-8BEC-4359-B6F6-65BC95B9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93A-0C34-4282-8051-B9BEF530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802-CC71-4BA0-BF90-866B172E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635-F6BC-4955-82A5-C8BA055C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40D-7F11-4BE4-B206-7AD60680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126-487C-4272-BAB2-38469DBE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DB70-953D-4566-9C8E-458F7B14C98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CB7D-3A6F-455B-BFEF-4D7B4DEB928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4340-F20F-44EB-9D5A-0264BC24742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DFB1-98E2-4A2F-8CF1-07F756969F2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00040" y="928440"/>
            <a:ext cx="822960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фонематического восприятия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фференциация фонем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врилейко В.П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28440" y="571320"/>
            <a:ext cx="742932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звуков проводится в той же последовательности, что и работа по уточнению слуховой и произносительной характеристики каждого звука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Прямоугольник 3" descr=""/>
          <p:cNvPicPr/>
          <p:nvPr/>
        </p:nvPicPr>
        <p:blipFill>
          <a:blip r:embed="rId1"/>
          <a:stretch/>
        </p:blipFill>
        <p:spPr>
          <a:xfrm>
            <a:off x="2041560" y="2962440"/>
            <a:ext cx="2012760" cy="93312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4" descr=""/>
          <p:cNvPicPr/>
          <p:nvPr/>
        </p:nvPicPr>
        <p:blipFill>
          <a:blip r:embed="rId2"/>
          <a:stretch/>
        </p:blipFill>
        <p:spPr>
          <a:xfrm>
            <a:off x="2041560" y="2962440"/>
            <a:ext cx="525600" cy="93312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5"/>
          <p:cNvSpPr/>
          <p:nvPr/>
        </p:nvSpPr>
        <p:spPr>
          <a:xfrm>
            <a:off x="1000080" y="2786040"/>
            <a:ext cx="742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цель этого этапа – различение звуко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Прямоугольник 3" descr=""/>
          <p:cNvPicPr/>
          <p:nvPr/>
        </p:nvPicPr>
        <p:blipFill>
          <a:blip r:embed="rId1"/>
          <a:stretch/>
        </p:blipFill>
        <p:spPr>
          <a:xfrm>
            <a:off x="871560" y="628560"/>
            <a:ext cx="6675480" cy="5722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egoe Print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и фонематического анализа способствует совершенствованию звукопроизносительной дифференциаци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714240"/>
            <a:ext cx="797256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часто у детей нарушается дифференциация следующих оппозиционных звуков: аффрикат и звуков, входящих в их состав (ц – с, ч – ть, ч – щ), звонких и глухих, особенно смычных (д – т, б – п, г – к), свистящих (з – с), шипящих (ж – ш), твердых и мягких, свистящих и шипящих (с – ш, з – ж, ц – ч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6840" y="357120"/>
            <a:ext cx="8186760" cy="59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в работе над звуками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учетом постепенного усложнения):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– 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– 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– 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 – ш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– ш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– ж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 – с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 – 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 – 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357120"/>
            <a:ext cx="8329680" cy="59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формированию звукопроизносительной дифференциации конкретных пар смешиваемых звуков включает два этапа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5214960" y="4214880"/>
            <a:ext cx="3286080" cy="1785960"/>
          </a:xfrm>
          <a:prstGeom prst="rect">
            <a:avLst/>
          </a:prstGeom>
          <a:solidFill>
            <a:srgbClr val="ffffff"/>
          </a:solidFill>
          <a:ln w="399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ап слуховой и произносительной дифференциации смешиваемых звук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928800" y="3857760"/>
            <a:ext cx="3286080" cy="1785960"/>
          </a:xfrm>
          <a:prstGeom prst="rect">
            <a:avLst/>
          </a:prstGeom>
          <a:solidFill>
            <a:srgbClr val="ffffff"/>
          </a:solidFill>
          <a:ln w="399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едварительный этап работы над каждым из смешиваемых звук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499680"/>
            <a:ext cx="8329680" cy="58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 уточняется произносительный и слуховой образ каждого из смешиваемых звуков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роводится по следующему плану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7972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точнение артикуляции звука с опорой на    зрительное, слуховое, тактильное восприятие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стетические  ощущения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деление звука  на фоне слог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рмирование умения   определять наличие   звука в слов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пределение места звука в слов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деление слова с заданным звуком из предлож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6840" y="1143000"/>
            <a:ext cx="790092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сопоставление   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ых смешиваемых 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в в произносительном и слуховом плане 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3:23:45Z</dcterms:created>
  <dc:creator>Евгенька</dc:creator>
  <dc:description/>
  <dc:language>en-US</dc:language>
  <cp:lastModifiedBy>Оляша</cp:lastModifiedBy>
  <dcterms:modified xsi:type="dcterms:W3CDTF">2012-02-27T04:29:43Z</dcterms:modified>
  <cp:revision>16</cp:revision>
  <dc:subject/>
  <dc:title>Формирование фонематического восприятия (дифференциация фонем)</dc:title>
</cp:coreProperties>
</file>