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38A-A8D2-4687-8C5C-E590D5B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E93-9335-4955-A31C-9F49CA5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2A1-160E-401E-AA15-6D46D2F6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9B6-A337-4315-A8F4-C2750DA5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961-A2EF-4843-B9BA-8944E7F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75D-6C62-4EC8-B73C-AF238F3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961-C7BB-4312-9FD2-FB9325C2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403-665E-4150-8742-B563AAEA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0AA-4942-4451-AAB2-48265DB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E59-56A6-4677-9AB8-84624AF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A6D-CA01-4C74-A668-25133E0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A3E-ABE1-4C0F-942E-96F8BD1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01B-80DA-4155-AF9A-2DAFDEFBC95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64072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 Light"/>
              </a:rPr>
              <a:t>Сложение и вычитание десятичных дробей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i="1" lang="ru-RU" sz="5400" spc="-1" strike="noStrike">
                <a:solidFill>
                  <a:srgbClr val="000000"/>
                </a:solidFill>
                <a:latin typeface="Calibri Light"/>
              </a:rPr>
              <a:t>	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i="1" lang="ru-RU" sz="5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Подготовила: Чехонина Лариса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Георгиев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          учитель математ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ГБОУ гимназия № 271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   Красносель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                 Санкт-Петербург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459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Поставьте в нужном месте запят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692360" y="2781360"/>
            <a:ext cx="216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32+18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835280" y="270828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691640" y="378936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3+108=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859280" y="4149720"/>
            <a:ext cx="242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736-336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932360" y="3068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57-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763640" y="4869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42+17=2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849920" y="5300640"/>
            <a:ext cx="242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63-27=6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419640" y="378936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627280" y="270828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11280" y="378936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780000" y="486900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908000" y="486900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5076720" y="3068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300720" y="3068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5940360" y="4076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5003640" y="4076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6732720" y="530064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5724360" y="5300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7"/>
          <p:cNvSpPr/>
          <p:nvPr/>
        </p:nvSpPr>
        <p:spPr>
          <a:xfrm>
            <a:off x="857160" y="700200"/>
            <a:ext cx="7572600" cy="5031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равнит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4,3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4,7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 412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11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3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овина рамки 8"/>
          <p:cNvSpPr/>
          <p:nvPr/>
        </p:nvSpPr>
        <p:spPr>
          <a:xfrm rot="19231800">
            <a:off x="4551480" y="1676160"/>
            <a:ext cx="538200" cy="576000"/>
          </a:xfrm>
          <a:custGeom>
            <a:avLst/>
            <a:gdLst/>
            <a:ahLst/>
            <a:rect l="l" t="t" r="r" b="b"/>
            <a:pathLst>
              <a:path w="538162" h="576263">
                <a:moveTo>
                  <a:pt x="0" y="0"/>
                </a:moveTo>
                <a:lnTo>
                  <a:pt x="538162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овина рамки 9"/>
          <p:cNvSpPr/>
          <p:nvPr/>
        </p:nvSpPr>
        <p:spPr>
          <a:xfrm rot="8526600">
            <a:off x="3983760" y="2498400"/>
            <a:ext cx="538200" cy="576360"/>
          </a:xfrm>
          <a:custGeom>
            <a:avLst/>
            <a:gdLst/>
            <a:ahLst/>
            <a:rect l="l" t="t" r="r" b="b"/>
            <a:pathLst>
              <a:path w="538163" h="576262">
                <a:moveTo>
                  <a:pt x="0" y="0"/>
                </a:moveTo>
                <a:lnTo>
                  <a:pt x="538163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овина рамки 10"/>
          <p:cNvSpPr/>
          <p:nvPr/>
        </p:nvSpPr>
        <p:spPr>
          <a:xfrm rot="19231800">
            <a:off x="4373640" y="3344400"/>
            <a:ext cx="538200" cy="576360"/>
          </a:xfrm>
          <a:custGeom>
            <a:avLst/>
            <a:gdLst/>
            <a:ahLst/>
            <a:rect l="l" t="t" r="r" b="b"/>
            <a:pathLst>
              <a:path w="538163" h="576262">
                <a:moveTo>
                  <a:pt x="0" y="0"/>
                </a:moveTo>
                <a:lnTo>
                  <a:pt x="538163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7"/>
          <p:cNvSpPr/>
          <p:nvPr/>
        </p:nvSpPr>
        <p:spPr>
          <a:xfrm>
            <a:off x="857160" y="571680"/>
            <a:ext cx="621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Исправьте ошиб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1000080" y="128592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4,95   +  4,5 = 2 9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,613   +  32,7 = 3 3 3 1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,891   +  3,9   = 1 1 7 9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6,38   +  9,62 = 8 6 0 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003640" y="911160"/>
            <a:ext cx="2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338800" y="2200320"/>
            <a:ext cx="2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321160" y="3503520"/>
            <a:ext cx="2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38800" y="4921200"/>
            <a:ext cx="2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1841E-006 L 0.04723 -4.81841E-006 E"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-3.74971E-006 L 3.88889E-006 -3.74971E-006 E">
                                      <p:cBhvr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8148E-006 L 0.05902 -0.00093 E">
                                      <p:cBhvr>
                                        <p:cTn id="8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7"/>
          <p:cNvSpPr/>
          <p:nvPr/>
        </p:nvSpPr>
        <p:spPr>
          <a:xfrm>
            <a:off x="78588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екоторое число удовлетворяет  одновременно трём неравенствам. Найдите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1403280" y="3208320"/>
            <a:ext cx="571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,5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&lt;         &lt;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,7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lt;         &lt; 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,6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lt;         &lt;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3,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лнце 11"/>
          <p:cNvSpPr/>
          <p:nvPr/>
        </p:nvSpPr>
        <p:spPr>
          <a:xfrm>
            <a:off x="3143160" y="335772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лнце 12"/>
          <p:cNvSpPr/>
          <p:nvPr/>
        </p:nvSpPr>
        <p:spPr>
          <a:xfrm>
            <a:off x="3143160" y="407196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лнце 13"/>
          <p:cNvSpPr/>
          <p:nvPr/>
        </p:nvSpPr>
        <p:spPr>
          <a:xfrm>
            <a:off x="3143160" y="478620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5857920" y="3714840"/>
            <a:ext cx="2000160" cy="1008360"/>
          </a:xfrm>
          <a:prstGeom prst="rect">
            <a:avLst/>
          </a:prstGeom>
          <a:solidFill>
            <a:srgbClr val="a5a5a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3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Сложение и вычита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десятичных дробе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1 вариант                 2 вариан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699920"/>
            <a:ext cx="40384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5,48 – 3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28 – 0,04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86 – 0,08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5 – 0,3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7,32 – 1,19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67280" y="1700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9 – 0,5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94 – 0,5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1 – 0,6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6,38 – 5,14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9,38 – 4,3 =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1 вариант                 2 вариан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699920"/>
            <a:ext cx="40384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5,48 – 3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2,4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28 – 0,04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0,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86 – 0,08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0,7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5 – 0,3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4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7,32 – 1,19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6,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67280" y="1700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9 – 0,5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0,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0,94 – 0,5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0,4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1 – 0,6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0,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6,38 – 5,14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1,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9,38 – 4,3 = </a:t>
            </a:r>
            <a:r>
              <a:rPr b="1" lang="ru-RU" sz="4400" spc="-1" strike="noStrike">
                <a:solidFill>
                  <a:srgbClr val="00b050"/>
                </a:solidFill>
                <a:latin typeface="Arial Narrow"/>
              </a:rPr>
              <a:t>5,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Свойства сложе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5567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 + b = b + 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 + b) + c = a + (b + 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66"/>
                </a:solidFill>
                <a:latin typeface="Calibri Light"/>
              </a:rPr>
              <a:t>Итог урок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483920"/>
            <a:ext cx="7696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ак складываются и вычитаются десятичные дроб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ак называются компоненты сложения и результат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ак называются компоненты вычитания и результат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5:43:07Z</dcterms:created>
  <dc:creator>www.PHILka.RU</dc:creator>
  <dc:description/>
  <dc:language>en-US</dc:language>
  <cp:lastModifiedBy>Nikolya</cp:lastModifiedBy>
  <dcterms:modified xsi:type="dcterms:W3CDTF">2022-04-06T17:33:08Z</dcterms:modified>
  <cp:revision>84</cp:revision>
  <dc:subject/>
  <dc:title>Муниципальное общеобразовательное учреждение средняя общеобразовательная школа № 12</dc:title>
</cp:coreProperties>
</file>