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9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AFC-CC09-41FD-91F1-DB92C3E9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96E-02E3-45CC-AB4F-8F00946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20A-9245-4FFC-85AA-646F2FE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ACC-BF01-41D5-9D35-31A66C31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2C3-7F43-426F-A15E-8FE6135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545-54E1-47C3-B3F4-7077EF87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49D-68DA-460B-82E1-E5659AC1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B42-7046-486B-8234-381FEE71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532-9CD1-4570-A956-B9FA366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2D1-F492-4E61-AE71-0D70B61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8F1-7068-4E61-9F13-BEBA0A4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202-BC13-4EFB-8AC7-78EB668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7C24-5509-4094-BFD3-6C1DD845B471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137-3105-4B40-AF99-B8925D0D84F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Любовь\Desktop\Учеба\я 1анимация\застенчивость\б.jpg"/>
          <p:cNvPicPr/>
          <p:nvPr/>
        </p:nvPicPr>
        <p:blipFill>
          <a:blip r:embed="rId2"/>
          <a:stretch/>
        </p:blipFill>
        <p:spPr>
          <a:xfrm>
            <a:off x="3059280" y="2265480"/>
            <a:ext cx="3168360" cy="332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1908000" y="5300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2987640" y="422100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7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8"/>
          <a:stretch/>
        </p:blipFill>
        <p:spPr>
          <a:xfrm>
            <a:off x="1395360" y="828720"/>
            <a:ext cx="6784920" cy="325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9"/>
          <a:srcRect l="16488" t="13505" r="14749" b="13731"/>
          <a:stretch/>
        </p:blipFill>
        <p:spPr>
          <a:xfrm>
            <a:off x="6089760" y="2527200"/>
            <a:ext cx="307476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0"/>
          <a:stretch/>
        </p:blipFill>
        <p:spPr>
          <a:xfrm>
            <a:off x="4140360" y="692280"/>
            <a:ext cx="857160" cy="111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1"/>
          <a:stretch/>
        </p:blipFill>
        <p:spPr>
          <a:xfrm>
            <a:off x="5602320" y="4437000"/>
            <a:ext cx="69048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2"/>
          <a:stretch/>
        </p:blipFill>
        <p:spPr>
          <a:xfrm>
            <a:off x="468360" y="83664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3"/>
          <a:stretch/>
        </p:blipFill>
        <p:spPr>
          <a:xfrm>
            <a:off x="5796000" y="314172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4"/>
          <a:stretch/>
        </p:blipFill>
        <p:spPr>
          <a:xfrm>
            <a:off x="8028000" y="206064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5"/>
          <a:stretch/>
        </p:blipFill>
        <p:spPr>
          <a:xfrm>
            <a:off x="2124000" y="620640"/>
            <a:ext cx="690480" cy="690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050920" y="6308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55640" y="620640"/>
            <a:ext cx="61419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енчивост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(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еснительност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бост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- 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состояние психики и обусловленное им поведение животных и человека, характерными чертами которого являются: нерешительность, боязливость, напряжённость, скованность и неловкость в обществе из-за неуверенности в себе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FE2-F2A1-4D6C-B5A1-C77237336FB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8" name="Picture 9" descr="zastenchivost"/>
          <p:cNvPicPr/>
          <p:nvPr/>
        </p:nvPicPr>
        <p:blipFill>
          <a:blip r:embed="rId1"/>
          <a:stretch/>
        </p:blipFill>
        <p:spPr>
          <a:xfrm>
            <a:off x="6084720" y="4149720"/>
            <a:ext cx="266544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35"/>
          <p:cNvPicPr/>
          <p:nvPr/>
        </p:nvPicPr>
        <p:blipFill>
          <a:blip r:embed="rId2"/>
          <a:srcRect l="0" t="0" r="54705" b="0"/>
          <a:stretch/>
        </p:blipFill>
        <p:spPr>
          <a:xfrm>
            <a:off x="755640" y="620640"/>
            <a:ext cx="1608120" cy="3092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539640" y="4076640"/>
            <a:ext cx="52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ть застенчивым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значит бояться общения. Застенчивый ребёнок воспринимает окружающих людей (особенно незнакомых) как несущих определённую угрозу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Любовь\Desktop\Учеба\я 1анимация\застенчивость\11.jpg"/>
          <p:cNvPicPr/>
          <p:nvPr/>
        </p:nvPicPr>
        <p:blipFill>
          <a:blip r:embed="rId1"/>
          <a:stretch/>
        </p:blipFill>
        <p:spPr>
          <a:xfrm>
            <a:off x="6684840" y="3736800"/>
            <a:ext cx="2222640" cy="303228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850-1A86-478C-8230-2D222D7BAC2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68360" y="47628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Застенчивость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это особенность, характерная для очень многих людей, как детей, так и взрослых.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Наверное, эту черту можно назвать наиболее распространенной причиной возникновения коммуникативных трудностей.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Застенчивость может быть душевным недугом.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Как правило, застенчивость, как характеристика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поведения, начинает складываться в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дошкольном возрасте.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С течением времени её проявления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становятся более устойчивыми и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распространяются на всю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omic Sans MS"/>
              </a:rPr>
              <a:t>Коммуникативную сферу человека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omic Sans MS"/>
              </a:rPr>
              <a:t>Причины застенчивости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Наследственность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Копирование поведения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Недостаток комфорта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Чрезмерная забота родителей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Противоречия в воспитани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Отсутствие родительского участия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Дразнения, угрозы, критика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Семейные проблемы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50000"/>
              </a:lnSpc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</a:rPr>
              <a:t>Негативный социальный опыт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255-D365-4067-AA8F-341DC7A1471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7" name="Picture 2" descr="C:\Users\Любовь\Desktop\Учеба\я 1анимация\130447139.gif"/>
          <p:cNvPicPr/>
          <p:nvPr/>
        </p:nvPicPr>
        <p:blipFill>
          <a:blip r:embed="rId1"/>
          <a:stretch/>
        </p:blipFill>
        <p:spPr>
          <a:xfrm>
            <a:off x="7415280" y="3968640"/>
            <a:ext cx="1728720" cy="2486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имптомы застенчивости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25360"/>
            <a:ext cx="7643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Застенчивость «читается» по внешним признакам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окраснение лица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отливость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рожь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учащение сердцебиения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тесненное дыхание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огбенная поза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пущенные вниз глаза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тихий голос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73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кованность мышц и движений.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1F5-C58B-4180-A5B8-065A106A182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22161" t="1823" r="23397" b="2260"/>
          <a:stretch/>
        </p:blipFill>
        <p:spPr>
          <a:xfrm>
            <a:off x="6588000" y="1471680"/>
            <a:ext cx="2186280" cy="5232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4920" y="1484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они ощущают на себе взгляд другого человека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чувствительны к еле слышимым или очень высоким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звукам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не переносят прямых физических контактов с другим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людьми и могут на них отреагировать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даже шоковым состоянием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многолюдье и человеческая суета их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очень утомляют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они очень медленно и постепенно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привыкают к новым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для них ситуациям и окружению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часто им не хватает социальных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omic Sans MS"/>
              </a:rPr>
              <a:t>навыков или  уверенности в себе.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548480" y="4724280"/>
            <a:ext cx="1352520" cy="1844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Для застенчивых детей характерно следующее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A2E6-9BE4-40E9-A495-7CE63039DE3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62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Родителям рекомендуется: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457440" cy="2305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1116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99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  <a:ea typeface="Arial"/>
              </a:rPr>
              <a:t>«Проигрывать» ситуации общения с другими людьми,     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используя ролевые игры и кукольный театр. 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Monotype Corsi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На детской площадке подходить вместе с ребенком к горке,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качелям, чтобы он смог съехать с горки и покачаться. 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3.    Учите и читайте стихи по очереди за всех героев. 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4.    Приглашайте домой хорошо знакомых детей, и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наблюдайте, как играет Ваш ребенок. 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5.   Определите тип темперамента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своего ребенка и выбирайте игры и      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упражнения сообразно с его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темпераментом. </a:t>
            </a:r>
            <a:br>
              <a:rPr sz="1800"/>
            </a:b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6.   Постарайтесь снять напряжение,                        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занимаясь физическими   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Monotype Corsiva"/>
              </a:rPr>
              <a:t>упражнениями, танцами.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4:28:45Z</dcterms:created>
  <dc:creator>Admin</dc:creator>
  <dc:description>http://aida.ucoz.ru</dc:description>
  <dc:language>en-US</dc:language>
  <cp:lastModifiedBy>Asus_RC</cp:lastModifiedBy>
  <dcterms:modified xsi:type="dcterms:W3CDTF">2022-04-06T11:10:01Z</dcterms:modified>
  <cp:revision>32</cp:revision>
  <dc:subject/>
  <dc:title>Слайд 1</dc:title>
</cp:coreProperties>
</file>