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B5D-7A85-4DE1-8136-7EA7622E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344-1487-4421-8802-D352323F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E2DF-D2CD-4DA6-8F79-DF6E7870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F04A-1CBF-4FFE-A8D1-5EF30670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22F-CA74-4FB4-9B17-3263183C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550B-0794-4FA0-AA0A-17704E01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39FF-F3F2-4122-B95D-379AC1BB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E6B-651E-4DEF-A163-7D9E420C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C24-F70B-49C1-9D88-E5ACD8C0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5A8-F519-4AB6-8D67-EA8E863A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6CB-5DC8-45E0-8487-22FBC8F9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646-B676-4856-959C-5153FC91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41DF-7927-4A4D-82AB-BBF522D3C6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4520" y="4366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о бюджетное дошкольное образовательное учреждение №45 Невского района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20800" y="1960200"/>
            <a:ext cx="91440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70c0"/>
                </a:solidFill>
                <a:latin typeface="Times New Roman"/>
              </a:rPr>
              <a:t>Зимующие птиц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листратова С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898560" y="2962440"/>
            <a:ext cx="559116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 Light"/>
              </a:rPr>
              <a:t>Зимующие птиц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TWalsheimProRegular"/>
              </a:rPr>
              <a:t>Это птицы, которые не улетают на время зимы. Они остаются в родных для себя краях и ищут пропитания на месте проживания. Зимующие птицы относятся к тем, кто может найти себе пропитание на период сильных холодов. Большую часть таких птиц составляют особи, что могут питаться зернами, сушеными ягодами и семен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176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 Light"/>
              </a:rPr>
              <a:t>Воробь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7720" y="2349360"/>
            <a:ext cx="1052676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TWalsheimProRegular"/>
              </a:rPr>
              <a:t>С виду маленькая и серая птичка очень бесстрашна. Дикие воробьи зимой стараются прилететь поближе к городу или деревне, чтобы найти себе пропитание среди людей. Воробьи летают группами, поэтому если одна птица нашла пропитание, она начнет звать остальных. Чтобы согреться зимней ночью, пернатые садятся в ряд и периодически меняются местами и согреваются по очере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vorobey"/>
          <p:cNvPicPr/>
          <p:nvPr/>
        </p:nvPicPr>
        <p:blipFill>
          <a:blip r:embed="rId1"/>
          <a:stretch/>
        </p:blipFill>
        <p:spPr>
          <a:xfrm>
            <a:off x="4481640" y="4437000"/>
            <a:ext cx="3022560" cy="2055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Зимующие-птицы-Названия-описания-и-особенности-зимующих-птиц-6"/>
          <p:cNvPicPr/>
          <p:nvPr/>
        </p:nvPicPr>
        <p:blipFill>
          <a:blip r:embed="rId2"/>
          <a:stretch/>
        </p:blipFill>
        <p:spPr>
          <a:xfrm>
            <a:off x="1700280" y="1093680"/>
            <a:ext cx="8791560" cy="55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5200" y="7092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 Light"/>
              </a:rPr>
              <a:t>Снегир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TWalsheimProRegular"/>
              </a:rPr>
              <a:t>В России гнездятся преимущественно в ельниках возле рек, также обитают в городах. Снегири держаться небольшими стайками. В городах питаются рябиной и дикими яблоками, а также семен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789360" y="3147840"/>
            <a:ext cx="5181480" cy="3457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Зимующие-птицы-Названия-описания-и-особенности-зимующих-птиц-3"/>
          <p:cNvPicPr/>
          <p:nvPr/>
        </p:nvPicPr>
        <p:blipFill>
          <a:blip r:embed="rId2"/>
          <a:stretch/>
        </p:blipFill>
        <p:spPr>
          <a:xfrm>
            <a:off x="1400040" y="1181160"/>
            <a:ext cx="89154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7000" y="115560"/>
            <a:ext cx="10515600" cy="14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 Light"/>
              </a:rPr>
              <a:t>Синиц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TWalsheimProRegular"/>
              </a:rPr>
              <a:t>Запасов еды на зиму не делает, поэтому в холодное время ей довольно сложно пропитаться. Чаще всего эти птицы выживают зимой только из-за дополнительной подкормки человеком. Любят сало, сухофрукты, семена и орех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sinica"/>
          <p:cNvPicPr/>
          <p:nvPr/>
        </p:nvPicPr>
        <p:blipFill>
          <a:blip r:embed="rId1"/>
          <a:stretch/>
        </p:blipFill>
        <p:spPr>
          <a:xfrm>
            <a:off x="6261120" y="3143160"/>
            <a:ext cx="5181480" cy="344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Зимующие-птицы-Названия-описания-и-особенности-зимующих-птиц-22"/>
          <p:cNvPicPr/>
          <p:nvPr/>
        </p:nvPicPr>
        <p:blipFill>
          <a:blip r:embed="rId2"/>
          <a:stretch/>
        </p:blipFill>
        <p:spPr>
          <a:xfrm>
            <a:off x="1436760" y="1135080"/>
            <a:ext cx="869292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270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 Light"/>
              </a:rPr>
              <a:t>Свиристел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TWalsheimProRegular"/>
              </a:rPr>
              <a:t>Эти птицы всеядны и очень любят покушать. Зимой переходит на ягоды, орехи и семена. В холодные времена они объединяются в стаи и кочуют в поисках пищ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sviristel"/>
          <p:cNvPicPr/>
          <p:nvPr/>
        </p:nvPicPr>
        <p:blipFill>
          <a:blip r:embed="rId1"/>
          <a:stretch/>
        </p:blipFill>
        <p:spPr>
          <a:xfrm>
            <a:off x="5254560" y="3121200"/>
            <a:ext cx="5181840" cy="337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Зимующие-птицы-Названия-описания-и-особенности-зимующих-птиц-16"/>
          <p:cNvPicPr/>
          <p:nvPr/>
        </p:nvPicPr>
        <p:blipFill>
          <a:blip r:embed="rId2"/>
          <a:stretch/>
        </p:blipFill>
        <p:spPr>
          <a:xfrm>
            <a:off x="1419120" y="996840"/>
            <a:ext cx="91677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 Light"/>
              </a:rPr>
              <a:t>Как помочь птицам зимой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YS Text"/>
              </a:rPr>
              <a:t>Чтобы помочь выжить в холодную зиму пернатым, вы можете сделать кормуш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19040" y="2867040"/>
            <a:ext cx="5537160" cy="3693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7080120" y="2811600"/>
            <a:ext cx="4273560" cy="37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6800" y="2103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 Light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4T19:44:24Z</dcterms:created>
  <dc:creator>Alexander Ulanov</dc:creator>
  <dc:description/>
  <dc:language>en-US</dc:language>
  <cp:lastModifiedBy>Alexander Ulanov</cp:lastModifiedBy>
  <dcterms:modified xsi:type="dcterms:W3CDTF">2021-12-14T19:53:25Z</dcterms:modified>
  <cp:revision>1</cp:revision>
  <dc:subject/>
  <dc:title>Государственно бюджетное дошкольное образовательное учреждение №45 Невского района</dc:title>
</cp:coreProperties>
</file>