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77AA-A15D-4AC0-B54D-08A97A98A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6F29-451A-4E2D-805E-04319E85A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3644-9C1E-4BBF-9B1E-F185E1CA9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C65B-C56C-4741-95F7-E317872FE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5FC1-20E6-44FA-B5A1-9F97C467F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AE01-AA16-4196-B7CA-527534496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A613-DCC2-4A47-B204-F721F6153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89D5-225B-49E3-9547-C73D079E2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1D39-903D-434E-BC52-AAB7804D6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F3B3-C875-473F-B81B-ECEC4517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E492-7D3F-4F93-AC69-E31745E3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F0E3-355B-43E7-B926-6BB7B2BF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9D42B-F65F-4F84-8FFC-E69FDC8C18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4520" y="436680"/>
            <a:ext cx="9144000" cy="97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осударственно бюджетное дошкольное образовательное учреждение №45 Невского района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620800" y="1960200"/>
            <a:ext cx="9144000" cy="44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70c0"/>
                </a:solidFill>
                <a:latin typeface="Times New Roman"/>
              </a:rPr>
              <a:t>Зимующие птицы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спитател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листратова С.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898560" y="2962440"/>
            <a:ext cx="559116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 Light"/>
              </a:rPr>
              <a:t>Зимующие птицы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TWalsheimProRegular"/>
              </a:rPr>
              <a:t>Это птицы, которые не улетают на время зимы. Они остаются в родных для себя краях и ищут пропитания на месте проживания. Зимующие птицы относятся к тем, кто может найти себе пропитание на период сильных холодов. Большую часть таких птиц составляют особи, что могут питаться зернами, сушеными ягодами и семен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176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 Light"/>
              </a:rPr>
              <a:t>Воробьи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837720" y="2349360"/>
            <a:ext cx="1052676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TWalsheimProRegular"/>
              </a:rPr>
              <a:t>С виду маленькая и серая птичка очень бесстрашна. Дикие воробьи зимой стараются прилететь поближе к городу или деревне, чтобы найти себе пропитание среди людей. Воробьи летают группами, поэтому если одна птица нашла пропитание, она начнет звать остальных. Чтобы согреться зимней ночью, пернатые садятся в ряд и периодически меняются местами и согреваются по очеред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vorobey"/>
          <p:cNvPicPr/>
          <p:nvPr/>
        </p:nvPicPr>
        <p:blipFill>
          <a:blip r:embed="rId1"/>
          <a:stretch/>
        </p:blipFill>
        <p:spPr>
          <a:xfrm>
            <a:off x="4481640" y="4437000"/>
            <a:ext cx="3022560" cy="2055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Зимующие-птицы-Названия-описания-и-особенности-зимующих-птиц-6"/>
          <p:cNvPicPr/>
          <p:nvPr/>
        </p:nvPicPr>
        <p:blipFill>
          <a:blip r:embed="rId2"/>
          <a:stretch/>
        </p:blipFill>
        <p:spPr>
          <a:xfrm>
            <a:off x="1700280" y="1093680"/>
            <a:ext cx="8791560" cy="556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5200" y="70920"/>
            <a:ext cx="1051560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 Light"/>
              </a:rPr>
              <a:t>Снегири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TWalsheimProRegular"/>
              </a:rPr>
              <a:t>В России гнездятся преимущественно в ельниках возле рек, также обитают в городах. Снегири держаться небольшими стайками. В городах питаются рябиной и дикими яблоками, а также семен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3789360" y="3147840"/>
            <a:ext cx="5181480" cy="3457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Зимующие-птицы-Названия-описания-и-особенности-зимующих-птиц-3"/>
          <p:cNvPicPr/>
          <p:nvPr/>
        </p:nvPicPr>
        <p:blipFill>
          <a:blip r:embed="rId2"/>
          <a:stretch/>
        </p:blipFill>
        <p:spPr>
          <a:xfrm>
            <a:off x="1400040" y="1181160"/>
            <a:ext cx="891540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27000" y="115560"/>
            <a:ext cx="10515600" cy="14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 Light"/>
              </a:rPr>
              <a:t>Синицы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TWalsheimProRegular"/>
              </a:rPr>
              <a:t>Запасов еды на зиму не делает, поэтому в холодное время ей довольно сложно пропитаться. Чаще всего эти птицы выживают зимой только из-за дополнительной подкормки человеком. Любят сало, сухофрукты, семена и орех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sinica"/>
          <p:cNvPicPr/>
          <p:nvPr/>
        </p:nvPicPr>
        <p:blipFill>
          <a:blip r:embed="rId1"/>
          <a:stretch/>
        </p:blipFill>
        <p:spPr>
          <a:xfrm>
            <a:off x="6261120" y="3143160"/>
            <a:ext cx="5181480" cy="3448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Зимующие-птицы-Названия-описания-и-особенности-зимующих-птиц-22"/>
          <p:cNvPicPr/>
          <p:nvPr/>
        </p:nvPicPr>
        <p:blipFill>
          <a:blip r:embed="rId2"/>
          <a:stretch/>
        </p:blipFill>
        <p:spPr>
          <a:xfrm>
            <a:off x="1436760" y="1135080"/>
            <a:ext cx="8692920" cy="57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2700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 Light"/>
              </a:rPr>
              <a:t>Свиристели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TWalsheimProRegular"/>
              </a:rPr>
              <a:t>Эти птицы всеядны и очень любят покушать. Зимой переходит на ягоды, орехи и семена. В холодные времена они объединяются в стаи и кочуют в поисках пищ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sviristel"/>
          <p:cNvPicPr/>
          <p:nvPr/>
        </p:nvPicPr>
        <p:blipFill>
          <a:blip r:embed="rId1"/>
          <a:stretch/>
        </p:blipFill>
        <p:spPr>
          <a:xfrm>
            <a:off x="5254560" y="3121200"/>
            <a:ext cx="5181840" cy="337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Зимующие-птицы-Названия-описания-и-особенности-зимующих-птиц-16"/>
          <p:cNvPicPr/>
          <p:nvPr/>
        </p:nvPicPr>
        <p:blipFill>
          <a:blip r:embed="rId2"/>
          <a:stretch/>
        </p:blipFill>
        <p:spPr>
          <a:xfrm>
            <a:off x="1419120" y="996840"/>
            <a:ext cx="916776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 Light"/>
              </a:rPr>
              <a:t>Как помочь птицам зимой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YS Text"/>
              </a:rPr>
              <a:t>Чтобы помочь выжить в холодную зиму пернатым, вы можете сделать кормуш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419040" y="2867040"/>
            <a:ext cx="5537160" cy="3693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"/>
          <p:cNvPicPr/>
          <p:nvPr/>
        </p:nvPicPr>
        <p:blipFill>
          <a:blip r:embed="rId2"/>
          <a:stretch/>
        </p:blipFill>
        <p:spPr>
          <a:xfrm>
            <a:off x="7080120" y="2811600"/>
            <a:ext cx="4273560" cy="37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6800" y="210348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 Light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2-14T19:44:24Z</dcterms:created>
  <dc:creator>Alexander Ulanov</dc:creator>
  <dc:description/>
  <dc:language>en-US</dc:language>
  <cp:lastModifiedBy>Alexander Ulanov</cp:lastModifiedBy>
  <dcterms:modified xsi:type="dcterms:W3CDTF">2021-12-14T19:53:25Z</dcterms:modified>
  <cp:revision>1</cp:revision>
  <dc:subject/>
  <dc:title>Государственно бюджетное дошкольное образовательное учреждение №45 Невского района</dc:title>
</cp:coreProperties>
</file>