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7460-CC78-40D8-B0E5-FB308EA39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112D-3FC3-4F4F-9A19-B8C89774B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62F5-48E9-4E11-AE08-B82F916EE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C3AF-9B92-4AAF-857D-5C6B4EB25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164B9-A689-48F5-BC8E-EA897CCB0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5773E-114B-4050-91E1-7DE687FE3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F61BA-CFE3-46C4-ADFA-B4FE55BDD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AD6A4-9ED8-479E-B6CC-E575EFBA4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A5421-264F-4175-AF8D-552A53639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42372-5FEE-4FA4-8DE7-01ABC218A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2D732-A7A3-48AE-858F-8634EDB2E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C63C-36B5-434D-AE64-6302F66A8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7940A-8D8E-4688-A680-853E9FC81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7D29E-C745-4F69-8F0E-5E3758A42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40D6E-3839-45A0-9047-117086558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8AD0C-0884-4CDD-9127-4A99747B8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E09B1-083F-419B-9587-9196D5659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FF82-FC23-497D-94EA-D3031CEF2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DBE7-2FF3-4D16-8CE6-6F33A93B6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2DE0-ED63-42DB-8E13-569079CFA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0032-4CDD-4A38-8E81-4A7E883C8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840A-9DFF-4CC4-BBB2-C22BA02FF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B018-A800-47FC-AB43-DDC349DAF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AD4E-9C0B-40E1-9E64-20DA31DE4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ECB0D-5519-4317-9D28-73DB8B2BE3FD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CBD2B-93AB-4688-85BE-D26D2D21298E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Амин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то производные аммиака 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в молекуле которого один, два или тр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тома водорода замещены на углеводородные радикал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rcRect l="20295" t="39407" r="18236" b="10992"/>
          <a:stretch/>
        </p:blipFill>
        <p:spPr>
          <a:xfrm>
            <a:off x="1547640" y="3429000"/>
            <a:ext cx="5621400" cy="30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Физические свойст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нилин - бесцветная маслянистая жидкост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и окислении на воздухе становится светло-коричневого цвет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емного тяжелее воды, малорастворим в не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Хорошо растворяется в этаноле и бензол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емпература кипения + 174 С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оявляет слабые основные свойств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Ядовит. Канцероген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519120" y="907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11"/>
          <p:cNvSpPr/>
          <p:nvPr/>
        </p:nvSpPr>
        <p:spPr>
          <a:xfrm>
            <a:off x="4433760" y="3867120"/>
            <a:ext cx="73080" cy="7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олуч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0" y="2361960"/>
            <a:ext cx="8964720" cy="430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 промышленност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99"/>
                </a:solidFill>
                <a:latin typeface="Calibri"/>
              </a:rPr>
              <a:t>(восстановление нитробензола  атомарным водородом металлами в кислой среде) –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реакция Н. Н. Зини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alibri"/>
              </a:rPr>
              <a:t>6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Calibri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+ 3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250-300C,Ni,Cu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C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alibri"/>
              </a:rPr>
              <a:t>6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alibri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+ 2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итробензо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alibri"/>
              </a:rPr>
              <a:t>6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alibri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+ 6H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Fe,HCl,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C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alibri"/>
              </a:rPr>
              <a:t>6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alibri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+ 2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(Зинин, 184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Line 12"/>
          <p:cNvSpPr/>
          <p:nvPr/>
        </p:nvSpPr>
        <p:spPr>
          <a:xfrm>
            <a:off x="3000240" y="5715000"/>
            <a:ext cx="1152720" cy="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3"/>
          <p:cNvSpPr/>
          <p:nvPr/>
        </p:nvSpPr>
        <p:spPr>
          <a:xfrm>
            <a:off x="3071880" y="4572000"/>
            <a:ext cx="1512720" cy="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Химические свойст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213840" y="2362320"/>
            <a:ext cx="89298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1. Гор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4 С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H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+ 31 O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→ 24 CO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+ 14 H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 + 2 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2. Реакции по аминогруппе -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NH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2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 -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реакции с сильными кислота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H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CI → [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H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] C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Анилин не изменяет окраску лакмуса,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.к. его основные свойства выражены слабее, чем у аммиака и аминов.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Химические свойст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714240" y="2362320"/>
            <a:ext cx="814392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3. Реакции по бензольному кольцу – </a:t>
            </a: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бромирование  (выпадает белый осадок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9" descr="Amin8"/>
          <p:cNvPicPr/>
          <p:nvPr/>
        </p:nvPicPr>
        <p:blipFill>
          <a:blip r:embed="rId1"/>
          <a:stretch/>
        </p:blipFill>
        <p:spPr>
          <a:xfrm>
            <a:off x="1116000" y="3500280"/>
            <a:ext cx="72010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лассификация амин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838080" y="2361960"/>
            <a:ext cx="8305920" cy="430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08b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08bb9"/>
                </a:solidFill>
                <a:latin typeface="Calibri"/>
              </a:rPr>
              <a:t>По количеству радикал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) Первичные               2) Вторичны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CH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3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– NH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                   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CH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– N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С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H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3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метил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амин                       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диметил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ми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3) Третичные 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CH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– N –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С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H</a:t>
            </a: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    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|    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триметил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ми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СН</a:t>
            </a: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4" descr=""/>
          <p:cNvPicPr/>
          <p:nvPr/>
        </p:nvPicPr>
        <p:blipFill>
          <a:blip r:embed="rId1"/>
          <a:srcRect l="9963" t="18022" r="2588" b="1981"/>
          <a:stretch/>
        </p:blipFill>
        <p:spPr>
          <a:xfrm>
            <a:off x="612720" y="1773360"/>
            <a:ext cx="770436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лассификация  амин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По характеру радикалов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) предельны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2) непредельны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3) ароматическ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4) смешанны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едельные первичные амин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500040" y="2361960"/>
            <a:ext cx="84297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это органические вещества, состоящие из предельного радикала и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аминогруппы –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NH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  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R - NH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бщая формула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Н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– NH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2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етил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амин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- NH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- этил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ами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- NH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- пропил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ами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9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- NH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- бутил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ами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Физические  свойст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838080" y="2361960"/>
            <a:ext cx="80200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– С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– газы с запахом аммиака, хорошо растворимы в вод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- С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9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– жидкости с запахом испорченной рыбы, в воде не растворяютс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10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… - твердые веществ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Химические  свойст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85840" y="2361960"/>
            <a:ext cx="885816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   </a:t>
            </a:r>
            <a:r>
              <a:rPr b="1" lang="ru-RU" sz="3000" spc="-1" strike="noStrike">
                <a:solidFill>
                  <a:srgbClr val="ff0000"/>
                </a:solidFill>
                <a:latin typeface="Calibri"/>
              </a:rPr>
              <a:t>1) Горени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4 СН</a:t>
            </a:r>
            <a:r>
              <a:rPr b="1" lang="ru-RU" sz="19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NH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9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O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→ 4 CO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+ 1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H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O + 2 N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3000" spc="-1" strike="noStrike">
                <a:solidFill>
                  <a:srgbClr val="ff0000"/>
                </a:solidFill>
                <a:latin typeface="Calibri"/>
              </a:rPr>
              <a:t>2) Взаимодействие с кислотам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          </a:t>
            </a:r>
            <a:r>
              <a:rPr b="1" lang="ru-RU" sz="3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3000" spc="-1" strike="noStrike">
                <a:solidFill>
                  <a:srgbClr val="0070c0"/>
                </a:solidFill>
                <a:latin typeface="Calibri"/>
              </a:rPr>
              <a:t>(</a:t>
            </a:r>
            <a:r>
              <a:rPr b="1" lang="en-US" sz="3000" spc="-1" strike="noStrike">
                <a:solidFill>
                  <a:srgbClr val="0070c0"/>
                </a:solidFill>
                <a:latin typeface="Calibri"/>
              </a:rPr>
              <a:t>HCI, HNO</a:t>
            </a:r>
            <a:r>
              <a:rPr b="1" lang="en-US" sz="1900" spc="-1" strike="noStrike">
                <a:solidFill>
                  <a:srgbClr val="0070c0"/>
                </a:solidFill>
                <a:latin typeface="Calibri"/>
              </a:rPr>
              <a:t>3</a:t>
            </a:r>
            <a:r>
              <a:rPr b="1" lang="en-US" sz="3000" spc="-1" strike="noStrike">
                <a:solidFill>
                  <a:srgbClr val="0070c0"/>
                </a:solidFill>
                <a:latin typeface="Calibri"/>
              </a:rPr>
              <a:t>, H</a:t>
            </a:r>
            <a:r>
              <a:rPr b="1" lang="en-US" sz="1900" spc="-1" strike="noStrike">
                <a:solidFill>
                  <a:srgbClr val="0070c0"/>
                </a:solidFill>
                <a:latin typeface="Calibri"/>
              </a:rPr>
              <a:t>2</a:t>
            </a:r>
            <a:r>
              <a:rPr b="1" lang="en-US" sz="3000" spc="-1" strike="noStrike">
                <a:solidFill>
                  <a:srgbClr val="0070c0"/>
                </a:solidFill>
                <a:latin typeface="Calibri"/>
              </a:rPr>
              <a:t>SO</a:t>
            </a:r>
            <a:r>
              <a:rPr b="1" lang="en-US" sz="1900" spc="-1" strike="noStrike">
                <a:solidFill>
                  <a:srgbClr val="0070c0"/>
                </a:solidFill>
                <a:latin typeface="Calibri"/>
              </a:rPr>
              <a:t>4</a:t>
            </a:r>
            <a:r>
              <a:rPr b="1" lang="en-US" sz="3000" spc="-1" strike="noStrike">
                <a:solidFill>
                  <a:srgbClr val="0070c0"/>
                </a:solidFill>
                <a:latin typeface="Calibri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СН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3 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NH</a:t>
            </a: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H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CI → [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СН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NH</a:t>
            </a: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] 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3000" spc="-1" strike="noStrike">
                <a:solidFill>
                  <a:srgbClr val="ff0000"/>
                </a:solidFill>
                <a:latin typeface="Calibri"/>
              </a:rPr>
              <a:t>3) С водой </a:t>
            </a:r>
            <a:r>
              <a:rPr b="1" lang="ru-RU" sz="3000" spc="-1" strike="noStrike">
                <a:solidFill>
                  <a:srgbClr val="0070c0"/>
                </a:solidFill>
                <a:latin typeface="Calibri"/>
              </a:rPr>
              <a:t>(первые 4 амина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Calibri"/>
              </a:rPr>
              <a:t>     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СН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3 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NH</a:t>
            </a: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H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ОН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→ [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СН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NH</a:t>
            </a: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] 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ОН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Calibri"/>
              </a:rPr>
              <a:t>     </a:t>
            </a:r>
            <a:r>
              <a:rPr b="1" lang="ru-RU" sz="3000" spc="-1" strike="noStrike">
                <a:solidFill>
                  <a:srgbClr val="ff0000"/>
                </a:solidFill>
                <a:latin typeface="Calibri"/>
              </a:rPr>
              <a:t>4) С лакмусом 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(синее окрашивание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осстановление нитросоединен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реакция Н. Н. Зинина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 – NO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+ 6 H         R – NH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+ 2 H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8" name="Прямая со стрелкой 4"/>
          <p:cNvCxnSpPr/>
          <p:nvPr/>
        </p:nvCxnSpPr>
        <p:spPr>
          <a:xfrm>
            <a:off x="3716280" y="3860280"/>
            <a:ext cx="643320" cy="2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99" name="Picture 6" descr=""/>
          <p:cNvPicPr/>
          <p:nvPr/>
        </p:nvPicPr>
        <p:blipFill>
          <a:blip r:embed="rId1"/>
          <a:stretch/>
        </p:blipFill>
        <p:spPr>
          <a:xfrm>
            <a:off x="582480" y="907920"/>
            <a:ext cx="806004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85520" y="85680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Анилин(фениламин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2361960"/>
            <a:ext cx="80917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это ароматический амин, состоящий из бензольного кольца и аминогрупп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H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     ─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H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ли 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NH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Шестиугольник 3"/>
          <p:cNvSpPr/>
          <p:nvPr/>
        </p:nvSpPr>
        <p:spPr>
          <a:xfrm>
            <a:off x="2725560" y="3971880"/>
            <a:ext cx="1060560" cy="1271520"/>
          </a:xfrm>
          <a:prstGeom prst="hexagon">
            <a:avLst>
              <a:gd name="adj" fmla="val 23731"/>
              <a:gd name="vf" fmla="val 11547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Овал 4"/>
          <p:cNvSpPr/>
          <p:nvPr/>
        </p:nvSpPr>
        <p:spPr>
          <a:xfrm>
            <a:off x="2935440" y="4221000"/>
            <a:ext cx="642960" cy="7718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тро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нили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4" descr="Amin2"/>
          <p:cNvPicPr/>
          <p:nvPr/>
        </p:nvPicPr>
        <p:blipFill>
          <a:blip r:embed="rId1"/>
          <a:stretch/>
        </p:blipFill>
        <p:spPr>
          <a:xfrm>
            <a:off x="900000" y="2997360"/>
            <a:ext cx="2376720" cy="35272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Amin11"/>
          <p:cNvPicPr/>
          <p:nvPr/>
        </p:nvPicPr>
        <p:blipFill>
          <a:blip r:embed="rId2"/>
          <a:stretch/>
        </p:blipFill>
        <p:spPr>
          <a:xfrm>
            <a:off x="4643280" y="3068640"/>
            <a:ext cx="322920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7T11:56:39Z</dcterms:created>
  <dc:creator>Evgenij V. Dymont</dc:creator>
  <dc:description/>
  <dc:language>en-US</dc:language>
  <cp:lastModifiedBy>RePack by Diakov</cp:lastModifiedBy>
  <dcterms:modified xsi:type="dcterms:W3CDTF">2022-04-06T18:48:07Z</dcterms:modified>
  <cp:revision>87</cp:revision>
  <dc:subject/>
  <dc:title>Химические свойства анилин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802000000000001024140</vt:lpwstr>
  </property>
</Properties>
</file>