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75AB-B959-4928-AB1E-8A7A0C4FD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CBF7-B7BD-41F3-92AB-37D21178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5BC3-9FE4-4189-9F1E-14E30EA9F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B76B-1DEB-42E1-9A6D-814141C8D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0AE3-B279-42A2-A01F-5FD733647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B212-E40C-41E9-BBC6-1FA36D52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3727-7270-4675-9DE0-9ECD6959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84CC-1DFC-4CD1-A7ED-73F0C820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6005-9662-4456-B856-D3B6A802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AB76-AA1B-49E4-89D6-F396D986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A035-8329-4958-8603-C9A5D026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72B5-A924-42D5-B163-4A095F67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1F56-D979-405C-B4AF-4D8CA2B0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41E4-5B08-4199-9711-92A3B817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E986-14BE-45F2-A074-9EC0DBC7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DA6F-76AD-4489-AFB2-AE11FA899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84C5-71A0-4C27-8D08-140F808A1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2FCDF-1A41-4524-8BDC-F9999E9B7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E68E7-040D-4096-A148-8250D510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0A17E-AD81-4D4E-A9FB-BD4A9AF4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4D222-60CB-45A7-89AE-D4895C64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68794-D55D-4843-AFBB-785BA3D4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B8A2-E4C8-4505-83B6-9B17EE60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4628F-0C6E-4729-B740-60F54CB0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F7A30-5CC3-4278-8C7D-AA637AA2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A1047-1E9B-40D9-B71B-15966099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B9654-66CE-4B09-A3DD-41EF1303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055A0-B66E-4670-86C2-E0104B06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C2CEA-7B30-4419-86FB-5CE17D704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48329-602E-4325-838C-EA66A4150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24A9F-7ADA-4990-85C7-922EDCEC2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86021-23A9-4A66-A41E-220F2E4C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D7062-5A80-46A7-BDDA-2D2B5EB8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CE59-9B8E-4D44-A299-E70ADFE0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A1D60-FAEF-4FE8-AE78-857E0C52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5A560-F111-4598-968E-A773763D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56D93-973D-40E0-BD95-6E13EFCA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70E4A-F687-452F-BAB6-C506A87B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A1664-B32E-4327-86B9-3581793B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8D995-DD93-4BD7-97A8-E6AFAEBC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B5C2B-1C60-47FC-B778-B0B32E91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F4415-98C4-4ABE-A2A7-AB73A6F2F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BD422-605E-42C5-8870-47843F18B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3015-0AE8-4963-BF7C-846F2779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9503-37E7-486E-84BF-65B4C8FE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7E20-E170-4AEC-86EC-B0F0C115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9DF0-AC10-431E-9D3B-3C018EB5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3CB4-0B90-44DD-B935-52DC6A74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4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Нехорошева Наталья Владимировна ГБОУ СОШ "Школа здоровья" №901 г. Моск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E958-653A-4D8D-8AA5-38112C93B782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4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5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6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7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Нехорошева Наталья Владимировна ГБОУ СОШ "Школа здоровья" №901 г. Моск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0ECA-DFDD-4CA6-AB60-D3E1FF8136D2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4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5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7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Нехорошева Наталья Владимировна ГБОУ СОШ "Школа здоровья" №901 г. Моск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6F80-1200-49DF-BF73-562E2979A648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4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5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6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7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Нехорошева Наталья Владимировна ГБОУ СОШ "Школа здоровья" №901 г. Моск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CEA4-ACA6-40C3-9055-DD4022D8A221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WordArt 4"/>
          <p:cNvSpPr txBox="1"/>
          <p:nvPr/>
        </p:nvSpPr>
        <p:spPr>
          <a:xfrm>
            <a:off x="-9360" y="349200"/>
            <a:ext cx="26431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206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blue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206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5" name="WordArt 5"/>
          <p:cNvSpPr txBox="1"/>
          <p:nvPr/>
        </p:nvSpPr>
        <p:spPr>
          <a:xfrm>
            <a:off x="611280" y="404640"/>
            <a:ext cx="2232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b0f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олубой</a:t>
            </a:r>
            <a:endParaRPr b="0" lang="en-US" sz="1800" spc="1" strike="noStrike">
              <a:ln w="0">
                <a:noFill/>
              </a:ln>
              <a:solidFill>
                <a:srgbClr val="00b0f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WordArt 6"/>
          <p:cNvSpPr txBox="1"/>
          <p:nvPr/>
        </p:nvSpPr>
        <p:spPr>
          <a:xfrm>
            <a:off x="6000840" y="357120"/>
            <a:ext cx="2735280" cy="6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206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green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206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7" name="WordArt 7"/>
          <p:cNvSpPr txBox="1"/>
          <p:nvPr/>
        </p:nvSpPr>
        <p:spPr>
          <a:xfrm>
            <a:off x="6186600" y="428760"/>
            <a:ext cx="2633400" cy="40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b05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еленый</a:t>
            </a:r>
            <a:endParaRPr b="0" lang="en-US" sz="1800" spc="1" strike="noStrike">
              <a:ln w="0">
                <a:noFill/>
              </a:ln>
              <a:solidFill>
                <a:srgbClr val="00b05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WordArt 10"/>
          <p:cNvSpPr txBox="1"/>
          <p:nvPr/>
        </p:nvSpPr>
        <p:spPr>
          <a:xfrm>
            <a:off x="395280" y="1305000"/>
            <a:ext cx="3024360" cy="76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9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206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re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206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9" name="WordArt 11"/>
          <p:cNvSpPr txBox="1"/>
          <p:nvPr/>
        </p:nvSpPr>
        <p:spPr>
          <a:xfrm>
            <a:off x="755640" y="1359000"/>
            <a:ext cx="2374920" cy="5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асный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0" name="WordArt 12"/>
          <p:cNvSpPr txBox="1"/>
          <p:nvPr/>
        </p:nvSpPr>
        <p:spPr>
          <a:xfrm>
            <a:off x="4716360" y="981000"/>
            <a:ext cx="26514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206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brown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206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1" name="WordArt 13"/>
          <p:cNvSpPr txBox="1"/>
          <p:nvPr/>
        </p:nvSpPr>
        <p:spPr>
          <a:xfrm>
            <a:off x="4356000" y="1197000"/>
            <a:ext cx="30117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21a08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оричневый</a:t>
            </a:r>
            <a:endParaRPr b="1" lang="en-US" sz="1800" spc="1" strike="noStrike">
              <a:ln w="0">
                <a:noFill/>
              </a:ln>
              <a:solidFill>
                <a:srgbClr val="821a08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2" name="WordArt 16"/>
          <p:cNvSpPr txBox="1"/>
          <p:nvPr/>
        </p:nvSpPr>
        <p:spPr>
          <a:xfrm>
            <a:off x="5003640" y="2073240"/>
            <a:ext cx="2664000" cy="92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206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pink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206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43" name="WordArt 17" descr=""/>
          <p:cNvPicPr/>
          <p:nvPr/>
        </p:nvPicPr>
        <p:blipFill>
          <a:blip r:embed="rId1"/>
          <a:stretch/>
        </p:blipFill>
        <p:spPr>
          <a:xfrm>
            <a:off x="4998960" y="2066760"/>
            <a:ext cx="2401920" cy="951120"/>
          </a:xfrm>
          <a:prstGeom prst="rect">
            <a:avLst/>
          </a:prstGeom>
          <a:ln w="0">
            <a:noFill/>
          </a:ln>
        </p:spPr>
      </p:pic>
      <p:pic>
        <p:nvPicPr>
          <p:cNvPr id="244" name="WordArt 18" descr=""/>
          <p:cNvPicPr/>
          <p:nvPr/>
        </p:nvPicPr>
        <p:blipFill>
          <a:blip r:embed="rId2"/>
          <a:stretch/>
        </p:blipFill>
        <p:spPr>
          <a:xfrm>
            <a:off x="554040" y="2530440"/>
            <a:ext cx="2908440" cy="779400"/>
          </a:xfrm>
          <a:prstGeom prst="rect">
            <a:avLst/>
          </a:prstGeom>
          <a:ln w="0">
            <a:noFill/>
          </a:ln>
        </p:spPr>
      </p:pic>
      <p:sp>
        <p:nvSpPr>
          <p:cNvPr id="245" name="WordArt 19"/>
          <p:cNvSpPr txBox="1"/>
          <p:nvPr/>
        </p:nvSpPr>
        <p:spPr>
          <a:xfrm>
            <a:off x="611280" y="2536920"/>
            <a:ext cx="2519280" cy="92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ерный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6" name="WordArt 20"/>
          <p:cNvSpPr txBox="1"/>
          <p:nvPr/>
        </p:nvSpPr>
        <p:spPr>
          <a:xfrm>
            <a:off x="3276720" y="3465360"/>
            <a:ext cx="2724120" cy="10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206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yellow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206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7" name="WordArt 21"/>
          <p:cNvSpPr txBox="1"/>
          <p:nvPr/>
        </p:nvSpPr>
        <p:spPr>
          <a:xfrm>
            <a:off x="3419640" y="3465360"/>
            <a:ext cx="22320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желтый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8" name="WordArt 22"/>
          <p:cNvSpPr txBox="1"/>
          <p:nvPr/>
        </p:nvSpPr>
        <p:spPr>
          <a:xfrm>
            <a:off x="285840" y="4653000"/>
            <a:ext cx="2557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206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orange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206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9" name="WordArt 23"/>
          <p:cNvSpPr txBox="1"/>
          <p:nvPr/>
        </p:nvSpPr>
        <p:spPr>
          <a:xfrm>
            <a:off x="395280" y="4359240"/>
            <a:ext cx="230508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ранжевый</a:t>
            </a:r>
            <a:endParaRPr b="1" lang="en-US" sz="40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0" name="WordArt 24"/>
          <p:cNvSpPr txBox="1"/>
          <p:nvPr/>
        </p:nvSpPr>
        <p:spPr>
          <a:xfrm>
            <a:off x="5862600" y="4359240"/>
            <a:ext cx="2882880" cy="1230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206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grey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206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1" name="WordArt 25"/>
          <p:cNvSpPr txBox="1"/>
          <p:nvPr/>
        </p:nvSpPr>
        <p:spPr>
          <a:xfrm>
            <a:off x="6000840" y="4359240"/>
            <a:ext cx="2735280" cy="123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7f7f7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ерый</a:t>
            </a:r>
            <a:endParaRPr b="1" lang="en-US" sz="1800" spc="1" strike="noStrike">
              <a:ln w="0">
                <a:noFill/>
              </a:ln>
              <a:solidFill>
                <a:srgbClr val="7f7f7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2" name="WordArt 26"/>
          <p:cNvSpPr txBox="1"/>
          <p:nvPr/>
        </p:nvSpPr>
        <p:spPr>
          <a:xfrm>
            <a:off x="3276720" y="5229360"/>
            <a:ext cx="2374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206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white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206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3" name="WordArt 27"/>
          <p:cNvSpPr txBox="1"/>
          <p:nvPr/>
        </p:nvSpPr>
        <p:spPr>
          <a:xfrm>
            <a:off x="3276720" y="5229360"/>
            <a:ext cx="2374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елый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4" name="Нижний колонтитул 1"/>
          <p:cNvSpPr/>
          <p:nvPr/>
        </p:nvSpPr>
        <p:spPr>
          <a:xfrm>
            <a:off x="457200" y="6381720"/>
            <a:ext cx="7570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Нехорошева Наталья Владими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13:42:07Z</dcterms:created>
  <dc:creator>Toma</dc:creator>
  <dc:description/>
  <dc:language>en-US</dc:language>
  <cp:lastModifiedBy>Наталья</cp:lastModifiedBy>
  <dcterms:modified xsi:type="dcterms:W3CDTF">2022-04-07T14:36:14Z</dcterms:modified>
  <cp:revision>15</cp:revision>
  <dc:subject/>
  <dc:title>Слайд 1</dc:title>
</cp:coreProperties>
</file>