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D7E-0C11-4FED-AB29-EF7FF9CB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861-909D-4E21-88AB-C511DA05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D9A-B2F4-4104-8C6A-A391FA52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9DC-FB82-4E10-9BED-E877619D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5DD-7DA4-4EAF-8DB1-4C7CA787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1E9-CC59-45FC-85D7-05198C1E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A4C-3827-4437-BEB7-0E828D6A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254-C5A5-42C1-AE2B-D3E6A2B1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1E1-C3F0-44B8-AABE-DC74C10C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662-243D-43F5-BD00-5B78D4BF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C0F-FF9A-4E4C-8656-A2F6193C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E61-FB23-4056-B34C-F0B2E847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2536-02A4-4D9D-AF9E-5C34CBBEF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СЛОВА на СЛОГ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ап"/>
          <p:cNvPicPr/>
          <p:nvPr/>
        </p:nvPicPr>
        <p:blipFill>
          <a:blip r:embed="rId1"/>
          <a:stretch/>
        </p:blipFill>
        <p:spPr>
          <a:xfrm>
            <a:off x="-828720" y="189000"/>
            <a:ext cx="5138640" cy="3854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дольки"/>
          <p:cNvPicPr/>
          <p:nvPr/>
        </p:nvPicPr>
        <p:blipFill>
          <a:blip r:embed="rId2"/>
          <a:stretch/>
        </p:blipFill>
        <p:spPr>
          <a:xfrm>
            <a:off x="4643280" y="2492280"/>
            <a:ext cx="4175280" cy="3799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685440" y="4580280"/>
            <a:ext cx="348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доль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полено"/>
          <p:cNvPicPr/>
          <p:nvPr/>
        </p:nvPicPr>
        <p:blipFill>
          <a:blip r:embed="rId1"/>
          <a:stretch/>
        </p:blipFill>
        <p:spPr>
          <a:xfrm>
            <a:off x="179280" y="0"/>
            <a:ext cx="3746520" cy="3746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части пол"/>
          <p:cNvPicPr/>
          <p:nvPr/>
        </p:nvPicPr>
        <p:blipFill>
          <a:blip r:embed="rId2"/>
          <a:stretch/>
        </p:blipFill>
        <p:spPr>
          <a:xfrm>
            <a:off x="4788000" y="620640"/>
            <a:ext cx="3948120" cy="29466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900720" y="4004280"/>
            <a:ext cx="26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ол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364720" y="4075560"/>
            <a:ext cx="30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лень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252720" y="1915200"/>
            <a:ext cx="285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м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ш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н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машина"/>
          <p:cNvPicPr/>
          <p:nvPr/>
        </p:nvPicPr>
        <p:blipFill>
          <a:blip r:embed="rId1"/>
          <a:stretch/>
        </p:blipFill>
        <p:spPr>
          <a:xfrm>
            <a:off x="324000" y="115920"/>
            <a:ext cx="2774880" cy="188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цветы"/>
          <p:cNvPicPr/>
          <p:nvPr/>
        </p:nvPicPr>
        <p:blipFill>
          <a:blip r:embed="rId2"/>
          <a:stretch/>
        </p:blipFill>
        <p:spPr>
          <a:xfrm>
            <a:off x="5651640" y="189000"/>
            <a:ext cx="2950920" cy="1844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5870160" y="1915200"/>
            <a:ext cx="232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цв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00" y="2707200"/>
            <a:ext cx="10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117440" y="2707200"/>
            <a:ext cx="117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341800" y="2707200"/>
            <a:ext cx="97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5653440" y="2635560"/>
            <a:ext cx="14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цв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7238520" y="2635920"/>
            <a:ext cx="110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902160" y="285192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2126160" y="285192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6948360" y="2780640"/>
            <a:ext cx="3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6229440" y="3572640"/>
            <a:ext cx="201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с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97080" y="3572640"/>
            <a:ext cx="201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с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8" descr="сыр"/>
          <p:cNvPicPr/>
          <p:nvPr/>
        </p:nvPicPr>
        <p:blipFill>
          <a:blip r:embed="rId3"/>
          <a:stretch/>
        </p:blipFill>
        <p:spPr>
          <a:xfrm>
            <a:off x="3708360" y="2852640"/>
            <a:ext cx="1644840" cy="1644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9"/>
          <p:cNvSpPr/>
          <p:nvPr/>
        </p:nvSpPr>
        <p:spPr>
          <a:xfrm>
            <a:off x="3710160" y="4364640"/>
            <a:ext cx="156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с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3709800" y="5515920"/>
            <a:ext cx="17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с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Arial"/>
              </a:rPr>
              <a:t>СЛОВА ДЕЛЯТСЯ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8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0" spc="-1" strike="noStrike" u="sng">
                <a:solidFill>
                  <a:srgbClr val="0066ff"/>
                </a:solidFill>
                <a:uFillTx/>
                <a:latin typeface="Arial"/>
              </a:rPr>
              <a:t>СЛОГИ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1:22:19Z</dcterms:created>
  <dc:creator>Пользователь</dc:creator>
  <dc:description/>
  <dc:language>en-US</dc:language>
  <cp:lastModifiedBy>48</cp:lastModifiedBy>
  <dcterms:modified xsi:type="dcterms:W3CDTF">2022-04-07T20:38:30Z</dcterms:modified>
  <cp:revision>5</cp:revision>
  <dc:subject/>
  <dc:title>СЛОВА на СЛОГИ</dc:title>
</cp:coreProperties>
</file>