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6D5-F68A-4A43-B8B5-70E4FF9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F4E-2BFA-4114-970F-E2D8CB82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6C4-4DD6-4DDE-AD36-DABB65DE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161-D06D-46AA-9BC4-DE97FFD1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8D9-BC38-4F89-9726-A35E001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2D8-0860-4AF9-BE6A-11174005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2AC-7E35-4F4F-A959-EAD915E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171-4903-4EB9-AF67-403F5559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8C8-AA75-483A-AFF7-9234D35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28B-4EAB-4AFF-8BE4-F41CA292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E06-AB59-46D8-96BF-6A7304D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D9E-DAE9-4497-A15E-197C3FF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FBD3-AD9F-4AD8-9C49-A5549052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4T07:58:06Z</dcterms:created>
  <dc:creator>emachines</dc:creator>
  <dc:description/>
  <dc:language>en-US</dc:language>
  <cp:lastModifiedBy>emachines</cp:lastModifiedBy>
  <dcterms:modified xsi:type="dcterms:W3CDTF">2022-04-04T07:58:16Z</dcterms:modified>
  <cp:revision>1</cp:revision>
  <dc:subject/>
  <dc:title>Слайд 1</dc:title>
</cp:coreProperties>
</file>