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B33-AC76-4B63-BF9A-4B42F9CD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F7C-C539-45FC-A611-D0797183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C18-9BAC-432E-A96B-DF40F87A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D55-5307-40CD-97CA-CBFDF721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BA7-1BDC-4485-B3F4-39EF4661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323-E17E-44C6-84D3-1F8F7612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80A-6C0B-458B-899B-EAB73D89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F5C-1E2F-4A25-98E4-08566510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241-0699-4AF5-8529-9AE70DB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3B7-B7B0-4572-A7E0-F6B3AD0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672-CDFE-4C3A-9260-7CB41EF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16B-0CE9-4DE2-AAF6-0DF173F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C613-FE75-4DEA-890A-FF846BE68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4T07:58:06Z</dcterms:created>
  <dc:creator>emachines</dc:creator>
  <dc:description/>
  <dc:language>en-US</dc:language>
  <cp:lastModifiedBy>emachines</cp:lastModifiedBy>
  <dcterms:modified xsi:type="dcterms:W3CDTF">2022-04-04T07:58:16Z</dcterms:modified>
  <cp:revision>1</cp:revision>
  <dc:subject/>
  <dc:title>Слайд 1</dc:title>
</cp:coreProperties>
</file>