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805-A8DD-41FC-AB03-3CB6098B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59F-BF53-4173-B362-A53A91C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9E4-FF5E-4DCE-8A0D-E68DA099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908-E701-4469-99EE-217DCBD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2DA-C091-407D-BE24-429E0FD7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55B-81D1-4758-B545-40C4885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BE4-2E39-4754-B604-8D7A84F6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F5D-0547-43CE-A1D5-B582643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5E7-64A0-4ADF-B522-A31B6336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8DB-E12B-4209-B1FB-4894D49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171-EC69-44E3-8DF4-868EE49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851-FED9-4B31-8922-593806D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110-9B95-4BAD-82AE-126B9E0C7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уществление индивидуально-личностного подхода в работе с детьми с особыми образовательными потребностя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5000"/>
            <a:ext cx="5969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-дефектоло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ляева Виктория Вадим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ворческие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G_6670"/>
          <p:cNvPicPr/>
          <p:nvPr/>
        </p:nvPicPr>
        <p:blipFill>
          <a:blip r:embed="rId1"/>
          <a:stretch/>
        </p:blipFill>
        <p:spPr>
          <a:xfrm>
            <a:off x="1692360" y="1484280"/>
            <a:ext cx="5904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3640" y="692280"/>
            <a:ext cx="8569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ивная реализация включения ребенка с ограниченными возможностями здоровья в среду образовательного учреждения представляется практически невозможной без специализированного психолого-педагог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клюзивное образование предполагает изменение образовательной системы, школы, а не самого ребёнка. Внимание педагогов при включении детей с ОВЗ в единое образовательное пространство урока, занятия, мероприятия акцентировано на возможностях и сильных сторонах в развитии ребё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й подход является основой организации образовательного пространства. И все принципы, приемы и методы личностно-ориентированного подхода успешно работают при организации инклюзивного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т простого к сложном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изация начинается с взаимодействия с педагогом, создания комфортной эмоциональной сре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 этап – микрогруппа, в которую объединяются дети со схожими психотип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в группу в процессе творческ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нсорная комна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IMG_6621"/>
          <p:cNvPicPr/>
          <p:nvPr/>
        </p:nvPicPr>
        <p:blipFill>
          <a:blip r:embed="rId1"/>
          <a:stretch/>
        </p:blipFill>
        <p:spPr>
          <a:xfrm>
            <a:off x="684360" y="14842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IMG_6623"/>
          <p:cNvPicPr/>
          <p:nvPr/>
        </p:nvPicPr>
        <p:blipFill>
          <a:blip r:embed="rId2"/>
          <a:stretch/>
        </p:blipFill>
        <p:spPr>
          <a:xfrm>
            <a:off x="5076720" y="14842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дивидуа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IMG_5597 (2)"/>
          <p:cNvPicPr/>
          <p:nvPr/>
        </p:nvPicPr>
        <p:blipFill>
          <a:blip r:embed="rId1"/>
          <a:stretch/>
        </p:blipFill>
        <p:spPr>
          <a:xfrm>
            <a:off x="3059280" y="162864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е в микро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IMG_6609"/>
          <p:cNvPicPr/>
          <p:nvPr/>
        </p:nvPicPr>
        <p:blipFill>
          <a:blip r:embed="rId1"/>
          <a:stretch/>
        </p:blipFill>
        <p:spPr>
          <a:xfrm>
            <a:off x="1835280" y="1628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IMG_6608"/>
          <p:cNvPicPr/>
          <p:nvPr/>
        </p:nvPicPr>
        <p:blipFill>
          <a:blip r:embed="rId1"/>
          <a:stretch/>
        </p:blipFill>
        <p:spPr>
          <a:xfrm>
            <a:off x="1042920" y="333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е в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IMG_6912"/>
          <p:cNvPicPr/>
          <p:nvPr/>
        </p:nvPicPr>
        <p:blipFill>
          <a:blip r:embed="rId1"/>
          <a:stretch/>
        </p:blipFill>
        <p:spPr>
          <a:xfrm>
            <a:off x="611280" y="17002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IMG_6913"/>
          <p:cNvPicPr/>
          <p:nvPr/>
        </p:nvPicPr>
        <p:blipFill>
          <a:blip r:embed="rId2"/>
          <a:srcRect l="0" t="113" r="8689" b="-214"/>
          <a:stretch/>
        </p:blipFill>
        <p:spPr>
          <a:xfrm>
            <a:off x="4572000" y="1919160"/>
            <a:ext cx="347832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ворческие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IMG_0041"/>
          <p:cNvPicPr/>
          <p:nvPr/>
        </p:nvPicPr>
        <p:blipFill>
          <a:blip r:embed="rId1"/>
          <a:stretch/>
        </p:blipFill>
        <p:spPr>
          <a:xfrm>
            <a:off x="1042920" y="177336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IMG_6668"/>
          <p:cNvPicPr/>
          <p:nvPr/>
        </p:nvPicPr>
        <p:blipFill>
          <a:blip r:embed="rId2"/>
          <a:stretch/>
        </p:blipFill>
        <p:spPr>
          <a:xfrm>
            <a:off x="4500720" y="2133720"/>
            <a:ext cx="3755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3:30:31Z</dcterms:created>
  <dc:creator>Windows</dc:creator>
  <dc:description/>
  <dc:language>en-US</dc:language>
  <cp:lastModifiedBy>Эдуплей</cp:lastModifiedBy>
  <dcterms:modified xsi:type="dcterms:W3CDTF">2022-04-07T08:39:52Z</dcterms:modified>
  <cp:revision>5</cp:revision>
  <dc:subject/>
  <dc:title>PowerPoint Presentation</dc:title>
</cp:coreProperties>
</file>