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03C-6A0C-4FAE-A192-06B1D5A2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8E7-167B-42F8-9AE0-1EAE393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1D9-5363-4924-B700-CBCCB6A6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C10-B563-4AF0-BCD5-5377163E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26D-B8A8-434F-B02F-DA4C6F3F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6FE-67BB-427C-8F99-20F9EC89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9D5-DBC6-4222-8E27-BDF4393C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A1C-A092-42A1-AD1D-3579B4ED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2A9-E0BB-4B81-8161-23D6FB17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CF4-4A10-4E93-A954-DF93E567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AE8-07D4-4B03-AB2E-2F9D9FF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184-0FCC-4A3C-AAD1-9B3FB8B3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A042-25B0-4BA4-9C44-CBE5D5D37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4T07:50:49Z</dcterms:created>
  <dc:creator>emachines</dc:creator>
  <dc:description/>
  <dc:language>en-US</dc:language>
  <cp:lastModifiedBy>emachines</cp:lastModifiedBy>
  <dcterms:modified xsi:type="dcterms:W3CDTF">2022-04-04T07:50:58Z</dcterms:modified>
  <cp:revision>1</cp:revision>
  <dc:subject/>
  <dc:title>Слайд 1</dc:title>
</cp:coreProperties>
</file>