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0E2-DBBD-4249-A35A-565FB5D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9E9-5814-487A-929E-06A40D4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D5C-4F5E-4061-BF73-1F40002E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7F8-8D45-462F-B96B-F5AF31AD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42A-DF9A-4C8E-86B8-B031A49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EF5-6863-46E8-B0D3-AE7B4B6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AEF-9093-41ED-8BE7-F7D850F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1C1-1B3F-4C04-8762-0B12AF8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9DE-4CFF-417B-AE0E-FF9A643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B2D-17D5-46D7-931A-A3D4A30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315-A89B-48FA-8CB9-4CAD001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2A1-CB4A-4FDF-9A5C-7F0A65C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F40-9008-4650-A5FC-1FA059151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 вы думаете, что такое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«космос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468360" y="476280"/>
            <a:ext cx="8238960" cy="4287960"/>
            <a:chOff x="468360" y="476280"/>
            <a:chExt cx="8238960" cy="4287960"/>
          </a:xfrm>
        </p:grpSpPr>
        <p:pic>
          <p:nvPicPr>
            <p:cNvPr id="44" name="Picture 5" descr="1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268776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9"/>
            <p:cNvPicPr/>
            <p:nvPr/>
          </p:nvPicPr>
          <p:blipFill>
            <a:blip r:embed="rId3"/>
            <a:stretch/>
          </p:blipFill>
          <p:spPr>
            <a:xfrm>
              <a:off x="5580000" y="1484280"/>
              <a:ext cx="31273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f"/>
            <p:cNvPicPr/>
            <p:nvPr/>
          </p:nvPicPr>
          <p:blipFill>
            <a:blip r:embed="rId4"/>
            <a:stretch/>
          </p:blipFill>
          <p:spPr>
            <a:xfrm>
              <a:off x="3276720" y="476280"/>
              <a:ext cx="26492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1" descr="17"/>
            <p:cNvPicPr/>
            <p:nvPr/>
          </p:nvPicPr>
          <p:blipFill>
            <a:blip r:embed="rId5"/>
            <a:stretch/>
          </p:blipFill>
          <p:spPr>
            <a:xfrm>
              <a:off x="3419640" y="2565360"/>
              <a:ext cx="2104920" cy="219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Животные-космонав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1280" y="1959120"/>
            <a:ext cx="4835520" cy="355752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жде, чем в космос полетел первый человек, учёные сначала отправляли туда различ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755640" y="1268280"/>
            <a:ext cx="2736720" cy="5224680"/>
            <a:chOff x="755640" y="1268280"/>
            <a:chExt cx="2736720" cy="5224680"/>
          </a:xfrm>
        </p:grpSpPr>
        <p:pic>
          <p:nvPicPr>
            <p:cNvPr id="83" name="Picture 4" descr="54"/>
            <p:cNvPicPr/>
            <p:nvPr/>
          </p:nvPicPr>
          <p:blipFill>
            <a:blip r:embed="rId2"/>
            <a:stretch/>
          </p:blipFill>
          <p:spPr>
            <a:xfrm>
              <a:off x="755640" y="1268280"/>
              <a:ext cx="2736720" cy="261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4" name="Picture 6" descr="55"/>
            <p:cNvPicPr/>
            <p:nvPr/>
          </p:nvPicPr>
          <p:blipFill>
            <a:blip r:embed="rId3"/>
            <a:stretch/>
          </p:blipFill>
          <p:spPr>
            <a:xfrm>
              <a:off x="755640" y="4005360"/>
              <a:ext cx="2736720" cy="2487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91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2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Что такое космический кораб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230440"/>
            <a:ext cx="8229600" cy="1366920"/>
          </a:xfrm>
          <a:prstGeom prst="rect">
            <a:avLst/>
          </a:prstGeom>
          <a:solidFill>
            <a:srgbClr val="8fc7ff"/>
          </a:solidFill>
          <a:ln w="38160">
            <a:solidFill>
              <a:srgbClr val="0066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ический кораб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и дом, и научная лаборатория. В нём живут и работают космонав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34"/>
          <p:cNvPicPr/>
          <p:nvPr/>
        </p:nvPicPr>
        <p:blipFill>
          <a:blip r:embed="rId2"/>
          <a:stretch/>
        </p:blipFill>
        <p:spPr>
          <a:xfrm>
            <a:off x="971640" y="1052640"/>
            <a:ext cx="6985080" cy="4038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9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ический корабль состоит из нескольких отс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7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00" name="Line 10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3348000" y="549360"/>
            <a:ext cx="1871640" cy="2448000"/>
            <a:chOff x="3348000" y="549360"/>
            <a:chExt cx="1871640" cy="2448000"/>
          </a:xfrm>
        </p:grpSpPr>
        <p:sp>
          <p:nvSpPr>
            <p:cNvPr id="103" name="Line 11"/>
            <p:cNvSpPr/>
            <p:nvPr/>
          </p:nvSpPr>
          <p:spPr>
            <a:xfrm>
              <a:off x="4356000" y="1628640"/>
              <a:ext cx="0" cy="136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3348000" y="549360"/>
              <a:ext cx="1871640" cy="825480"/>
            </a:xfrm>
            <a:prstGeom prst="rect">
              <a:avLst/>
            </a:prstGeom>
            <a:solidFill>
              <a:srgbClr val="8fc7ff"/>
            </a:solidFill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Глав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06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111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2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рвый человек, который  шагнул в открытый космос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16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17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21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2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26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я на Землю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3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шу Землю вместе с воздушной оболочкой окружает  космос. В нём находятся  солнце, звёзды, планеты, Лу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2"/>
          <a:stretch/>
        </p:blipFill>
        <p:spPr>
          <a:xfrm>
            <a:off x="1619280" y="404640"/>
            <a:ext cx="5995800" cy="397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 днём мы видим самую близкую к нам звезду -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солгце днём"/>
          <p:cNvPicPr/>
          <p:nvPr/>
        </p:nvPicPr>
        <p:blipFill>
          <a:blip r:embed="rId1"/>
          <a:stretch/>
        </p:blipFill>
        <p:spPr>
          <a:xfrm>
            <a:off x="914400" y="205740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ОЛНЦ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– огромный раскалённый ш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солнце"/>
          <p:cNvPicPr/>
          <p:nvPr/>
        </p:nvPicPr>
        <p:blipFill>
          <a:blip r:embed="rId1"/>
          <a:stretch/>
        </p:blipFill>
        <p:spPr>
          <a:xfrm>
            <a:off x="1219320" y="1646280"/>
            <a:ext cx="67816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Arial"/>
              </a:rPr>
              <a:t>СОЛНЦЕ является центром </a:t>
            </a:r>
            <a:br>
              <a:rPr sz="4000"/>
            </a:br>
            <a:r>
              <a:rPr b="1" i="1" lang="ru-RU" sz="4000" spc="-1" strike="noStrike">
                <a:solidFill>
                  <a:srgbClr val="ff9900"/>
                </a:solidFill>
                <a:latin typeface="Arial"/>
              </a:rPr>
              <a:t>СОЛН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эту систему вхо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 планет, которые вращаются вокруг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Солнечная система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Планеты"/>
          <p:cNvPicPr/>
          <p:nvPr/>
        </p:nvPicPr>
        <p:blipFill>
          <a:blip r:embed="rId1"/>
          <a:stretch/>
        </p:blipFill>
        <p:spPr>
          <a:xfrm>
            <a:off x="304920" y="1371600"/>
            <a:ext cx="41907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Парад планет"/>
          <p:cNvPicPr/>
          <p:nvPr/>
        </p:nvPicPr>
        <p:blipFill>
          <a:blip r:embed="rId2"/>
          <a:stretch/>
        </p:blipFill>
        <p:spPr>
          <a:xfrm>
            <a:off x="4648320" y="13716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Другие небесные тела:</a:t>
            </a:r>
            <a:br>
              <a:rPr sz="4000"/>
            </a:br>
            <a:r>
              <a:rPr b="1" i="1" lang="ru-RU" sz="4000" spc="-1" strike="noStrike" u="sng">
                <a:solidFill>
                  <a:srgbClr val="ff33cc"/>
                </a:solidFill>
                <a:uFillTx/>
                <a:latin typeface="Arial"/>
              </a:rPr>
              <a:t>метеориты, астеройды, ко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Метеориты"/>
          <p:cNvPicPr/>
          <p:nvPr/>
        </p:nvPicPr>
        <p:blipFill>
          <a:blip r:embed="rId1"/>
          <a:stretch/>
        </p:blipFill>
        <p:spPr>
          <a:xfrm>
            <a:off x="457200" y="1981080"/>
            <a:ext cx="2919240" cy="218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астеройд"/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комета"/>
          <p:cNvPicPr/>
          <p:nvPr/>
        </p:nvPicPr>
        <p:blipFill>
          <a:blip r:embed="rId3"/>
          <a:stretch/>
        </p:blipFill>
        <p:spPr>
          <a:xfrm>
            <a:off x="1066680" y="4419720"/>
            <a:ext cx="34527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Искусственные спутники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040360" cy="5256360"/>
          </a:xfrm>
          <a:prstGeom prst="rect">
            <a:avLst/>
          </a:prstGeom>
          <a:solidFill>
            <a:srgbClr val="acebea"/>
          </a:solidFill>
          <a:ln w="381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втоматические корабл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которые выводятся ракетами на орбиту Зем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Спутник 2"/>
          <p:cNvPicPr/>
          <p:nvPr/>
        </p:nvPicPr>
        <p:blipFill>
          <a:blip r:embed="rId2"/>
          <a:stretch/>
        </p:blipFill>
        <p:spPr>
          <a:xfrm>
            <a:off x="0" y="2060640"/>
            <a:ext cx="3600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44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утники  служат для того, чтобы передавать по всему миру телефонные разговоры, телевизионные передачи, информацию о погоде.  Они помогают изучать Землю, Солнце, планеты,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468360" y="333360"/>
            <a:ext cx="7745400" cy="3713040"/>
            <a:chOff x="468360" y="333360"/>
            <a:chExt cx="7745400" cy="3713040"/>
          </a:xfrm>
        </p:grpSpPr>
        <p:pic>
          <p:nvPicPr>
            <p:cNvPr id="71" name="Picture 4" descr="Спутник 2"/>
            <p:cNvPicPr/>
            <p:nvPr/>
          </p:nvPicPr>
          <p:blipFill>
            <a:blip r:embed="rId2"/>
            <a:stretch/>
          </p:blipFill>
          <p:spPr>
            <a:xfrm>
              <a:off x="3276720" y="476280"/>
              <a:ext cx="208728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5" descr="20"/>
            <p:cNvPicPr/>
            <p:nvPr/>
          </p:nvPicPr>
          <p:blipFill>
            <a:blip r:embed="rId3"/>
            <a:stretch/>
          </p:blipFill>
          <p:spPr>
            <a:xfrm>
              <a:off x="7164360" y="333360"/>
              <a:ext cx="1049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21"/>
            <p:cNvPicPr/>
            <p:nvPr/>
          </p:nvPicPr>
          <p:blipFill>
            <a:blip r:embed="rId4"/>
            <a:stretch/>
          </p:blipFill>
          <p:spPr>
            <a:xfrm>
              <a:off x="5580000" y="2060640"/>
              <a:ext cx="17938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7" descr="22"/>
            <p:cNvPicPr/>
            <p:nvPr/>
          </p:nvPicPr>
          <p:blipFill>
            <a:blip r:embed="rId5"/>
            <a:stretch/>
          </p:blipFill>
          <p:spPr>
            <a:xfrm>
              <a:off x="1187280" y="2492280"/>
              <a:ext cx="23274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23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13572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9"/>
            <p:cNvSpPr/>
            <p:nvPr/>
          </p:nvSpPr>
          <p:spPr>
            <a:xfrm flipH="1">
              <a:off x="1908000" y="112536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4716360" y="2205000"/>
              <a:ext cx="71928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5364000" y="1052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 flipH="1">
              <a:off x="3059280" y="2205000"/>
              <a:ext cx="72072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Пользователь</cp:lastModifiedBy>
  <dcterms:modified xsi:type="dcterms:W3CDTF">2022-04-07T15:08:44Z</dcterms:modified>
  <cp:revision>12</cp:revision>
  <dc:subject/>
  <dc:title>Слайд 1</dc:title>
</cp:coreProperties>
</file>