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CE9-7610-4F62-ACD6-38182426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ADE-EA75-4712-AC1A-A006D260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6BD-C2A9-45E2-BDC6-614CF4CE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EB7-5775-4D57-A26C-046C5256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2470-9A7D-422C-BE2F-3900C652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2B68-B24F-426E-96FC-3A002FC0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1B77-FF1E-4C5B-BC6D-653931D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D124-F42D-4D01-9CD4-009132B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B961-4C5A-40F1-8760-139B13C2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73A2-EF81-4D20-B552-196837DC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581C-068B-4175-89F9-E41C484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C43-10B4-463E-A4E4-848AAB62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1609-0BBE-47F3-9FD7-07B175E7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2E83-B70A-4469-A9BE-F4932C79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784F-02EA-41D2-AA86-2E8B491D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63DA-3009-47E0-9764-03CCEE06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8DD8-BE8D-4091-AD82-E6480573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AB0C9-5FB4-4209-9D1D-2225DB97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26D57-761F-4A09-8302-03C2864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9A0A7-EF27-450F-9F06-CED9DAD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9677A-2B30-4214-9515-5B4A7D6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CC4E9-F450-4070-AFB0-8A088B1D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810-78C1-4EF6-8C97-4EE7A594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69188-2452-41E9-B03F-3BACABA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49E96-0393-499E-913F-1F32C679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0B520-DA2A-44F8-B37C-3591C7C3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57F2D-CF47-4F0D-8C5F-6E2E481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3FF8D-0C6F-4D66-8680-A4ECDCFA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9ECB1-EFE5-430A-B5A2-7C1EAA87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8CC32-F697-451E-A285-B544F1B8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A0F81-90F0-431F-A9EA-15D98EC7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0D53-B545-4DF6-974A-1B4CE51F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2FD2-64B9-4C50-A949-B5E1251D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619-12C5-47A5-B886-62A6A34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E1AC-195B-40AC-BB5D-88111344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34E5-D627-4A02-9F3B-C19886A6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07D6-193A-4D66-8E53-10AE99D3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2123-67B9-4C29-83F6-A70ED79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3B75-BA02-4E6A-BC9A-5F366379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8BBA-04F3-423D-A9DE-17C0CD8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F5FD-7826-40B0-81BA-8326846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B37D-F979-46B9-9F61-02B30394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B3D9-529C-4936-8BA7-AD58E423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A8047-EBD4-4BE7-9CAA-D58A6D77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6DE-851E-456F-AF6D-013CEDC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DBD7C-6196-4946-B4FA-5983470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E768B-315E-426E-A5D9-C04D600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B8C64-56A4-4B0D-AE86-43ABF24B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7FDDD-0A15-4D81-8D18-2279375E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FA645-3758-462D-A774-6AA95563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749A5-44D8-4A72-8EF0-5CF7C18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74219-0F1C-4EC4-8D61-055C3E98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9A575-1BF5-42B0-B606-E0FF89E4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38C3D-B3AD-4714-9910-8BF4757C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711DC-1987-45DD-AA07-6F7663F4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F50-DDED-4927-80D8-C6769A02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A7BB0-8A9D-4160-8AFA-52B95CF9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24B58-4176-4A63-B7C3-C4F0B84F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DFBDB-6BDB-4A21-9DB5-3AB151FA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70785-DD42-48FA-9AD3-23265E6D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91432-ACBC-4D97-B645-CAC7E3D1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2BF81-B85F-4213-A39A-5EF7F9F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DE8F0-F228-4E90-91AD-8005FB2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6ECD2-A188-43A6-9FAA-78FC53A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909B1-6BDF-4A75-941E-3617842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2C168-DE44-4308-821B-E0618F0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2F6-2D64-4CFC-9B41-B551594B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FA1C8-73F0-4D8C-9058-3D731E83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F7D9E-03DD-478D-A843-09F8C2BB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08B75-A154-4733-A64B-BBD38C1F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2DEBC-4089-409D-AB9B-E66A7EA3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991A3-7CCC-436A-BD3B-CC439CF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7499A-7490-4279-B562-9EFEBEC3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9063F-CB83-4C76-A01A-6ADCECF6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B2FE9-161F-4C18-88E2-9DF8D50A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B83E0-240B-4979-927A-039A0FF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10967-6DAF-48B5-897F-1846D02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C41-C75B-4B7A-B836-A74DE01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60DEC-F76D-4B9E-92B0-B4D161C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A528A-F24B-4075-915C-46E0FEB9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2DA4F-B331-483C-872E-735762A3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500FD-F115-4477-8778-D4B826B5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D601E-A8BC-47D9-A26C-8E9C5F22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4F0-C4FC-42D2-8BA1-BD9AFC5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D050-885E-4A7A-A97F-B741F1B733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0D66-2173-43D9-81EC-6E56377889A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DABF-C24D-488A-8801-30A2E12A45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57A-54A3-421F-BCA4-F52CC36CD4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81F1-F1F1-4F19-8E52-51382FE43A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6F7-F872-4C4C-80F6-56B3024434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8671-7EE4-4590-866D-F6614E6565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7"/>
          <p:cNvSpPr/>
          <p:nvPr/>
        </p:nvSpPr>
        <p:spPr>
          <a:xfrm>
            <a:off x="2921760" y="1773360"/>
            <a:ext cx="280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сперимен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ода и возду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2147760" y="2924280"/>
            <a:ext cx="64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формирование представлений  детей средней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 свойствах воды и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4787280" y="5373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воспитатель Трухин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3900240" y="638172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П. Шаранга 20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J:\DCIM\108PHOTO\SAM_1665.JPG"/>
          <p:cNvPicPr/>
          <p:nvPr/>
        </p:nvPicPr>
        <p:blipFill>
          <a:blip r:embed="rId1"/>
          <a:stretch/>
        </p:blipFill>
        <p:spPr>
          <a:xfrm>
            <a:off x="324000" y="1844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J:\DCIM\108PHOTO\SAM_1668.JPG"/>
          <p:cNvPicPr/>
          <p:nvPr/>
        </p:nvPicPr>
        <p:blipFill>
          <a:blip r:embed="rId2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J:\DCIM\108PHOTO\SAM_1664.JPG"/>
          <p:cNvPicPr/>
          <p:nvPr/>
        </p:nvPicPr>
        <p:blipFill>
          <a:blip r:embed="rId3"/>
          <a:stretch/>
        </p:blipFill>
        <p:spPr>
          <a:xfrm>
            <a:off x="5651640" y="549360"/>
            <a:ext cx="3205080" cy="22161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1409400" y="54936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дой «Тонет – не то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J:\DCIM\108PHOTO\SAM_1662.JPG"/>
          <p:cNvPicPr/>
          <p:nvPr/>
        </p:nvPicPr>
        <p:blipFill>
          <a:blip r:embed="rId1"/>
          <a:stretch/>
        </p:blipFill>
        <p:spPr>
          <a:xfrm>
            <a:off x="1187280" y="1197000"/>
            <a:ext cx="6145560" cy="4608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689480" y="476280"/>
            <a:ext cx="55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дой и воздухом «Воздух легче вод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1763640" y="5877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блюдаем процесс попадания воздуха в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J:\DCIM\108PHOTO\SAM_1657.JPG"/>
          <p:cNvPicPr/>
          <p:nvPr/>
        </p:nvPicPr>
        <p:blipFill>
          <a:blip r:embed="rId1"/>
          <a:stretch/>
        </p:blipFill>
        <p:spPr>
          <a:xfrm>
            <a:off x="395280" y="1413000"/>
            <a:ext cx="6108840" cy="4579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J:\DCIM\108PHOTO\SAM_1659.JPG"/>
          <p:cNvPicPr/>
          <p:nvPr/>
        </p:nvPicPr>
        <p:blipFill>
          <a:blip r:embed="rId2"/>
          <a:stretch/>
        </p:blipFill>
        <p:spPr>
          <a:xfrm>
            <a:off x="3851280" y="4915080"/>
            <a:ext cx="4110120" cy="19429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1626480" y="549360"/>
            <a:ext cx="55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дой «Вода прозрачная и бесцвет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J:\DCIM\108PHOTO\SAM_1658.JPG"/>
          <p:cNvPicPr/>
          <p:nvPr/>
        </p:nvPicPr>
        <p:blipFill>
          <a:blip r:embed="rId3"/>
          <a:stretch/>
        </p:blipFill>
        <p:spPr>
          <a:xfrm>
            <a:off x="5508720" y="981000"/>
            <a:ext cx="30351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J:\DCIM\108PHOTO\SAM_1655.JPG"/>
          <p:cNvPicPr/>
          <p:nvPr/>
        </p:nvPicPr>
        <p:blipFill>
          <a:blip r:embed="rId1"/>
          <a:stretch/>
        </p:blipFill>
        <p:spPr>
          <a:xfrm>
            <a:off x="1258920" y="1197000"/>
            <a:ext cx="6194520" cy="54007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333720" y="549360"/>
            <a:ext cx="79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здухом: «Исследовать падение различных предметов  в воздух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J:\DCIM\108PHOTO\SAM_1651.JPG"/>
          <p:cNvPicPr/>
          <p:nvPr/>
        </p:nvPicPr>
        <p:blipFill>
          <a:blip r:embed="rId1"/>
          <a:stretch/>
        </p:blipFill>
        <p:spPr>
          <a:xfrm>
            <a:off x="3564000" y="2060640"/>
            <a:ext cx="4956120" cy="3717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J:\DCIM\108PHOTO\SAM_1653.JPG"/>
          <p:cNvPicPr/>
          <p:nvPr/>
        </p:nvPicPr>
        <p:blipFill>
          <a:blip r:embed="rId2"/>
          <a:stretch/>
        </p:blipFill>
        <p:spPr>
          <a:xfrm>
            <a:off x="395280" y="1413000"/>
            <a:ext cx="4511520" cy="40320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3"/>
          <p:cNvSpPr/>
          <p:nvPr/>
        </p:nvSpPr>
        <p:spPr>
          <a:xfrm>
            <a:off x="1258920" y="333360"/>
            <a:ext cx="62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 с воздухом «Убедиться в том, что при помощи воздуха можно передвигать предме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403200" y="5877000"/>
            <a:ext cx="33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ижение воздуха – это ве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1T16:29:05Z</dcterms:created>
  <dc:creator>Вован</dc:creator>
  <dc:description/>
  <dc:language>en-US</dc:language>
  <cp:lastModifiedBy>Вован</cp:lastModifiedBy>
  <dcterms:modified xsi:type="dcterms:W3CDTF">2022-04-07T16:37:34Z</dcterms:modified>
  <cp:revision>11</cp:revision>
  <dc:subject/>
  <dc:title>Слайд 1</dc:title>
</cp:coreProperties>
</file>