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02D-57CE-4902-9128-4231F492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86B7-FEB5-42C3-8263-60A7C614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D27A-AB15-4C8B-9DE4-3F9511AC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8AA-4FF3-4F73-8070-EF275AAF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FAA0-884A-4702-B0A6-6DEECF39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F861-0313-4820-9CF9-F4396FAA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BE39-5110-4F20-B373-2B3C636B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8949-BF36-4BC3-9177-D1F7CE74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8F44-5A68-4B2D-B348-15F26E2A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BF4D-00AC-41CE-A35C-9BAB857B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DE3B-BF70-49D9-8395-62C3192C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7710-B9B7-4403-9943-75B2AA56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52E8-1675-45BB-9BC8-A3A2FC38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67E7-5D78-4BDD-8308-A1F1A784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4C01-3154-4E97-A895-89EB3FA0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B782-1436-421B-8994-08DC66BA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9A3F-D0FB-44D1-9BD6-74AABE81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38B51-6D3B-4714-B1E2-9606C06A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98BF4-C172-40CB-93D3-225038B6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EC947-23F9-40CA-B6BA-7F4827FD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754F87-396B-4982-BA66-AD0726D1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09F74-311B-4CC6-AADF-B4BF6232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5D1A-51AB-4E10-A1BF-A5C63912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7E512-ECD1-49A1-AA26-875CBC6E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B2C79-775D-4DF4-9D53-4426EDB5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7302A0-73D0-4AF1-A56B-D82D1009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996F7C-A614-49CA-AEFE-3FAA5128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ABBD9-2F1A-4728-840E-4B780587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2B37C-7989-4768-98DF-22215CA8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E861D-24BB-48EB-A497-849F03D6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A94CE-21FC-4607-B608-819755CD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B1AE1-DC37-4DFA-BDED-60EA4F96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0636C-650B-47CE-8BCA-DE0E841F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2981-BA5A-4309-8D13-BEFED014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D1F49-2257-44F9-88F9-4CAEF46F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C13E3-2018-47C2-9AE3-985176E2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6D046-4EAA-47E0-8D83-1BD787A4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5664E-7A47-42BF-9D4A-FE06A34E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3DB2D-7B9E-4456-9AD1-43A1658A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6CA3F-ABA5-4199-B500-EABA135E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C2F72-BEBA-477C-A61B-4A859C99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5D8B5-4FA7-4F53-A1E5-0E8A8E47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2F252-97F7-4CC0-8964-B624828D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8A564F-5782-4DE8-AAE9-D22F2BFD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9000-3858-4C06-B340-70FC4D65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2C0416-8514-43E4-99AA-957B0582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631BB3-0750-4D27-9E58-562FDACD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49AC90-D944-4109-A5ED-C5EDFA8B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C423DA-56C1-42A9-8910-C984628D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8AB13D-F999-4B62-8CAF-97A85DE7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5DDAAA-A289-4A6A-BBEA-9BFD7EB5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9A3090-B1E9-445F-85EB-C2F8B951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3D08E9-A974-4F41-B485-FEDDF93C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EF8121-9E40-491F-BCBF-4FA6AA5C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E7209-DBC3-41BC-9787-E1831CBF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540C-F3A2-4457-9365-DEF5A760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7F8272-749E-4178-B162-46184EE4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95507A-7E7D-4F15-B5C8-3284A9F5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336B69-461E-49AD-A2BF-E3FF7CB7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3497B-11D0-4F5B-8D43-755CA7EB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23C08D-7D5B-4594-B3EA-0BAB4BD7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3353F9-E7F7-490F-946E-3CC278D6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77042A-F2B2-4685-AE6B-9A93FB64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5C5FE5-B873-4AEF-B6C2-4965D270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69BB38-E948-49D6-8E4D-5092A264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D64BA6-189D-4E5B-AE99-3736D9D8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E67-4122-4B5E-9454-A099AC12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D65D54-8D9A-438D-8E98-1B811722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243E05-ADBE-4E60-A2A8-0871E8B5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826F34-16C5-41B4-9F47-7D8F7339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4FB7D8-FBC7-463F-A3E1-4662781A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92CEC0-5188-4C77-B50F-0E0FE09A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F05531-04BD-4CE0-A6F9-31A04E70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99A5FE-BCDF-4D33-BEEA-F830CFDF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0BDB70-AB95-43A4-B0A4-1D159315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987DD3-8BA8-4F7D-BAE1-41CE8A92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04E886-E5AD-4B50-942B-8CD15622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95C-87A7-4E62-8761-19A1BF87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969C8E-FE82-4475-97DA-659E6FE7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6271A4-D22C-4B15-9F92-EFA3C986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759211-360E-405D-A4F0-18FA3C82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C6BF7F-8EB9-44DF-8F70-015A8728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F82E44-7BCC-46CA-80CD-82A31E2A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1BE0-1CC1-41E1-A6B4-07A8B9F1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CB34-FB8A-4BEA-A717-265657D3BB6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1BCB-1CA0-4A41-ADE3-3180E11229A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A4B4-A301-47E9-BC62-81AB45A54D0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2682-1770-4FFD-BD53-343CFC8C2CE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1120-2245-459A-B40C-0119BA9D133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0D51-B5AD-4118-94EC-0DF5C0FDB5E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DD4B-CA6B-48DC-8B8A-0D0AA99F1CE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7"/>
          <p:cNvSpPr/>
          <p:nvPr/>
        </p:nvSpPr>
        <p:spPr>
          <a:xfrm>
            <a:off x="2921760" y="1773360"/>
            <a:ext cx="280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ксперимен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Вода и воздух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8"/>
          <p:cNvSpPr/>
          <p:nvPr/>
        </p:nvSpPr>
        <p:spPr>
          <a:xfrm>
            <a:off x="2147760" y="2924280"/>
            <a:ext cx="643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 формирование представлений  детей средней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 свойствах воды и возд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4787280" y="537372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воспитатель Трухин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1"/>
          <p:cNvSpPr/>
          <p:nvPr/>
        </p:nvSpPr>
        <p:spPr>
          <a:xfrm>
            <a:off x="3900240" y="638172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.П. Шаранга 201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J:\DCIM\108PHOTO\SAM_1665.JPG"/>
          <p:cNvPicPr/>
          <p:nvPr/>
        </p:nvPicPr>
        <p:blipFill>
          <a:blip r:embed="rId1"/>
          <a:stretch/>
        </p:blipFill>
        <p:spPr>
          <a:xfrm>
            <a:off x="324000" y="1844640"/>
            <a:ext cx="4895640" cy="36734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J:\DCIM\108PHOTO\SAM_1668.JPG"/>
          <p:cNvPicPr/>
          <p:nvPr/>
        </p:nvPicPr>
        <p:blipFill>
          <a:blip r:embed="rId2"/>
          <a:stretch/>
        </p:blipFill>
        <p:spPr>
          <a:xfrm>
            <a:off x="4932360" y="369900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J:\DCIM\108PHOTO\SAM_1664.JPG"/>
          <p:cNvPicPr/>
          <p:nvPr/>
        </p:nvPicPr>
        <p:blipFill>
          <a:blip r:embed="rId3"/>
          <a:stretch/>
        </p:blipFill>
        <p:spPr>
          <a:xfrm>
            <a:off x="5651640" y="549360"/>
            <a:ext cx="3205080" cy="221616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1409400" y="54936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ыт с водой «Тонет – не тон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3" descr="J:\DCIM\108PHOTO\SAM_1662.JPG"/>
          <p:cNvPicPr/>
          <p:nvPr/>
        </p:nvPicPr>
        <p:blipFill>
          <a:blip r:embed="rId1"/>
          <a:stretch/>
        </p:blipFill>
        <p:spPr>
          <a:xfrm>
            <a:off x="1187280" y="1197000"/>
            <a:ext cx="6145560" cy="4608360"/>
          </a:xfrm>
          <a:prstGeom prst="rect">
            <a:avLst/>
          </a:prstGeom>
          <a:ln w="0">
            <a:noFill/>
          </a:ln>
        </p:spPr>
      </p:pic>
      <p:sp>
        <p:nvSpPr>
          <p:cNvPr id="360" name="TextBox 3"/>
          <p:cNvSpPr/>
          <p:nvPr/>
        </p:nvSpPr>
        <p:spPr>
          <a:xfrm>
            <a:off x="1689480" y="476280"/>
            <a:ext cx="559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ыт с водой и воздухом «Воздух легче воды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1763640" y="587700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блюдаем процесс попадания воздуха в в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J:\DCIM\108PHOTO\SAM_1657.JPG"/>
          <p:cNvPicPr/>
          <p:nvPr/>
        </p:nvPicPr>
        <p:blipFill>
          <a:blip r:embed="rId1"/>
          <a:stretch/>
        </p:blipFill>
        <p:spPr>
          <a:xfrm>
            <a:off x="395280" y="1413000"/>
            <a:ext cx="6108840" cy="4579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J:\DCIM\108PHOTO\SAM_1659.JPG"/>
          <p:cNvPicPr/>
          <p:nvPr/>
        </p:nvPicPr>
        <p:blipFill>
          <a:blip r:embed="rId2"/>
          <a:stretch/>
        </p:blipFill>
        <p:spPr>
          <a:xfrm>
            <a:off x="3851280" y="4915080"/>
            <a:ext cx="4110120" cy="1942920"/>
          </a:xfrm>
          <a:prstGeom prst="rect">
            <a:avLst/>
          </a:prstGeom>
          <a:ln w="0">
            <a:noFill/>
          </a:ln>
        </p:spPr>
      </p:pic>
      <p:sp>
        <p:nvSpPr>
          <p:cNvPr id="364" name="TextBox 3"/>
          <p:cNvSpPr/>
          <p:nvPr/>
        </p:nvSpPr>
        <p:spPr>
          <a:xfrm>
            <a:off x="1626480" y="549360"/>
            <a:ext cx="55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ыт с водой «Вода прозрачная и бесцвет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J:\DCIM\108PHOTO\SAM_1658.JPG"/>
          <p:cNvPicPr/>
          <p:nvPr/>
        </p:nvPicPr>
        <p:blipFill>
          <a:blip r:embed="rId3"/>
          <a:stretch/>
        </p:blipFill>
        <p:spPr>
          <a:xfrm>
            <a:off x="5508720" y="981000"/>
            <a:ext cx="30351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J:\DCIM\108PHOTO\SAM_1655.JPG"/>
          <p:cNvPicPr/>
          <p:nvPr/>
        </p:nvPicPr>
        <p:blipFill>
          <a:blip r:embed="rId1"/>
          <a:stretch/>
        </p:blipFill>
        <p:spPr>
          <a:xfrm>
            <a:off x="1258920" y="1197000"/>
            <a:ext cx="6194520" cy="5400720"/>
          </a:xfrm>
          <a:prstGeom prst="rect">
            <a:avLst/>
          </a:prstGeom>
          <a:ln w="0">
            <a:noFill/>
          </a:ln>
        </p:spPr>
      </p:pic>
      <p:sp>
        <p:nvSpPr>
          <p:cNvPr id="367" name="TextBox 2"/>
          <p:cNvSpPr/>
          <p:nvPr/>
        </p:nvSpPr>
        <p:spPr>
          <a:xfrm>
            <a:off x="333720" y="549360"/>
            <a:ext cx="79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ыт с воздухом: «Исследовать падение различных предметов  в воздух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J:\DCIM\108PHOTO\SAM_1651.JPG"/>
          <p:cNvPicPr/>
          <p:nvPr/>
        </p:nvPicPr>
        <p:blipFill>
          <a:blip r:embed="rId1"/>
          <a:stretch/>
        </p:blipFill>
        <p:spPr>
          <a:xfrm>
            <a:off x="3564000" y="2060640"/>
            <a:ext cx="4956120" cy="3717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J:\DCIM\108PHOTO\SAM_1653.JPG"/>
          <p:cNvPicPr/>
          <p:nvPr/>
        </p:nvPicPr>
        <p:blipFill>
          <a:blip r:embed="rId2"/>
          <a:stretch/>
        </p:blipFill>
        <p:spPr>
          <a:xfrm>
            <a:off x="395280" y="1413000"/>
            <a:ext cx="4511520" cy="4032000"/>
          </a:xfrm>
          <a:prstGeom prst="rect">
            <a:avLst/>
          </a:prstGeom>
          <a:ln w="0">
            <a:noFill/>
          </a:ln>
        </p:spPr>
      </p:pic>
      <p:sp>
        <p:nvSpPr>
          <p:cNvPr id="370" name="TextBox 3"/>
          <p:cNvSpPr/>
          <p:nvPr/>
        </p:nvSpPr>
        <p:spPr>
          <a:xfrm>
            <a:off x="1258920" y="333360"/>
            <a:ext cx="62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ыт с воздухом «Убедиться в том, что при помощи воздуха можно передвигать предме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4"/>
          <p:cNvSpPr/>
          <p:nvPr/>
        </p:nvSpPr>
        <p:spPr>
          <a:xfrm>
            <a:off x="403200" y="5877000"/>
            <a:ext cx="33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вижение воздуха – это ве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1T16:29:05Z</dcterms:created>
  <dc:creator>Вован</dc:creator>
  <dc:description/>
  <dc:language>en-US</dc:language>
  <cp:lastModifiedBy>Вован</cp:lastModifiedBy>
  <dcterms:modified xsi:type="dcterms:W3CDTF">2022-04-07T16:37:34Z</dcterms:modified>
  <cp:revision>11</cp:revision>
  <dc:subject/>
  <dc:title>Слайд 1</dc:title>
</cp:coreProperties>
</file>