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20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E5A-BF0A-43D4-9EE5-D06E8E8B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97EB-C640-4D06-95D6-3A9AEA6D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F155-4EC6-4DF3-ACEE-DA3934B8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543-1BFA-4745-B2FF-2CF7E4D5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C30-3999-4248-9C92-4E607BB1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D71-538E-4BB5-9DFE-E73DCCC0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678-3BDB-4B04-90F1-56CFFF36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2AC-E397-4298-B149-C0DCB7DC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47B5-B0B1-40F5-A7BE-C09546CB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4EE-B03A-42BB-A70D-B05529F1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0F86-54A2-40B6-A996-1312D5F5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91A-5893-4F0D-BE94-593CCE35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5ECE-E8B5-4F5B-B70B-04CE3220EF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9200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Классный час:</a:t>
            </a:r>
            <a:br>
              <a:rPr sz="4000"/>
            </a:b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 «Правила поведения в школе 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Уважай учи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988640"/>
            <a:ext cx="59864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читель в классе - самый главны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н добрый друг, наставник слав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И он научит вас всем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ам нужно помогать ему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1.jpg"/>
          <p:cNvPicPr/>
          <p:nvPr/>
        </p:nvPicPr>
        <p:blipFill>
          <a:blip r:embed="rId1"/>
          <a:stretch/>
        </p:blipFill>
        <p:spPr>
          <a:xfrm>
            <a:off x="6372360" y="1916280"/>
            <a:ext cx="252072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равильно сиди на уро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Парта – это не кров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И на ней нельзя леж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Мы должны не забыв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Спинку ровненько держат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Безымянный.JPG"/>
          <p:cNvPicPr/>
          <p:nvPr/>
        </p:nvPicPr>
        <p:blipFill>
          <a:blip r:embed="rId1"/>
          <a:stretch/>
        </p:blipFill>
        <p:spPr>
          <a:xfrm>
            <a:off x="4267080" y="1987560"/>
            <a:ext cx="4516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о время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599840"/>
            <a:ext cx="4762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Вставайте дружно каждый раз</a:t>
            </a:r>
            <a:br>
              <a:rPr sz="2800"/>
            </a:b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Когда учитель входит в клас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4a7b"/>
                </a:solidFill>
                <a:latin typeface="Calibri"/>
              </a:rPr>
              <a:t>Учитель спросит, надо встать,</a:t>
            </a:r>
            <a:br>
              <a:rPr sz="2800"/>
            </a:br>
            <a:r>
              <a:rPr b="1" i="1" lang="ru-RU" sz="2800" spc="-1" strike="noStrike">
                <a:solidFill>
                  <a:srgbClr val="604a7b"/>
                </a:solidFill>
                <a:latin typeface="Calibri"/>
              </a:rPr>
              <a:t>Когда он сесть позволит, сядь.</a:t>
            </a:r>
            <a:br>
              <a:rPr sz="2800"/>
            </a:br>
            <a:r>
              <a:rPr b="1" i="1" lang="ru-RU" sz="2800" spc="-1" strike="noStrike">
                <a:solidFill>
                  <a:srgbClr val="00b050"/>
                </a:solidFill>
                <a:latin typeface="Calibri"/>
              </a:rPr>
              <a:t>Ответить хочешь, не шуми,</a:t>
            </a:r>
            <a:br>
              <a:rPr sz="2800"/>
            </a:br>
            <a:r>
              <a:rPr b="1" i="1" lang="ru-RU" sz="2800" spc="-1" strike="noStrike">
                <a:solidFill>
                  <a:srgbClr val="00b050"/>
                </a:solidFill>
                <a:latin typeface="Calibri"/>
              </a:rPr>
              <a:t>А только руку поды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ucheniki_w450_h468-288x300.jpg"/>
          <p:cNvPicPr/>
          <p:nvPr/>
        </p:nvPicPr>
        <p:blipFill>
          <a:blip r:embed="rId1"/>
          <a:stretch/>
        </p:blipFill>
        <p:spPr>
          <a:xfrm>
            <a:off x="5580000" y="2060640"/>
            <a:ext cx="27432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вонок для учи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4a7b"/>
                </a:solidFill>
                <a:latin typeface="Calibri"/>
              </a:rPr>
              <a:t>Снова зазвенел звоно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4a7b"/>
                </a:solidFill>
                <a:latin typeface="Calibri"/>
              </a:rPr>
              <a:t>Говорит: «Прошел урок!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4a7b"/>
                </a:solidFill>
                <a:latin typeface="Calibri"/>
              </a:rPr>
              <a:t>Ждать нам нужно каждый ра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4a7b"/>
                </a:solidFill>
                <a:latin typeface="Calibri"/>
              </a:rPr>
              <a:t>Когда нам разрешат покинуть класс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79345868.jpg"/>
          <p:cNvPicPr/>
          <p:nvPr/>
        </p:nvPicPr>
        <p:blipFill>
          <a:blip r:embed="rId1"/>
          <a:stretch/>
        </p:blipFill>
        <p:spPr>
          <a:xfrm>
            <a:off x="5148360" y="1557360"/>
            <a:ext cx="37972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На перемене не бегай и не кри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6228"/>
                </a:solidFill>
                <a:latin typeface="Calibri"/>
              </a:rPr>
              <a:t>В коридоре мы долж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6228"/>
                </a:solidFill>
                <a:latin typeface="Calibri"/>
              </a:rPr>
              <a:t>Держаться правой сторон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6228"/>
                </a:solidFill>
                <a:latin typeface="Calibri"/>
              </a:rPr>
              <a:t>К тому же, я считаю личн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6228"/>
                </a:solidFill>
                <a:latin typeface="Calibri"/>
              </a:rPr>
              <a:t>Кричать в школе неприлич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По школе ты ходи спокойн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По классу тоже не бег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Всегда веди себя достойн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Своё здоровье берег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images.jpg"/>
          <p:cNvPicPr/>
          <p:nvPr/>
        </p:nvPicPr>
        <p:blipFill>
          <a:blip r:embed="rId1"/>
          <a:stretch/>
        </p:blipFill>
        <p:spPr>
          <a:xfrm>
            <a:off x="5651640" y="184464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 столов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Выстроился дружный строй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Руки мыть перед едой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Ешь аккуратно, не спеш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Едою на пол не крош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Как только съел обед ты св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Убери посуду за собой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3" descr="25-2.gif"/>
          <p:cNvPicPr/>
          <p:nvPr/>
        </p:nvPicPr>
        <p:blipFill>
          <a:blip r:embed="rId1"/>
          <a:stretch/>
        </p:blipFill>
        <p:spPr>
          <a:xfrm>
            <a:off x="5219640" y="2276640"/>
            <a:ext cx="343224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Береги школьное иму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05000"/>
            <a:ext cx="51228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Нам школа – это дом второ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Всему нас учат здесь с тоб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И мы ее беречь долж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Нам хулиганы не нуж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4" descr="имущество школьное.JPG"/>
          <p:cNvPicPr/>
          <p:nvPr/>
        </p:nvPicPr>
        <p:blipFill>
          <a:blip r:embed="rId1"/>
          <a:stretch/>
        </p:blipFill>
        <p:spPr>
          <a:xfrm>
            <a:off x="5003640" y="2133720"/>
            <a:ext cx="36068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Не обижай других ребя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2133720"/>
            <a:ext cx="4691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Не дразнись, не зазнавай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В школе всем помочь старай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Зря не хмурься, будь см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И найдешь себе друз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4" descr="1sent.jpg"/>
          <p:cNvPicPr/>
          <p:nvPr/>
        </p:nvPicPr>
        <p:blipFill>
          <a:blip r:embed="rId1"/>
          <a:stretch/>
        </p:blipFill>
        <p:spPr>
          <a:xfrm>
            <a:off x="5292720" y="1844640"/>
            <a:ext cx="3303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рощайся уход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«До встречи! До свидания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Скажи всем на прощан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Завтра будем мы опя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Улыбкой новый день встречат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3" descr="ludi-clipart-10.png"/>
          <p:cNvPicPr/>
          <p:nvPr/>
        </p:nvPicPr>
        <p:blipFill>
          <a:blip r:embed="rId1"/>
          <a:stretch/>
        </p:blipFill>
        <p:spPr>
          <a:xfrm>
            <a:off x="4859280" y="1413000"/>
            <a:ext cx="38149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девочка пишет.jpg"/>
          <p:cNvPicPr/>
          <p:nvPr/>
        </p:nvPicPr>
        <p:blipFill>
          <a:blip r:embed="rId1"/>
          <a:stretch/>
        </p:blipFill>
        <p:spPr>
          <a:xfrm>
            <a:off x="1403280" y="1628640"/>
            <a:ext cx="2573280" cy="21607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ая выноска 6"/>
          <p:cNvSpPr/>
          <p:nvPr/>
        </p:nvSpPr>
        <p:spPr>
          <a:xfrm>
            <a:off x="1763640" y="620640"/>
            <a:ext cx="2087640" cy="7923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лочки! Писать трудней вс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8" descr="1515709748491.jpg"/>
          <p:cNvPicPr/>
          <p:nvPr/>
        </p:nvPicPr>
        <p:blipFill>
          <a:blip r:embed="rId2"/>
          <a:stretch/>
        </p:blipFill>
        <p:spPr>
          <a:xfrm>
            <a:off x="4716360" y="1197000"/>
            <a:ext cx="2735280" cy="2268360"/>
          </a:xfrm>
          <a:prstGeom prst="rect">
            <a:avLst/>
          </a:prstGeom>
          <a:ln w="0">
            <a:noFill/>
          </a:ln>
        </p:spPr>
      </p:pic>
      <p:sp>
        <p:nvSpPr>
          <p:cNvPr id="46" name="Овальная выноска 9"/>
          <p:cNvSpPr/>
          <p:nvPr/>
        </p:nvSpPr>
        <p:spPr>
          <a:xfrm>
            <a:off x="4859280" y="189000"/>
            <a:ext cx="2233800" cy="1295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ножение на икс трудней всег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0" descr="ученик за партой.gif"/>
          <p:cNvPicPr/>
          <p:nvPr/>
        </p:nvPicPr>
        <p:blipFill>
          <a:blip r:embed="rId3"/>
          <a:stretch/>
        </p:blipFill>
        <p:spPr>
          <a:xfrm>
            <a:off x="2627280" y="350028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48" name="Блок-схема: процесс 11"/>
          <p:cNvSpPr/>
          <p:nvPr/>
        </p:nvSpPr>
        <p:spPr>
          <a:xfrm>
            <a:off x="1116000" y="260280"/>
            <a:ext cx="7056360" cy="34560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рудней вс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Учиться в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 1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 классе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school0301.png"/>
          <p:cNvPicPr/>
          <p:nvPr/>
        </p:nvPicPr>
        <p:blipFill>
          <a:blip r:embed="rId1"/>
          <a:stretch/>
        </p:blipFill>
        <p:spPr>
          <a:xfrm>
            <a:off x="468360" y="1341360"/>
            <a:ext cx="459720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5148360" y="1268280"/>
            <a:ext cx="3671640" cy="374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бы легко учится нам стало, нужно соблюдать некоторые 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ПРАВ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1252290250_kazkovi-21.jpg"/>
          <p:cNvPicPr/>
          <p:nvPr/>
        </p:nvPicPr>
        <p:blipFill>
          <a:blip r:embed="rId1"/>
          <a:stretch/>
        </p:blipFill>
        <p:spPr>
          <a:xfrm>
            <a:off x="5580000" y="692280"/>
            <a:ext cx="32004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Блок-схема: процесс 4"/>
          <p:cNvSpPr/>
          <p:nvPr/>
        </p:nvSpPr>
        <p:spPr>
          <a:xfrm>
            <a:off x="468360" y="1268280"/>
            <a:ext cx="4535280" cy="38894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тром рано просыпай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орошенько умывай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тобы в школе не зе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осом в парту не клев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облюдай режим с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379992-.jpg"/>
          <p:cNvPicPr/>
          <p:nvPr/>
        </p:nvPicPr>
        <p:blipFill>
          <a:blip r:embed="rId1"/>
          <a:stretch/>
        </p:blipFill>
        <p:spPr>
          <a:xfrm>
            <a:off x="611280" y="4292640"/>
            <a:ext cx="6408720" cy="21225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971640" y="1268280"/>
            <a:ext cx="7704000" cy="302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Calibri"/>
              </a:rPr>
              <a:t>С вечера в портфель сло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Calibri"/>
              </a:rPr>
              <a:t>Тетради, учебники, каранда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Calibri"/>
              </a:rPr>
              <a:t>Утром ещё раз проверь,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Calibri"/>
              </a:rPr>
              <a:t>Готов к занятиям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Calibri"/>
              </a:rPr>
              <a:t>Все вещи, что в школе бывают нужны – вы их НИКОГДА забывать на долж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обирай портф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Иди в школу по дорожк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На крылечке вытри ножк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А потом лишь заходи 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День учебный вперед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1347300946_pdd-dlya-peshehodov.jpg"/>
          <p:cNvPicPr/>
          <p:nvPr/>
        </p:nvPicPr>
        <p:blipFill>
          <a:blip r:embed="rId1"/>
          <a:stretch/>
        </p:blipFill>
        <p:spPr>
          <a:xfrm>
            <a:off x="4788000" y="1916280"/>
            <a:ext cx="3878280" cy="3025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дя в школу соблюдай правила дорожного дв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6840" y="1125000"/>
            <a:ext cx="4762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Calibri"/>
              </a:rPr>
              <a:t>Входишь в класс со слов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Calibri"/>
              </a:rPr>
              <a:t>«Здравству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Calibri"/>
              </a:rPr>
              <a:t>И здоровым будешь са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Calibri"/>
              </a:rPr>
              <a:t>Чтоб чувствовать себя прекрас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Calibri"/>
              </a:rPr>
              <a:t>Желай здоровья по утра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девочка.JPG"/>
          <p:cNvPicPr/>
          <p:nvPr/>
        </p:nvPicPr>
        <p:blipFill>
          <a:blip r:embed="rId1"/>
          <a:stretch/>
        </p:blipFill>
        <p:spPr>
          <a:xfrm>
            <a:off x="5076720" y="907920"/>
            <a:ext cx="3662640" cy="4249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ходя в класс здоровай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Готовься к уроку на перем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5968"/>
                </a:solidFill>
                <a:latin typeface="Calibri"/>
              </a:rPr>
              <a:t>Хочу ребята вам сказат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5968"/>
                </a:solidFill>
                <a:latin typeface="Calibri"/>
              </a:rPr>
              <a:t>Стыдитесь время зря терят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5968"/>
                </a:solidFill>
                <a:latin typeface="Calibri"/>
              </a:rPr>
              <a:t>К занятиям без л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5968"/>
                </a:solidFill>
                <a:latin typeface="Calibri"/>
              </a:rPr>
              <a:t>Готовимся на перемен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uchenikam.jpg"/>
          <p:cNvPicPr/>
          <p:nvPr/>
        </p:nvPicPr>
        <p:blipFill>
          <a:blip r:embed="rId1"/>
          <a:stretch/>
        </p:blipFill>
        <p:spPr>
          <a:xfrm>
            <a:off x="5003640" y="1844640"/>
            <a:ext cx="38196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6840" y="1628280"/>
            <a:ext cx="4259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Для всех закон, а не желание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Приходим в класс без опоздани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Лишь только прозвенит звонок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Начинается урок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4" descr="звонок колок.JPG"/>
          <p:cNvPicPr/>
          <p:nvPr/>
        </p:nvPicPr>
        <p:blipFill>
          <a:blip r:embed="rId1"/>
          <a:stretch/>
        </p:blipFill>
        <p:spPr>
          <a:xfrm>
            <a:off x="5435640" y="1773360"/>
            <a:ext cx="2400120" cy="30765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Не опаздываем на 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</dc:creator>
  <dc:description/>
  <dc:language>en-US</dc:language>
  <cp:lastModifiedBy>Пользователь Windows</cp:lastModifiedBy>
  <dcterms:modified xsi:type="dcterms:W3CDTF">2020-08-31T08:52:58Z</dcterms:modified>
  <cp:revision>48</cp:revision>
  <dc:subject/>
  <dc:title>Слайд 1</dc:title>
</cp:coreProperties>
</file>