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090-E2DF-4554-9EAF-6892E084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A41-C635-4237-9C0D-F5746C0A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296-DD21-4E0E-9546-A3D7062E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D8D-633F-451D-A072-6427693C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4DD-187C-4CB8-861C-3D6A62D4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C0B-5CDD-41D5-A060-BF4FC6A8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D2D-24E7-46B5-B134-EDF4F5F9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F16-230D-4858-A891-7EB9945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234-1669-4893-9C6E-C08FCC69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1EF-78EF-40AF-864A-32DCAF42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D60-49AD-423A-A6C9-35673A8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91D-B33D-474C-B416-01E12C4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0B63-EBA4-427A-B8A8-765ED5778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3920840" cy="8621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23880" y="124416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и разные, ложки деревя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4014720" y="3000240"/>
            <a:ext cx="4162320" cy="4164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8736120" y="4572000"/>
            <a:ext cx="38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унова Ю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-136440" y="0"/>
            <a:ext cx="12722040" cy="7878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1523880" y="173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-136440" y="0"/>
            <a:ext cx="12722040" cy="7878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0" y="320760"/>
            <a:ext cx="5911920" cy="4433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3"/>
          <a:stretch/>
        </p:blipFill>
        <p:spPr>
          <a:xfrm>
            <a:off x="6095880" y="2448000"/>
            <a:ext cx="61516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722400" cy="7878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4000" cy="35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960" y="1122120"/>
            <a:ext cx="9727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-463680" y="-550800"/>
            <a:ext cx="12801600" cy="9335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-2138760"/>
            <a:ext cx="10515600" cy="1008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ошкольников с историей появления ложк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чувство патриотизма и уважения к самобытной русской культур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Дать представление об истории и разнообразии ложе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навыки опытно-экспериментальной работы с предмет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внимание, ассоциативное мышление, воображение, творческие способности дошкольни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действовать воспитанию  любви к истории, умение видеть прекрасное в окружающем мире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-330120" y="-685800"/>
            <a:ext cx="12801600" cy="933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05680" y="365040"/>
            <a:ext cx="514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историей возникновения ложки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5707080" cy="4280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3"/>
          <a:stretch/>
        </p:blipFill>
        <p:spPr>
          <a:xfrm>
            <a:off x="5826240" y="2354400"/>
            <a:ext cx="63658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-351000" y="-604800"/>
            <a:ext cx="13503600" cy="9848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575640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ементировани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ыты с ложками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2"/>
          <a:stretch/>
        </p:blipFill>
        <p:spPr>
          <a:xfrm>
            <a:off x="7048440" y="-36036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3"/>
          <a:stretch/>
        </p:blipFill>
        <p:spPr>
          <a:xfrm>
            <a:off x="-351000" y="2058840"/>
            <a:ext cx="721224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-700200" y="-792000"/>
            <a:ext cx="13501800" cy="9847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54040"/>
            <a:ext cx="4959360" cy="36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 «Ложки для Антошк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5800680" y="-554040"/>
            <a:ext cx="6391440" cy="4794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3"/>
          <a:stretch/>
        </p:blipFill>
        <p:spPr>
          <a:xfrm>
            <a:off x="47520" y="1770120"/>
            <a:ext cx="5143680" cy="6256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6049800" y="5099040"/>
            <a:ext cx="531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 «Любимая ложка Жихар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-525600" y="-828720"/>
            <a:ext cx="13385880" cy="9763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«Ложка превращается в куклу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1911240" y="1690560"/>
            <a:ext cx="834732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-382680" y="-1281240"/>
            <a:ext cx="12957120" cy="9452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8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ое посещение  музея –ложки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2384280" y="1770120"/>
            <a:ext cx="74232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-136440" y="0"/>
            <a:ext cx="12722040" cy="7878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3360" y="245880"/>
            <a:ext cx="327960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ложек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0" y="173160"/>
            <a:ext cx="5013360" cy="6684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3"/>
          <a:stretch/>
        </p:blipFill>
        <p:spPr>
          <a:xfrm>
            <a:off x="5149800" y="286704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"/>
          <p:cNvPicPr/>
          <p:nvPr/>
        </p:nvPicPr>
        <p:blipFill>
          <a:blip r:embed="rId4"/>
          <a:stretch/>
        </p:blipFill>
        <p:spPr>
          <a:xfrm>
            <a:off x="8354880" y="177840"/>
            <a:ext cx="3980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-136440" y="0"/>
            <a:ext cx="12722040" cy="7878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8880" y="172800"/>
            <a:ext cx="732636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музей «Вот так Ложка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0" y="17316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3"/>
          <a:stretch/>
        </p:blipFill>
        <p:spPr>
          <a:xfrm>
            <a:off x="5259240" y="1830240"/>
            <a:ext cx="69328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5T11:10:59Z</dcterms:created>
  <dc:creator>Учетная запись Майкрософт</dc:creator>
  <dc:description/>
  <dc:language>en-US</dc:language>
  <cp:lastModifiedBy>Packard Bell</cp:lastModifiedBy>
  <dcterms:modified xsi:type="dcterms:W3CDTF">2021-12-19T10:41:09Z</dcterms:modified>
  <cp:revision>15</cp:revision>
  <dc:subject/>
  <dc:title>Презентация PowerPoint</dc:title>
</cp:coreProperties>
</file>