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F82ABA-705A-4225-9D7B-243AEB50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4520" cy="3836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0280" y="4861440"/>
            <a:ext cx="56815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0"/>
          </p:nvPr>
        </p:nvSpPr>
        <p:spPr>
          <a:xfrm>
            <a:off x="4023000" y="9721080"/>
            <a:ext cx="30772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DAEE9-988B-4586-B851-5429F8CA6B9E}" type="slidenum">
              <a:rPr b="0" lang="ru-RU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213-BE11-42D0-932D-2DF92E37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54B-C0E5-4617-8598-1823471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568-89BC-49B2-B76A-BD38850E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76E-8C19-4A70-9265-75C1D2BC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9E4A-2D69-44DB-9A33-9A253690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4338-8D23-4E2E-9EAC-47C86F15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5280-3300-4870-BA85-64EDD79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93A2-0F24-47C4-AE6A-E6959FA2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8C8-B740-4F89-82BD-A773F3B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3CA0-6552-4B41-A2B2-F6DF911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6665-1BA2-47FB-88EA-45C86B4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09C-CEAF-4840-B55A-74811E37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0D2-3093-4C3B-9A1B-3A06C91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A35-A49C-4A2A-B426-8C69B48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EFE9-CF5F-4C47-8745-AF2B87E5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65C0-8B82-4110-AA2C-D6E7AB42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DB6-34A0-426B-ADFC-BDD9E979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E54-6BFB-41FF-B2E9-86321F3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D0F-3BC5-4A35-AA31-9F24721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11D-BF85-46D4-BC68-879B509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550-A38A-4F4E-BC91-C2A1F06A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E44-A37D-455D-A978-D1B4BC0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03D-6564-4899-9A89-99BDC1A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74D-1B41-4C58-9974-B1252B1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DB2364-7C0E-43ED-938A-71D1B327E0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B7F959-D0D6-4947-A1FC-DAD1429102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481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ОЕ КАЗЕННОЕ ПРОФЕССИОНАЛЬНОЕ ОБРАЗОВАТЕЛЬНОЕ УЧРЕЖДЕНИЕ № 79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ОЙ СЛУЖБЫ ИСПОЛНЕНИЯ НАКАЗАН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лиал № 7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6560" y="2167560"/>
            <a:ext cx="6986160" cy="18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МДК 02.01 Выполнение сборки металлоконструкций и металлоизделий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урока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Сварочный пост: виды постов, принадлежности и инструменты сварщи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93560" y="5357880"/>
            <a:ext cx="464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работ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Матюхов Д.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2483640" y="6301800"/>
            <a:ext cx="457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. Социалистический, 202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565280" y="3970800"/>
            <a:ext cx="640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я: 18549 «Слесарь по сборке металлоконструк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"/>
          <p:cNvPicPr/>
          <p:nvPr/>
        </p:nvPicPr>
        <p:blipFill>
          <a:blip r:embed="rId1"/>
          <a:stretch/>
        </p:blipFill>
        <p:spPr>
          <a:xfrm>
            <a:off x="323640" y="5263200"/>
            <a:ext cx="1511640" cy="129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" descr="Орел-УИС(ч-б)"/>
          <p:cNvPicPr/>
          <p:nvPr/>
        </p:nvPicPr>
        <p:blipFill>
          <a:blip r:embed="rId2"/>
          <a:stretch/>
        </p:blipFill>
        <p:spPr>
          <a:xfrm>
            <a:off x="4376880" y="332640"/>
            <a:ext cx="390240" cy="54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8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щитные щитки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09680" y="986760"/>
            <a:ext cx="8229240" cy="131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ски) служат для индивидуальной защиты кожи лица и глаз электросварщика от брызг расплавленного металла, искр и прямых излучений сварочной д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ки и шлемы должны иметь массу не более 0,6 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531720" y="2292480"/>
            <a:ext cx="1482840" cy="17496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"/>
          <p:cNvPicPr/>
          <p:nvPr/>
        </p:nvPicPr>
        <p:blipFill>
          <a:blip r:embed="rId2"/>
          <a:stretch/>
        </p:blipFill>
        <p:spPr>
          <a:xfrm>
            <a:off x="2316240" y="2288520"/>
            <a:ext cx="176904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"/>
          <p:cNvPicPr/>
          <p:nvPr/>
        </p:nvPicPr>
        <p:blipFill>
          <a:blip r:embed="rId3"/>
          <a:stretch/>
        </p:blipFill>
        <p:spPr>
          <a:xfrm>
            <a:off x="4460760" y="2282760"/>
            <a:ext cx="1447920" cy="17496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416520" y="4050360"/>
            <a:ext cx="84463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ки должны быть выполнены из специального токонепроводящего материала (фибры или пластмассы), который устойчив к высокой температуре и повышенной влажности, практически не деформируется, не портится от брызг расплавленного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в закрытых ёмкостях или в тесных помещениях где не возможно применить вытяжку применяют специальные маски с подачей возд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нструкции щитков отсутствуют металлические выступающие части, что исключает поражение сварщика электрическим то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"/>
          <p:cNvPicPr/>
          <p:nvPr/>
        </p:nvPicPr>
        <p:blipFill>
          <a:blip r:embed="rId4"/>
          <a:stretch/>
        </p:blipFill>
        <p:spPr>
          <a:xfrm>
            <a:off x="6146640" y="2255760"/>
            <a:ext cx="2793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8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фильтры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85640" y="993960"/>
            <a:ext cx="82292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ые светофильт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темненные стекла), предназначены для защиты глаз от излучения дуги, брызг металла и шл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485640" y="1700640"/>
            <a:ext cx="84463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офильтры изготавливают 13 классов или номеров по ГОСТ 12.4.080-79. Номер светофильтра подбирается в первую очередь в зависимости от индивидуальных особенностей зрения сварщика. Однако следует учитывать некоторые объективные факторы: величину сварочного тока, состав свариваемого металла, вид дуговой сварки, защиту сварочной ванны от воздействия газов воздуха. Размер светофильтра 52x102 м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щитные светофильтры имеют различную плотность и подбираются в зависимости от силы сварочно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Таблица 7"/>
          <p:cNvGraphicFramePr/>
          <p:nvPr/>
        </p:nvGraphicFramePr>
        <p:xfrm>
          <a:off x="1547640" y="4255200"/>
          <a:ext cx="5904360" cy="2485800"/>
        </p:xfrm>
        <a:graphic>
          <a:graphicData uri="http://schemas.openxmlformats.org/drawingml/2006/table">
            <a:tbl>
              <a:tblPr/>
              <a:tblGrid>
                <a:gridCol w="2077920"/>
                <a:gridCol w="2077920"/>
                <a:gridCol w="1748160"/>
              </a:tblGrid>
              <a:tr h="635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тод св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ипы светофиль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а 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08160">
                <a:tc rowSpan="6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уговая сварка металлическим электр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-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5-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0-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8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одежда, назначение, требования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301680" y="764640"/>
            <a:ext cx="84463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к спецодеж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стюм должен быть из жаростойкой ткани (брезент, замш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уртка должна носиться на выпуск, карманы должны быть внутрен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ботинки должны быть высокими, без гвоздей, из негорючего матери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укавицы (краги) – из негорючего материалы, достаточной длины чтобы не залетал материал при потолочной свар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оловной убор, защищающий ше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683640" y="3626280"/>
            <a:ext cx="1728000" cy="3071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064120" y="4221000"/>
            <a:ext cx="1775520" cy="1317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3"/>
          <a:stretch/>
        </p:blipFill>
        <p:spPr>
          <a:xfrm>
            <a:off x="2988000" y="5205600"/>
            <a:ext cx="1775520" cy="1369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"/>
          <p:cNvPicPr/>
          <p:nvPr/>
        </p:nvPicPr>
        <p:blipFill>
          <a:blip r:embed="rId4"/>
          <a:stretch/>
        </p:blipFill>
        <p:spPr>
          <a:xfrm>
            <a:off x="2971800" y="3570480"/>
            <a:ext cx="1791360" cy="1514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"/>
          <p:cNvPicPr/>
          <p:nvPr/>
        </p:nvPicPr>
        <p:blipFill>
          <a:blip r:embed="rId5"/>
          <a:stretch/>
        </p:blipFill>
        <p:spPr>
          <a:xfrm>
            <a:off x="7140600" y="3426480"/>
            <a:ext cx="1611720" cy="31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8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и и инструмент сварщи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301680" y="764640"/>
            <a:ext cx="8446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ьные щетки служат для зачистки места сварки от ржавчины и грязи перед сваркой и удаления с поверхности швов остатков шлака и брызг металла. Для клеймения швов, вырубки дефектных мест, удаления брызг и шлака применяют соответственно клейма, зубила и мол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борочные операции перед сваркой выполняют с помощью шаблонов, отвесов, линеек, угольников и других приспособлени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7" descr=""/>
          <p:cNvPicPr/>
          <p:nvPr/>
        </p:nvPicPr>
        <p:blipFill>
          <a:blip r:embed="rId1"/>
          <a:stretch/>
        </p:blipFill>
        <p:spPr>
          <a:xfrm>
            <a:off x="1187640" y="2925000"/>
            <a:ext cx="6478200" cy="1872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"/>
          <p:cNvPicPr/>
          <p:nvPr/>
        </p:nvPicPr>
        <p:blipFill>
          <a:blip r:embed="rId2"/>
          <a:stretch/>
        </p:blipFill>
        <p:spPr>
          <a:xfrm>
            <a:off x="329760" y="5013000"/>
            <a:ext cx="5523840" cy="1510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"/>
          <p:cNvPicPr/>
          <p:nvPr/>
        </p:nvPicPr>
        <p:blipFill>
          <a:blip r:embed="rId3"/>
          <a:stretch/>
        </p:blipFill>
        <p:spPr>
          <a:xfrm>
            <a:off x="6122160" y="5013000"/>
            <a:ext cx="2621520" cy="15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ение нового материал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8329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96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трольные вопросы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Что называется сварочным постом?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Какие виды постов бывают в зависимости от условий работы?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кие требования предъявляются к сварочным кабинам?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Для чего служит электрододержатель? Какие предъявляются к нему требования?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Как подбираются светофильтры?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 Опишите принадлежности и инструмент сварщика, охарактеризуйте его назначение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 РАБОТУ НА УРОК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3816000" y="5301360"/>
            <a:ext cx="1511640" cy="12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928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арочный пост: виды постов, принадлежности и инструменты сварщик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640" y="1469880"/>
            <a:ext cx="8208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Цели урока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образовательные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изучить назначение сварочных постов, их типы, требования, предъявляемые к ним;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усвоить, что относится к принадлежностям и инструменту сварщика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развивающие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способствовать развитию у обучающихся познавательного интереса к учебной дисциплине при формировании профессиональных компетенций;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способствовать развитию умения учащихся работы с учебной литературой и другими источниками информации;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воспитательные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содействовать в ходе урока воспитанию дисциплинированности;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	</a:t>
            </a:r>
            <a:r>
              <a:rPr b="0" lang="ru-RU" sz="8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ea typeface="Calibri"/>
              </a:rPr>
              <a:t>- способствовать формированию творческого подхода к решению поставленных задач на урок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бочее место сварщи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часть производственной площади цеха, участка или мастерской, которая закрепляется за определенным работником или работниками (в случае посменной работы) для выполнения определенного вида работ и должна быть оснащена оборудованием, приспособлениями, инструментами и материалами, необходимыми для их проведения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457200" y="3861000"/>
            <a:ext cx="8229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 оборудованное рабочее место для сварки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арочным пос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3924000" y="4691880"/>
            <a:ext cx="19904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сварочных пост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1640" y="1484640"/>
            <a:ext cx="3280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ционар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змещаются в специально оборудованных цехах, мастерских и т.д. и предназначены для изготовления свар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виж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меняют при сварке крупногабаритных изделий (металлоконструкций, сосудов, трубопроводов), при строительстве зданий, а также при ремонтных рабо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1"/>
          <a:srcRect l="0" t="0" r="0" b="9171"/>
          <a:stretch/>
        </p:blipFill>
        <p:spPr>
          <a:xfrm>
            <a:off x="4356000" y="1574640"/>
            <a:ext cx="4642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арочная каби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652680" y="908640"/>
            <a:ext cx="7714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арочная кабина служит для защиты сварщиков от излучения дуги в постоянных местах сва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1979640" y="1744560"/>
            <a:ext cx="5832360" cy="49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варочная кабина. Требования.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683640" y="1196640"/>
            <a:ext cx="777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 в кабине должен быть из огнестойкого материала (кирпич, бетон, цемен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ки окрашивают в светло-серый цвет красками, хорошо поглощающими ультрафиолетовые лучи (цинковые или титановые белила, желтый кро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вещенность кабины должна быть не менее 80-100 лк. Кабину оборудуют местной вентиляцией с воздухообменом 40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ч на каждого рабоч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нтиляционный отсос должен располагаться так, чтобы газы, выделяющиеся при сварке, проходили мимо сварщ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арку деталей производят на рабочем столе. Крышку стола изготовляют из чугуна толщиной 20-25 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стул сварщика должен для удобства работы вращаться вокруг своей о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арочный пост оснащен генератором, выпрямителем или сварочным трансформа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додержател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804240" y="1202760"/>
            <a:ext cx="775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додержа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приспособление для закрепления электрода и подвода к нему сварочного т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804240" y="2053440"/>
            <a:ext cx="775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ы электрододержателей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лочные, винтовые и пассатижного ти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4140000" y="2761560"/>
            <a:ext cx="2178000" cy="1231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2"/>
          <a:stretch/>
        </p:blipFill>
        <p:spPr>
          <a:xfrm>
            <a:off x="6813000" y="2741760"/>
            <a:ext cx="1981440" cy="12319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2685960" y="4701600"/>
            <a:ext cx="4453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ы электрододержате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 – для силы тока до 125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 – для силы тока 125-315 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ип – для силы тока 315-500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3"/>
          <a:stretch/>
        </p:blipFill>
        <p:spPr>
          <a:xfrm>
            <a:off x="309600" y="2791800"/>
            <a:ext cx="33213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ования к электрододержателям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251640" y="1417680"/>
            <a:ext cx="864072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коведущие части электрододержателей должны быть надежно изолированы от случайного соприкосновения со свариваемым изделием или руками сварщ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противление изоляции должно быть не менее 5 Мом. Изоляция рукоятки должна выдерживать без пробоя в течение 1 мин испытательное напряжение 1500 В при частоте 50 Гц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евышение температуры наружной поверхности рукоятки при номинальном режиме работы не должно быть более 55° С. Поперечное сечение рукоятки на длине, охватываемой ладонью сварщика, должно вписываться в круг диаметром не более 40 м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лектрододержатели должны обладать достаточной механической проч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лектрододержатели должны допускать возможность захвата электрода не менее чем в двух положениях: перпендикулярно и под углом не менее 115° к оси электрододержате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лектрододержатель должен выдерживать без ремонта 8000-10000 зажимов электродов, затрачивая на каждую замену электрода не более 4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бель, токоподводящие зажим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780840"/>
            <a:ext cx="8229240" cy="344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ели и сварочные провода необходимы для подвода тока от источника питания к электрододержателю и издели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ели изготавливают многожильными (гибкими) по установленным нормативам для электротехнических установок согласно ПУЭ (Правила устройства и эксплуатация электроустановок) из расчета плотности тока до 5 А/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токах до 300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очный ток поступает по гибкому проводу типа ПРГ, ПГД, РГДО, ОГДВ, АПР или ПРГД с резиновой изоляцией, длина которого не должна превышать 40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оединения к электродержателю используется гибкий медный провод типа ПРГД длиной не менее 3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1115640" y="4725000"/>
            <a:ext cx="6748560" cy="1938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1746000" y="4291920"/>
            <a:ext cx="611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: Основные характеристики электрододерж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  <Words>546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rmazon</cp:lastModifiedBy>
  <cp:lastPrinted>2022-04-07T11:40:39Z</cp:lastPrinted>
  <dcterms:modified xsi:type="dcterms:W3CDTF">2022-04-07T11:41:09Z</dcterms:modified>
  <cp:revision>38</cp:revision>
  <dc:subject/>
  <dc:title>Федеральное казенное образовательное учреждение начального профессионального образования ФСИН России Профессиональное училище № 79 филиал - 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