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png" ContentType="image/png"/>
  <Override PartName="/ppt/media/image15.gif" ContentType="image/gif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0465B-938F-4039-8B6A-75A3AE5A82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8463B-1A53-4222-B7E4-0523EC5BE3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380E0-43BD-45C7-AC44-338A03639A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306-94F5-436B-B641-64D93C08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DCE-0536-45A1-9373-263BC1C1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539-CBA8-4593-B441-D7230ED7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55B-250D-46ED-B364-36B5E72A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FEC-86C7-4A58-A5A4-FBF26529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AAA-A663-4F98-9BC6-82154FC2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9EA-30B3-4D50-BC16-7EC1B0E6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A20-2C26-41D3-86FD-419774C6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7EC-0427-4993-909D-61133157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829-60C7-4F4B-A73C-E2908D7E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ED3-B0FA-4EE3-95FA-C6D3B31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02E-CF1E-4621-83A1-9B4FFD2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096C1C-4146-45B1-9C66-7343096FB7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279360"/>
            <a:ext cx="907092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5400" spc="-1" strike="noStrike">
                <a:solidFill>
                  <a:srgbClr val="ff0000"/>
                </a:solidFill>
                <a:latin typeface="Cambria"/>
              </a:rPr>
              <a:t>Ударение</a:t>
            </a:r>
            <a:endParaRPr b="0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596840" y="1779480"/>
            <a:ext cx="2172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entury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659040" y="473220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6386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6386"/>
                </a:solidFill>
                <a:latin typeface="Times New Roman"/>
                <a:ea typeface="Times New Roman"/>
              </a:rPr>
              <a:t>учитель-логопед ГБОУ СОШ №134 им. Серея Дуд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6386"/>
                </a:solidFill>
                <a:latin typeface="Times New Roman"/>
                <a:ea typeface="Times New Roman"/>
              </a:rPr>
              <a:t>Чекае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73200" y="922320"/>
            <a:ext cx="8037360" cy="543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rcRect l="0" t="96931" r="94055" b="0"/>
          <a:stretch/>
        </p:blipFill>
        <p:spPr>
          <a:xfrm>
            <a:off x="708120" y="6378480"/>
            <a:ext cx="2016000" cy="70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rcRect l="50332" t="0" r="0" b="0"/>
          <a:stretch/>
        </p:blipFill>
        <p:spPr>
          <a:xfrm>
            <a:off x="4646520" y="1181160"/>
            <a:ext cx="3946680" cy="53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4"/>
          <a:srcRect l="93581" t="96931" r="0" b="0"/>
          <a:stretch/>
        </p:blipFill>
        <p:spPr>
          <a:xfrm>
            <a:off x="6615000" y="6378480"/>
            <a:ext cx="196848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2920" y="1763280"/>
            <a:ext cx="8232840" cy="537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49935" b="0"/>
          <a:stretch/>
        </p:blipFill>
        <p:spPr>
          <a:xfrm>
            <a:off x="314280" y="787320"/>
            <a:ext cx="4332240" cy="5748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50069" t="0" r="0" b="0"/>
          <a:stretch/>
        </p:blipFill>
        <p:spPr>
          <a:xfrm>
            <a:off x="4646520" y="787320"/>
            <a:ext cx="4321440" cy="574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rcRect l="1486" t="95950" r="93497" b="978"/>
          <a:stretch/>
        </p:blipFill>
        <p:spPr>
          <a:xfrm>
            <a:off x="314280" y="6299280"/>
            <a:ext cx="1739880" cy="709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rcRect l="92939" t="95950" r="1581" b="978"/>
          <a:stretch/>
        </p:blipFill>
        <p:spPr>
          <a:xfrm>
            <a:off x="7245360" y="6378480"/>
            <a:ext cx="168912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2920" y="1763280"/>
            <a:ext cx="8232840" cy="537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0" r="50536" b="0"/>
          <a:stretch/>
        </p:blipFill>
        <p:spPr>
          <a:xfrm>
            <a:off x="314280" y="944640"/>
            <a:ext cx="4253040" cy="582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49721" t="0" r="0" b="0"/>
          <a:stretch/>
        </p:blipFill>
        <p:spPr>
          <a:xfrm>
            <a:off x="4567320" y="826920"/>
            <a:ext cx="4410000" cy="594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rcRect l="935" t="95323" r="93840" b="963"/>
          <a:stretch/>
        </p:blipFill>
        <p:spPr>
          <a:xfrm>
            <a:off x="236520" y="6458040"/>
            <a:ext cx="1338120" cy="644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rcRect l="93092" t="95323" r="1588" b="0"/>
          <a:stretch/>
        </p:blipFill>
        <p:spPr>
          <a:xfrm>
            <a:off x="7718400" y="6535800"/>
            <a:ext cx="110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24000"/>
            <a:ext cx="9070920" cy="2087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В каких словах ставится       ударение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mbria"/>
              </a:rPr>
              <a:t>В каждом слове спряталось животное, насекомое или птица. Найди их и напиши эти слова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" y="2771640"/>
            <a:ext cx="9070920" cy="389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елевизор, коньки, листок, мужчина, ракита, чертёж, стрижка.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Прямая соединительная линия 4"/>
          <p:cNvSpPr/>
          <p:nvPr/>
        </p:nvSpPr>
        <p:spPr>
          <a:xfrm>
            <a:off x="1224000" y="3419640"/>
            <a:ext cx="863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8"/>
          <p:cNvSpPr/>
          <p:nvPr/>
        </p:nvSpPr>
        <p:spPr>
          <a:xfrm flipV="1">
            <a:off x="3600360" y="3419640"/>
            <a:ext cx="1224000" cy="10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2"/>
          <p:cNvSpPr/>
          <p:nvPr/>
        </p:nvSpPr>
        <p:spPr>
          <a:xfrm>
            <a:off x="5761080" y="3419640"/>
            <a:ext cx="85716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5"/>
          <p:cNvSpPr/>
          <p:nvPr/>
        </p:nvSpPr>
        <p:spPr>
          <a:xfrm flipV="1">
            <a:off x="1295280" y="4140000"/>
            <a:ext cx="687600" cy="468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0"/>
          <p:cNvSpPr/>
          <p:nvPr/>
        </p:nvSpPr>
        <p:spPr>
          <a:xfrm>
            <a:off x="3456000" y="4140360"/>
            <a:ext cx="10000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3"/>
          <p:cNvSpPr/>
          <p:nvPr/>
        </p:nvSpPr>
        <p:spPr>
          <a:xfrm>
            <a:off x="6696000" y="4140360"/>
            <a:ext cx="647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6"/>
          <p:cNvSpPr/>
          <p:nvPr/>
        </p:nvSpPr>
        <p:spPr>
          <a:xfrm>
            <a:off x="863640" y="4788000"/>
            <a:ext cx="14400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39320" y="2136240"/>
            <a:ext cx="8533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Знак ударения не ставится над            словом из одного слога и над   буквой ё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лнце село за село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м ужасно повезло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в гости к Ударению сходили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все его секреты мы раскрыли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 </a:t>
            </a:r>
            <a:r>
              <a:rPr b="1" lang="ru-RU" sz="3600" spc="-1" strike="noStrike">
                <a:solidFill>
                  <a:srgbClr val="ff1a1a"/>
                </a:solidFill>
                <a:latin typeface="Calibri"/>
              </a:rPr>
              <a:t>Ударени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,  конечно, «мОлодец»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каждый из нас «молодЕц»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416720" y="1619280"/>
            <a:ext cx="18115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708120"/>
            <a:ext cx="9069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mbria"/>
              </a:rPr>
              <a:t>Молодцы! 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mbria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1" name="Picture 2" descr="D:\Детские  картинки и анимашки\Картинки\Картинки-анимация\001.gif"/>
          <p:cNvPicPr/>
          <p:nvPr/>
        </p:nvPicPr>
        <p:blipFill>
          <a:blip r:embed="rId1"/>
          <a:stretch/>
        </p:blipFill>
        <p:spPr>
          <a:xfrm>
            <a:off x="4897440" y="2851200"/>
            <a:ext cx="4857840" cy="3357360"/>
          </a:xfrm>
          <a:prstGeom prst="rect">
            <a:avLst/>
          </a:prstGeom>
          <a:ln w="0">
            <a:noFill/>
          </a:ln>
        </p:spPr>
      </p:pic>
      <p:pic>
        <p:nvPicPr>
          <p:cNvPr id="112" name="j021418.wav" descr=""/>
          <p:cNvPicPr/>
          <p:nvPr/>
        </p:nvPicPr>
        <p:blipFill>
          <a:blip r:embed="rId2"/>
          <a:stretch/>
        </p:blipFill>
        <p:spPr>
          <a:xfrm>
            <a:off x="9540720" y="5637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474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749160" y="360360"/>
            <a:ext cx="8498160" cy="56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610920"/>
            <a:ext cx="9069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mbria"/>
              </a:rPr>
              <a:t>План работы</a:t>
            </a:r>
            <a:r>
              <a:rPr b="0" i="1" lang="ru-RU" sz="5400" spc="-1" strike="noStrike" u="sng">
                <a:solidFill>
                  <a:srgbClr val="ff0000"/>
                </a:solidFill>
                <a:uFillTx/>
                <a:latin typeface="Cambria"/>
              </a:rPr>
              <a:t>: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863640" y="1619280"/>
            <a:ext cx="89298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Что такое ударе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 Какую роль выполняет ударе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В каких словах ставится       уда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755640"/>
            <a:ext cx="906948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Что такое ударение?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mbria"/>
              </a:rPr>
              <a:t>Произнесите слова, выделяя ударение.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6" name="Содержимое 5" descr="2.jpg"/>
          <p:cNvPicPr/>
          <p:nvPr/>
        </p:nvPicPr>
        <p:blipFill>
          <a:blip r:embed="rId1"/>
          <a:stretch/>
        </p:blipFill>
        <p:spPr>
          <a:xfrm>
            <a:off x="539640" y="1779480"/>
            <a:ext cx="1522440" cy="2071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E:\Документы\Мои рисунки\Cartoon-Clipart-Free-06.gif"/>
          <p:cNvPicPr/>
          <p:nvPr/>
        </p:nvPicPr>
        <p:blipFill>
          <a:blip r:embed="rId2"/>
          <a:srcRect l="0" t="10630" r="0" b="14372"/>
          <a:stretch/>
        </p:blipFill>
        <p:spPr>
          <a:xfrm>
            <a:off x="7683480" y="4208400"/>
            <a:ext cx="2198880" cy="1720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j0370408[1]"/>
          <p:cNvPicPr/>
          <p:nvPr/>
        </p:nvPicPr>
        <p:blipFill>
          <a:blip r:embed="rId3"/>
          <a:srcRect l="0" t="0" r="23574" b="0"/>
          <a:stretch/>
        </p:blipFill>
        <p:spPr>
          <a:xfrm>
            <a:off x="2468520" y="3565440"/>
            <a:ext cx="1774800" cy="3238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E:\Документы\Мои рисунки\его.wmf"/>
          <p:cNvPicPr/>
          <p:nvPr/>
        </p:nvPicPr>
        <p:blipFill>
          <a:blip r:embed="rId4"/>
          <a:stretch/>
        </p:blipFill>
        <p:spPr>
          <a:xfrm>
            <a:off x="4827600" y="4780080"/>
            <a:ext cx="263376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5"/>
          <a:stretch/>
        </p:blipFill>
        <p:spPr>
          <a:xfrm>
            <a:off x="7540560" y="1922400"/>
            <a:ext cx="1617840" cy="138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6"/>
          <a:stretch/>
        </p:blipFill>
        <p:spPr>
          <a:xfrm>
            <a:off x="4608360" y="2195640"/>
            <a:ext cx="2384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779400"/>
            <a:ext cx="856944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4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12720" y="2494080"/>
            <a:ext cx="705672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Ударение- это выделение голосом одного из слогов в слове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280" y="75528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Для чего нужно ударение?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mbria"/>
              </a:rPr>
              <a:t>Расставьте  ударения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Речка, ласточка, замок, колесо, ножницы, стол, карандаш, атлас, ирис, грамота, машина, молоко, учебник.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440000" y="5364000"/>
            <a:ext cx="7488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делите слова  на три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mbria"/>
              </a:rPr>
              <a:t>Измени в каждом слове ударение так, чтобы получилось новое слово.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" y="2064960"/>
            <a:ext cx="90694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мок – замок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ука –   мука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тлас –   атлас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ыкупать - выкупать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Прямая соединительная линия 4"/>
          <p:cNvSpPr/>
          <p:nvPr/>
        </p:nvSpPr>
        <p:spPr>
          <a:xfrm flipV="1">
            <a:off x="1681920" y="1993680"/>
            <a:ext cx="142920" cy="2142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7"/>
          <p:cNvSpPr/>
          <p:nvPr/>
        </p:nvSpPr>
        <p:spPr>
          <a:xfrm flipV="1">
            <a:off x="1753560" y="2850840"/>
            <a:ext cx="142920" cy="2142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0"/>
          <p:cNvSpPr/>
          <p:nvPr/>
        </p:nvSpPr>
        <p:spPr>
          <a:xfrm flipV="1">
            <a:off x="681840" y="3708000"/>
            <a:ext cx="142920" cy="2142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4"/>
          <p:cNvSpPr/>
          <p:nvPr/>
        </p:nvSpPr>
        <p:spPr>
          <a:xfrm flipV="1">
            <a:off x="1038960" y="4565520"/>
            <a:ext cx="142920" cy="2145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607680"/>
            <a:ext cx="856944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48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68000" y="1547640"/>
            <a:ext cx="7056360" cy="350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ногда ударение меняет значение слова: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убы (танцевальные) -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убы (пара,дыма)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Прямая соединительная линия 4"/>
          <p:cNvSpPr/>
          <p:nvPr/>
        </p:nvSpPr>
        <p:spPr>
          <a:xfrm flipV="1">
            <a:off x="3311640" y="2771280"/>
            <a:ext cx="131760" cy="2127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0"/>
          <p:cNvSpPr/>
          <p:nvPr/>
        </p:nvSpPr>
        <p:spPr>
          <a:xfrm flipV="1">
            <a:off x="3887640" y="3564000"/>
            <a:ext cx="136800" cy="21600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7300" spc="-1" strike="noStrike">
              <a:solidFill>
                <a:srgbClr val="ffffee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2920" y="1763280"/>
            <a:ext cx="8232840" cy="537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87320" y="708120"/>
            <a:ext cx="803268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43:45Z</dcterms:created>
  <dc:creator>1</dc:creator>
  <dc:description/>
  <dc:language>en-US</dc:language>
  <cp:lastModifiedBy>Учитель</cp:lastModifiedBy>
  <dcterms:modified xsi:type="dcterms:W3CDTF">2022-04-07T13:06:46Z</dcterms:modified>
  <cp:revision>33</cp:revision>
  <dc:subject/>
  <dc:title>весна</dc:title>
</cp:coreProperties>
</file>