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2D2-A3A1-4214-8408-07103D2C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BBD-636A-484A-8571-D0B478B0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D47-6E08-404C-8BE9-5458AD41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00D-D872-4A63-9529-CA3E48B5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42F-7F13-4131-A6BD-94E7AAA2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382-9900-4F8A-BA60-718B8A41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A92-E049-46B8-B3DD-041B75EF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DA9-578E-457A-9B1A-39716F1F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E78-63D6-4288-AF2A-0CAE9663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FEA-0030-4E7A-889D-F0C0292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D5E-AD16-43D5-92F5-DFACC64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317-D7B9-4639-B90C-F6EF0CB8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9309-F391-4564-B679-14026E959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4T08:10:19Z</dcterms:created>
  <dc:creator>emachines</dc:creator>
  <dc:description/>
  <dc:language>en-US</dc:language>
  <cp:lastModifiedBy>emachines</cp:lastModifiedBy>
  <dcterms:modified xsi:type="dcterms:W3CDTF">2022-04-04T08:10:30Z</dcterms:modified>
  <cp:revision>1</cp:revision>
  <dc:subject/>
  <dc:title>Слайд 1</dc:title>
</cp:coreProperties>
</file>