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8.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B4BD0-4A14-49DA-8178-8CE253CB6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40EE6-7FA5-493B-90C7-997983F8B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40D623-D7F7-4D8D-97B0-B6EA6E73FC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508651-42BF-4D92-96E7-E95DC63EE4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1F110D-9094-424E-8F0F-B815F271DA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209E9-A070-4B7F-BD5F-5BC11C69D5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1B7280-AB1D-4F31-956E-D9C8FEE3A5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AD666-7602-42BA-BFD6-E11EC19F16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7B909B-D0EA-4EDE-9A2D-B3AE0C4BCB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3246E0-B5A4-4727-B47E-01A92ADF71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771B2C-C714-4D44-8666-735484A415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D6F8AEB-B090-4366-AE70-8E5AF4C622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17C9B-94BD-4E63-B8CC-C7A063973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60EFBB-DA6F-4489-8530-2C41EE51C7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433D96-4980-4E1D-B85E-BE73EE8B82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701D9C-D824-4E74-85D7-A8D87D6AED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0F828A-B7EF-4D0D-B644-9A1AE6BD1D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7FD856-BB2D-4DB8-A8C2-A4A99EDBEE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F781A7-1B7F-44FF-AA16-21050849F4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84A811-52CF-43BC-956A-E99F26B6B2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65D712-3B5A-4CEC-90AF-5A9012E6E2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2EE927-4984-4C78-8B31-A867B9C978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CE0111-E60F-4833-82D0-F20844A5802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248B3-2519-45DB-A6AF-5FCA5A010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25D2DE-602B-47B8-A459-E7FAB82227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209D45-C83D-4D6C-9285-265B2C5979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B98630-64E1-4E0E-A112-2C8AE42B1D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0B3A4B-0191-444F-80BC-1FF5BB84FF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D67586-5E1F-4E37-A42D-899D98477E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B21857-21B6-4037-A010-AFF70A447A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C2662B-0DD4-4F28-BE0D-9368D59E63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CB140E-55FC-4D27-B7BC-4CD38969AC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D92B6C-D416-48C0-8CE4-15ADFFA05C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799917-7604-4502-9BEF-B9D858D08A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40875-4CDB-465A-A237-7739CF3DD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73C049-1785-4392-A3E2-757F5F7120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784DDA-FD5F-4389-B799-D504D5EBD7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3FD120-373D-454F-BCB2-FC292B9DB1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EB2E5C6-6D79-4AC4-BE7F-9D1650D48A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16D4EE-5430-4913-967B-AA31BA930B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457DCE-3654-4C38-98EF-662F1868E2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236B0D-0E13-4DB0-87BE-B8B7EC6349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04548A-F511-456E-8AF9-D9344AFEA2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DBA0FB-E0BE-487A-BFD4-817A7F7EB6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0D1F22-0150-4DE7-8E9D-54F8F16E32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10BBF-5049-4E07-B568-C165AA5A5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C2C43F-16DD-4780-861C-8CD42FA0CD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A2C25F-5A8F-4AE1-8936-1FFD723CF3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B15A0C-9B63-486A-98FA-8CCF4DB14B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030203-E534-480A-B36F-87C302CE6CF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7642D2-71C1-4FA4-B724-77DFAADCCA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4027E-47E2-4719-88BE-BF81F0A7C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90C85-8488-4A0E-9852-17D3BEFFB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1A5C6-9A09-443D-9A70-1BB69B908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2BAD7-980D-4BF8-8380-FCA612B2A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6D9FA-C09B-4CB3-BB64-C9CDCA538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7D099-F88B-4E74-932C-F43817B19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1F254-72AF-473B-86D6-76FB325CD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6F138-24CC-46D0-8E11-B7429AACE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0A453-01D4-45CA-9532-3DB1591E4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91CCA-9BA2-4658-9D28-2CE86C0A7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A84B9-39B8-49D5-AFD8-2E78460AA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6C4FB7-E6AB-41BA-B454-F2D449AF2D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C068C-E6E3-4822-B39C-7EF9C1CDC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4A427-86F7-49E0-9DF7-F0CC0952E4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075218-8B30-4B48-8053-9472D7F20F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3B7ED-EE19-4FD9-AFBF-3EFEB5582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E894E-5FAF-4FCA-85B6-DA606AA1C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8B4649-72E8-4AAB-8013-EA85A9C61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166BC-A66D-4136-A9D0-EA93DBFF3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94AD1-8F2B-4893-88A1-A7C62EF8D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1AD94-19C9-482A-B481-BBB6B14EF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6BDD07-507E-497B-B7A7-378E2F5AB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E77995-E2BC-4C50-8B49-E4172EC267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DE20DA-4BD1-46BA-8796-99C1BF5CC6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264452-DFDC-4ABC-BC02-60847A051C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397DFE-99B7-4FDA-BA21-A5FCF5CF04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D8812-EB20-4689-82C9-5D252476DA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9F7AD-3364-44BF-90A4-1A431517B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2D68D-B31C-40E5-8DAC-DCBC30D401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35FB75-B2A7-4D26-8224-334A4CC0A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22C53-B850-4845-A5FA-6A1BE12B08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61838-D605-4AC0-B49B-6F3AD63C5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950CE-DC55-4E88-901D-D79983E375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70C3D5-8550-42D1-8026-90F41E620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94D36-0904-47A6-92B5-1089C94CAF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EAC4EE-9F15-4169-AEBE-A9F5F5747F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CEF6E0-E495-4714-AFC2-7EECA3F838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2DEBB9-27F7-4E57-AB21-569B7F5524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3901B-B0B4-4E17-84B3-7C47E5A65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9F1BC5-3A12-4F0E-B1B8-996FB6DB94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2BE8A-2ADD-4CBC-BD78-57F2168FAC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CC30AC-503D-474E-8804-15339112AD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364D64-070C-4CE3-958B-826A364073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45CD28-53F4-416C-BC8C-ECD6BE9BC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190828-8BEF-4F86-B614-53BA1FC944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314CA-BB75-4621-A94F-7771082901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42BE53-3505-472E-BC20-953898FCDE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64279B-15C2-4948-BD72-E2E3304BAA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47BB8B-3E74-4EF9-B6B6-F3632154B4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55CF-293F-41B5-8C77-A72207B66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30D3F2-CCA2-4C11-89FA-6E4CFE7168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4B00C2-8AE6-44B4-8CCE-AE6A758502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805CF5-A01B-4FEC-A4EF-73FA3F949A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2C5B9C-68E8-4F6B-A2DC-2D2A25F5DF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9BE963-7A59-422F-AEA5-B0837395BE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E04C47-458B-482B-95D9-3063C0E47E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C41E12-E720-4131-B283-8CCF0B6AD4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C0ACE-DA31-421B-81CA-61D0E6334D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4F8781-404C-4541-873F-14AC37CE72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36099-039F-4F15-B68E-F99938297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9C95E-BA84-490C-9056-500B3698A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F700F3-8A2C-4F34-ABF7-06D080A980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154C83-4257-4168-8AD6-74A9C82334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781B48-7A00-4C49-9156-8E38CACD83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03C0F7-FD9F-44E4-B299-36235F410F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E77262-D172-40E2-A3F0-461BCF3CDE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018C1-6354-461E-8A83-84378214D2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674810-4A64-46BE-A72E-EE42E8D575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5345FD-35D9-4D3F-9814-0130E448CC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23251A-95C9-4871-B140-885CDAC6EA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473B4-208E-4DD6-892D-098B9D13E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BFF2-1692-4992-A469-7A2E80286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5B1BC7-4242-4AE5-A745-39B77061F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0521B-0553-4D4D-B715-085E42FE8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CF6416-70FB-46CA-BDAD-F4FE44E513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0533FF-8A53-4EB7-B980-FD59AB1944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505DE6-899C-4AC6-BC01-699B76FEDC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07E236-9164-4D99-B37C-0A610E95D6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89725F-B051-497A-B068-882C2E29E3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D2E219-FF64-44D3-B271-7CB3F59D68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C18758-0CEB-4E0D-9682-8E28FEEB02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BE7E98-B907-426E-8403-1AD9652A52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0FB29-9E14-4CE6-996F-A23645117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EF3A52-6C83-4B8F-95E5-7906B2FDC1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2B1FA9-8C90-4334-A21A-B002820ED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7A7551-DFD0-462D-BD38-61DD29BBEB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EA5CC-EEDB-4AD1-A6ED-E2000685B6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5EB9CD-0098-4458-8656-F47C5EBAA5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8DC1C2-E7B6-41A0-B79D-D25B9B3020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7E61F0-2675-40D2-BA40-ED6B4C7056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E4EDEC-9E0C-4D51-BFC7-73F4510104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C740E4-66EC-4990-9C71-2F2C1653CA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6023B4-9AAC-41DB-9C0C-5B676A865E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1F1D-DDD6-4318-B689-053883FB9A86}"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32" name="Group 8"/>
          <p:cNvGrpSpPr/>
          <p:nvPr/>
        </p:nvGrpSpPr>
        <p:grpSpPr>
          <a:xfrm>
            <a:off x="210960" y="5354640"/>
            <a:ext cx="8723520" cy="1330200"/>
            <a:chOff x="210960" y="5354640"/>
            <a:chExt cx="8723520" cy="1330200"/>
          </a:xfrm>
        </p:grpSpPr>
        <p:sp>
          <p:nvSpPr>
            <p:cNvPr id="433"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34"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35"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36"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37"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4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3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40"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441"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42"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39F7-04DB-4841-AFD0-F4F358D80A1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80" name="Group 15"/>
          <p:cNvGrpSpPr/>
          <p:nvPr/>
        </p:nvGrpSpPr>
        <p:grpSpPr>
          <a:xfrm>
            <a:off x="210960" y="1679400"/>
            <a:ext cx="8723520" cy="1330560"/>
            <a:chOff x="210960" y="1679400"/>
            <a:chExt cx="8723520" cy="1330560"/>
          </a:xfrm>
        </p:grpSpPr>
        <p:sp>
          <p:nvSpPr>
            <p:cNvPr id="48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8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8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8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48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4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8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88"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489"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90"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0E2B-6D43-4CF8-97EC-D6773E23A9B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528" name="Group 14"/>
          <p:cNvGrpSpPr/>
          <p:nvPr/>
        </p:nvGrpSpPr>
        <p:grpSpPr>
          <a:xfrm>
            <a:off x="210960" y="714240"/>
            <a:ext cx="8723520" cy="1332000"/>
            <a:chOff x="210960" y="714240"/>
            <a:chExt cx="8723520" cy="1332000"/>
          </a:xfrm>
        </p:grpSpPr>
        <p:sp>
          <p:nvSpPr>
            <p:cNvPr id="52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3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3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3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3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5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3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36"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37"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38"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245E-203A-46A5-BF5A-E50D64D45C2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F4A1-32EE-463C-B037-357AC113DE6C}"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97" name="Group 15"/>
          <p:cNvGrpSpPr/>
          <p:nvPr/>
        </p:nvGrpSpPr>
        <p:grpSpPr>
          <a:xfrm>
            <a:off x="210960" y="1679400"/>
            <a:ext cx="8723520" cy="1330560"/>
            <a:chOff x="210960" y="1679400"/>
            <a:chExt cx="8723520" cy="1330560"/>
          </a:xfrm>
        </p:grpSpPr>
        <p:sp>
          <p:nvSpPr>
            <p:cNvPr id="9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9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0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0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0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5"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6"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7"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544A-A5DA-4FBF-B37F-9DFA820E8098}"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45"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6"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7"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8"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49"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9EA7-A51A-4B82-93FE-22A3AE36793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92" name="Group 15"/>
          <p:cNvGrpSpPr/>
          <p:nvPr/>
        </p:nvGrpSpPr>
        <p:grpSpPr>
          <a:xfrm>
            <a:off x="210960" y="1679400"/>
            <a:ext cx="8723520" cy="1330560"/>
            <a:chOff x="210960" y="1679400"/>
            <a:chExt cx="8723520" cy="1330560"/>
          </a:xfrm>
        </p:grpSpPr>
        <p:sp>
          <p:nvSpPr>
            <p:cNvPr id="19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19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A930-0080-4F5C-A717-AD3CF3936E0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40" name="Group 15"/>
          <p:cNvGrpSpPr/>
          <p:nvPr/>
        </p:nvGrpSpPr>
        <p:grpSpPr>
          <a:xfrm>
            <a:off x="210960" y="1679400"/>
            <a:ext cx="8723520" cy="1330560"/>
            <a:chOff x="210960" y="1679400"/>
            <a:chExt cx="8723520" cy="1330560"/>
          </a:xfrm>
        </p:grpSpPr>
        <p:sp>
          <p:nvSpPr>
            <p:cNvPr id="24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4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F7CC-BC0B-40D7-96C1-A17581C1311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88" name="Group 15"/>
          <p:cNvGrpSpPr/>
          <p:nvPr/>
        </p:nvGrpSpPr>
        <p:grpSpPr>
          <a:xfrm>
            <a:off x="210960" y="1679400"/>
            <a:ext cx="8723520" cy="1330560"/>
            <a:chOff x="210960" y="1679400"/>
            <a:chExt cx="8723520" cy="1330560"/>
          </a:xfrm>
        </p:grpSpPr>
        <p:sp>
          <p:nvSpPr>
            <p:cNvPr id="289"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0"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1"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2"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293"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31AF-DCDE-42DA-97C6-BC13C927C1D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336" name="Group 5"/>
          <p:cNvGrpSpPr/>
          <p:nvPr/>
        </p:nvGrpSpPr>
        <p:grpSpPr>
          <a:xfrm>
            <a:off x="210960" y="714240"/>
            <a:ext cx="8723520" cy="1330560"/>
            <a:chOff x="210960" y="714240"/>
            <a:chExt cx="8723520" cy="1330560"/>
          </a:xfrm>
        </p:grpSpPr>
        <p:sp>
          <p:nvSpPr>
            <p:cNvPr id="337"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338"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339"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340"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341"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4"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345"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46"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0AD5-8C69-4177-8D11-5F36955F7F7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384" name="Group 23"/>
          <p:cNvGrpSpPr/>
          <p:nvPr/>
        </p:nvGrpSpPr>
        <p:grpSpPr>
          <a:xfrm>
            <a:off x="210960" y="714240"/>
            <a:ext cx="8723520" cy="1332000"/>
            <a:chOff x="210960" y="714240"/>
            <a:chExt cx="8723520" cy="1332000"/>
          </a:xfrm>
        </p:grpSpPr>
        <p:sp>
          <p:nvSpPr>
            <p:cNvPr id="38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38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38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38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389"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grpSp>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9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92"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393"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94"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DC35-1BE4-40BF-90C5-28F0BDA0AAE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commons.wikimedia.org/wiki/File:RIAN_archive_985705_Olympic_venues_construction_in_Sochi.jpg?uselang=ru" TargetMode="External"/><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60;&#1072;&#1081;&#1083;:Sochi_olimpic_stadium.jpg"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commons.wikimedia.org/wiki/File:RR5015-0001R.png?uselang=ru" TargetMode="External"/><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commons.wikimedia.org/wiki/File:Stamps_of_Russia_2012_No_1559-61_Mascots_2014_Winter_Olympics.jpg?uselang=ru" TargetMode="External"/><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23640" y="549360"/>
            <a:ext cx="8204040" cy="468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Candara"/>
              </a:rPr>
              <a:t>История зимних олимпийских игр </a:t>
            </a:r>
            <a:br>
              <a:rPr sz="5400"/>
            </a:br>
            <a:r>
              <a:rPr b="0" lang="ru-RU" sz="5400" spc="-1" strike="noStrike">
                <a:solidFill>
                  <a:srgbClr val="ffffff"/>
                </a:solidFill>
                <a:latin typeface="Candara"/>
              </a:rPr>
              <a:t>г. СОЧИ – 2014</a:t>
            </a:r>
            <a:br>
              <a:rPr sz="5400"/>
            </a:br>
            <a:br>
              <a:rPr sz="5400"/>
            </a:br>
            <a:br>
              <a:rPr sz="5400"/>
            </a:br>
            <a:r>
              <a:rPr b="0" lang="ru-RU" sz="2800" spc="-1" strike="noStrike">
                <a:solidFill>
                  <a:srgbClr val="ffffff"/>
                </a:solidFill>
                <a:latin typeface="Candara"/>
              </a:rPr>
              <a:t>подготовил Яценюк Ю.В.</a:t>
            </a:r>
            <a:endParaRPr b="0" lang="en-US" sz="2800" spc="-1" strike="noStrike">
              <a:solidFill>
                <a:srgbClr val="ffffff"/>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37680"/>
            <a:ext cx="8229600" cy="640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Candara"/>
              </a:rPr>
              <a:t>                  </a:t>
            </a:r>
            <a:r>
              <a:rPr b="0" lang="ru-RU" sz="3200" spc="-1" strike="noStrike">
                <a:solidFill>
                  <a:srgbClr val="000000"/>
                </a:solidFill>
                <a:latin typeface="Candara"/>
              </a:rPr>
              <a:t>Спортивные сооружения</a:t>
            </a:r>
            <a:br>
              <a:rPr sz="2800"/>
            </a:br>
            <a:br>
              <a:rPr sz="1600"/>
            </a:br>
            <a:r>
              <a:rPr b="0" lang="ru-RU" sz="1600" spc="-1" strike="noStrike">
                <a:solidFill>
                  <a:srgbClr val="000000"/>
                </a:solidFill>
                <a:latin typeface="Candara"/>
              </a:rPr>
              <a:t>                                 </a:t>
            </a:r>
            <a:r>
              <a:rPr b="0" lang="ru-RU" sz="2400" spc="-1" strike="noStrike">
                <a:solidFill>
                  <a:srgbClr val="000000"/>
                </a:solidFill>
                <a:latin typeface="Candara"/>
              </a:rPr>
              <a:t>1. Международный передающий центр </a:t>
            </a:r>
            <a:br>
              <a:rPr sz="2400"/>
            </a:br>
            <a:r>
              <a:rPr b="0" lang="ru-RU" sz="2400" spc="-1" strike="noStrike">
                <a:solidFill>
                  <a:srgbClr val="000000"/>
                </a:solidFill>
                <a:latin typeface="Candara"/>
              </a:rPr>
              <a:t>                      2. Ледовый дворец спорта</a:t>
            </a:r>
            <a:br>
              <a:rPr sz="2400"/>
            </a:br>
            <a:r>
              <a:rPr b="0" lang="ru-RU" sz="2400" spc="-1" strike="noStrike">
                <a:solidFill>
                  <a:srgbClr val="000000"/>
                </a:solidFill>
                <a:latin typeface="Candara"/>
              </a:rPr>
              <a:t>                      3. Конькобежный центр</a:t>
            </a:r>
            <a:br>
              <a:rPr sz="2400"/>
            </a:br>
            <a:r>
              <a:rPr b="0" lang="ru-RU" sz="2400" spc="-1" strike="noStrike">
                <a:solidFill>
                  <a:srgbClr val="000000"/>
                </a:solidFill>
                <a:latin typeface="Candara"/>
              </a:rPr>
              <a:t>                      4. Главная олимпийская деревня</a:t>
            </a:r>
            <a:br>
              <a:rPr sz="2400"/>
            </a:br>
            <a:r>
              <a:rPr b="0" lang="ru-RU" sz="2400" spc="-1" strike="noStrike">
                <a:solidFill>
                  <a:srgbClr val="000000"/>
                </a:solidFill>
                <a:latin typeface="Candara"/>
              </a:rPr>
              <a:t>                      5. Арена для кёрлинга</a:t>
            </a:r>
            <a:br>
              <a:rPr sz="2400"/>
            </a:br>
            <a:r>
              <a:rPr b="0" lang="ru-RU" sz="2400" spc="-1" strike="noStrike">
                <a:solidFill>
                  <a:srgbClr val="000000"/>
                </a:solidFill>
                <a:latin typeface="Candara"/>
              </a:rPr>
              <a:t>                      6. Medals Plaza</a:t>
            </a:r>
            <a:br>
              <a:rPr sz="2400"/>
            </a:br>
            <a:r>
              <a:rPr b="0" lang="ru-RU" sz="2400" spc="-1" strike="noStrike">
                <a:solidFill>
                  <a:srgbClr val="000000"/>
                </a:solidFill>
                <a:latin typeface="Candara"/>
              </a:rPr>
              <a:t>                      7. Большая ледовая арена</a:t>
            </a:r>
            <a:br>
              <a:rPr sz="2400"/>
            </a:br>
            <a:r>
              <a:rPr b="0" lang="ru-RU" sz="2400" spc="-1" strike="noStrike">
                <a:solidFill>
                  <a:srgbClr val="000000"/>
                </a:solidFill>
                <a:latin typeface="Candara"/>
              </a:rPr>
              <a:t>                      8. Малая ледовая арена</a:t>
            </a:r>
            <a:br>
              <a:rPr sz="2400"/>
            </a:br>
            <a:r>
              <a:rPr b="0" lang="ru-RU" sz="2400" spc="-1" strike="noStrike">
                <a:solidFill>
                  <a:srgbClr val="000000"/>
                </a:solidFill>
                <a:latin typeface="Candara"/>
              </a:rPr>
              <a:t>                      9. Олимпийский стадион</a:t>
            </a:r>
            <a:br>
              <a:rPr sz="1600"/>
            </a:br>
            <a:endParaRPr b="0" lang="en-US" sz="2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764640"/>
            <a:ext cx="7920000" cy="5040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ndara"/>
              </a:rPr>
              <a:t>Олимпийский парк</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Олимпийский парк Сочи будет расположен на побережье Чёрного моря в Имеретинской низменности. Все проектные работы по олимпийским объектам планируется завершить в начале сентября 2007 года, чтобы уже в конце года начать их строительство. Строительство предполагается завершить в 2013 году.</a:t>
            </a:r>
            <a:endParaRPr b="0" lang="en-US" sz="1800" spc="-1" strike="noStrike">
              <a:solidFill>
                <a:srgbClr val="073e87"/>
              </a:solidFill>
              <a:latin typeface="Candar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	</a:t>
            </a:r>
            <a:r>
              <a:rPr b="0" lang="ru-RU" sz="1800" spc="-1" strike="noStrike">
                <a:solidFill>
                  <a:srgbClr val="000000"/>
                </a:solidFill>
                <a:latin typeface="Candara"/>
              </a:rPr>
              <a:t>Ледовый дворец «Большой» — хоккей, 12 тыс. зрителей.</a:t>
            </a:r>
            <a:endParaRPr b="0" lang="en-US" sz="1800" spc="-1" strike="noStrike">
              <a:solidFill>
                <a:srgbClr val="073e87"/>
              </a:solidFill>
              <a:latin typeface="Candar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	</a:t>
            </a:r>
            <a:r>
              <a:rPr b="0" lang="ru-RU" sz="1800" spc="-1" strike="noStrike">
                <a:solidFill>
                  <a:srgbClr val="000000"/>
                </a:solidFill>
                <a:latin typeface="Candara"/>
              </a:rPr>
              <a:t>Ледовая арена «Шайба» — хоккей, 7 тыс. зрителей.</a:t>
            </a:r>
            <a:endParaRPr b="0" lang="en-US" sz="1800" spc="-1" strike="noStrike">
              <a:solidFill>
                <a:srgbClr val="073e87"/>
              </a:solidFill>
              <a:latin typeface="Candar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	</a:t>
            </a:r>
            <a:r>
              <a:rPr b="0" lang="ru-RU" sz="1800" spc="-1" strike="noStrike">
                <a:solidFill>
                  <a:srgbClr val="000000"/>
                </a:solidFill>
                <a:latin typeface="Candara"/>
              </a:rPr>
              <a:t>«Адлер-Арена» — конькобежный спорт, 8 тыс. зрителей.</a:t>
            </a:r>
            <a:endParaRPr b="0" lang="en-US" sz="1800" spc="-1" strike="noStrike">
              <a:solidFill>
                <a:srgbClr val="073e87"/>
              </a:solidFill>
              <a:latin typeface="Candar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	</a:t>
            </a:r>
            <a:r>
              <a:rPr b="0" lang="ru-RU" sz="1800" spc="-1" strike="noStrike">
                <a:solidFill>
                  <a:srgbClr val="000000"/>
                </a:solidFill>
                <a:latin typeface="Candara"/>
              </a:rPr>
              <a:t>Дворец зимнего спорта «Айсберг» — фигурное катание, шорт-трек, </a:t>
            </a:r>
            <a:endParaRPr b="0" lang="en-US" sz="1800" spc="-1" strike="noStrike">
              <a:solidFill>
                <a:srgbClr val="073e87"/>
              </a:solidFill>
              <a:latin typeface="Candar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                   </a:t>
            </a:r>
            <a:r>
              <a:rPr b="0" lang="ru-RU" sz="1800" spc="-1" strike="noStrike">
                <a:solidFill>
                  <a:srgbClr val="000000"/>
                </a:solidFill>
                <a:latin typeface="Candara"/>
              </a:rPr>
              <a:t>12 тыс. зрителей.</a:t>
            </a:r>
            <a:endParaRPr b="0" lang="en-US" sz="1800" spc="-1" strike="noStrike">
              <a:solidFill>
                <a:srgbClr val="073e87"/>
              </a:solidFill>
              <a:latin typeface="Candar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 </a:t>
            </a:r>
            <a:r>
              <a:rPr b="0" lang="ru-RU" sz="1800" spc="-1" strike="noStrike">
                <a:solidFill>
                  <a:srgbClr val="000000"/>
                </a:solidFill>
                <a:latin typeface="Candara"/>
              </a:rPr>
              <a:t>	</a:t>
            </a:r>
            <a:r>
              <a:rPr b="0" lang="ru-RU" sz="1800" spc="-1" strike="noStrike">
                <a:solidFill>
                  <a:srgbClr val="000000"/>
                </a:solidFill>
                <a:latin typeface="Candara"/>
              </a:rPr>
              <a:t>Кёрлинговый центр «Ледяной куб» — кёрлинг, 3 тыс. зрителей.</a:t>
            </a:r>
            <a:endParaRPr b="0" lang="en-US" sz="1800" spc="-1" strike="noStrike">
              <a:solidFill>
                <a:srgbClr val="073e87"/>
              </a:solidFill>
              <a:latin typeface="Candar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	</a:t>
            </a:r>
            <a:r>
              <a:rPr b="0" lang="ru-RU" sz="1800" spc="-1" strike="noStrike">
                <a:solidFill>
                  <a:srgbClr val="000000"/>
                </a:solidFill>
                <a:latin typeface="Candara"/>
              </a:rPr>
              <a:t>Олимпийский стадион «Фишт», 40 тыс. зрителей.</a:t>
            </a:r>
            <a:endParaRPr b="0" lang="en-US" sz="1800" spc="-1" strike="noStrike">
              <a:solidFill>
                <a:srgbClr val="073e87"/>
              </a:solidFill>
              <a:latin typeface="Candar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	</a:t>
            </a:r>
            <a:r>
              <a:rPr b="0" lang="ru-RU" sz="1800" spc="-1" strike="noStrike">
                <a:solidFill>
                  <a:srgbClr val="000000"/>
                </a:solidFill>
                <a:latin typeface="Candara"/>
              </a:rPr>
              <a:t>Главная олимпийская деревня.</a:t>
            </a:r>
            <a:endParaRPr b="0" lang="en-US" sz="1800" spc="-1" strike="noStrike">
              <a:solidFill>
                <a:srgbClr val="073e87"/>
              </a:solidFill>
              <a:latin typeface="Candar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79280" y="765000"/>
            <a:ext cx="8640720" cy="53280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ndara"/>
              </a:rPr>
              <a:t>Красная Поляна.</a:t>
            </a:r>
            <a:endParaRPr b="0" lang="en-US" sz="1600" spc="-1" strike="noStrike">
              <a:solidFill>
                <a:srgbClr val="073e87"/>
              </a:solidFill>
              <a:latin typeface="Candara"/>
            </a:endParaRPr>
          </a:p>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ndara"/>
              </a:rPr>
              <a:t> </a:t>
            </a:r>
            <a:r>
              <a:rPr b="0" lang="ru-RU" sz="1400" spc="-1" strike="noStrike">
                <a:solidFill>
                  <a:srgbClr val="000000"/>
                </a:solidFill>
                <a:latin typeface="Candara"/>
              </a:rPr>
              <a:t>Санно-бобслейная трасса «Санки» — бобслей, скелетон, санный спорт, 11 тыс. зрителей, стоимость 135,7 млн долл., сроки сдачи — 2007—2009 годы. </a:t>
            </a:r>
            <a:endParaRPr b="0" lang="en-US" sz="1400" spc="-1" strike="noStrike">
              <a:solidFill>
                <a:srgbClr val="073e87"/>
              </a:solidFill>
              <a:latin typeface="Candara"/>
            </a:endParaRPr>
          </a:p>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ndara"/>
              </a:rPr>
              <a:t> </a:t>
            </a:r>
            <a:r>
              <a:rPr b="0" lang="ru-RU" sz="1400" spc="-1" strike="noStrike">
                <a:solidFill>
                  <a:srgbClr val="000000"/>
                </a:solidFill>
                <a:latin typeface="Candara"/>
              </a:rPr>
              <a:t>Горно-туристический центр ОАО «Газпром» — стоимость 19,3 млн долл., сроки строительства — 2008—2009 годы.</a:t>
            </a:r>
            <a:endParaRPr b="0" lang="en-US" sz="1400" spc="-1" strike="noStrike">
              <a:solidFill>
                <a:srgbClr val="073e87"/>
              </a:solidFill>
              <a:latin typeface="Candara"/>
            </a:endParaRPr>
          </a:p>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ndara"/>
              </a:rPr>
              <a:t>         </a:t>
            </a:r>
            <a:r>
              <a:rPr b="0" lang="ru-RU" sz="1400" spc="-1" strike="noStrike">
                <a:solidFill>
                  <a:srgbClr val="000000"/>
                </a:solidFill>
                <a:latin typeface="Candara"/>
              </a:rPr>
              <a:t>Лаура (лыжно-биатлонный комплекс) — лыжный спорт, биатлон, лыжное двоеборье на 10 тыс. зрителей.[24]</a:t>
            </a:r>
            <a:endParaRPr b="0" lang="en-US" sz="1400" spc="-1" strike="noStrike">
              <a:solidFill>
                <a:srgbClr val="073e87"/>
              </a:solidFill>
              <a:latin typeface="Candara"/>
            </a:endParaRPr>
          </a:p>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ndara"/>
              </a:rPr>
              <a:t>Горная олимпийская деревня на хребте Псехако — рассчитанная на 1100 мест[25].</a:t>
            </a:r>
            <a:endParaRPr b="0" lang="en-US" sz="1400" spc="-1" strike="noStrike">
              <a:solidFill>
                <a:srgbClr val="073e87"/>
              </a:solidFill>
              <a:latin typeface="Candara"/>
            </a:endParaRPr>
          </a:p>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ndara"/>
              </a:rPr>
              <a:t>Комплекс «Роза Хутор» — горнолыжный спорт, сноубординг, фристайл[26], 18 тыс. мест (из них 10 тыс. стоячих), уникальность — в едином финише для всех горнолыжных дисциплин[27], стоимость 17,7 млн долл. — сноуборд, 274,5 млн — горные лыжи; сроки — 2007—2011 годы.</a:t>
            </a:r>
            <a:endParaRPr b="0" lang="en-US" sz="1400" spc="-1" strike="noStrike">
              <a:solidFill>
                <a:srgbClr val="073e87"/>
              </a:solidFill>
              <a:latin typeface="Candara"/>
            </a:endParaRPr>
          </a:p>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ndara"/>
              </a:rPr>
              <a:t>Комплекс трамплинов — прыжки на лыжах с трамплина, 15 тыс. зрителей.</a:t>
            </a:r>
            <a:endParaRPr b="0" lang="en-US" sz="1400" spc="-1" strike="noStrike">
              <a:solidFill>
                <a:srgbClr val="073e87"/>
              </a:solidFill>
              <a:latin typeface="Candara"/>
            </a:endParaRPr>
          </a:p>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ndara"/>
              </a:rPr>
              <a:t>	</a:t>
            </a:r>
            <a:r>
              <a:rPr b="0" lang="ru-RU" sz="1400" spc="-1" strike="noStrike">
                <a:solidFill>
                  <a:srgbClr val="000000"/>
                </a:solidFill>
                <a:latin typeface="Candara"/>
              </a:rPr>
              <a:t>Горная олимпийская медиадеревня и вспомогательный медиацентр на территории всесезонного курорта «Горки-Город»</a:t>
            </a:r>
            <a:endParaRPr b="0" lang="en-US" sz="1400" spc="-1" strike="noStrike">
              <a:solidFill>
                <a:srgbClr val="073e87"/>
              </a:solidFill>
              <a:latin typeface="Candar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ubTitle"/>
          </p:nvPr>
        </p:nvSpPr>
        <p:spPr>
          <a:xfrm>
            <a:off x="899640" y="765000"/>
            <a:ext cx="7488360" cy="54007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ndara"/>
              </a:rPr>
              <a:t>Новые дисциплины</a:t>
            </a:r>
            <a:endParaRPr b="0" lang="en-US" sz="3600" spc="-1" strike="noStrike">
              <a:solidFill>
                <a:srgbClr val="073e87"/>
              </a:solidFill>
              <a:latin typeface="Candar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ndara"/>
              </a:rPr>
              <a:t>6 апреля 2011 года исполком Международного олимпийского комитета (МОК) включил шесть новых дисциплин: прыжки с трамплина (женщины), командные соревнования в фигурном катании, эстафета в санном спорте, хафпайп во фристайле (в мужском и женском турнире) и смешанная эстафета в биатлоне.</a:t>
            </a:r>
            <a:endParaRPr b="0" lang="en-US" sz="2000" spc="-1" strike="noStrike">
              <a:solidFill>
                <a:srgbClr val="073e87"/>
              </a:solidFill>
              <a:latin typeface="Candar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ndara"/>
              </a:rPr>
              <a:t>4 июня 2011 года исполком МОК на заседании в Дурбане (ЮАР) принял решение о включении в программу Олимпиады-2014 трех новых дисциплин: слоупстайл во фристайле(мужчины и женщины), слоупстайл в сноуборде (мужчины и женщины) и параллельный слалом в сноуборде</a:t>
            </a:r>
            <a:endParaRPr b="0" lang="en-US" sz="2000" spc="-1" strike="noStrike">
              <a:solidFill>
                <a:srgbClr val="073e87"/>
              </a:solidFill>
              <a:latin typeface="Candar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ubTitle"/>
          </p:nvPr>
        </p:nvSpPr>
        <p:spPr>
          <a:xfrm>
            <a:off x="1403280" y="475920"/>
            <a:ext cx="6400800" cy="252108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ndara"/>
              </a:rPr>
              <a:t>Айсберг (Ледовый дворец спорта)</a:t>
            </a:r>
            <a:endParaRPr b="0" lang="en-US" sz="2000" spc="-1" strike="noStrike">
              <a:solidFill>
                <a:srgbClr val="073e87"/>
              </a:solidFill>
              <a:latin typeface="Candar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ndara"/>
              </a:rPr>
              <a:t>Дворец зимнего спорта «Айсберг» — строящийся ледовый дворца спорта (12 тыс. мест) в Имеритинской низменности , Адлера ,Сочи, с ледовой ареной (60x30 м) и тренировочным катком для фигурного катания и соревнований по шорт-треку (60x30 м), который будет использоваться во время Олимпиады-2014. Предполагаемая дата открытия — 2012 год. Тестовым соревнованием Международного союза конькобежцев станет, скорее всего, финал Гран-при по фигурному катанию сезона 2012—2013 (декабрь 2012 года).</a:t>
            </a:r>
            <a:endParaRPr b="0" lang="en-US" sz="1600" spc="-1" strike="noStrike">
              <a:solidFill>
                <a:srgbClr val="073e87"/>
              </a:solidFill>
              <a:latin typeface="Candara"/>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pic>
        <p:nvPicPr>
          <p:cNvPr id="592" name="Рисунок 3" descr="RIAN archive 985705 Olympic venues construction in Sochi.jpg">
            <a:hlinkClick r:id="rId1"/>
          </p:cNvPr>
          <p:cNvPicPr/>
          <p:nvPr/>
        </p:nvPicPr>
        <p:blipFill>
          <a:blip r:embed="rId2"/>
          <a:stretch/>
        </p:blipFill>
        <p:spPr>
          <a:xfrm>
            <a:off x="2776680" y="3068640"/>
            <a:ext cx="3784320" cy="3220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ubTitle"/>
          </p:nvPr>
        </p:nvSpPr>
        <p:spPr>
          <a:xfrm>
            <a:off x="1042560" y="620280"/>
            <a:ext cx="7489800" cy="3256200"/>
          </a:xfrm>
          <a:prstGeom prst="rect">
            <a:avLst/>
          </a:prstGeom>
          <a:noFill/>
          <a:ln w="0">
            <a:noFill/>
          </a:ln>
        </p:spPr>
        <p:txBody>
          <a:bodyPr anchor="t">
            <a:no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ndara"/>
              </a:rPr>
              <a:t>Большая ледовая арена (Сочи)</a:t>
            </a:r>
            <a:endParaRPr b="0" lang="en-US" sz="2300" spc="-1" strike="noStrike">
              <a:solidFill>
                <a:srgbClr val="073e87"/>
              </a:solidFill>
              <a:latin typeface="Candar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Большой ледовый дворец «Большой»[1] — стадион, который будет находиться в Олимпийском парке Сочи. Он станет основным хоккейным стадионом во время Олимпиады-2014 в Сочи и домашней ареной для одноимённого хоккейного клуба. Большая ледовая арена для хоккея с шайбой рассчитана на 12000 зрителей. По архитектуре арена напоминает замерзшую каплю. Цвет покрытий купола — жемчужно-белый. Арена будет находиться рядом с другими стадионами: ареной для керлинга,Малой ледовой ареной и тренировочным стадионом. Ориентировочная стоимость строительства $300 млн. Генеральный подрядчик - "НПО Мостовик". Начало строительства — 2009. Окончание — 2012[2]. После окончания Игр стадион будет использоваться как спортивная и концертная арена.</a:t>
            </a:r>
            <a:endParaRPr b="0" lang="en-US" sz="1800" spc="-1" strike="noStrike">
              <a:solidFill>
                <a:srgbClr val="073e87"/>
              </a:solidFill>
              <a:latin typeface="Candar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pic>
        <p:nvPicPr>
          <p:cNvPr id="594" name="Рисунок 3" descr="C:\Users\пк\Desktop\300px-Большая_ледовая_арена.JPG"/>
          <p:cNvPicPr/>
          <p:nvPr/>
        </p:nvPicPr>
        <p:blipFill>
          <a:blip r:embed="rId1"/>
          <a:stretch/>
        </p:blipFill>
        <p:spPr>
          <a:xfrm>
            <a:off x="2195640" y="3716280"/>
            <a:ext cx="4968720" cy="2693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ubTitle"/>
          </p:nvPr>
        </p:nvSpPr>
        <p:spPr>
          <a:xfrm>
            <a:off x="755640" y="404640"/>
            <a:ext cx="7920000" cy="3616560"/>
          </a:xfrm>
          <a:prstGeom prst="rect">
            <a:avLst/>
          </a:prstGeom>
          <a:noFill/>
          <a:ln w="0">
            <a:noFill/>
          </a:ln>
        </p:spPr>
        <p:txBody>
          <a:bodyPr anchor="t">
            <a:noAutofit/>
          </a:bodyPr>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Candara"/>
              </a:rPr>
              <a:t>Олимпийский стадион (Сочи)</a:t>
            </a:r>
            <a:endParaRPr b="0" lang="en-US" sz="4200" spc="-1" strike="noStrike">
              <a:solidFill>
                <a:srgbClr val="073e87"/>
              </a:solidFill>
              <a:latin typeface="Candar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ndara"/>
              </a:rPr>
              <a:t>Олимпийский стадион «Фишт» —стадион города Сочи в настоящее время строится к XXII зимним Олимпийским играм в Сочи в 2014 году и будет расположен в Олимпийском парке. На стадионе будут проведены церемонии открытия и закрытия зимних Олимпийских игр. Кроме того, руководство Международной федерации бенди хочет провести на стадионе два показательных матча между мужскими и женскими сборными России и Швеции, для чего готова закупить у голландцев специальный лед, который за несколько часов раскатывается на арене, словно обычный травяной газон.</a:t>
            </a:r>
            <a:endParaRPr b="0" lang="en-US" sz="2000" spc="-1" strike="noStrike">
              <a:solidFill>
                <a:srgbClr val="073e87"/>
              </a:solidFill>
              <a:latin typeface="Candar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596" name="Рисунок 3" descr="Sochi olimpic stadium.jpg">
            <a:hlinkClick r:id="rId1"/>
          </p:cNvPr>
          <p:cNvPicPr/>
          <p:nvPr/>
        </p:nvPicPr>
        <p:blipFill>
          <a:blip r:embed="rId2"/>
          <a:stretch/>
        </p:blipFill>
        <p:spPr>
          <a:xfrm>
            <a:off x="2549520" y="3429000"/>
            <a:ext cx="4021200" cy="3193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ubTitle"/>
          </p:nvPr>
        </p:nvSpPr>
        <p:spPr>
          <a:xfrm>
            <a:off x="684360" y="549000"/>
            <a:ext cx="7920000" cy="19429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ndara"/>
              </a:rPr>
              <a:t>Лыжно-биатлонный комплекс СОЧИ 2014 (в составе Горно-туристического центра ОАО «Газпром» «Лаура»)</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598" name="Рисунок 3" descr="Лыжно-биатлонный комплекс СОЧИ 2014 (в составе Горно-туристического центра ОАО «Газпром» «Лаура»)"/>
          <p:cNvPicPr/>
          <p:nvPr/>
        </p:nvPicPr>
        <p:blipFill>
          <a:blip r:embed="rId1"/>
          <a:stretch/>
        </p:blipFill>
        <p:spPr>
          <a:xfrm>
            <a:off x="971640" y="1484280"/>
            <a:ext cx="7200720" cy="4681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Рисунок 3" descr="http://www.archi.ru/files/img/news/large650/112373.jpg"/>
          <p:cNvPicPr/>
          <p:nvPr/>
        </p:nvPicPr>
        <p:blipFill>
          <a:blip r:embed="rId1"/>
          <a:stretch/>
        </p:blipFill>
        <p:spPr>
          <a:xfrm>
            <a:off x="1042920" y="907920"/>
            <a:ext cx="7058160" cy="5113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
          <p:cNvPicPr/>
          <p:nvPr/>
        </p:nvPicPr>
        <p:blipFill>
          <a:blip r:embed="rId1"/>
          <a:stretch/>
        </p:blipFill>
        <p:spPr>
          <a:xfrm>
            <a:off x="0" y="0"/>
            <a:ext cx="9144000" cy="6958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42920" y="691920"/>
            <a:ext cx="7274160" cy="56163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ndara"/>
              </a:rPr>
              <a:t>Передача Олимпийского флага Сочи</a:t>
            </a:r>
            <a:endParaRPr b="0" lang="en-US" sz="4000" spc="-1" strike="noStrike">
              <a:solidFill>
                <a:srgbClr val="073e87"/>
              </a:solidFill>
              <a:latin typeface="Candar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ndara"/>
              </a:rPr>
              <a:t>1 марта 2010 года на церемонии закрытия зимней Олимпиады-2010 в 5:25 МСК президент МОК Жак Рогге передал олимпийский флаг мэру Сочи Анатолию Пахомову. </a:t>
            </a:r>
            <a:endParaRPr b="0" lang="en-US" sz="3200" spc="-1" strike="noStrike">
              <a:solidFill>
                <a:srgbClr val="073e87"/>
              </a:solidFill>
              <a:latin typeface="Candar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ubTitle"/>
          </p:nvPr>
        </p:nvSpPr>
        <p:spPr>
          <a:xfrm>
            <a:off x="684360" y="620280"/>
            <a:ext cx="7920000" cy="5977080"/>
          </a:xfrm>
          <a:prstGeom prst="rect">
            <a:avLst/>
          </a:prstGeom>
          <a:noFill/>
          <a:ln w="0">
            <a:noFill/>
          </a:ln>
        </p:spPr>
        <p:txBody>
          <a:bodyPr anchor="t">
            <a:noAutofit/>
          </a:bodyPr>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ndara"/>
              </a:rPr>
              <a:t>Олимпийский огонь</a:t>
            </a:r>
            <a:endParaRPr b="0" lang="en-US" sz="1800" spc="-1" strike="noStrike">
              <a:solidFill>
                <a:srgbClr val="073e87"/>
              </a:solidFill>
              <a:latin typeface="Candara"/>
            </a:endParaRPr>
          </a:p>
          <a:p>
            <a:pPr algn="ctr">
              <a:lnSpc>
                <a:spcPct val="2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ndara"/>
              </a:rPr>
              <a:t>Эстафета олимпийского огня начнётся в Москве 7 октября 2013 года и закончится в Сочи 7 февраля 2014 года. По словам представителей оргкомитета Олимпийский игр, эстафета станет самой продолжительной за всю историю – 123 дня и самой протяженной – более 40 тысяч километров. Олимпийский огонь будет пронесён через столицы всех 83-х субъектов Российской Федерации.</a:t>
            </a:r>
            <a:endParaRPr b="0" lang="en-US" sz="1500" spc="-1" strike="noStrike">
              <a:solidFill>
                <a:srgbClr val="073e87"/>
              </a:solidFill>
              <a:latin typeface="Candara"/>
            </a:endParaRPr>
          </a:p>
          <a:p>
            <a:pPr algn="ctr">
              <a:lnSpc>
                <a:spcPct val="2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ndara"/>
              </a:rPr>
              <a:t>Эстафета будет состоять из четырех этапов. Первый начнётся 7 октября 2013 года, когда огонь будет доставлен из Афин в Москву и далее в ходе автопробега доберётся до Санкт-Петербурга. За 23 дня огонь посетит 15 основных городов Центрального и Северо-Западного федеральных округов. На втором этапе факел будет доставлен самолётом из Санкт-Петербурга во Владивосток, откуда в течение 30 дней он будет путешествовать по Северу и Дальнему Востоку страны.</a:t>
            </a:r>
            <a:endParaRPr b="0" lang="en-US" sz="1500" spc="-1" strike="noStrike">
              <a:solidFill>
                <a:srgbClr val="073e87"/>
              </a:solidFill>
              <a:latin typeface="Candar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ubTitle"/>
          </p:nvPr>
        </p:nvSpPr>
        <p:spPr>
          <a:xfrm>
            <a:off x="826560" y="836640"/>
            <a:ext cx="7705800" cy="5184720"/>
          </a:xfrm>
          <a:prstGeom prst="rect">
            <a:avLst/>
          </a:prstGeom>
          <a:noFill/>
          <a:ln w="0">
            <a:noFill/>
          </a:ln>
        </p:spPr>
        <p:txBody>
          <a:bodyPr anchor="t">
            <a:noAutofit/>
          </a:bodyPr>
          <a:p>
            <a:pPr algn="ctr">
              <a:lnSpc>
                <a:spcPct val="2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ndara"/>
              </a:rPr>
              <a:t>Вернувшись во Владивосток, огонь отправится в третье путешествие – поездом до Элисты. За 58 дней, которые организаторы отводят на этот этап, олимпийский огонь увидят жители 45 городов. На заключительном, четвертом этапе, факел олимпийского огня автопробегом из Элисты через 10 городов юга страны прибудет в Сочи 7 февраля 2014 года. Предполагается, что в ходе своего путешествия олимпийский огонь побывает на самом глубоком озере мира – Байкале, на высочайшей европейской горной вершине – Эльбрусе, на Северном полюсе. Кроме того, планируется отправить огонь в космос[4].</a:t>
            </a:r>
            <a:endParaRPr b="0" lang="en-US" sz="1700" spc="-1" strike="noStrike">
              <a:solidFill>
                <a:srgbClr val="073e87"/>
              </a:solidFill>
              <a:latin typeface="Candara"/>
            </a:endParaRPr>
          </a:p>
          <a:p>
            <a:pPr algn="ctr">
              <a:lnSpc>
                <a:spcPct val="2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ndara"/>
              </a:rPr>
              <a:t>В эстафете олимпийского огня примут участие 14 000 факелоносцев[5].</a:t>
            </a:r>
            <a:endParaRPr b="0" lang="en-US" sz="1700" spc="-1" strike="noStrike">
              <a:solidFill>
                <a:srgbClr val="073e87"/>
              </a:solidFill>
              <a:latin typeface="Candara"/>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37680"/>
            <a:ext cx="8229600" cy="517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ndara"/>
              </a:rPr>
              <a:t>Символика</a:t>
            </a:r>
            <a:br>
              <a:rPr sz="4000"/>
            </a:br>
            <a:r>
              <a:rPr b="1" lang="ru-RU" sz="4000" spc="-1" strike="noStrike">
                <a:solidFill>
                  <a:srgbClr val="000000"/>
                </a:solidFill>
                <a:latin typeface="Candara"/>
              </a:rPr>
              <a:t>Эмблема-логотип</a:t>
            </a:r>
            <a:br>
              <a:rPr sz="4000"/>
            </a:br>
            <a:r>
              <a:rPr b="0" lang="ru-RU" sz="4000" spc="-1" strike="noStrike">
                <a:solidFill>
                  <a:srgbClr val="000000"/>
                </a:solidFill>
                <a:latin typeface="Candara"/>
              </a:rPr>
              <a:t> </a:t>
            </a:r>
            <a:r>
              <a:rPr b="0" lang="ru-RU" sz="3200" spc="-1" strike="noStrike">
                <a:solidFill>
                  <a:srgbClr val="000000"/>
                </a:solidFill>
                <a:latin typeface="Candara"/>
              </a:rPr>
              <a:t>Эмблема Олимпиады на памятной монете 2011 года</a:t>
            </a:r>
            <a:br>
              <a:rPr sz="3200"/>
            </a:br>
            <a:r>
              <a:rPr b="0" lang="ru-RU" sz="3200" spc="-1" strike="noStrike">
                <a:solidFill>
                  <a:srgbClr val="000000"/>
                </a:solidFill>
                <a:latin typeface="Candara"/>
              </a:rPr>
              <a:t>1 декабря 2009 года Оргкомитет «Сочи 2014» представил эмблему (логотип) Игр-2014[7]. Церемония представления эмблемы проходила на Красной площади в Москве, на которой был залит большой каток.</a:t>
            </a:r>
            <a:endParaRPr b="0" lang="en-US" sz="32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Рисунок 3" descr="http://upload.wikimedia.org/wikipedia/commons/thumb/3/39/RR5015-0001R.png/220px-RR5015-0001R.png">
            <a:hlinkClick r:id="rId1"/>
          </p:cNvPr>
          <p:cNvPicPr/>
          <p:nvPr/>
        </p:nvPicPr>
        <p:blipFill>
          <a:blip r:embed="rId2"/>
          <a:stretch/>
        </p:blipFill>
        <p:spPr>
          <a:xfrm>
            <a:off x="2627280" y="765000"/>
            <a:ext cx="3673440" cy="3743640"/>
          </a:xfrm>
          <a:prstGeom prst="rect">
            <a:avLst/>
          </a:prstGeom>
          <a:ln w="0">
            <a:noFill/>
          </a:ln>
        </p:spPr>
      </p:pic>
      <p:sp>
        <p:nvSpPr>
          <p:cNvPr id="581" name=""/>
          <p:cNvSpPr txBox="1"/>
          <p:nvPr/>
        </p:nvSpPr>
        <p:spPr>
          <a:xfrm>
            <a:off x="871560" y="1700280"/>
            <a:ext cx="7408800" cy="44258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Эмблема Олимпиады на памятной монете 2011 года</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476280"/>
            <a:ext cx="822960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ndara"/>
              </a:rPr>
              <a:t>Талисманы</a:t>
            </a:r>
            <a:br>
              <a:rPr sz="2400"/>
            </a:br>
            <a:r>
              <a:rPr b="0" lang="ru-RU" sz="2400" spc="-1" strike="noStrike">
                <a:solidFill>
                  <a:srgbClr val="000000"/>
                </a:solidFill>
                <a:latin typeface="Candara"/>
              </a:rPr>
              <a:t>26 февраля 2011 года при голосовании и телешоу «Талисмания. Сочи 2014. Финал» на Первом телеканале. Жюри объявило сразу трёх победителей, все белого цвета, соответствуя зимнему характеру олимпиады, которые и стали талисманами Белый мишка, Леопард, Зайка.</a:t>
            </a:r>
            <a:br>
              <a:rPr sz="2400"/>
            </a:br>
            <a:r>
              <a:rPr b="0" lang="ru-RU" sz="2400" spc="-1" strike="noStrike">
                <a:solidFill>
                  <a:srgbClr val="000000"/>
                </a:solidFill>
                <a:latin typeface="Candara"/>
              </a:rPr>
              <a:t>Согласно объявленному выбору спортсменов-паралимпийцев, талисманами Паралимпийских игр стали Лучик и Снежинка.</a:t>
            </a:r>
            <a:endParaRPr b="0" lang="en-US" sz="2400" spc="-1" strike="noStrike">
              <a:solidFill>
                <a:srgbClr val="ffffff"/>
              </a:solidFill>
              <a:latin typeface="Candara"/>
            </a:endParaRPr>
          </a:p>
        </p:txBody>
      </p:sp>
      <p:pic>
        <p:nvPicPr>
          <p:cNvPr id="583" name="Рисунок 3" descr="http://upload.wikimedia.org/wikipedia/commons/thumb/9/9c/Stamps_of_Russia_2012_No_1559-61_Mascots_2014_Winter_Olympics.jpg/260px-Stamps_of_Russia_2012_No_1559-61_Mascots_2014_Winter_Olympics.jpg">
            <a:hlinkClick r:id="rId1"/>
          </p:cNvPr>
          <p:cNvPicPr/>
          <p:nvPr/>
        </p:nvPicPr>
        <p:blipFill>
          <a:blip r:embed="rId2"/>
          <a:stretch/>
        </p:blipFill>
        <p:spPr>
          <a:xfrm>
            <a:off x="1735200" y="3429000"/>
            <a:ext cx="5329080" cy="3032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01560" y="1699920"/>
            <a:ext cx="822960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Candara"/>
              </a:rPr>
              <a:t>Расписание соревнований</a:t>
            </a:r>
            <a:endParaRPr b="0" lang="en-US" sz="72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17" descr=""/>
          <p:cNvPicPr/>
          <p:nvPr/>
        </p:nvPicPr>
        <p:blipFill>
          <a:blip r:embed="rId1"/>
          <a:stretch/>
        </p:blipFill>
        <p:spPr>
          <a:xfrm>
            <a:off x="250920" y="0"/>
            <a:ext cx="8713800" cy="6813720"/>
          </a:xfrm>
          <a:prstGeom prst="rect">
            <a:avLst/>
          </a:prstGeom>
          <a:ln w="0">
            <a:noFill/>
          </a:ln>
        </p:spPr>
      </p:pic>
      <p:pic>
        <p:nvPicPr>
          <p:cNvPr id="586" name="Picture 18" descr=""/>
          <p:cNvPicPr/>
          <p:nvPr/>
        </p:nvPicPr>
        <p:blipFill>
          <a:blip r:embed="rId2"/>
          <a:stretch/>
        </p:blipFill>
        <p:spPr>
          <a:xfrm>
            <a:off x="2195640" y="476280"/>
            <a:ext cx="5545080" cy="649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0T11:39:58Z</dcterms:created>
  <dc:creator>Папа</dc:creator>
  <dc:description/>
  <dc:language>en-US</dc:language>
  <cp:lastModifiedBy>Пользователь Windows</cp:lastModifiedBy>
  <dcterms:modified xsi:type="dcterms:W3CDTF">2022-04-07T16:22:54Z</dcterms:modified>
  <cp:revision>11</cp:revision>
  <dc:subject/>
  <dc:title>Зимние олимпийские игры . г. СОЧИ - 2014</dc:title>
</cp:coreProperties>
</file>