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5D8-9FD3-4F62-8C5D-E2700170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7B7-7B48-49CE-A05B-3796F08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4A2-19C1-4C8C-93D4-302E8630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1FF-2F22-47E4-9245-5E34879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300-B428-43A2-987D-D4B7A945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B2F-4B42-4AC1-B68C-6D590DEF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5C0-246A-4045-B5A4-C981CB8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ADD4-8049-4070-ABDF-CB4D266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63E-9B27-4635-A726-A63D1F3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9A38-5DBC-4CE5-A8C0-E9C2C1CF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A76F-2D6F-48C4-B85F-83F0624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207-C784-452F-B4ED-66368E4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8C5-0FE0-42B2-B212-FBD7222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5AA-4D28-4E0E-A071-408FE97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28C9-7AE4-4A8C-A1A1-85560CBB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B528-A9B0-4A2E-BF2E-E10C7AEC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A7E7-D05B-497E-BD85-52919084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35A-E254-419A-8213-F1FFB84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39F-30BC-43DD-AA1C-D63BFF60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73F-8B25-4E73-8858-C4154541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313-68BE-447A-9587-035C367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D77-804D-469E-AB20-2C11F73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872-E75E-4034-8D96-C36A7AA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4BE-84EF-4A1E-8D82-1C347F7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B63-4C84-4657-B5E2-0BB85C6110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203-7117-4F19-AF88-244C3F4E70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工作\2016.05.05\2016.05.06\12\36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2225520" y="692280"/>
            <a:ext cx="7115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Что изображено на слайд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у остистую межгорную сосну в 1953 году обнаружил ботаник Эдмунд Шульман. Примерный возраст дерева 4846 лет. Оно было посажено в 2831 году до нашей эры. На сегодняшний день это дерево считается живым и растет оно в Национальном лесу Инио в штате Калифорния (США) на высоте 3000 метров над уровнем мор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та этого дерева – 115м. Диаметр ствола – 4,84 м. Растет оно в США штат Калифорния. Примерный возраст 700 – 800 лет. Это дерево было открыто в 2006 году Крисом Аткинсом и Майклом Тейл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08000" y="500040"/>
            <a:ext cx="4356000" cy="58086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4680000" y="500040"/>
            <a:ext cx="43560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1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венные (мелколиственные и широколиственные) отличаются формой кроны, окраской листьев и наличием плодов. К ним относятся такие деревья как клен, осина, липа, ясень. Так же деревья делятся по сроку жизни листьев на вечнозеленые и листопа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4560" y="10800"/>
            <a:ext cx="9037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из старейших каштановых деревьев в мире известно под названием Castagno dei cento cavalli. Растет оно на восточном побережье Сицилии в восьми километрах от действующего кратера вулкана Этны. Каштан вошел в книгу рекордов Гиннесса как дерево с наибольшим охватом ствола (в 1780г его окружность составляла 57,9м). Это дерево имеет один корень и несколько стволов над землей. Если верить легенде, то Джованна Арагонская – королева Неаполя, вместе со ста рыцарями попала в грозу. Все 100 путников смогли тогда укрыться под этим деревом. С тех пор его стали называть Каштаном «сотни лошад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130320" y="460440"/>
            <a:ext cx="89056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о твердый и прочный волокнистый материал, скрытая корой основная часть стволов, ветвей и корней деревьев и кустар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1522440" y="3429000"/>
            <a:ext cx="6073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готовки из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8" descr=""/>
          <p:cNvPicPr/>
          <p:nvPr/>
        </p:nvPicPr>
        <p:blipFill>
          <a:blip r:embed="rId1"/>
          <a:stretch/>
        </p:blipFill>
        <p:spPr>
          <a:xfrm>
            <a:off x="1547640" y="662040"/>
            <a:ext cx="64090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Объект 4" descr=""/>
          <p:cNvPicPr/>
          <p:nvPr/>
        </p:nvPicPr>
        <p:blipFill>
          <a:blip r:embed="rId1"/>
          <a:stretch/>
        </p:blipFill>
        <p:spPr>
          <a:xfrm>
            <a:off x="177840" y="853920"/>
            <a:ext cx="878832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366840" y="390600"/>
            <a:ext cx="84103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190440" y="52560"/>
            <a:ext cx="3821040" cy="2944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4653000" y="52560"/>
            <a:ext cx="4417920" cy="2944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3"/>
          <a:stretch/>
        </p:blipFill>
        <p:spPr>
          <a:xfrm>
            <a:off x="5103720" y="3141720"/>
            <a:ext cx="3679920" cy="3679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198360" y="3716280"/>
            <a:ext cx="44150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3780000" y="44280"/>
            <a:ext cx="5027400" cy="3600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5510160" y="3740040"/>
            <a:ext cx="3297240" cy="3027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3"/>
          <a:stretch/>
        </p:blipFill>
        <p:spPr>
          <a:xfrm>
            <a:off x="490680" y="23760"/>
            <a:ext cx="2827080" cy="3749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"/>
          <p:cNvPicPr/>
          <p:nvPr/>
        </p:nvPicPr>
        <p:blipFill>
          <a:blip r:embed="rId4"/>
          <a:stretch/>
        </p:blipFill>
        <p:spPr>
          <a:xfrm>
            <a:off x="468360" y="3902040"/>
            <a:ext cx="3730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9810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4394160" y="189000"/>
            <a:ext cx="4487760" cy="3322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262080" y="404640"/>
            <a:ext cx="3744720" cy="5048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"/>
          <p:cNvPicPr/>
          <p:nvPr/>
        </p:nvPicPr>
        <p:blipFill>
          <a:blip r:embed="rId3"/>
          <a:stretch/>
        </p:blipFill>
        <p:spPr>
          <a:xfrm>
            <a:off x="4394160" y="3600360"/>
            <a:ext cx="4487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5744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514680" cy="2511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3"/>
          <a:stretch/>
        </p:blipFill>
        <p:spPr>
          <a:xfrm>
            <a:off x="4043520" y="189000"/>
            <a:ext cx="4857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Классификация дерев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Ли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55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йные (вечнозеленые) — эти деревья относятся к домену — эукариоты, царству – растений, отделу – хвойные. Они растут в умеренном климатическом поясе, так как любят умеренно теплый климат и достаточное увлажнение. Наибольшее число видов встречается в северном полушарии. Их размеры могут быть от карлика до гиг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1835280" y="66600"/>
            <a:ext cx="540072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1476360" y="66600"/>
            <a:ext cx="64803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1123920" y="182520"/>
            <a:ext cx="6904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89000" y="333360"/>
            <a:ext cx="8807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1800360" y="106200"/>
            <a:ext cx="56512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47Z</dcterms:created>
  <dc:creator>jccook</dc:creator>
  <dc:description/>
  <dc:language>en-US</dc:language>
  <cp:lastModifiedBy>Sasha</cp:lastModifiedBy>
  <dcterms:modified xsi:type="dcterms:W3CDTF">2022-04-08T12:43:15Z</dcterms:modified>
  <cp:revision>150</cp:revision>
  <dc:subject/>
  <dc:title>PowerPoint 演示文稿</dc:title>
</cp:coreProperties>
</file>