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4024-20AF-4B8D-B638-CB219A353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BDA5-102B-4C45-A84A-D6A9D0BC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7D62-999D-42D7-A946-2D4764D62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5211-F175-4C46-A69D-F9F1964DE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8EFC-61B8-4D8A-958A-D82CD08F3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DB2B-6941-4119-AA46-5B6ECB0B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8B35-C693-404E-80EF-C1060193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7A68-B291-427D-AA1A-E0854626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A130-585C-4940-9B02-E8C01B0F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9A73-F11D-49A9-A3C2-45E0A0F1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152D-9E9D-4CF7-964A-29AF6021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472A-717D-42D9-8A37-35874861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247A-07D2-4007-BDAC-98560594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DCF5-C13F-4120-A4CD-8621ADDA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5465-65CC-4729-9DA0-378DD991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0306-AAE9-4D89-8F50-084B2CDDD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CCFE-982A-4074-A30F-AE5993386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311E-5160-4014-9C42-38E91201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996F-B382-4B8C-94A9-B2072363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9D01-620F-4D93-9D8B-575F4717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1BD1-33AF-4EFE-9E67-EBB57937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9D8F-B945-4EFD-A7D6-C615D26E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70E8-4315-4767-B667-06CB791D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AFC7-0525-4488-B5B5-53E1970E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BB75-9CA7-49B3-AEC7-75A0CB8A20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F1DC-3698-4839-93B6-F84F2EA48F7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D:\工作\2016.05.05\2016.05.06\12\36.jpg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矩形 4"/>
          <p:cNvSpPr/>
          <p:nvPr/>
        </p:nvSpPr>
        <p:spPr>
          <a:xfrm>
            <a:off x="2225520" y="692280"/>
            <a:ext cx="71154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微软雅黑"/>
                <a:ea typeface="微软雅黑"/>
              </a:rPr>
              <a:t>Что изображено на слайд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у остистую межгорную сосну в 1953 году обнаружил ботаник Эдмунд Шульман. Примерный возраст дерева 4846 лет. Оно было посажено в 2831 году до нашей эры. На сегодняшний день это дерево считается живым и растет оно в Национальном лесу Инио в штате Калифорния (США) на высоте 3000 метров над уровнем мор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сота этого дерева – 115м. Диаметр ствола – 4,84 м. Растет оно в США штат Калифорния. Примерный возраст 700 – 800 лет. Это дерево было открыто в 2006 году Крисом Аткинсом и Майклом Тейлор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2" descr=""/>
          <p:cNvPicPr/>
          <p:nvPr/>
        </p:nvPicPr>
        <p:blipFill>
          <a:blip r:embed="rId1"/>
          <a:stretch/>
        </p:blipFill>
        <p:spPr>
          <a:xfrm>
            <a:off x="108000" y="500040"/>
            <a:ext cx="4356000" cy="58086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"/>
          <p:cNvPicPr/>
          <p:nvPr/>
        </p:nvPicPr>
        <p:blipFill>
          <a:blip r:embed="rId2"/>
          <a:stretch/>
        </p:blipFill>
        <p:spPr>
          <a:xfrm>
            <a:off x="4680000" y="500040"/>
            <a:ext cx="4356000" cy="58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11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ственные (мелколиственные и широколиственные) отличаются формой кроны, окраской листьев и наличием плодов. К ним относятся такие деревья как клен, осина, липа, ясень. Так же деревья делятся по сроку жизни листьев на вечнозеленые и листопад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2" descr=""/>
          <p:cNvPicPr/>
          <p:nvPr/>
        </p:nvPicPr>
        <p:blipFill>
          <a:blip r:embed="rId1"/>
          <a:stretch/>
        </p:blipFill>
        <p:spPr>
          <a:xfrm>
            <a:off x="0" y="169920"/>
            <a:ext cx="9144000" cy="65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4560" y="10800"/>
            <a:ext cx="903780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о из старейших каштановых деревьев в мире известно под названием Castagno dei cento cavalli. Растет оно на восточном побережье Сицилии в восьми километрах от действующего кратера вулкана Этны. Каштан вошел в книгу рекордов Гиннесса как дерево с наибольшим охватом ствола (в 1780г его окружность составляла 57,9м). Это дерево имеет один корень и несколько стволов над землей. Если верить легенде, то Джованна Арагонская – королева Неаполя, вместе со ста рыцарями попала в грозу. Все 100 путников смогли тогда укрыться под этим деревом. С тех пор его стали называть Каштаном «сотни лошадей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2" descr=""/>
          <p:cNvPicPr/>
          <p:nvPr/>
        </p:nvPicPr>
        <p:blipFill>
          <a:blip r:embed="rId1"/>
          <a:stretch/>
        </p:blipFill>
        <p:spPr>
          <a:xfrm>
            <a:off x="130320" y="460440"/>
            <a:ext cx="890568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ревес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равнительно твердый и прочный волокнистый материал, скрытая корой основная часть стволов, ветвей и корней деревьев и кустарник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4" descr=""/>
          <p:cNvPicPr/>
          <p:nvPr/>
        </p:nvPicPr>
        <p:blipFill>
          <a:blip r:embed="rId1"/>
          <a:stretch/>
        </p:blipFill>
        <p:spPr>
          <a:xfrm>
            <a:off x="1522440" y="3429000"/>
            <a:ext cx="60739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3320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готовки из древеси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Объект 8" descr=""/>
          <p:cNvPicPr/>
          <p:nvPr/>
        </p:nvPicPr>
        <p:blipFill>
          <a:blip r:embed="rId1"/>
          <a:stretch/>
        </p:blipFill>
        <p:spPr>
          <a:xfrm>
            <a:off x="1547640" y="662040"/>
            <a:ext cx="6409080" cy="60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Объект 4" descr=""/>
          <p:cNvPicPr/>
          <p:nvPr/>
        </p:nvPicPr>
        <p:blipFill>
          <a:blip r:embed="rId1"/>
          <a:stretch/>
        </p:blipFill>
        <p:spPr>
          <a:xfrm>
            <a:off x="177840" y="853920"/>
            <a:ext cx="8788320" cy="51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2" descr=""/>
          <p:cNvPicPr/>
          <p:nvPr/>
        </p:nvPicPr>
        <p:blipFill>
          <a:blip r:embed="rId1"/>
          <a:stretch/>
        </p:blipFill>
        <p:spPr>
          <a:xfrm>
            <a:off x="366840" y="390600"/>
            <a:ext cx="841032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2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2" descr=""/>
          <p:cNvPicPr/>
          <p:nvPr/>
        </p:nvPicPr>
        <p:blipFill>
          <a:blip r:embed="rId1"/>
          <a:stretch/>
        </p:blipFill>
        <p:spPr>
          <a:xfrm>
            <a:off x="190440" y="52560"/>
            <a:ext cx="3821040" cy="29448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4" descr=""/>
          <p:cNvPicPr/>
          <p:nvPr/>
        </p:nvPicPr>
        <p:blipFill>
          <a:blip r:embed="rId2"/>
          <a:stretch/>
        </p:blipFill>
        <p:spPr>
          <a:xfrm>
            <a:off x="4653000" y="52560"/>
            <a:ext cx="4417920" cy="29448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6" descr=""/>
          <p:cNvPicPr/>
          <p:nvPr/>
        </p:nvPicPr>
        <p:blipFill>
          <a:blip r:embed="rId3"/>
          <a:stretch/>
        </p:blipFill>
        <p:spPr>
          <a:xfrm>
            <a:off x="5103720" y="3141720"/>
            <a:ext cx="3679920" cy="367992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8" descr=""/>
          <p:cNvPicPr/>
          <p:nvPr/>
        </p:nvPicPr>
        <p:blipFill>
          <a:blip r:embed="rId4"/>
          <a:stretch/>
        </p:blipFill>
        <p:spPr>
          <a:xfrm>
            <a:off x="198360" y="3716280"/>
            <a:ext cx="441504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2" descr=""/>
          <p:cNvPicPr/>
          <p:nvPr/>
        </p:nvPicPr>
        <p:blipFill>
          <a:blip r:embed="rId1"/>
          <a:stretch/>
        </p:blipFill>
        <p:spPr>
          <a:xfrm>
            <a:off x="3780000" y="44280"/>
            <a:ext cx="5027400" cy="36007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"/>
          <p:cNvPicPr/>
          <p:nvPr/>
        </p:nvPicPr>
        <p:blipFill>
          <a:blip r:embed="rId2"/>
          <a:stretch/>
        </p:blipFill>
        <p:spPr>
          <a:xfrm>
            <a:off x="5510160" y="3740040"/>
            <a:ext cx="3297240" cy="30276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6" descr=""/>
          <p:cNvPicPr/>
          <p:nvPr/>
        </p:nvPicPr>
        <p:blipFill>
          <a:blip r:embed="rId3"/>
          <a:stretch/>
        </p:blipFill>
        <p:spPr>
          <a:xfrm>
            <a:off x="490680" y="23760"/>
            <a:ext cx="2827080" cy="374976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8" descr=""/>
          <p:cNvPicPr/>
          <p:nvPr/>
        </p:nvPicPr>
        <p:blipFill>
          <a:blip r:embed="rId4"/>
          <a:stretch/>
        </p:blipFill>
        <p:spPr>
          <a:xfrm>
            <a:off x="468360" y="3902040"/>
            <a:ext cx="373068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2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2" descr=""/>
          <p:cNvPicPr/>
          <p:nvPr/>
        </p:nvPicPr>
        <p:blipFill>
          <a:blip r:embed="rId1"/>
          <a:stretch/>
        </p:blipFill>
        <p:spPr>
          <a:xfrm>
            <a:off x="981000" y="0"/>
            <a:ext cx="718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2" descr=""/>
          <p:cNvPicPr/>
          <p:nvPr/>
        </p:nvPicPr>
        <p:blipFill>
          <a:blip r:embed="rId1"/>
          <a:stretch/>
        </p:blipFill>
        <p:spPr>
          <a:xfrm>
            <a:off x="4394160" y="189000"/>
            <a:ext cx="4487760" cy="33224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6" descr=""/>
          <p:cNvPicPr/>
          <p:nvPr/>
        </p:nvPicPr>
        <p:blipFill>
          <a:blip r:embed="rId2"/>
          <a:stretch/>
        </p:blipFill>
        <p:spPr>
          <a:xfrm>
            <a:off x="262080" y="404640"/>
            <a:ext cx="3744720" cy="504828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8" descr=""/>
          <p:cNvPicPr/>
          <p:nvPr/>
        </p:nvPicPr>
        <p:blipFill>
          <a:blip r:embed="rId3"/>
          <a:stretch/>
        </p:blipFill>
        <p:spPr>
          <a:xfrm>
            <a:off x="4394160" y="3600360"/>
            <a:ext cx="448776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457440" cy="380988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4" descr=""/>
          <p:cNvPicPr/>
          <p:nvPr/>
        </p:nvPicPr>
        <p:blipFill>
          <a:blip r:embed="rId2"/>
          <a:stretch/>
        </p:blipFill>
        <p:spPr>
          <a:xfrm>
            <a:off x="250920" y="4221000"/>
            <a:ext cx="3514680" cy="251172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6" descr=""/>
          <p:cNvPicPr/>
          <p:nvPr/>
        </p:nvPicPr>
        <p:blipFill>
          <a:blip r:embed="rId3"/>
          <a:stretch/>
        </p:blipFill>
        <p:spPr>
          <a:xfrm>
            <a:off x="4043520" y="189000"/>
            <a:ext cx="48574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Классификация деревь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Хвой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Листв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0" y="554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войные (вечнозеленые) — эти деревья относятся к домену — эукариоты, царству – растений, отделу – хвойные. Они растут в умеренном климатическом поясе, так как любят умеренно теплый климат и достаточное увлажнение. Наибольшее число видов встречается в северном полушарии. Их размеры могут быть от карлика до гига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6" descr=""/>
          <p:cNvPicPr/>
          <p:nvPr/>
        </p:nvPicPr>
        <p:blipFill>
          <a:blip r:embed="rId1"/>
          <a:stretch/>
        </p:blipFill>
        <p:spPr>
          <a:xfrm>
            <a:off x="1835280" y="66600"/>
            <a:ext cx="5400720" cy="68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8" descr=""/>
          <p:cNvPicPr/>
          <p:nvPr/>
        </p:nvPicPr>
        <p:blipFill>
          <a:blip r:embed="rId1"/>
          <a:stretch/>
        </p:blipFill>
        <p:spPr>
          <a:xfrm>
            <a:off x="1476360" y="66600"/>
            <a:ext cx="648036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2" descr=""/>
          <p:cNvPicPr/>
          <p:nvPr/>
        </p:nvPicPr>
        <p:blipFill>
          <a:blip r:embed="rId1"/>
          <a:stretch/>
        </p:blipFill>
        <p:spPr>
          <a:xfrm>
            <a:off x="1123920" y="182520"/>
            <a:ext cx="690408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2" descr=""/>
          <p:cNvPicPr/>
          <p:nvPr/>
        </p:nvPicPr>
        <p:blipFill>
          <a:blip r:embed="rId1"/>
          <a:stretch/>
        </p:blipFill>
        <p:spPr>
          <a:xfrm>
            <a:off x="189000" y="333360"/>
            <a:ext cx="88074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2" descr=""/>
          <p:cNvPicPr/>
          <p:nvPr/>
        </p:nvPicPr>
        <p:blipFill>
          <a:blip r:embed="rId1"/>
          <a:stretch/>
        </p:blipFill>
        <p:spPr>
          <a:xfrm>
            <a:off x="1800360" y="106200"/>
            <a:ext cx="5651280" cy="67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0T06:04:47Z</dcterms:created>
  <dc:creator>jccook</dc:creator>
  <dc:description/>
  <dc:language>en-US</dc:language>
  <cp:lastModifiedBy>Sasha</cp:lastModifiedBy>
  <dcterms:modified xsi:type="dcterms:W3CDTF">2022-04-08T12:43:15Z</dcterms:modified>
  <cp:revision>150</cp:revision>
  <dc:subject/>
  <dc:title>PowerPoint 演示文稿</dc:title>
</cp:coreProperties>
</file>