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5072-3F0C-4DE3-BA91-6E6F7EBC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2162-F541-4126-8BF2-DC70437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F9F8-E308-4C15-BCC0-66C0315A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0250-3B41-4F31-87E8-AC613AB6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B9C-797A-406F-A65C-C198FBBD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2A3E-1EA5-4154-8071-9415B373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3EEE-B274-49B8-B64F-A3E1799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8E1E-F576-4EE1-A4C1-2D7C531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2F4D-1777-490F-B3C6-B1B15D6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6DD-ACB3-4A1C-9BA7-2693EFFB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87F-8236-478A-AC22-5CF339E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B7D2-FA96-4580-97F6-F32CA78B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9C9B-995F-4F14-9512-4E0FFA6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3FC2-45E4-46E1-9FDB-E853D4C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54C1-6D4A-4724-8A2A-16CE0093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14BF-AFA9-43DC-8EEE-E092C2F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16E0-3DB5-4E14-B083-C603C8D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7A3F-E847-4828-9BE9-31DBD3C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CE34-7DAB-4471-8A73-B10FB750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A9AF-E67B-426C-B167-116C764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66CA-A61D-46AD-9B1A-DB85C394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B965-6B99-446E-B599-59CB536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2C8B-6F39-4DF2-8FC2-677EFB0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4682-2925-49EE-B8A4-C87FF28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F7DC-3183-4A1A-BC37-5938B53C2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B78A-4F00-4F79-814A-BC7AB708AA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Гипотеза: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Если теорию графов сблизить с практикой, то можно получить самые благотворные результат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Ознакомиться с понятием графы и научиться применять их  при решении различны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)Расширить знания геометрии ( способы построения графов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)Выделить типы задач, решение которых требует применения теории граф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)Предложить свой вариант движения школьного автобус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4"/>
          <p:cNvSpPr/>
          <p:nvPr/>
        </p:nvSpPr>
        <p:spPr>
          <a:xfrm>
            <a:off x="5627520" y="35672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Прямоугольник 20"/>
          <p:cNvSpPr/>
          <p:nvPr/>
        </p:nvSpPr>
        <p:spPr>
          <a:xfrm>
            <a:off x="250920" y="4287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взвешенных граф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2" descr="C:\Users\женя\Desktop\thumb.jpeg"/>
          <p:cNvPicPr/>
          <p:nvPr/>
        </p:nvPicPr>
        <p:blipFill>
          <a:blip r:embed="rId1"/>
          <a:stretch/>
        </p:blipFill>
        <p:spPr>
          <a:xfrm>
            <a:off x="428760" y="1214280"/>
            <a:ext cx="85042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dfdef6"/>
                </a:solidFill>
                <a:uFillTx/>
                <a:latin typeface="Arial"/>
              </a:rPr>
              <a:t>Приложение.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аршрут движени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п. Привольный в п.Чилгир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Picture 41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642924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Заключение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24000" y="791280"/>
            <a:ext cx="802944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ория графов находит применение в различных областях современной математики и её многочисленных приложений, в особенности это относится к экономике.  Решение многих математических задач упрощается, если удается использовать графы. Представление данных в виде графа придает им наглядность. Многие доказательства также упрощаются, приобретают убедительность, если воспользоваться графами. В особенности это относится к таким областям математики, как математическая логика, комбинаторик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этой целью изучения элементов теории графов полезно ввести в начальном и среднем звене школы, так как в программу по математике эта тема не включен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Что такое граф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рафы» имеют корень греческого слова «графо», что значит «пишу». Тот же корень в словах «график», «биография», «голограф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работа по теории графов принадлежит Леонарду Эйлеру. Она появилась в 1736 году в публикациях Петербургской Академии На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6" descr="сканирование0002"/>
          <p:cNvPicPr/>
          <p:nvPr/>
        </p:nvPicPr>
        <p:blipFill>
          <a:blip r:embed="rId1"/>
          <a:stretch/>
        </p:blipFill>
        <p:spPr>
          <a:xfrm>
            <a:off x="6516720" y="3716280"/>
            <a:ext cx="2365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08000" y="720360"/>
            <a:ext cx="69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 – это совокупность непустого множества вершин и связей между вершинами. Кружки называются вершинами графа, линии со стрелками – дугами, без стрелок – реб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3236760" y="2438280"/>
            <a:ext cx="59072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734160" cy="26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Виды графов:</a:t>
            </a:r>
            <a:br>
              <a:rPr sz="3600"/>
            </a:br>
            <a:r>
              <a:rPr b="0" lang="ru-RU" sz="32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 Ориентированный граф (кратко орграф) — рёбрам которого присвоено направлен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C:\Users\женя\Desktop\thumb.jpeg"/>
          <p:cNvPicPr/>
          <p:nvPr/>
        </p:nvPicPr>
        <p:blipFill>
          <a:blip r:embed="rId2"/>
          <a:stretch/>
        </p:blipFill>
        <p:spPr>
          <a:xfrm>
            <a:off x="324000" y="3108240"/>
            <a:ext cx="50036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4"/>
          <p:cNvSpPr/>
          <p:nvPr/>
        </p:nvSpPr>
        <p:spPr>
          <a:xfrm>
            <a:off x="360360" y="360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еориентированный граф - это граф, в котором нет направления ли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3638520" y="1974960"/>
            <a:ext cx="5481720" cy="49194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250920" y="189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звешенный граф – дуги или ребра имеют вес (дополнительная информация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Picture 6" descr="C:\Users\женя\Desktop\thumb (1).jpeg"/>
          <p:cNvPicPr/>
          <p:nvPr/>
        </p:nvPicPr>
        <p:blipFill>
          <a:blip r:embed="rId2"/>
          <a:stretch/>
        </p:blipFill>
        <p:spPr>
          <a:xfrm>
            <a:off x="3328920" y="2496960"/>
            <a:ext cx="5707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задач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на  вычерчивание фигур одним росчер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7" descr="сканирование0007"/>
          <p:cNvPicPr/>
          <p:nvPr/>
        </p:nvPicPr>
        <p:blipFill>
          <a:blip r:embed="rId2"/>
          <a:stretch/>
        </p:blipFill>
        <p:spPr>
          <a:xfrm>
            <a:off x="2857680" y="314316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fdef6"/>
                </a:solidFill>
                <a:uFillTx/>
                <a:latin typeface="Times New Roman"/>
                <a:ea typeface="Times New Roman"/>
              </a:rPr>
              <a:t>Решение задач с помощью графов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4" name="Picture 30" descr="сканирование0005"/>
          <p:cNvPicPr/>
          <p:nvPr/>
        </p:nvPicPr>
        <p:blipFill>
          <a:blip r:embed="rId1"/>
          <a:stretch/>
        </p:blipFill>
        <p:spPr>
          <a:xfrm>
            <a:off x="2214720" y="4143240"/>
            <a:ext cx="4643280" cy="23688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1"/>
          <p:cNvSpPr/>
          <p:nvPr/>
        </p:nvSpPr>
        <p:spPr>
          <a:xfrm>
            <a:off x="500040" y="54360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ЗАДАЧА  №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Жители пяти домов поссорились друг с другом и, чтобы не встречаться у колодцев, решили, что хозяин каждого дома будет ходить к «своему» колодцу по «своей» тропинке. Удастся ли им это сдел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Прямоугольник 31"/>
          <p:cNvSpPr/>
          <p:nvPr/>
        </p:nvSpPr>
        <p:spPr>
          <a:xfrm>
            <a:off x="357120" y="273672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 задачи приведено на рису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472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№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дворе, который окружен высоким забором, находятся три домика: красный, желтый и синий. В заборе есть три калитки: красная, желтая и синяя. От красного домика проведите дорожку к красной калитке, от желтого домика – к желтой калитке, от синего – к синей так, чтобы эти дорожки не пересека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 задачи приведено на рисун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2268360" y="4005360"/>
            <a:ext cx="4319640" cy="264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02:48:13Z</dcterms:created>
  <dc:creator>Admin</dc:creator>
  <dc:description/>
  <dc:language>en-US</dc:language>
  <cp:lastModifiedBy>PC</cp:lastModifiedBy>
  <dcterms:modified xsi:type="dcterms:W3CDTF">2022-04-08T16:59:32Z</dcterms:modified>
  <cp:revision>35</cp:revision>
  <dc:subject/>
  <dc:title>Слайд 1</dc:title>
</cp:coreProperties>
</file>