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2D4A-B809-4B86-9395-AA6AD9C2D6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9B20-D582-48AF-BA4C-68907CB5A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590-9861-473E-860E-870FF7F1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855-F473-4CDF-B1CC-40A6176A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3E6-6896-4B5B-BBD9-CFAB729F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9D5-1262-4EBF-BFA1-A1B7610D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7BE-E534-462C-8B43-0316A2B1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48F-D096-403C-ACE9-78E69A0C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8AB-CB1C-4395-BD19-6CD25FBA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BC2-1424-4BE3-A0C9-922CF6A4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8CF-55D1-460B-95A9-06D7BF68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18B-651D-47CA-A94D-96AEF70F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97B-18AC-444F-8024-DCF3C50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E00-FC38-4877-B385-46B02878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27B9-FC51-42FF-8E51-60E1327DFE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no Pro"/>
              </a:rPr>
              <a:t>Мастер – класс по повышению уровня методической компетентности педагог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2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no Pro"/>
              </a:rPr>
              <a:t>Учитель  физ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no Pro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Arno Pro"/>
              </a:rPr>
              <a:t>МКОУ СОШ №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no Pro"/>
              </a:rPr>
              <a:t>Богданова Н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Внимание! Внимание! Ребята седьмых классов! Все, кто любит поиск, головоломные приключения, внимательно слушайте нас.  Вчера в школу пришло загадочное письмо. От кого? Пока секрет! Вот что в нем написано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«О, почтеннейшие и мудрейшие юные физики! Давным-давно в нашей школе мною спрятан ценнейший напиток. Человек, который его обнаружит и отведает хотя бы глоток, станет бодрым и энергичным. Я дарю вам этот напиток, но его нужно найти. Путь поиска подскажет вам, если вы ответите на физические вопросы, волшебный лист, который я кладу в конверт. Не бойтесь трудностей, мои юные друзья! Вперед! Да помогут вам ваши знания по физике и смекал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верт 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просы – зад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овите состояние вещества, при котором молекулы движутся беспорядочно, с большими скоростями. (Из ответа взять третью букву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явление возникает при движении одного тела по поверхности другого? Когда оно полезно, его стараются увеличить, когда вредно – уменьшить. (Взять из ответа четвертую букву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овите вещество, которое все видели в трех агрегатных состояниях: твердом, жидком и газообразном. (Взять из ответа четвертую букву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явление сохранения скорости тела при отсутствии действия на него других тел? (Взять из ответа вторую букву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ую вы знаете физическую величину, характеризующуюся числовым значением и направлением? (Взять из ответа вторую букву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ишите название явления, суть которого в том, что соприкасающиеся вещества сами собой проникают друг в друга. (Взять восьмую букву ответа)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верт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Дорогие друзья! Перед вами четыре букв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dobe Caslon Pro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dobe Caslon Pro"/>
              </a:rPr>
              <a:t>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dobe Caslon Pro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dobe Caslon Pro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значающие физические величины. Назовите приборы, которыми можно их измерить. Из названий приборов возьмите указанные буквы (из первого слова – пятую, из второго – шестую, из третьего – вторую, из четвертого – третью, вторую и восьмую) и составьте слово-пароль. С этим паролем обратитесь к учителю физики, который должен вам на него ответить – «Ценнейшее качество» и передать третий конвер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верт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О, почтенные! Вычислите плотность куска пластилина неправильной формы. Вместе с пластилином получите в физкабинете весы, разновес, линейку. Закончив работу, предъявите ее учителю физики и получите конверт № 4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верт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 помощью написанной на квадратном листе записи с таинственными символами и дешифратора с прорезями и вырезом вы должны составить слово-пароль, которое затем сказать любому сотруднику школьной столовой. В ответ вы услышите вторую часть пароля – «В жизни необходим» и получите, подойдя к специальному столу, конверт №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узнать пароль, необходимо наложить дешифратор на записку и поворачивать записку до тех пор, пока в окнах – прорезях получите формулу, соответствующую первому заданию; при таком положении в правом нижнем углу (вырезе) дешифратора прочитайте первую букву слова – пароля. Затем повторите все действия применительно ко второму заданию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верт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762280" cy="2638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2733840" cy="2519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900000" y="3933720"/>
            <a:ext cx="73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для расчета скорости тела при равномерном дви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, пользуясь которой определяют д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для нахождения плотности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, при которой можно рассчитать массу те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верт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О почтеннейшие! Поздравляю вас с победой! Напиток бодрости – молоко стоит перед вами. -  Старик Хоттабыч». Дежурный работник столовой протягивает команде, пришедшей к финишу, стаканы, наполненные моло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s://cdn.fishki.net/upload/post/2020/11/21/3479925/8e7d8b2fa28a404a86e4d9806015f4b5.jpg"/>
          <p:cNvPicPr/>
          <p:nvPr/>
        </p:nvPicPr>
        <p:blipFill>
          <a:blip r:embed="rId1"/>
          <a:stretch/>
        </p:blipFill>
        <p:spPr>
          <a:xfrm>
            <a:off x="2340000" y="4076640"/>
            <a:ext cx="3095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тветы и указания к н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 первому лист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газ (3); 2) трение (</a:t>
            </a:r>
            <a:r>
              <a:rPr b="0" lang="en-US" sz="2000" spc="-1" strike="noStrike">
                <a:solidFill>
                  <a:srgbClr val="000000"/>
                </a:solidFill>
                <a:latin typeface="Adobe Caslon Pro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; 3) вода (А); 4) инерция (</a:t>
            </a:r>
            <a:r>
              <a:rPr b="0" lang="en-US" sz="2000" spc="-1" strike="noStrike">
                <a:solidFill>
                  <a:srgbClr val="000000"/>
                </a:solidFill>
                <a:latin typeface="Adobe Caslon Pro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; 5) сила (И); 6) диффузия (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оль: «ЗН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 второму лист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нзурка (У); 2) спидометр (М); 3) весы (Е); 4) динамометр (НИ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оль: «УМЕНИ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 третьему листу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идать пластилину правильную форму, например прямоугольника, линейкой измерить его длину, ширину, высоту; по этим данным вычислить объем. С помощью весов определить массу куска, а затем рассчитать плот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 четвертому листу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ароль: «ОПЫ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no Pro Caption"/>
              </a:rPr>
              <a:t>Делов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slide-8"/>
          <p:cNvPicPr/>
          <p:nvPr/>
        </p:nvPicPr>
        <p:blipFill>
          <a:blip r:embed="rId2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ds05.infourok.ru/uploads/ex/0f67/0006d9ae-23ce5690/img40.jpg"/>
          <p:cNvPicPr/>
          <p:nvPr/>
        </p:nvPicPr>
        <p:blipFill>
          <a:blip r:embed="rId2"/>
          <a:stretch/>
        </p:blipFill>
        <p:spPr>
          <a:xfrm>
            <a:off x="250920" y="0"/>
            <a:ext cx="1603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-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456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s://avatars.mds.yandex.net/i?id=cd96bfbf89ebbfe676f6bce52740473a-3828188-images-thumbs&amp;n=13"/>
          <p:cNvPicPr/>
          <p:nvPr/>
        </p:nvPicPr>
        <p:blipFill>
          <a:blip r:embed="rId2"/>
          <a:stretch/>
        </p:blipFill>
        <p:spPr>
          <a:xfrm>
            <a:off x="6588000" y="549360"/>
            <a:ext cx="255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0" descr="https://bipbap.ru/wp-content/uploads/2017/10/0015-015-Spasibo-za-vnimanie.jpg"/>
          <p:cNvPicPr/>
          <p:nvPr/>
        </p:nvPicPr>
        <p:blipFill>
          <a:blip r:embed="rId2"/>
          <a:stretch/>
        </p:blipFill>
        <p:spPr>
          <a:xfrm>
            <a:off x="0" y="-3290760"/>
            <a:ext cx="9299520" cy="101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95280" y="458640"/>
            <a:ext cx="1584360" cy="210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431720" cy="2730600"/>
          </a:xfrm>
          <a:prstGeom prst="rect">
            <a:avLst/>
          </a:prstGeom>
          <a:ln w="0">
            <a:noFill/>
          </a:ln>
        </p:spPr>
      </p:pic>
      <p:pic>
        <p:nvPicPr>
          <p:cNvPr id="56" name="AutoShape 6" descr=""/>
          <p:cNvPicPr/>
          <p:nvPr/>
        </p:nvPicPr>
        <p:blipFill>
          <a:blip r:embed="rId3"/>
          <a:stretch/>
        </p:blipFill>
        <p:spPr>
          <a:xfrm>
            <a:off x="1822320" y="1689120"/>
            <a:ext cx="6900840" cy="44197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7" descr=""/>
          <p:cNvPicPr/>
          <p:nvPr/>
        </p:nvPicPr>
        <p:blipFill>
          <a:blip r:embed="rId4"/>
          <a:stretch/>
        </p:blipFill>
        <p:spPr>
          <a:xfrm>
            <a:off x="2127240" y="433440"/>
            <a:ext cx="66261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no Pro"/>
              </a:rPr>
              <a:t>Профессиональное развитие учител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редметна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етодическа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сихолого-педагогической компетенци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https://avatars.mds.yandex.net/i?id=9d6d6c53aee0276acf39514a7802e28c-5875821-images-thumbs&amp;n=13&amp;exp=1"/>
          <p:cNvPicPr/>
          <p:nvPr/>
        </p:nvPicPr>
        <p:blipFill>
          <a:blip r:embed="rId1"/>
          <a:stretch/>
        </p:blipFill>
        <p:spPr>
          <a:xfrm>
            <a:off x="1619280" y="306864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1743120" y="341280"/>
            <a:ext cx="5297400" cy="5126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3" descr=""/>
          <p:cNvPicPr/>
          <p:nvPr/>
        </p:nvPicPr>
        <p:blipFill>
          <a:blip r:embed="rId2"/>
          <a:stretch/>
        </p:blipFill>
        <p:spPr>
          <a:xfrm>
            <a:off x="122400" y="927000"/>
            <a:ext cx="88930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410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s://i.mycdn.me/i?r=AzEPZsRbOZEKgBhR0XGMT1Rkasj6gwE8560RYj1EuUiEjaaKTM5SRkZCeTgDn6uOyic"/>
          <p:cNvPicPr/>
          <p:nvPr/>
        </p:nvPicPr>
        <p:blipFill>
          <a:blip r:embed="rId2"/>
          <a:stretch/>
        </p:blipFill>
        <p:spPr>
          <a:xfrm>
            <a:off x="1116000" y="4121280"/>
            <a:ext cx="3240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997360"/>
            <a:ext cx="84358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00000" y="117720"/>
            <a:ext cx="7559640" cy="27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. Во время первой мировой войны некому мистеру Харрисону жена прислала отчаянное письмо. «Похоже, во всей Ирландии не осталось ни одного трудоспособного мужчины, - писала она, - и мне приходится самой вскапывать сад». В ответ Харрисон написал: «Не вскапывай сад. Там зарыто оружие». Письмо было вскрыто цензурой, в дом жены нагрянули солдаты и перекопали весь сад до последнего дюйма. «Не знаю, что и думать, дорогой, - написала миссис Харрисон мужу, – пришли солдаты и перерыли весь наш сад. – «Теперь посади картошку», - ответил Харрис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https://media-digital.ru/wp-content/uploads/9/3/e/93e8f6a44c727e16186bc1941ad77cc8.jpeg"/>
          <p:cNvPicPr/>
          <p:nvPr/>
        </p:nvPicPr>
        <p:blipFill>
          <a:blip r:embed="rId1"/>
          <a:stretch/>
        </p:blipFill>
        <p:spPr>
          <a:xfrm>
            <a:off x="2916360" y="3284640"/>
            <a:ext cx="5952960" cy="3362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3819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13T08:39:19Z</dcterms:created>
  <dc:creator>Анна</dc:creator>
  <dc:description/>
  <dc:language>en-US</dc:language>
  <cp:lastModifiedBy>Анна</cp:lastModifiedBy>
  <dcterms:modified xsi:type="dcterms:W3CDTF">2022-03-24T01:44:51Z</dcterms:modified>
  <cp:revision>63</cp:revision>
  <dc:subject/>
  <dc:title>Слайд 1</dc:title>
</cp:coreProperties>
</file>