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0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22.jpeg" ContentType="image/jpeg"/>
  <Override PartName="/ppt/media/image1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3A9-B951-4FFF-A9F4-613764C1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690-A545-4DE1-B8B5-0C9DA9B0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7EB-2465-4DAA-B11C-FB99FBE3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12E-7E6D-4DCE-994C-7DCEDDF0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07EB-C409-475E-B916-7C236758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204-0C8F-474F-B48A-3791497C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529-7619-40CE-BF79-4213465D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805-9E2B-4EED-A22E-383F3BDF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313-BDF2-480E-95DD-1101BB0F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4DC-818F-4C22-BEA5-2B724257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304-DA6F-497A-9742-7E5A742C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69F-56BC-4F93-B7BE-C2AD730F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640D-F505-45B8-857F-63D636D2F405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473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езентация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идактическая игра «ОТГАДАЙ РЕБУС»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Выполнила воспитатель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Анисимова А.В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7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5438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1933560" y="1600200"/>
            <a:ext cx="5276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"/>
          <p:cNvPicPr/>
          <p:nvPr/>
        </p:nvPicPr>
        <p:blipFill>
          <a:blip r:embed="rId1"/>
          <a:stretch/>
        </p:blipFill>
        <p:spPr>
          <a:xfrm>
            <a:off x="888840" y="1143000"/>
            <a:ext cx="736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32720" cy="63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888840" y="1143000"/>
            <a:ext cx="736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tretch/>
        </p:blipFill>
        <p:spPr>
          <a:xfrm>
            <a:off x="888840" y="1143000"/>
            <a:ext cx="736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888840" y="1143000"/>
            <a:ext cx="736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10108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2" descr=""/>
          <p:cNvPicPr/>
          <p:nvPr/>
        </p:nvPicPr>
        <p:blipFill>
          <a:blip r:embed="rId1"/>
          <a:stretch/>
        </p:blipFill>
        <p:spPr>
          <a:xfrm>
            <a:off x="888840" y="1143000"/>
            <a:ext cx="736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888840" y="1143000"/>
            <a:ext cx="736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816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rcRect l="0" t="0" r="6287" b="39102"/>
          <a:stretch/>
        </p:blipFill>
        <p:spPr>
          <a:xfrm>
            <a:off x="324000" y="1628640"/>
            <a:ext cx="8569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rcRect l="0" t="0" r="-3547" b="32152"/>
          <a:stretch/>
        </p:blipFill>
        <p:spPr>
          <a:xfrm>
            <a:off x="395280" y="765000"/>
            <a:ext cx="8604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олодец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44593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1028880" y="1557360"/>
            <a:ext cx="72151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91524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179280" y="857160"/>
            <a:ext cx="87487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0" y="2130480"/>
            <a:ext cx="91440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0280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0" y="1895400"/>
            <a:ext cx="91440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328760" y="1487520"/>
            <a:ext cx="64864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5:41:28Z</dcterms:created>
  <dc:creator>student7</dc:creator>
  <dc:description/>
  <dc:language>en-US</dc:language>
  <cp:lastModifiedBy>NK</cp:lastModifiedBy>
  <dcterms:modified xsi:type="dcterms:W3CDTF">2022-02-15T17:33:42Z</dcterms:modified>
  <cp:revision>99</cp:revision>
  <dc:subject/>
  <dc:title>            Автоматизация                 звука «Р»        в словосочетаниях и                            предложениях.</dc:title>
</cp:coreProperties>
</file>