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5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196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move the slide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0760" y="4724280"/>
            <a:ext cx="545292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26"/>
          </p:nvPr>
        </p:nvSpPr>
        <p:spPr>
          <a:xfrm>
            <a:off x="0" y="944892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 type="sldNum" idx="27"/>
          </p:nvPr>
        </p:nvSpPr>
        <p:spPr>
          <a:xfrm>
            <a:off x="3860280" y="944892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B6FD1-B336-486E-A8F1-FFF9439ECC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60640" y="9448920"/>
            <a:ext cx="2953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2F531-4B0E-4F7B-9043-36F7F576769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303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0760" y="4724280"/>
            <a:ext cx="545292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BD6-A32A-40C9-8344-52A93962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473-F762-4068-9A84-6DC66019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B49C-692A-479E-A852-3A75406F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E1B-09E0-42CE-A5CB-557DE2EE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FD98-2765-4F13-9526-5B86CCAD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B0A8-E8B4-4CD3-8533-B19A9DF7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ADA2-5AFD-4678-8CB1-E6DAE0F3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4600-8A9F-4DAC-855C-BAC5EF6A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91BE-2A92-4649-86A5-27B2A4AE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9496-E064-4099-8505-0DFA6351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9802-9B69-4AB9-AA4F-D5110150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C48-89C7-477B-A6BC-4B3D9363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DE6F-D9BB-4821-91CA-88563C90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484C-60CA-4FAA-B6AF-951BC73F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D387-567B-4A55-ACA9-4FA25F22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F9B4-96A7-42D6-B552-277A0136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4711-76A5-491D-8F49-6BEA3288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BBFA6-5088-4E20-BC15-D0D85C72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E3079-F5FD-4249-854B-18B9D206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5B4A3-E4E4-407F-900F-98E48844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41A71-E4EA-4192-BC43-840B0504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23393-ACEF-494F-88F3-51EAC4A6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165-BD4C-4EBB-B188-54423C0A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3AAE2-F8C9-4417-A77B-DF13A3A2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C481D-5FF6-4A79-8000-D1547F47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59DFD-8114-406F-994B-8DC6AC6D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5A8E2-CE5D-44B6-9C68-C2C4E788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67E5C-99BD-416C-9F04-6583F695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4692A-15DB-416E-B198-F671835E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34E25-7D7A-44F4-BA17-91B0FA50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BA334-62F9-46E2-9AFE-A2408B0A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D0346-5DBA-4266-B22C-140BD529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82437-99C9-4979-86B2-77715D07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A427-538C-46F8-A8FA-B320A558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5CBAE-485A-4074-A119-42952499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651CA-E5A0-4C7A-B5C5-604A4F6B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9C0F8-4E8D-431A-B290-C87EAAD8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62E5B-4857-4506-8F36-068DDCAF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B919E-DFA2-43E5-8385-5B2EF574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C9DDA-AB8B-49BB-8CFD-A187E3A6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69B35-3F71-42B7-8720-C4656B80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93230-F3E2-415F-97FE-DBF52C8D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7D9CA-3C20-49E1-9774-D305CF2C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97E79-C378-4F44-9385-D3086D46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85D-CFF8-4CBB-AA53-0BDDBF75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07AB2-99BA-4F53-BBF3-6A90D121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F8A48-CF51-49DC-94D7-2ABF5DC5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0E7E5-BA27-4ABD-96CF-9E30A244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CCA9C-B0EC-4BAC-9D2F-A597AB8B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82D8A-26F9-4D63-9E8F-AD4BF6C6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E0CBA-F07A-4EEB-9349-42654098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85442-0312-484E-A491-A68AB23E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97EAD-E15D-41F2-A7BE-FBF05C28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27AED-891A-45E5-A3CC-D1793D47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9BFEA-121C-49F0-8565-19EF0F01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D3A-E726-4FAF-A607-E46212A3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61ADA-1F25-4274-BC3C-50C4A7B7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9351A-3727-47BD-A5AD-03094D21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52F9C-8CF7-4887-B36A-605ED307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208C4-B467-4C7B-8556-8E95E4A0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DFC28-77AB-442E-852B-3F623B25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98ED5-FE96-45B0-9ADF-EEA153CF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4F659-E1CC-468D-A625-A9EDBA04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33D7B-2716-4D72-BDF2-98D21636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487C0-4A5D-4023-AE06-566A2C58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0CEDA-178B-489F-8F9C-F3CE030C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2A7-2E40-46D1-88AD-9A6F3A49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90FEB-D075-406C-95B4-09528E93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2CC0D-0A6A-4FFF-9808-4BF577D9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6D2BB-07B7-47A3-BE65-B4FE33BB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B5B1F-F8AD-4E43-8184-A0BA1C46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497FE-1916-49FD-A17B-8F205239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FCBCA-BD6C-4E1B-9B86-6228ED4E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A1C2D-B57D-493E-9683-DD40AA7A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92BF0-415B-4B7C-9B24-55864E7B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A6D97-AE3E-4C35-AD6D-B9BD2CBF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D65B9-EEA7-4FA6-9740-CECFB03A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432-032B-4654-B8DC-8E3F54B1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EAF54-1F33-4979-A78D-69ECDA34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B35DD-249C-4AF4-818B-7C8B9DC1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BAC88-2602-45E2-AF06-2430EC1D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DE046-1496-485E-9DF8-5F3B28D1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3E25B-DC3A-41A3-9933-82699558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503A6-28E9-441D-A1B7-3759617F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850FD-230F-48A5-988F-EC76EEFD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94D00-5DD7-4D3C-936E-76A06E5D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FB2CE-36DE-43B6-8375-092625C9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407F5-E956-4B8C-A325-CA92134D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7B8-8779-4B28-BAD2-4CFB6D3D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8681D-808F-4C4B-A15C-25ED3E10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5C233-331A-43F2-A8BD-FFF260B2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16FBE-71F2-4D2C-9596-50123B22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718A1-387D-4FF0-A267-5D13D1EB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1830F-9DBB-4ED5-8E79-E0E193EA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F925D-66BF-4956-8B26-B157AC5A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EFF91-BC74-4A6F-BFD9-90A9A118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02F0A-4107-4C65-8F53-041D0BFC7C4D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565200" y="744120"/>
            <a:ext cx="8005680" cy="5350320"/>
            <a:chOff x="565200" y="744120"/>
            <a:chExt cx="8005680" cy="5350320"/>
          </a:xfrm>
        </p:grpSpPr>
        <p:sp>
          <p:nvSpPr>
            <p:cNvPr id="44" name="Freeform 6"/>
            <p:cNvSpPr/>
            <p:nvPr/>
          </p:nvSpPr>
          <p:spPr>
            <a:xfrm>
              <a:off x="6114600" y="1685520"/>
              <a:ext cx="245628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 flipH="1" flipV="1">
              <a:off x="564840" y="743760"/>
              <a:ext cx="245664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6484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938240" y="6453360"/>
            <a:ext cx="526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372080" y="6453360"/>
            <a:ext cx="119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25936-B8B8-4B32-9722-E128FFA1DFCE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6113520" y="1685880"/>
            <a:ext cx="245736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6113520" y="1685880"/>
            <a:ext cx="245736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54040" y="6453360"/>
            <a:ext cx="121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38240" y="6453360"/>
            <a:ext cx="526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372080" y="6453360"/>
            <a:ext cx="119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29FF9-DC76-4DF0-88AB-DC02FE8B700C}" type="slidenum">
              <a:rPr b="0" lang="ru-RU" sz="1000" spc="-1" strike="noStrike">
                <a:solidFill>
                  <a:srgbClr val="efede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0" y="0"/>
            <a:ext cx="397836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4252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654200" y="6453360"/>
            <a:ext cx="1781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411680" y="6453360"/>
            <a:ext cx="1197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0D948-941B-468C-BD68-A8208A4EC4FC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0" y="0"/>
            <a:ext cx="397836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54252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1654200" y="6453360"/>
            <a:ext cx="1781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11680" y="6453360"/>
            <a:ext cx="1197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1BDD2-1FB1-4A32-BC6A-8EA9B9B122AC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CACB6-D913-47C4-96A9-C7F8D6F93DA6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16D45-93F0-45ED-8BED-7618698145E8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D717D-35B8-42D9-8EE8-48CA7514EDB6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203640" y="549360"/>
            <a:ext cx="38894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ТЕМА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9600" spc="-1" strike="noStrike">
                <a:solidFill>
                  <a:srgbClr val="0000cc"/>
                </a:solidFill>
                <a:latin typeface="Franklin Gothic Book"/>
              </a:rPr>
              <a:t>ПИРАМИДА</a:t>
            </a:r>
            <a:endParaRPr b="0" lang="en-US" sz="9600" spc="-1" strike="noStrike">
              <a:solidFill>
                <a:srgbClr val="191b0e"/>
              </a:solidFill>
              <a:latin typeface="Franklin Gothic Book"/>
            </a:endParaRPr>
          </a:p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6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356" name="Picture 13" descr="0025-051-Piramida"/>
          <p:cNvPicPr/>
          <p:nvPr/>
        </p:nvPicPr>
        <p:blipFill>
          <a:blip r:embed="rId1"/>
          <a:stretch/>
        </p:blipFill>
        <p:spPr>
          <a:xfrm>
            <a:off x="6588000" y="3213000"/>
            <a:ext cx="1656000" cy="24321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4" descr="3d-geometric-shapes-for-kids-805"/>
          <p:cNvPicPr/>
          <p:nvPr/>
        </p:nvPicPr>
        <p:blipFill>
          <a:blip r:embed="rId2"/>
          <a:stretch/>
        </p:blipFill>
        <p:spPr>
          <a:xfrm>
            <a:off x="898560" y="3213000"/>
            <a:ext cx="2016000" cy="29466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5" descr="acube_pyrom_1_500"/>
          <p:cNvPicPr/>
          <p:nvPr/>
        </p:nvPicPr>
        <p:blipFill>
          <a:blip r:embed="rId3"/>
          <a:stretch/>
        </p:blipFill>
        <p:spPr>
          <a:xfrm>
            <a:off x="3814920" y="2997360"/>
            <a:ext cx="2016000" cy="1726920"/>
          </a:xfrm>
          <a:prstGeom prst="rect">
            <a:avLst/>
          </a:prstGeom>
          <a:ln w="0">
            <a:noFill/>
          </a:ln>
        </p:spPr>
      </p:pic>
      <p:sp>
        <p:nvSpPr>
          <p:cNvPr id="359" name="TextBox 1"/>
          <p:cNvSpPr/>
          <p:nvPr/>
        </p:nvSpPr>
        <p:spPr>
          <a:xfrm>
            <a:off x="3041640" y="4941720"/>
            <a:ext cx="354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ГБОУ школа №589 С-Петербург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Шаромова Л.А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ЦЕЛИ УРОКА</a:t>
            </a:r>
            <a:r>
              <a:rPr b="1" lang="en-US" sz="2000" spc="-1" strike="noStrike">
                <a:solidFill>
                  <a:srgbClr val="ff0000"/>
                </a:solidFill>
                <a:latin typeface="Franklin Gothic Book"/>
              </a:rPr>
              <a:t> 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36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а)</a:t>
            </a: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образовательные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</a:rPr>
              <a:t>: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206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познакомить учащихся с понятием –пирамида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;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206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познакомить учащихся с элементами пирамиды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;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206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научить учащихся находить грани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,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 ребра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,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 вершины пирамиды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;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206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научить учащихся выполнять построение пирамиды и ее развертки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;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206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научить учащихся вычислять длину ребер пирамиды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;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б) 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развивающие</a:t>
            </a:r>
            <a:r>
              <a:rPr b="0" lang="en-US" sz="2000" spc="-1" strike="noStrike">
                <a:solidFill>
                  <a:srgbClr val="ff0000"/>
                </a:solidFill>
                <a:latin typeface="Franklin Gothic Book"/>
              </a:rPr>
              <a:t>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206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развитие пространственного воображения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;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206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формирование способности сравнивать геометрические фигуры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,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 обобщать полученные знания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,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 формирование логического мышления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;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в) 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воспитательные</a:t>
            </a:r>
            <a:r>
              <a:rPr b="0" lang="en-US" sz="2000" spc="-1" strike="noStrike">
                <a:solidFill>
                  <a:srgbClr val="ff0000"/>
                </a:solidFill>
                <a:latin typeface="Franklin Gothic Book"/>
              </a:rPr>
              <a:t>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206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привитие навыка аккуратности при построении чертежа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;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206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активизация интереса учащихся к получению новых знаний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;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206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воспитание трудолюбия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Тип урока</a:t>
            </a:r>
            <a:r>
              <a:rPr b="0" lang="en-US" sz="1800" spc="-1" strike="noStrike">
                <a:solidFill>
                  <a:srgbClr val="ff0000"/>
                </a:solidFill>
                <a:latin typeface="Franklin Gothic Book"/>
              </a:rPr>
              <a:t>:</a:t>
            </a:r>
            <a:r>
              <a:rPr b="0" lang="en-US" sz="1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изучение нового материала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362" name="Picture 8" descr="HexPyramid"/>
          <p:cNvPicPr/>
          <p:nvPr/>
        </p:nvPicPr>
        <p:blipFill>
          <a:blip r:embed="rId1"/>
          <a:stretch/>
        </p:blipFill>
        <p:spPr>
          <a:xfrm>
            <a:off x="7221600" y="239760"/>
            <a:ext cx="1476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УСТНЫЙ СЧЕТ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ычислите и запишите результаты по возрастанию чисел. Поставьте соответствующие буквы и прочитайте название темы урока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755640" y="1197000"/>
            <a:ext cx="7942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6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Franklin Gothic Book"/>
              </a:rPr>
              <a:t>1) 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20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 x 7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           </a:t>
            </a:r>
            <a:r>
              <a:rPr b="1" lang="ru-RU" sz="1700" spc="-1" strike="noStrike">
                <a:solidFill>
                  <a:srgbClr val="ff0000"/>
                </a:solidFill>
                <a:latin typeface="Franklin Gothic Book"/>
              </a:rPr>
              <a:t>4) 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23 + 47              </a:t>
            </a:r>
            <a:r>
              <a:rPr b="1" lang="ru-RU" sz="1700" spc="-1" strike="noStrike">
                <a:solidFill>
                  <a:srgbClr val="ff0000"/>
                </a:solidFill>
                <a:latin typeface="Franklin Gothic Book"/>
              </a:rPr>
              <a:t>7) 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100 - 10</a:t>
            </a:r>
            <a:endParaRPr b="0" lang="en-US" sz="17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  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- 50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               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: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7                        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x 90</a:t>
            </a:r>
            <a:endParaRPr b="0" lang="en-US" sz="17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 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: 5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                 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x 16                         + 1900</a:t>
            </a:r>
            <a:endParaRPr b="0" lang="en-US" sz="17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 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+ 33                 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- 90                          : 100</a:t>
            </a:r>
            <a:endParaRPr b="0" lang="en-US" sz="17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      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= … </a:t>
            </a:r>
            <a:r>
              <a:rPr b="1" lang="ru-RU" sz="1700" spc="-1" strike="noStrike">
                <a:solidFill>
                  <a:srgbClr val="ff0000"/>
                </a:solidFill>
                <a:latin typeface="Franklin Gothic Book"/>
              </a:rPr>
              <a:t>М</a:t>
            </a:r>
            <a:r>
              <a:rPr b="1" lang="en-US" sz="1700" spc="-1" strike="noStrike">
                <a:solidFill>
                  <a:srgbClr val="ff0000"/>
                </a:solidFill>
                <a:latin typeface="Franklin Gothic Book"/>
              </a:rPr>
              <a:t>           </a:t>
            </a:r>
            <a:r>
              <a:rPr b="1" lang="ru-RU" sz="1700" spc="-1" strike="noStrike">
                <a:solidFill>
                  <a:srgbClr val="ff0000"/>
                </a:solidFill>
                <a:latin typeface="Franklin Gothic Book"/>
              </a:rPr>
              <a:t>   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= 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… </a:t>
            </a:r>
            <a:r>
              <a:rPr b="1" lang="ru-RU" sz="1700" spc="-1" strike="noStrike">
                <a:solidFill>
                  <a:srgbClr val="ff0000"/>
                </a:solidFill>
                <a:latin typeface="Franklin Gothic Book"/>
              </a:rPr>
              <a:t>И</a:t>
            </a:r>
            <a:r>
              <a:rPr b="1" lang="en-US" sz="1700" spc="-1" strike="noStrike">
                <a:solidFill>
                  <a:srgbClr val="ff0000"/>
                </a:solidFill>
                <a:latin typeface="Franklin Gothic Book"/>
              </a:rPr>
              <a:t>                  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= 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… </a:t>
            </a:r>
            <a:r>
              <a:rPr b="1" lang="ru-RU" sz="17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17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spcAft>
                <a:spcPts val="201"/>
              </a:spcAft>
              <a:buClr>
                <a:srgbClr val="0000cc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Franklin Gothic Book"/>
              </a:rPr>
              <a:t>2)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100 – 77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        </a:t>
            </a:r>
            <a:r>
              <a:rPr b="1" lang="ru-RU" sz="1700" spc="-1" strike="noStrike">
                <a:solidFill>
                  <a:srgbClr val="ff0000"/>
                </a:solidFill>
                <a:latin typeface="Franklin Gothic Book"/>
              </a:rPr>
              <a:t>5) 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620 + 190         </a:t>
            </a:r>
            <a:r>
              <a:rPr b="1" lang="ru-RU" sz="1700" spc="-1" strike="noStrike">
                <a:solidFill>
                  <a:srgbClr val="ff0000"/>
                </a:solidFill>
                <a:latin typeface="Franklin Gothic Book"/>
              </a:rPr>
              <a:t>8) 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54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: 6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</a:t>
            </a:r>
            <a:endParaRPr b="0" lang="en-US" sz="17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  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x 3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                  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: 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90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                     + 34</a:t>
            </a:r>
            <a:endParaRPr b="0" lang="en-US" sz="17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  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+ 51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                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x 20                    x 2</a:t>
            </a:r>
            <a:endParaRPr b="0" lang="en-US" sz="17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  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: 12                     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- 180                   - 56</a:t>
            </a:r>
            <a:endParaRPr b="0" lang="en-US" sz="17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 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=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… </a:t>
            </a:r>
            <a:r>
              <a:rPr b="1" lang="ru-RU" sz="1700" spc="-1" strike="noStrike">
                <a:solidFill>
                  <a:srgbClr val="ff0000"/>
                </a:solidFill>
                <a:latin typeface="Franklin Gothic Book"/>
              </a:rPr>
              <a:t>И</a:t>
            </a:r>
            <a:r>
              <a:rPr b="1" lang="en-US" sz="1700" spc="-1" strike="noStrike">
                <a:solidFill>
                  <a:srgbClr val="ff0000"/>
                </a:solidFill>
                <a:latin typeface="Franklin Gothic Book"/>
              </a:rPr>
              <a:t>                 </a:t>
            </a:r>
            <a:r>
              <a:rPr b="1" lang="ru-RU" sz="1700" spc="-1" strike="noStrike">
                <a:solidFill>
                  <a:srgbClr val="ff0000"/>
                </a:solidFill>
                <a:latin typeface="Franklin Gothic Book"/>
              </a:rPr>
              <a:t>     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= … </a:t>
            </a:r>
            <a:r>
              <a:rPr b="1" lang="ru-RU" sz="1700" spc="-1" strike="noStrike">
                <a:solidFill>
                  <a:srgbClr val="ff0000"/>
                </a:solidFill>
                <a:latin typeface="Franklin Gothic Book"/>
              </a:rPr>
              <a:t>П</a:t>
            </a:r>
            <a:r>
              <a:rPr b="1" lang="en-US" sz="1700" spc="-1" strike="noStrike">
                <a:solidFill>
                  <a:srgbClr val="ff0000"/>
                </a:solidFill>
                <a:latin typeface="Franklin Gothic Book"/>
              </a:rPr>
              <a:t>            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= 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… </a:t>
            </a:r>
            <a:r>
              <a:rPr b="1" lang="ru-RU" sz="1700" spc="-1" strike="noStrike">
                <a:solidFill>
                  <a:srgbClr val="ff0000"/>
                </a:solidFill>
                <a:latin typeface="Franklin Gothic Book"/>
              </a:rPr>
              <a:t>А</a:t>
            </a:r>
            <a:endParaRPr b="0" lang="en-US" sz="17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spcAft>
                <a:spcPts val="201"/>
              </a:spcAft>
              <a:buClr>
                <a:srgbClr val="0000cc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Franklin Gothic Book"/>
              </a:rPr>
              <a:t>3)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200 : 4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           </a:t>
            </a:r>
            <a:r>
              <a:rPr b="1" lang="ru-RU" sz="1700" spc="-1" strike="noStrike">
                <a:solidFill>
                  <a:srgbClr val="ff0000"/>
                </a:solidFill>
                <a:latin typeface="Franklin Gothic Book"/>
              </a:rPr>
              <a:t>6) 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4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x 40</a:t>
            </a:r>
            <a:endParaRPr b="0" lang="en-US" sz="17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  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+ 70             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   + 260</a:t>
            </a:r>
            <a:endParaRPr b="0" lang="en-US" sz="17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  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x 5                   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: 6</a:t>
            </a:r>
            <a:endParaRPr b="0" lang="en-US" sz="17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  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 –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240               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- 45</a:t>
            </a:r>
            <a:endParaRPr b="0" lang="en-US" sz="17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    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=</a:t>
            </a:r>
            <a:r>
              <a:rPr b="1" lang="ru-RU" sz="1700" spc="-1" strike="noStrike">
                <a:solidFill>
                  <a:srgbClr val="0000cc"/>
                </a:solidFill>
                <a:latin typeface="Franklin Gothic Book"/>
              </a:rPr>
              <a:t> … </a:t>
            </a:r>
            <a:r>
              <a:rPr b="1" lang="ru-RU" sz="1700" spc="-1" strike="noStrike">
                <a:solidFill>
                  <a:srgbClr val="ff0000"/>
                </a:solidFill>
                <a:latin typeface="Franklin Gothic Book"/>
              </a:rPr>
              <a:t>А</a:t>
            </a:r>
            <a:r>
              <a:rPr b="1" lang="en-US" sz="1700" spc="-1" strike="noStrike">
                <a:solidFill>
                  <a:srgbClr val="ff0000"/>
                </a:solidFill>
                <a:latin typeface="Franklin Gothic Book"/>
              </a:rPr>
              <a:t>              </a:t>
            </a:r>
            <a:r>
              <a:rPr b="1" lang="ru-RU" sz="1700" spc="-1" strike="noStrike">
                <a:solidFill>
                  <a:srgbClr val="ff0000"/>
                </a:solidFill>
                <a:latin typeface="Franklin Gothic Book"/>
              </a:rPr>
              <a:t>     </a:t>
            </a:r>
            <a:r>
              <a:rPr b="1" lang="en-US" sz="1700" spc="-1" strike="noStrike">
                <a:solidFill>
                  <a:srgbClr val="0000cc"/>
                </a:solidFill>
                <a:latin typeface="Franklin Gothic Book"/>
              </a:rPr>
              <a:t>= … </a:t>
            </a:r>
            <a:r>
              <a:rPr b="1" lang="ru-RU" sz="1700" spc="-1" strike="noStrike">
                <a:solidFill>
                  <a:srgbClr val="ff0000"/>
                </a:solidFill>
                <a:latin typeface="Franklin Gothic Book"/>
              </a:rPr>
              <a:t>Р</a:t>
            </a:r>
            <a:endParaRPr b="0" lang="en-US" sz="17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3564000" y="351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ОТВЕТЫ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503280" y="80820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)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51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)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10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)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360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4)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70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5)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0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6)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25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7)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100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8)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30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1692360" y="176220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о возрастанию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0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, 10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, 25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, 30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, 51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, 70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, 100, 360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3272400" y="3162240"/>
            <a:ext cx="51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    И    Р    А    М    И    Д    А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69" name="Picture 11" descr="2363"/>
          <p:cNvPicPr/>
          <p:nvPr/>
        </p:nvPicPr>
        <p:blipFill>
          <a:blip r:embed="rId1"/>
          <a:stretch/>
        </p:blipFill>
        <p:spPr>
          <a:xfrm>
            <a:off x="731880" y="3860640"/>
            <a:ext cx="2544840" cy="2694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2" descr="234811_html_2fafaf4d"/>
          <p:cNvPicPr/>
          <p:nvPr/>
        </p:nvPicPr>
        <p:blipFill>
          <a:blip r:embed="rId2"/>
          <a:stretch/>
        </p:blipFill>
        <p:spPr>
          <a:xfrm>
            <a:off x="4643280" y="3645000"/>
            <a:ext cx="3753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70400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Franklin Gothic Book"/>
              </a:rPr>
              <a:t>        </a:t>
            </a:r>
            <a:r>
              <a:rPr b="0" lang="ru-RU" sz="2900" spc="-1" strike="noStrike">
                <a:solidFill>
                  <a:srgbClr val="0000ff"/>
                </a:solidFill>
                <a:latin typeface="Franklin Gothic Book"/>
              </a:rPr>
              <a:t>Все эти предметы дают представление</a:t>
            </a:r>
            <a:br>
              <a:rPr sz="2900"/>
            </a:br>
            <a:r>
              <a:rPr b="0" lang="ru-RU" sz="2900" spc="-1" strike="noStrike">
                <a:solidFill>
                  <a:srgbClr val="0000ff"/>
                </a:solidFill>
                <a:latin typeface="Franklin Gothic Book"/>
              </a:rPr>
              <a:t>                                    о пирамиде</a:t>
            </a:r>
            <a:r>
              <a:rPr b="0" lang="en-US" sz="2900" spc="-1" strike="noStrike">
                <a:solidFill>
                  <a:srgbClr val="0000ff"/>
                </a:solidFill>
                <a:latin typeface="Franklin Gothic Book"/>
              </a:rPr>
              <a:t>:</a:t>
            </a:r>
            <a:endParaRPr b="0" lang="en-US" sz="29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372" name="Picture 37" descr="i"/>
          <p:cNvPicPr/>
          <p:nvPr/>
        </p:nvPicPr>
        <p:blipFill>
          <a:blip r:embed="rId1"/>
          <a:stretch/>
        </p:blipFill>
        <p:spPr>
          <a:xfrm>
            <a:off x="6407280" y="1341360"/>
            <a:ext cx="2736720" cy="2519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6" descr="history2"/>
          <p:cNvPicPr/>
          <p:nvPr/>
        </p:nvPicPr>
        <p:blipFill>
          <a:blip r:embed="rId2"/>
          <a:stretch/>
        </p:blipFill>
        <p:spPr>
          <a:xfrm>
            <a:off x="900000" y="1125360"/>
            <a:ext cx="3024360" cy="2664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0" descr="1ajxrust_24m"/>
          <p:cNvPicPr/>
          <p:nvPr/>
        </p:nvPicPr>
        <p:blipFill>
          <a:blip r:embed="rId3"/>
          <a:stretch/>
        </p:blipFill>
        <p:spPr>
          <a:xfrm>
            <a:off x="3564000" y="1360440"/>
            <a:ext cx="3095640" cy="2448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1" descr="21675-b"/>
          <p:cNvPicPr/>
          <p:nvPr/>
        </p:nvPicPr>
        <p:blipFill>
          <a:blip r:embed="rId4"/>
          <a:stretch/>
        </p:blipFill>
        <p:spPr>
          <a:xfrm>
            <a:off x="1908000" y="3933720"/>
            <a:ext cx="3311640" cy="2924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2" descr="article_595_b15db025a1c0f8d0c42b92f8af04813d1309004386"/>
          <p:cNvPicPr/>
          <p:nvPr/>
        </p:nvPicPr>
        <p:blipFill>
          <a:blip r:embed="rId5"/>
          <a:stretch/>
        </p:blipFill>
        <p:spPr>
          <a:xfrm>
            <a:off x="5508720" y="3808440"/>
            <a:ext cx="2736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626920" y="-360"/>
            <a:ext cx="607068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ВИДЫ ПИРАМИД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378" name="Picture 17" descr="18396_html_m5df8495d"/>
          <p:cNvPicPr/>
          <p:nvPr/>
        </p:nvPicPr>
        <p:blipFill>
          <a:blip r:embed="rId1"/>
          <a:stretch/>
        </p:blipFill>
        <p:spPr>
          <a:xfrm>
            <a:off x="146160" y="704880"/>
            <a:ext cx="3276360" cy="3706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28"/>
          <p:cNvPicPr/>
          <p:nvPr/>
        </p:nvPicPr>
        <p:blipFill>
          <a:blip r:embed="rId2"/>
          <a:stretch/>
        </p:blipFill>
        <p:spPr>
          <a:xfrm>
            <a:off x="3419640" y="907920"/>
            <a:ext cx="2376360" cy="288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5" descr="pyramid_right_volume"/>
          <p:cNvPicPr/>
          <p:nvPr/>
        </p:nvPicPr>
        <p:blipFill>
          <a:blip r:embed="rId3"/>
          <a:stretch/>
        </p:blipFill>
        <p:spPr>
          <a:xfrm>
            <a:off x="2805120" y="4130640"/>
            <a:ext cx="3348000" cy="2664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8" descr="6"/>
          <p:cNvPicPr/>
          <p:nvPr/>
        </p:nvPicPr>
        <p:blipFill>
          <a:blip r:embed="rId4"/>
          <a:stretch/>
        </p:blipFill>
        <p:spPr>
          <a:xfrm>
            <a:off x="6084720" y="907920"/>
            <a:ext cx="2735280" cy="288144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19"/>
          <p:cNvSpPr/>
          <p:nvPr/>
        </p:nvSpPr>
        <p:spPr>
          <a:xfrm>
            <a:off x="4265640" y="466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  <a:ea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3" name="Text Box 20"/>
          <p:cNvSpPr/>
          <p:nvPr/>
        </p:nvSpPr>
        <p:spPr>
          <a:xfrm>
            <a:off x="7361280" y="324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611280" y="4503600"/>
            <a:ext cx="219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реугольн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ирамида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BC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Text Box 23"/>
          <p:cNvSpPr/>
          <p:nvPr/>
        </p:nvSpPr>
        <p:spPr>
          <a:xfrm>
            <a:off x="3255840" y="3645000"/>
            <a:ext cx="244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тырехугольн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Text Box 24"/>
          <p:cNvSpPr/>
          <p:nvPr/>
        </p:nvSpPr>
        <p:spPr>
          <a:xfrm>
            <a:off x="6279120" y="3639960"/>
            <a:ext cx="21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Шестиугольн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7" name="Text Box 25"/>
          <p:cNvSpPr/>
          <p:nvPr/>
        </p:nvSpPr>
        <p:spPr>
          <a:xfrm>
            <a:off x="6208560" y="6381720"/>
            <a:ext cx="19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ятиугольн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Text Box 27"/>
          <p:cNvSpPr/>
          <p:nvPr/>
        </p:nvSpPr>
        <p:spPr>
          <a:xfrm>
            <a:off x="2987640" y="24829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Text Box 28"/>
          <p:cNvSpPr/>
          <p:nvPr/>
        </p:nvSpPr>
        <p:spPr>
          <a:xfrm>
            <a:off x="4120920" y="1547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  <a:ea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Text Box 29"/>
          <p:cNvSpPr/>
          <p:nvPr/>
        </p:nvSpPr>
        <p:spPr>
          <a:xfrm>
            <a:off x="5651640" y="1979640"/>
            <a:ext cx="6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  <a:ea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Text Box 30"/>
          <p:cNvSpPr/>
          <p:nvPr/>
        </p:nvSpPr>
        <p:spPr>
          <a:xfrm>
            <a:off x="5148360" y="3284640"/>
            <a:ext cx="6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  <a:ea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Text Box 31"/>
          <p:cNvSpPr/>
          <p:nvPr/>
        </p:nvSpPr>
        <p:spPr>
          <a:xfrm>
            <a:off x="5994360" y="2919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Text Box 32"/>
          <p:cNvSpPr/>
          <p:nvPr/>
        </p:nvSpPr>
        <p:spPr>
          <a:xfrm>
            <a:off x="7236000" y="2343240"/>
            <a:ext cx="4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Text Box 33"/>
          <p:cNvSpPr/>
          <p:nvPr/>
        </p:nvSpPr>
        <p:spPr>
          <a:xfrm>
            <a:off x="7740720" y="23432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Text Box 34"/>
          <p:cNvSpPr/>
          <p:nvPr/>
        </p:nvSpPr>
        <p:spPr>
          <a:xfrm>
            <a:off x="8675640" y="2990880"/>
            <a:ext cx="4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Text Box 35"/>
          <p:cNvSpPr/>
          <p:nvPr/>
        </p:nvSpPr>
        <p:spPr>
          <a:xfrm>
            <a:off x="7740720" y="3141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856560" y="321300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755640" y="259920"/>
            <a:ext cx="813744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Пирами́да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  —многогранник, основание которого — многоугольник, а остальные грани — треугольники (боковые грани), имеющие общую вершину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399" name="Picture 7" descr="5555"/>
          <p:cNvPicPr/>
          <p:nvPr/>
        </p:nvPicPr>
        <p:blipFill>
          <a:blip r:embed="rId1"/>
          <a:stretch/>
        </p:blipFill>
        <p:spPr>
          <a:xfrm>
            <a:off x="787320" y="1268280"/>
            <a:ext cx="8280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987200" y="-360"/>
            <a:ext cx="669924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На рисунке пирамида 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 назовите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: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401" name="Picture 9" descr="28"/>
          <p:cNvPicPr/>
          <p:nvPr/>
        </p:nvPicPr>
        <p:blipFill>
          <a:blip r:embed="rId1"/>
          <a:stretch/>
        </p:blipFill>
        <p:spPr>
          <a:xfrm>
            <a:off x="528480" y="1498680"/>
            <a:ext cx="3399120" cy="42019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43280" y="1197000"/>
            <a:ext cx="4316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Clr>
                <a:srgbClr val="002060"/>
              </a:buClr>
              <a:buFont typeface="Franklin Gothic Book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Вершину пирамиды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501480" indent="-501480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Clr>
                <a:srgbClr val="002060"/>
              </a:buClr>
              <a:buFont typeface="Franklin Gothic Book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Вершины основания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501480" indent="-501480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Clr>
                <a:srgbClr val="002060"/>
              </a:buClr>
              <a:buFont typeface="Franklin Gothic Book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Основание пирамиды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501480" indent="-501480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Clr>
                <a:srgbClr val="002060"/>
              </a:buClr>
              <a:buFont typeface="Franklin Gothic Book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Ребра основания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501480" indent="-501480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Clr>
                <a:srgbClr val="002060"/>
              </a:buClr>
              <a:buFont typeface="Franklin Gothic Book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Боковые ребра пирамиды. 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501480" indent="-501480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Clr>
                <a:srgbClr val="002060"/>
              </a:buClr>
              <a:buFont typeface="Franklin Gothic Book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Боковые грани пирамиды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501480" indent="-501480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Clr>
                <a:srgbClr val="002060"/>
              </a:buClr>
              <a:buFont typeface="Franklin Gothic Book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Грани</a:t>
            </a:r>
            <a:r>
              <a:rPr b="1" lang="en-US" sz="2400" spc="-1" strike="noStrike">
                <a:solidFill>
                  <a:srgbClr val="002060"/>
                </a:solidFill>
                <a:latin typeface="Franklin Gothic Book"/>
              </a:rPr>
              <a:t>,</a:t>
            </a: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 которые проходят через вершину пирамиды</a:t>
            </a:r>
            <a:r>
              <a:rPr b="1" lang="ru-RU" sz="2000" spc="-1" strike="noStrike">
                <a:solidFill>
                  <a:srgbClr val="00206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501480" indent="-501480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Clr>
                <a:srgbClr val="002060"/>
              </a:buClr>
              <a:buFont typeface="Franklin Gothic Book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Вид пирамиды</a:t>
            </a: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3" name="Text Box 10"/>
          <p:cNvSpPr/>
          <p:nvPr/>
        </p:nvSpPr>
        <p:spPr>
          <a:xfrm>
            <a:off x="1763640" y="979560"/>
            <a:ext cx="76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Text Box 11"/>
          <p:cNvSpPr/>
          <p:nvPr/>
        </p:nvSpPr>
        <p:spPr>
          <a:xfrm flipH="1">
            <a:off x="528480" y="4724280"/>
            <a:ext cx="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  <a:ea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Text Box 12"/>
          <p:cNvSpPr/>
          <p:nvPr/>
        </p:nvSpPr>
        <p:spPr>
          <a:xfrm>
            <a:off x="1600200" y="278136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Text Box 13"/>
          <p:cNvSpPr/>
          <p:nvPr/>
        </p:nvSpPr>
        <p:spPr>
          <a:xfrm>
            <a:off x="3927600" y="357336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Text Box 14"/>
          <p:cNvSpPr/>
          <p:nvPr/>
        </p:nvSpPr>
        <p:spPr>
          <a:xfrm>
            <a:off x="2523960" y="5700600"/>
            <a:ext cx="6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РАЗВЕРТКА четырехугольной пирамиды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409" name="Picture 6" descr="Развертка пирамиды"/>
          <p:cNvPicPr/>
          <p:nvPr/>
        </p:nvPicPr>
        <p:blipFill>
          <a:blip r:embed="rId1"/>
          <a:stretch/>
        </p:blipFill>
        <p:spPr>
          <a:xfrm>
            <a:off x="1116000" y="843120"/>
            <a:ext cx="6912000" cy="41050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5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5272200" y="1359000"/>
            <a:ext cx="12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 см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6948360" y="22366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 см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4140360" y="2448000"/>
            <a:ext cx="11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5923080" y="2847960"/>
            <a:ext cx="102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 см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971640" y="4948200"/>
            <a:ext cx="76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ройте в тетради развертку этой пирамиды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14:42:26Z</dcterms:created>
  <dc:creator>HP</dc:creator>
  <dc:description/>
  <dc:language>en-US</dc:language>
  <cp:lastModifiedBy>Чемёркина Татьяна Петровна</cp:lastModifiedBy>
  <cp:lastPrinted>2022-04-08T08:25:28Z</cp:lastPrinted>
  <dcterms:modified xsi:type="dcterms:W3CDTF">2022-04-08T08:25:43Z</dcterms:modified>
  <cp:revision>32</cp:revision>
  <dc:subject/>
  <dc:title>ТЕМА</dc:title>
</cp:coreProperties>
</file>