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13.png" ContentType="image/png"/>
  <Override PartName="/ppt/media/image8.wmf" ContentType="image/x-wmf"/>
  <Override PartName="/ppt/media/image37.jpeg" ContentType="image/jpeg"/>
  <Override PartName="/ppt/media/image30.png" ContentType="image/png"/>
  <Override PartName="/ppt/media/image35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E31-C878-41B3-837D-06145352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3CC-54BE-44A8-9511-2355203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AED-B516-4F58-A3C8-DC57B9A5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B4F-516B-4E40-B9C1-7BE547B5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BEE-AD1E-4132-B51D-62A5D9DA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B54-6D74-4EB2-9DD5-EE2D338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25E4-C5CE-4A2B-A789-DAF6FCF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8AF-0B05-4FEF-ADBF-2260E19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73A-2500-4BFE-9921-431BD78A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43F-CD47-4F55-BA8E-7BC7D44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C2B-58C5-4EA5-B66F-8FBC2C7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88F-BB1A-4EC0-B0CC-AE2B6483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029-394A-4BBA-BFC1-D602046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19D-6930-4DE2-8C13-3A0DA1F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6393-7DCE-45C2-A229-58A5DAE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920-DC86-473E-B928-A6B8D332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92A-D175-4319-8547-A28241C7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7778-D219-4B31-AC05-CB251E41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9AF3-C55E-40AB-849C-2DCAEB3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84B4-A8D7-4B82-BB9D-9B1B5EE4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4C84-2DCE-4732-AEFE-E3B9399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E08A-1E53-45E0-B21B-67A7F73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A92-CB7C-4E54-95ED-61A4382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FF4B-F644-4E9B-8003-5933411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6C9D-E077-4B1A-BB61-8B9C6A73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B618-C096-4D69-B78E-4201C8A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813F-C33B-4DF2-8E67-4FF8BB3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BFCD-01EF-43D8-843F-21AFE67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99B8-AFEB-48F4-8AB6-77C76A0E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F5FC-1C62-43B8-9628-0E4C3164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F5A5-77B1-498F-8070-DC4FEED1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9884-68C9-4BE7-9A50-24EBFB25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B406-515A-4856-99EC-8B491CB9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238-A0FB-422B-A887-0551B20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0C1E-AF3C-4B98-90B5-4C4BBF9A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8227-27CD-4AD0-BA44-7FCDD439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EF33-839D-4960-B62C-AB7DA4E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7FB6-C1E7-449B-9A58-46D1703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6BB0-B054-474E-9EF2-B8CB78B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A0372-5BC9-4EC8-BA4A-FDB6482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3939-F8E1-45C1-9CBA-7859574E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C57C-FFBB-4300-8584-D585CCC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16DB-D046-47ED-B33B-1DAE48CF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B273-D922-41D3-A54A-9C20948D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304-AE35-4288-BEB6-D49A249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679C-0C3A-4768-B2E3-70B15A8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8000-D3B9-4D99-89E7-5CD3402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A0BD-8BC0-4DD5-B861-441F709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0133-E3A5-4DC4-8EA5-96DF2C73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FAC6-BB1D-4EBE-822C-71EF4A0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E75A-7760-4B41-85D8-1D35F3AF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F4D4-1921-484C-B9C5-578CEEA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EC14-F584-4789-AAA4-C73B5F0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58F1-5417-4EFE-B42E-6CD69B2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B232-BE6A-459F-A667-D8457CE0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A3B-A537-4B21-87DF-96B1BF4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2740-2310-43FC-86F0-6985E49D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598F-C5BF-4A3B-8622-5D9E0A4D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BF78-29E1-41A2-ACCE-C43426C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B5DE-3384-47FF-A9C8-66089DA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7022-E5D4-4E48-AC9C-AB94FE01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A6FD-01EF-4EFC-8A89-70B87A1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9E0E-62AC-4605-B184-C621ED9E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474B-3921-4107-9314-7373B98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A231-E6AF-49E3-98B0-DF47360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C2FB-0420-4DCA-ACC7-55D3D13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507-B8E8-4493-AE46-DBB9FE2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48D2-2353-4547-82BF-3DEE687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ABA5-F7B0-4641-BAFF-88857B4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8CCF-046C-4FFA-85AB-90029D64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A05B-39DA-4299-81E4-EE6D033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9763-49D4-49AE-9688-FFF36CD1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FF33-9CAB-474E-B337-9C9E1B3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358A-9C2A-43CB-9163-CA51A2B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45E3-AF78-4350-80A8-4497A872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F5C3-9F01-4E1D-AC41-6FE2EA3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322D3-B414-4CD6-98C6-5B78997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85D-A96D-4307-A2F7-8EB37C2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E2EB-C202-44D7-990D-9C3B99C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A3EB-C29A-4762-8F84-591F4FF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7408-BB4C-4732-B30E-F64F0E9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BC961-183E-47C1-93FB-7F1C18E1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5B5D-83B8-4770-B8EB-2FEDBCA1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D345-22FD-4BA0-B28A-75C05840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51D1-A1AB-4F44-AA18-0FBF347F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A5E7-A9AA-4F97-9CCF-D6530FEA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FA02C-0C6E-467D-8345-EC5854C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6EE48-A029-454B-8A9A-6647C1B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C0F-8F17-445A-86DB-9096EB4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7CB0-C940-4E01-BFFD-30CAD9E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22AE5-83CB-4934-91E8-436D085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D22F-6998-41DE-8E57-F06EAF8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0774-3768-46BC-B0D4-1ECCBB5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329FA-8D96-4C8B-A8FD-D02B2780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53E29-C2EA-454A-921C-E92A3F72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D3EB-FF5B-4B3E-B290-F6753FA6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D832-1E53-4C41-B399-FF5F84AA19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3D4C-EE93-4FD7-A9D2-CE70CE7C06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B3B0-D033-423F-A5BD-FC724F9538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D57-135A-4502-AF24-1C7B562393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4B91-9FB8-4F11-839B-CE41A2117C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80B-4E4D-44CA-90A9-2699EBD9C7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2DBA-47B4-437B-ACD3-9909249BAF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02F-D73C-4D02-91B5-CA37D6EDC9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ufa.kp.ru/readyimages/54564.jpg&amp;imgrefurl=http://www.ufa.kp.ru/2004/08/24/doc32551/&amp;h=280&amp;w=200&amp;sz=21&amp;tbnid=kx-mw1Wm6fMJ:&amp;tbnh=109&amp;tbnw=77&amp;hl=ru&amp;start=1&amp;prev=/images%3Fq%3D%25D0%25B3%25D1%2580%25D0%25B8%25D0%25B1%25D1%258B%26svnum%3D10%26hl%3Dru%26lr%3D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slovari.yandex.ru/redir?dtype=encyc&amp;url=www.rubricon.com/showbigimg.asp%3Fid%3D272429874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0" y="1143000"/>
            <a:ext cx="8686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Н Е К О Т О Р О М </a:t>
            </a: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</a:t>
            </a: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 А Р С Т В Е . . .</a:t>
            </a: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Picture 11" descr="J0232157"/>
          <p:cNvPicPr/>
          <p:nvPr/>
        </p:nvPicPr>
        <p:blipFill>
          <a:blip r:embed="rId2"/>
          <a:stretch/>
        </p:blipFill>
        <p:spPr>
          <a:xfrm>
            <a:off x="533520" y="3505320"/>
            <a:ext cx="21556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6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6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nezabudka\Desktop\Аттестация\К работе\22 ложные опята.jpeg"/>
          <p:cNvPicPr/>
          <p:nvPr/>
        </p:nvPicPr>
        <p:blipFill>
          <a:blip r:embed="rId2"/>
          <a:stretch/>
        </p:blipFill>
        <p:spPr>
          <a:xfrm>
            <a:off x="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Users\nezabudka\Desktop\Аттестация\К работе\22 мухомор.jpeg"/>
          <p:cNvPicPr/>
          <p:nvPr/>
        </p:nvPicPr>
        <p:blipFill>
          <a:blip r:embed="rId3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nezabudka\Desktop\Аттестация\К работе\21а.jpeg"/>
          <p:cNvPicPr/>
          <p:nvPr/>
        </p:nvPicPr>
        <p:blipFill>
          <a:blip r:embed="rId4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067280" y="1413000"/>
            <a:ext cx="475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Не надо собирать старые съедобные грибы. В них может накопиться опасный для человека яд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Нельзя разрывать и раскидывать лесную подстилку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Грибы нужно аккуратно срезать ножом или выкручивать из земли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68000" y="112536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и не образуют грибниц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тут в виде массы одиночных клет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4"/>
          <p:cNvSpPr/>
          <p:nvPr/>
        </p:nvSpPr>
        <p:spPr>
          <a:xfrm>
            <a:off x="4335120" y="3735360"/>
            <a:ext cx="38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лучают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дкормка для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опливо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755640" y="3213000"/>
            <a:ext cx="325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Kvas"/>
          <p:cNvPicPr/>
          <p:nvPr/>
        </p:nvPicPr>
        <p:blipFill>
          <a:blip r:embed="rId2"/>
          <a:stretch/>
        </p:blipFill>
        <p:spPr>
          <a:xfrm>
            <a:off x="324000" y="2492280"/>
            <a:ext cx="1685880" cy="2376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25"/>
          <p:cNvPicPr/>
          <p:nvPr/>
        </p:nvPicPr>
        <p:blipFill>
          <a:blip r:embed="rId3"/>
          <a:srcRect l="0" t="24256" r="0" b="0"/>
          <a:stretch/>
        </p:blipFill>
        <p:spPr>
          <a:xfrm>
            <a:off x="2438280" y="243828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nutro1"/>
          <p:cNvPicPr/>
          <p:nvPr/>
        </p:nvPicPr>
        <p:blipFill>
          <a:blip r:embed="rId4"/>
          <a:srcRect l="0" t="15448" r="0" b="0"/>
          <a:stretch/>
        </p:blipFill>
        <p:spPr>
          <a:xfrm>
            <a:off x="971640" y="4292640"/>
            <a:ext cx="2185920" cy="2374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9" descr="вино"/>
          <p:cNvPicPr/>
          <p:nvPr/>
        </p:nvPicPr>
        <p:blipFill>
          <a:blip r:embed="rId5"/>
          <a:stretch/>
        </p:blipFill>
        <p:spPr>
          <a:xfrm>
            <a:off x="6934320" y="2362320"/>
            <a:ext cx="201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68000" y="119664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икроскопическ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уют грибные колон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"/>
          <p:cNvSpPr/>
          <p:nvPr/>
        </p:nvSpPr>
        <p:spPr>
          <a:xfrm>
            <a:off x="1523880" y="472428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ищевая лимон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светление фруктовых соков и 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1601"/>
          <p:cNvPicPr/>
          <p:nvPr/>
        </p:nvPicPr>
        <p:blipFill>
          <a:blip r:embed="rId2"/>
          <a:srcRect l="0" t="24679" r="0" b="0"/>
          <a:stretch/>
        </p:blipFill>
        <p:spPr>
          <a:xfrm>
            <a:off x="1219320" y="2438280"/>
            <a:ext cx="1906560" cy="1436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im30_1933"/>
          <p:cNvPicPr/>
          <p:nvPr/>
        </p:nvPicPr>
        <p:blipFill>
          <a:blip r:embed="rId3"/>
          <a:stretch/>
        </p:blipFill>
        <p:spPr>
          <a:xfrm>
            <a:off x="5867280" y="2362320"/>
            <a:ext cx="287352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Diagram 5"/>
          <p:cNvGrpSpPr/>
          <p:nvPr/>
        </p:nvGrpSpPr>
        <p:grpSpPr>
          <a:xfrm>
            <a:off x="228600" y="228240"/>
            <a:ext cx="8686440" cy="6400440"/>
            <a:chOff x="228600" y="228240"/>
            <a:chExt cx="8686440" cy="6400440"/>
          </a:xfrm>
        </p:grpSpPr>
        <p:sp>
          <p:nvSpPr>
            <p:cNvPr id="373" name="_s1028"/>
            <p:cNvSpPr/>
            <p:nvPr/>
          </p:nvSpPr>
          <p:spPr>
            <a:xfrm flipV="1">
              <a:off x="4571640" y="1817280"/>
              <a:ext cx="0" cy="80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1029"/>
            <p:cNvSpPr/>
            <p:nvPr/>
          </p:nvSpPr>
          <p:spPr>
            <a:xfrm>
              <a:off x="3047400" y="228240"/>
              <a:ext cx="2971800" cy="1904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0"/>
            <p:cNvSpPr/>
            <p:nvPr/>
          </p:nvSpPr>
          <p:spPr>
            <a:xfrm>
              <a:off x="5657400" y="3428640"/>
              <a:ext cx="108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_s1031"/>
            <p:cNvSpPr/>
            <p:nvPr/>
          </p:nvSpPr>
          <p:spPr>
            <a:xfrm>
              <a:off x="6324120" y="2437200"/>
              <a:ext cx="2590920" cy="19828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1032"/>
            <p:cNvSpPr/>
            <p:nvPr/>
          </p:nvSpPr>
          <p:spPr>
            <a:xfrm>
              <a:off x="4571640" y="4234320"/>
              <a:ext cx="0" cy="80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3"/>
            <p:cNvSpPr/>
            <p:nvPr/>
          </p:nvSpPr>
          <p:spPr>
            <a:xfrm>
              <a:off x="3047400" y="4648680"/>
              <a:ext cx="3048120" cy="1980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4"/>
            <p:cNvSpPr/>
            <p:nvPr/>
          </p:nvSpPr>
          <p:spPr>
            <a:xfrm flipH="1">
              <a:off x="2399760" y="3428640"/>
              <a:ext cx="108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1035"/>
            <p:cNvSpPr/>
            <p:nvPr/>
          </p:nvSpPr>
          <p:spPr>
            <a:xfrm>
              <a:off x="228600" y="2361960"/>
              <a:ext cx="2590200" cy="21333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1036"/>
            <p:cNvSpPr/>
            <p:nvPr/>
          </p:nvSpPr>
          <p:spPr>
            <a:xfrm>
              <a:off x="3276360" y="2514600"/>
              <a:ext cx="2590200" cy="1752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цар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живо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рир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16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781320" y="2437200"/>
              <a:ext cx="1688760" cy="1992240"/>
            </a:xfrm>
            <a:prstGeom prst="rect">
              <a:avLst/>
            </a:prstGeom>
            <a:ln w="31680">
              <a:solidFill>
                <a:srgbClr val="000000"/>
              </a:solidFill>
              <a:miter/>
            </a:ln>
          </p:spPr>
        </p:pic>
        <p:pic>
          <p:nvPicPr>
            <p:cNvPr id="383" name="Picture 17" descr="открыть большую картинку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5800" y="2437200"/>
              <a:ext cx="1780200" cy="1992240"/>
            </a:xfrm>
            <a:prstGeom prst="rect">
              <a:avLst/>
            </a:prstGeom>
            <a:ln w="31680">
              <a:solidFill>
                <a:srgbClr val="000000"/>
              </a:solidFill>
              <a:miter/>
            </a:ln>
          </p:spPr>
        </p:pic>
      </p:grpSp>
      <p:pic>
        <p:nvPicPr>
          <p:cNvPr id="384" name="Picture 19" descr="47"/>
          <p:cNvPicPr/>
          <p:nvPr/>
        </p:nvPicPr>
        <p:blipFill>
          <a:blip r:embed="rId5"/>
          <a:stretch/>
        </p:blipFill>
        <p:spPr>
          <a:xfrm>
            <a:off x="3352680" y="4724280"/>
            <a:ext cx="2514600" cy="17607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385" name="Picture 20" descr="145-1024"/>
          <p:cNvPicPr/>
          <p:nvPr/>
        </p:nvPicPr>
        <p:blipFill>
          <a:blip r:embed="rId6"/>
          <a:stretch/>
        </p:blipFill>
        <p:spPr>
          <a:xfrm>
            <a:off x="3352680" y="304920"/>
            <a:ext cx="2362320" cy="17715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грибы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гриб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,как и когда растут гриб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грибы можно собира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опасность представляют гриб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594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39640" y="2491920"/>
            <a:ext cx="7274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914400" y="-4284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335520" y="1700280"/>
            <a:ext cx="317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поч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3851280" y="3357720"/>
            <a:ext cx="26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ж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6300720" y="1916280"/>
            <a:ext cx="22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2" descr="плес2"/>
          <p:cNvPicPr/>
          <p:nvPr/>
        </p:nvPicPr>
        <p:blipFill>
          <a:blip r:embed="rId2"/>
          <a:srcRect l="0" t="3624" r="0" b="3412"/>
          <a:stretch/>
        </p:blipFill>
        <p:spPr>
          <a:xfrm>
            <a:off x="6300720" y="2997360"/>
            <a:ext cx="2328840" cy="201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дрожжи"/>
          <p:cNvPicPr/>
          <p:nvPr/>
        </p:nvPicPr>
        <p:blipFill>
          <a:blip r:embed="rId3"/>
          <a:stretch/>
        </p:blipFill>
        <p:spPr>
          <a:xfrm>
            <a:off x="3780000" y="422100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мухомор"/>
          <p:cNvPicPr/>
          <p:nvPr/>
        </p:nvPicPr>
        <p:blipFill>
          <a:blip r:embed="rId4"/>
          <a:srcRect l="0" t="0" r="3004" b="0"/>
          <a:stretch/>
        </p:blipFill>
        <p:spPr>
          <a:xfrm>
            <a:off x="900000" y="3141720"/>
            <a:ext cx="2303640" cy="2025720"/>
          </a:xfrm>
          <a:prstGeom prst="rect">
            <a:avLst/>
          </a:prstGeom>
          <a:ln w="0">
            <a:noFill/>
          </a:ln>
        </p:spPr>
      </p:pic>
      <p:sp>
        <p:nvSpPr>
          <p:cNvPr id="396" name="Line 16"/>
          <p:cNvSpPr/>
          <p:nvPr/>
        </p:nvSpPr>
        <p:spPr>
          <a:xfrm flipH="1">
            <a:off x="3492000" y="126828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4788000" y="1268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5219640" y="1268280"/>
            <a:ext cx="93672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ый организм,не образующий цветков и семян и размножающийся спорами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ое царство природы.Грибы не похожи на зеленые растения,у них нет корня,стебля,листьев и цветков.Они не могут питаться как зеленые растения.Но и к животным они не относятся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е царство живых организмов.В отличие от растений грибы не умеют использовать энергию солнечного света и питаться углекислым газом из воздуха. Грибы возвращают углекислый газ атмосфере, а минеральные вещества почве. Роль грибов абсолютно противоположна роли расте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016-10"/>
          <p:cNvPicPr/>
          <p:nvPr/>
        </p:nvPicPr>
        <p:blipFill>
          <a:blip r:embed="rId1"/>
          <a:stretch/>
        </p:blipFill>
        <p:spPr>
          <a:xfrm>
            <a:off x="3086280" y="1623960"/>
            <a:ext cx="2971800" cy="447696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237960" y="274680"/>
            <a:ext cx="8582040" cy="11826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096960" y="19807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175080" y="53334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5562360" y="2286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4800600" y="4038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6402240" y="36576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 flipV="1">
            <a:off x="3886200" y="5562360"/>
            <a:ext cx="2362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6313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4</dc:creator>
  <dc:description/>
  <dc:language>en-US</dc:language>
  <cp:lastModifiedBy>lenovo</cp:lastModifiedBy>
  <dcterms:modified xsi:type="dcterms:W3CDTF">2022-04-08T12:46:4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