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veta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7-03-29T09:14:41.243000000" idx="1">
    <p:pos x="833" y="103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402-D076-42A7-BF5A-F770BF834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4F25-4356-4232-AD55-59658A6C3D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C8FF-AD8A-45F8-842C-DB020552B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D71-C1C5-4981-990E-A52B011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5EC-1BE1-46B8-8A24-E13A0DB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17C-C82A-497C-AD2D-742A4C7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787-7522-48A4-9A0F-EDEA1419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BCA-916D-481A-B462-852A2F2F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D73-0E11-4D00-BB6D-8C163F5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3EC-878B-4FC4-A0D5-7E02D5C4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C67-68C5-4172-BAE9-481DE3E2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5D7-48FE-420B-A372-6693CD26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984-563E-491B-960E-81AD772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640-6BE9-4BEF-B37B-8DB9434B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1B8-6AC9-4039-8712-48E26CD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9A11-477F-4418-AF9B-5FE1721DB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Пользователь\Рабочий стол\презинтация\1 (1).jpg"/>
          <p:cNvPicPr/>
          <p:nvPr/>
        </p:nvPicPr>
        <p:blipFill>
          <a:blip r:embed="rId1"/>
          <a:stretch/>
        </p:blipFill>
        <p:spPr>
          <a:xfrm>
            <a:off x="-826920" y="-351000"/>
            <a:ext cx="10799640" cy="7560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324000" y="0"/>
            <a:ext cx="842472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                                                       «Центр развития ребёнка – Детский сад № 41»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Monotype Corsiva"/>
              </a:rPr>
              <a:t>ПОДВИЖНЫЕ ИГРЫ НАРОДОВ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0253f"/>
                </a:solidFill>
                <a:latin typeface="Monotype Corsiva"/>
              </a:rPr>
              <a:t>ЮЖНОГО УРА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59280" y="454968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тор по физической культуре МКДОУ «ЦРР-Д/С №41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пешко Зо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тка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Пользователь\Рабочий стол\презинтация\1 (1).jpg"/>
          <p:cNvPicPr/>
          <p:nvPr/>
        </p:nvPicPr>
        <p:blipFill>
          <a:blip r:embed="rId2"/>
          <a:stretch/>
        </p:blipFill>
        <p:spPr>
          <a:xfrm>
            <a:off x="-826920" y="-351000"/>
            <a:ext cx="10799640" cy="756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0" y="549360"/>
            <a:ext cx="96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TextBox 12"/>
          <p:cNvGrpSpPr/>
          <p:nvPr/>
        </p:nvGrpSpPr>
        <p:grpSpPr>
          <a:xfrm>
            <a:off x="-85680" y="390600"/>
            <a:ext cx="9064440" cy="6885000"/>
            <a:chOff x="-85680" y="390600"/>
            <a:chExt cx="9064440" cy="6885000"/>
          </a:xfrm>
        </p:grpSpPr>
        <p:pic>
          <p:nvPicPr>
            <p:cNvPr id="80" name="TextBox 12" descr=""/>
            <p:cNvPicPr/>
            <p:nvPr/>
          </p:nvPicPr>
          <p:blipFill>
            <a:blip r:embed="rId3"/>
            <a:stretch/>
          </p:blipFill>
          <p:spPr>
            <a:xfrm>
              <a:off x="-85680" y="390600"/>
              <a:ext cx="9064440" cy="53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0" y="476280"/>
              <a:ext cx="8893080" cy="67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Monotype Corsiva"/>
                </a:rPr>
                <a:t>Татарские народные игр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«Земля, вода, огонь, воздух»</a:t>
              </a: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 Играющие собираются в круг, в середине - ведущий. Он бросает мяч кому-нибудь, произнося одно из 4-х слов (Земля, вода, огонь, воздух). Если «земля»- то, кто поймал мяч должен быстро назвать какое-либо животное, «вода» - рыбу, «воздух</a:t>
              </a:r>
              <a:r>
                <a:rPr b="0" lang="ru-RU" sz="4400" spc="-1" strike="noStrike">
                  <a:solidFill>
                    <a:srgbClr val="000000"/>
                  </a:solidFill>
                  <a:latin typeface="Monotype Corsiva"/>
                </a:rPr>
                <a:t>» </a:t>
              </a: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-птицу, «огонь»-машут руками. Все поворачиваются кругом. Кто ошибся – выбывает из игры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Пользователь\Рабочий стол\презинтация\1 (1).jpg"/>
          <p:cNvPicPr/>
          <p:nvPr/>
        </p:nvPicPr>
        <p:blipFill>
          <a:blip r:embed="rId2"/>
          <a:stretch/>
        </p:blipFill>
        <p:spPr>
          <a:xfrm>
            <a:off x="-826920" y="-351000"/>
            <a:ext cx="10799640" cy="7560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755640" y="1125360"/>
            <a:ext cx="30956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extBox 6"/>
          <p:cNvGrpSpPr/>
          <p:nvPr/>
        </p:nvGrpSpPr>
        <p:grpSpPr>
          <a:xfrm>
            <a:off x="-317520" y="414360"/>
            <a:ext cx="9594720" cy="7542720"/>
            <a:chOff x="-317520" y="414360"/>
            <a:chExt cx="9594720" cy="7542720"/>
          </a:xfrm>
        </p:grpSpPr>
        <p:pic>
          <p:nvPicPr>
            <p:cNvPr id="87" name="TextBox 6" descr=""/>
            <p:cNvPicPr/>
            <p:nvPr/>
          </p:nvPicPr>
          <p:blipFill>
            <a:blip r:embed="rId3"/>
            <a:stretch/>
          </p:blipFill>
          <p:spPr>
            <a:xfrm>
              <a:off x="-317520" y="414360"/>
              <a:ext cx="959472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181080" y="549360"/>
              <a:ext cx="932508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Monotype Corsiva"/>
                </a:rPr>
                <a:t>Башкирские народные игр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Monotype Corsiva"/>
                </a:rPr>
                <a:t>«Липкие пеньки»</a:t>
              </a:r>
              <a:r>
                <a:rPr b="0" lang="ru-RU" sz="4000" spc="-1" strike="noStrike">
                  <a:solidFill>
                    <a:srgbClr val="000000"/>
                  </a:solidFill>
                  <a:latin typeface="Monotype Corsiva"/>
                </a:rPr>
                <a:t> Три-четыре игрока садятся на корточки как можно дальше друг от друга. Они изображают липкие пеньки. Остальные играющие бегают по площадке, стараясь не подходить близко к пенькам. Пенёчки должны постараться коснуться пробегающих мимо детей. Осаленные становятся пеньками. Пеньки не должны вставать с места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«Липкие пеньки»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башкирская народная иг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133880" cy="310212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5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1356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Ручеёк»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ая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род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https://cs3.livemaster.ru/zhurnalfoto/8/9/e/150916072942.jpeg"/>
          <p:cNvPicPr/>
          <p:nvPr/>
        </p:nvPicPr>
        <p:blipFill>
          <a:blip r:embed="rId2"/>
          <a:stretch/>
        </p:blipFill>
        <p:spPr>
          <a:xfrm>
            <a:off x="457200" y="1357200"/>
            <a:ext cx="8258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Ручеёк»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ая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род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5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Юрта»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татарская народ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https://fs00.infourok.ru/images/doc/45/56788/hello_html_6aa97bd2.png"/>
          <p:cNvPicPr/>
          <p:nvPr/>
        </p:nvPicPr>
        <p:blipFill>
          <a:blip r:embed="rId2"/>
          <a:stretch/>
        </p:blipFill>
        <p:spPr>
          <a:xfrm>
            <a:off x="671400" y="1214280"/>
            <a:ext cx="80438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Юрта»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татарская народ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5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Стрелок»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ашкирская народ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5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 Иголка и нитка»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ашкирск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09" name="Объект 5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Колечко»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сская народная игр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ущий берет в руки кольцо. Все остальные участники садятся на лавку, складывают ладошки лодочкой и кладут на колени. Ведущий обходит детей и каждому вкладывает в ладошки свои ладони, при этом он приговарив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 по горенке иду, колечко несу! Угадайте- ка, ребята, где золото упало?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му из игроков ведущий незаметно кладет в руки кольцо. Потом отходит на несколько шагов от лавки и произносит нараспев сло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лечко, колечк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йди на крылеч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то с крылечка сойд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т колечко найд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 игрока, у которого в руках колечко – вскочить с лавки и убежать, а дети, сидящие рядом, должны догадаться, у кого оно спрятано, и постараться придерживая руками, не пустить этого игрока. Если игроку с кольцом не удается убежать, он возвращает кольцо ведущему. А если сумеет убежать, то становится новым ведущим и продолжает иг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5" descr="270120162027.jpg"/>
          <p:cNvPicPr/>
          <p:nvPr/>
        </p:nvPicPr>
        <p:blipFill>
          <a:blip r:embed="rId1"/>
          <a:stretch/>
        </p:blipFill>
        <p:spPr>
          <a:xfrm>
            <a:off x="5796000" y="2781360"/>
            <a:ext cx="385272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Пользователь\Рабочий стол\презинтация\1 (1).jpg"/>
          <p:cNvPicPr/>
          <p:nvPr/>
        </p:nvPicPr>
        <p:blipFill>
          <a:blip r:embed="rId2"/>
          <a:stretch/>
        </p:blipFill>
        <p:spPr>
          <a:xfrm>
            <a:off x="-826920" y="-351000"/>
            <a:ext cx="10799640" cy="756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611280" y="18900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ародные  подвиж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игры – незаменимое средство развития познавательных, физических и творческих способносте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Подкиды»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сская народная иг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играющих берет в руки мяч и напева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ля, Коля, дуб зеле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ндыш белый, зайка сер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ро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 словом «Брось!» сильно подбрасывает мяч вверх. Кто из игроков первым на лету его подхватит, тот поет тот же игровой припев и подбрасывает мя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Народные подвижные игры в комплексе с другими воспитательными средствами представляют собой основу начального этапа формирования гармонически развитой личности, сочетающей в себе духовное богатство, моральную чистоту и физическое совершен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User\Desktop\презинтация\Новая папка\1 (1).jpg"/>
          <p:cNvPicPr/>
          <p:nvPr/>
        </p:nvPicPr>
        <p:blipFill>
          <a:blip r:embed="rId3"/>
          <a:stretch/>
        </p:blipFill>
        <p:spPr>
          <a:xfrm>
            <a:off x="-785880" y="0"/>
            <a:ext cx="1080000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692360" y="242100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пасибо  за     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Пользователь\Рабочий стол\презинтация\1 (1).jpg"/>
          <p:cNvPicPr/>
          <p:nvPr/>
        </p:nvPicPr>
        <p:blipFill>
          <a:blip r:embed="rId2"/>
          <a:stretch/>
        </p:blipFill>
        <p:spPr>
          <a:xfrm>
            <a:off x="-826920" y="-351000"/>
            <a:ext cx="10799640" cy="7560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042920" y="1413000"/>
            <a:ext cx="71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Цел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Формирование у детей интереса 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стокам националь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льтуры чере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родные подвижны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Пользователь\Рабочий стол\презинтация\1 (1).jpg"/>
          <p:cNvPicPr/>
          <p:nvPr/>
        </p:nvPicPr>
        <p:blipFill>
          <a:blip r:embed="rId2"/>
          <a:stretch/>
        </p:blipFill>
        <p:spPr>
          <a:xfrm>
            <a:off x="-826920" y="-351000"/>
            <a:ext cx="10799640" cy="7560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258920" y="1125360"/>
            <a:ext cx="655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Зада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ширять представления о традициях и обычаях  русского ,башкирского и татарского нар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звивать физические качества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спитывать волевые, нравственные, патриотические качества личности дошкольн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звивать творческие спосо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стема мероприятий по реализации поставленных зада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. Изучение специальной литератур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. Подборка подвижных игр народов Южного Урала, атрибутики и музыкального и художественного сопровождения с привлечением родителей и воспита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3. Знакомство детей с правилами и особенностями игры, знакомство с новыми словами (юрта, тюбетейка, изба и т.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. Консультирование родителей и педагог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Беседы с детьми « В какие игры играли наши бабушки и дедушки?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Рисование на тему « Моя любимая подвижная игр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Опрос детей по теме « Народные игры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бота с родителями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63700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 в родительских угол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 на родительских собра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ые занятия и физкультурные досу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анкетирование по теме  «Подвижные игры народов Южного Ур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онсультации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slide_1 (1).jpg"/>
          <p:cNvPicPr/>
          <p:nvPr/>
        </p:nvPicPr>
        <p:blipFill>
          <a:blip r:embed="rId1"/>
          <a:stretch/>
        </p:blipFill>
        <p:spPr>
          <a:xfrm>
            <a:off x="250920" y="1125360"/>
            <a:ext cx="2987640" cy="4143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9l3psmdnv15dt96p7rs37ke7gc2drm.jpg"/>
          <p:cNvPicPr/>
          <p:nvPr/>
        </p:nvPicPr>
        <p:blipFill>
          <a:blip r:embed="rId2"/>
          <a:stretch/>
        </p:blipFill>
        <p:spPr>
          <a:xfrm>
            <a:off x="2050920" y="2205000"/>
            <a:ext cx="2849760" cy="39211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7" descr="bezimeni-2.jpg"/>
          <p:cNvPicPr/>
          <p:nvPr/>
        </p:nvPicPr>
        <p:blipFill>
          <a:blip r:embed="rId3"/>
          <a:stretch/>
        </p:blipFill>
        <p:spPr>
          <a:xfrm>
            <a:off x="4500720" y="1125360"/>
            <a:ext cx="2786040" cy="410400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5" descr="incora64_1.jpg"/>
          <p:cNvPicPr/>
          <p:nvPr/>
        </p:nvPicPr>
        <p:blipFill>
          <a:blip r:embed="rId4"/>
          <a:stretch/>
        </p:blipFill>
        <p:spPr>
          <a:xfrm>
            <a:off x="6156360" y="2678040"/>
            <a:ext cx="26416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slide_1.jpg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veta</dc:creator>
  <dc:description/>
  <dc:language>en-US</dc:language>
  <cp:lastModifiedBy>Sveta</cp:lastModifiedBy>
  <dcterms:modified xsi:type="dcterms:W3CDTF">2022-04-08T05:57:53Z</dcterms:modified>
  <cp:revision>60</cp:revision>
  <dc:subject/>
  <dc:title>Слайд 1</dc:title>
</cp:coreProperties>
</file>