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0C2-65E2-4695-9C58-26B6DC43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1B9-20AF-42BE-AA7D-7DE4FD6E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739-9783-4359-A405-9E4D82E0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964-7268-4A6B-9667-05F0E36C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B85-423E-45B7-BF04-3A16EA29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FDF-4E97-44EE-8573-A9FF0F19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E0B-7928-46D5-8A16-A93BF2D9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ECA-D978-43EC-861A-B257694A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168-7663-4C46-864D-6C1B2D92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2A9-90BE-4869-87DF-FC118760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D5E-67DE-4C43-A7FA-20FC1C06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B84-21A0-46ED-AEF6-673A1B9F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80FE-9B00-4E91-971B-CB379C97CA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плоскостопия у детей раннего воз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35640" y="4723920"/>
            <a:ext cx="3449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тор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пешк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оя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и физического развития малыш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6002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раннем возрасте у детей еще не разви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я и точность движе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о равновес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вкость, ориентировка в пространств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движения (ходьба, бег, прыжки, метани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ение и показ дви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Sveta\Desktop\зв\IMG-20200324-WA0061.jpg"/>
          <p:cNvPicPr/>
          <p:nvPr/>
        </p:nvPicPr>
        <p:blipFill>
          <a:blip r:embed="rId1"/>
          <a:stretch/>
        </p:blipFill>
        <p:spPr>
          <a:xfrm>
            <a:off x="2340000" y="712800"/>
            <a:ext cx="43052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1454400"/>
                <a:gridCol w="3951000"/>
                <a:gridCol w="1778040"/>
                <a:gridCol w="1602000"/>
              </a:tblGrid>
              <a:tr h="633744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неделя. «Женский ден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неделя. «Посу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неделя. «Мебе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неделя. «Весна шагает по планет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бегу между двумя шнурами, сохраняя равновес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жнять в ползании через тоннель на четвереньках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ению в медленном темпе. Приучать действовать сообща, передвигаться с опорой на зрительные ориенти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ходьбе и бегу в пар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ходьбе по дорожке, перешагивая через предметы (высота 10 сантиметров), сохраняя равновес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жнять в  беге между двумя шнурами. Развивать ориентировку в пространстве. Формировать правильную осан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бросать мешочек в корзину  правой, левой рукой снизу (расстояние 70 сантиметров). Упражнять ходьбе и бегу в парах. Упражнять в ходьбе по дорожке, перешагивая через предметы (высота 15 сантиметров), сохраняя равновес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кружению в парах в медленном темпе (вправо, влево). Упражнять бросать мешочек в корзину  правой, левой рукой снизу (расстояние 70 сантиметров);  в ходьбе по массажёрам, коврикам, ребристым доскам. Формировать ориентировку в пространстве, умение сохранять устойчивое положение т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лекс №3 ОРУ (без предме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лекс №3 ОРУ (без предме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лекс №4 ОРУ (с мячо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лекс №4 ОРУ (с мячо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Затейн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Огуреч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Баба Яг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ишка буры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тички и птенч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Трамва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Лохматый пё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ыльные пузыр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оез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Бегите к флажк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ой весёлый, звонкий мяч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ак на горке сне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о ровненькой дорожке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Огуреч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олпач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Через ручеё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с мяч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Sveta\Desktop\зв\IMG-20200324-WA0011.jpg"/>
          <p:cNvPicPr/>
          <p:nvPr/>
        </p:nvPicPr>
        <p:blipFill>
          <a:blip r:embed="rId1"/>
          <a:stretch/>
        </p:blipFill>
        <p:spPr>
          <a:xfrm>
            <a:off x="468360" y="105264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Sveta\Desktop\зв\IMG-20200324-WA0052.jpg"/>
          <p:cNvPicPr/>
          <p:nvPr/>
        </p:nvPicPr>
        <p:blipFill>
          <a:blip r:embed="rId2"/>
          <a:stretch/>
        </p:blipFill>
        <p:spPr>
          <a:xfrm>
            <a:off x="4427640" y="2997360"/>
            <a:ext cx="4500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овые задания с обруч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324036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ижные иг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Users\Sveta\Desktop\зв\IMG-20200324-WA0048.jpg"/>
          <p:cNvPicPr/>
          <p:nvPr/>
        </p:nvPicPr>
        <p:blipFill>
          <a:blip r:embed="rId1"/>
          <a:stretch/>
        </p:blipFill>
        <p:spPr>
          <a:xfrm>
            <a:off x="622440" y="84456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Sveta\Desktop\зв\IMG-20200324-WA0039.jpg"/>
          <p:cNvPicPr/>
          <p:nvPr/>
        </p:nvPicPr>
        <p:blipFill>
          <a:blip r:embed="rId2"/>
          <a:stretch/>
        </p:blipFill>
        <p:spPr>
          <a:xfrm>
            <a:off x="2916360" y="3789360"/>
            <a:ext cx="3706560" cy="278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Sveta\Desktop\зв\IMG-20200324-WA0041.jpg"/>
          <p:cNvPicPr/>
          <p:nvPr/>
        </p:nvPicPr>
        <p:blipFill>
          <a:blip r:embed="rId3"/>
          <a:stretch/>
        </p:blipFill>
        <p:spPr>
          <a:xfrm>
            <a:off x="5003640" y="83664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ТРОПА ЗДОРОВЬ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Sveta\Desktop\зв\IMG-20200324-WA0023.jpg"/>
          <p:cNvPicPr/>
          <p:nvPr/>
        </p:nvPicPr>
        <p:blipFill>
          <a:blip r:embed="rId1"/>
          <a:stretch/>
        </p:blipFill>
        <p:spPr>
          <a:xfrm>
            <a:off x="684360" y="90792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Sveta\Desktop\зв\IMG-20200324-WA0031.jpg"/>
          <p:cNvPicPr/>
          <p:nvPr/>
        </p:nvPicPr>
        <p:blipFill>
          <a:blip r:embed="rId2"/>
          <a:stretch/>
        </p:blipFill>
        <p:spPr>
          <a:xfrm>
            <a:off x="4932360" y="9079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Sveta\Desktop\зв\IMG-20200324-WA0022.jpg"/>
          <p:cNvPicPr/>
          <p:nvPr/>
        </p:nvPicPr>
        <p:blipFill>
          <a:blip r:embed="rId3"/>
          <a:stretch/>
        </p:blipFill>
        <p:spPr>
          <a:xfrm>
            <a:off x="2987640" y="3860640"/>
            <a:ext cx="36241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У с кубик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Sveta\Desktop\зв\IMG-20200324-WA0005.jpg"/>
          <p:cNvPicPr/>
          <p:nvPr/>
        </p:nvPicPr>
        <p:blipFill>
          <a:blip r:embed="rId1"/>
          <a:stretch/>
        </p:blipFill>
        <p:spPr>
          <a:xfrm>
            <a:off x="395280" y="1171440"/>
            <a:ext cx="3816360" cy="5089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Sveta\Desktop\зв\IMG-20200324-WA0065.jpg"/>
          <p:cNvPicPr/>
          <p:nvPr/>
        </p:nvPicPr>
        <p:blipFill>
          <a:blip r:embed="rId2"/>
          <a:stretch/>
        </p:blipFill>
        <p:spPr>
          <a:xfrm>
            <a:off x="4986360" y="1176480"/>
            <a:ext cx="379584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лакс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" descr="C:\Users\Sveta\Desktop\зв\IMG-20200325-WA0007.jpg"/>
          <p:cNvPicPr/>
          <p:nvPr/>
        </p:nvPicPr>
        <p:blipFill>
          <a:blip r:embed="rId1"/>
          <a:stretch/>
        </p:blipFill>
        <p:spPr>
          <a:xfrm>
            <a:off x="900000" y="1035000"/>
            <a:ext cx="742788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ультации в родительском уг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Картинки по запросу &quot;консультация для родителей физкультурный уголок&quot;"/>
          <p:cNvPicPr/>
          <p:nvPr/>
        </p:nvPicPr>
        <p:blipFill>
          <a:blip r:embed="rId1"/>
          <a:stretch/>
        </p:blipFill>
        <p:spPr>
          <a:xfrm>
            <a:off x="468360" y="1125360"/>
            <a:ext cx="3122640" cy="441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Картинки по запросу &quot;консультация для родителей физкультурный уголок&quot;"/>
          <p:cNvPicPr/>
          <p:nvPr/>
        </p:nvPicPr>
        <p:blipFill>
          <a:blip r:embed="rId2"/>
          <a:stretch/>
        </p:blipFill>
        <p:spPr>
          <a:xfrm>
            <a:off x="3851280" y="2276640"/>
            <a:ext cx="46594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блема плоскостопия у детей всегда была насущной и актуальной Здоровье стоп – это здоровье всего орган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евременная профилактическая работа в этом направлении позволит избежать существующих проблем и скорректировать уже имеющие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s://sun9-68.userapi.com/_a7ttbQEb2U1G0ODBxqUBN5Y7fUQeKc2UfqolQ/bK8HF1p8Lqk.jpg"/>
          <p:cNvPicPr/>
          <p:nvPr/>
        </p:nvPicPr>
        <p:blipFill>
          <a:blip r:embed="rId1"/>
          <a:stretch/>
        </p:blipFill>
        <p:spPr>
          <a:xfrm>
            <a:off x="324000" y="836640"/>
            <a:ext cx="8640720" cy="5805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культурный уголок в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ение физ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вает движения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рганизует поведение детей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особствует развитию подвижности и ловкост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особствует налаживанию положительных взаимоотношений между детьми и взрослым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рабатывает выдержку, смелость, умение преодолевать препятствия, действовать согласованно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особствует умственному развитию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особствует развитию реч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лаготворно воздействует на нервную систему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крепляет здоровье малыш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хранение и укрепление здоровья детей, формирование у детей практических навыков по профилактике плоскостопия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Изучить   учебно-методическую литературу по теме «Профилактика плоскостопие у детей дошкольного возрас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анализировать и подобрать физические упражнения по профилактике плоскостопия для детей раннего дошкольного возрас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вить интерес к выполнению упражнений , воспитывая желание быть здоров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глублять представления родителей  о  профилактических мероприятий по плоскостопи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жидаемый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я детей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овышение уровня физической подготовленности,  укрепление мышц стопы и голени но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я родителей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овышение родительской компетентности по вопросам здоровьесбережения, а также сформированное желание и интерес к проведению профилактики самостоя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бота с родителя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сультации для родителей: «Профилактика плоскостопия у ребенка», «Как правильно выбрать ребенку обувь?», «Пальчиковая зарядка для ног» , «Ходьба босиком, польза хождения босиком», «Массаж ног- эффективный вид закаливания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клет: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 «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омендации для родителей по использованию и изготовлению  нестандартного оборудования для профилактики плоскостопия»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с удовольствием выполняют физические упражнения. Сформированы умения и навыки правильного выполнения движений. Дети могут самостоятельно заниматься профилактикой в домашних условия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родитель хочет видеть своих детей здоровыми, сильными, жизнерадостными, стройными, красивыми и счастливыми. Вырастить здоровых, красиво сложенных детей - задача каждой семьи. А начинать нужно с профилактики заболеваний. Помните! Легче предупредить заболевание, чем его леч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нний возраст  -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иод  интенсивного физического развития детей 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ирования функциональных систем детского организма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6:54:42Z</dcterms:created>
  <dc:creator>Sveta</dc:creator>
  <dc:description/>
  <dc:language>en-US</dc:language>
  <cp:lastModifiedBy>Sveta</cp:lastModifiedBy>
  <dcterms:modified xsi:type="dcterms:W3CDTF">2022-04-08T06:57:11Z</dcterms:modified>
  <cp:revision>23</cp:revision>
  <dc:subject/>
  <dc:title>Слайд 1</dc:title>
</cp:coreProperties>
</file>