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C3E-2EAF-4358-9EAF-8013C910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F4A-E464-413E-AE04-FE8C79AF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591-E937-4D07-A37B-C337FF6A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C33-409E-4A5A-9547-DD8F8A7A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AF0-AB47-47C7-A68E-57FB7D9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598-97CA-437A-9569-453E3292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8B9-4B3F-45DE-9B1E-E14C1628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509-7A1D-4AFA-99FD-0DBF3CBD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80C-A21C-4651-AFFD-C87A8E8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1B8-6BAD-49A2-B8CA-82C89F0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F4D-1C19-4C05-A2D5-6670324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C07-C10C-456F-B68D-B6862115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95C-A209-4605-9485-598632127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плоскостопия у детей ранне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723920"/>
            <a:ext cx="3449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еш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физического развития малы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ннем возрасте у детей еще не разви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и точность движе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ость, ориентировка в пространст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движения (ходьба, бег, прыжки, метани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и показ дви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Sveta\Desktop\зв\IMG-20200324-WA0061.jpg"/>
          <p:cNvPicPr/>
          <p:nvPr/>
        </p:nvPicPr>
        <p:blipFill>
          <a:blip r:embed="rId1"/>
          <a:stretch/>
        </p:blipFill>
        <p:spPr>
          <a:xfrm>
            <a:off x="2340000" y="712800"/>
            <a:ext cx="4305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1454400"/>
                <a:gridCol w="3951000"/>
                <a:gridCol w="1778040"/>
                <a:gridCol w="1602000"/>
              </a:tblGrid>
              <a:tr h="63374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. «Женский д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я. «Посу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неделя. «Меб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неделя. «Весна шагает по плане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бегу между двумя шнурами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ять в ползании через тоннель на четвереньках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ению в медленном темпе. Приучать действовать сообща, передвигаться с опорой на зрительные ориенти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ходьбе и бегу в па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ходьбе по дорожке, перешагивая через предметы (высота 10 сантиметров)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ять в  беге между двумя шнурами. Развивать ориентировку в пространстве. Формировать правильную осан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бросать мешочек в корзину  правой, левой рукой снизу (расстояние 70 сантиметров). Упражнять ходьбе и бегу в парах. Упражнять в ходьбе по дорожке, перешагивая через предметы (высота 15 сантиметров)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кружению в парах в медленном темпе (вправо, влево). Упражнять бросать мешочек в корзину  правой, левой рукой снизу (расстояние 70 сантиметров);  в ходьбе по массажёрам, коврикам, ребристым доскам. Формировать ориентировку в пространстве, умение сохранять устойчивое положение т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3 ОРУ (без предме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3 ОРУ (без предме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4 ОРУ (с мяч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4 ОРУ (с мяч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атей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гуреч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Баба Я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ишка буры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тички и птенч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Трамва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охматый пё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ыльные пузы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оез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Бегите к флажк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ой весёлый, звонкий мяч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ак на горке сне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о ровненькой дорож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гуреч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олпа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Через ручеё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Sveta\Desktop\зв\IMG-20200324-WA0011.jpg"/>
          <p:cNvPicPr/>
          <p:nvPr/>
        </p:nvPicPr>
        <p:blipFill>
          <a:blip r:embed="rId1"/>
          <a:stretch/>
        </p:blipFill>
        <p:spPr>
          <a:xfrm>
            <a:off x="468360" y="105264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Sveta\Desktop\зв\IMG-20200324-WA0052.jpg"/>
          <p:cNvPicPr/>
          <p:nvPr/>
        </p:nvPicPr>
        <p:blipFill>
          <a:blip r:embed="rId2"/>
          <a:stretch/>
        </p:blipFill>
        <p:spPr>
          <a:xfrm>
            <a:off x="4427640" y="299736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овые задания с обруч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24036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ые иг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Sveta\Desktop\зв\IMG-20200324-WA0048.jpg"/>
          <p:cNvPicPr/>
          <p:nvPr/>
        </p:nvPicPr>
        <p:blipFill>
          <a:blip r:embed="rId1"/>
          <a:stretch/>
        </p:blipFill>
        <p:spPr>
          <a:xfrm>
            <a:off x="622440" y="84456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Sveta\Desktop\зв\IMG-20200324-WA0039.jpg"/>
          <p:cNvPicPr/>
          <p:nvPr/>
        </p:nvPicPr>
        <p:blipFill>
          <a:blip r:embed="rId2"/>
          <a:stretch/>
        </p:blipFill>
        <p:spPr>
          <a:xfrm>
            <a:off x="2916360" y="3789360"/>
            <a:ext cx="3706560" cy="278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Sveta\Desktop\зв\IMG-20200324-WA0041.jpg"/>
          <p:cNvPicPr/>
          <p:nvPr/>
        </p:nvPicPr>
        <p:blipFill>
          <a:blip r:embed="rId3"/>
          <a:stretch/>
        </p:blipFill>
        <p:spPr>
          <a:xfrm>
            <a:off x="5003640" y="836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РОПА ЗДОРОВ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veta\Desktop\зв\IMG-20200324-WA0023.jpg"/>
          <p:cNvPicPr/>
          <p:nvPr/>
        </p:nvPicPr>
        <p:blipFill>
          <a:blip r:embed="rId1"/>
          <a:stretch/>
        </p:blipFill>
        <p:spPr>
          <a:xfrm>
            <a:off x="684360" y="90792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veta\Desktop\зв\IMG-20200324-WA0031.jpg"/>
          <p:cNvPicPr/>
          <p:nvPr/>
        </p:nvPicPr>
        <p:blipFill>
          <a:blip r:embed="rId2"/>
          <a:stretch/>
        </p:blipFill>
        <p:spPr>
          <a:xfrm>
            <a:off x="4932360" y="9079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Sveta\Desktop\зв\IMG-20200324-WA0022.jpg"/>
          <p:cNvPicPr/>
          <p:nvPr/>
        </p:nvPicPr>
        <p:blipFill>
          <a:blip r:embed="rId3"/>
          <a:stretch/>
        </p:blipFill>
        <p:spPr>
          <a:xfrm>
            <a:off x="2987640" y="3860640"/>
            <a:ext cx="3624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У с куб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Sveta\Desktop\зв\IMG-20200324-WA0005.jpg"/>
          <p:cNvPicPr/>
          <p:nvPr/>
        </p:nvPicPr>
        <p:blipFill>
          <a:blip r:embed="rId1"/>
          <a:stretch/>
        </p:blipFill>
        <p:spPr>
          <a:xfrm>
            <a:off x="395280" y="1171440"/>
            <a:ext cx="3816360" cy="5089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Sveta\Desktop\зв\IMG-20200324-WA0065.jpg"/>
          <p:cNvPicPr/>
          <p:nvPr/>
        </p:nvPicPr>
        <p:blipFill>
          <a:blip r:embed="rId2"/>
          <a:stretch/>
        </p:blipFill>
        <p:spPr>
          <a:xfrm>
            <a:off x="4986360" y="1176480"/>
            <a:ext cx="379584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лакс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C:\Users\Sveta\Desktop\зв\IMG-20200325-WA0007.jpg"/>
          <p:cNvPicPr/>
          <p:nvPr/>
        </p:nvPicPr>
        <p:blipFill>
          <a:blip r:embed="rId1"/>
          <a:stretch/>
        </p:blipFill>
        <p:spPr>
          <a:xfrm>
            <a:off x="900000" y="1035000"/>
            <a:ext cx="74278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в родительском уг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и по запросу &quot;консультация для родителей физкультурный уголок&quot;"/>
          <p:cNvPicPr/>
          <p:nvPr/>
        </p:nvPicPr>
        <p:blipFill>
          <a:blip r:embed="rId1"/>
          <a:stretch/>
        </p:blipFill>
        <p:spPr>
          <a:xfrm>
            <a:off x="468360" y="1125360"/>
            <a:ext cx="3122640" cy="441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артинки по запросу &quot;консультация для родителей физкультурный уголок&quot;"/>
          <p:cNvPicPr/>
          <p:nvPr/>
        </p:nvPicPr>
        <p:blipFill>
          <a:blip r:embed="rId2"/>
          <a:stretch/>
        </p:blipFill>
        <p:spPr>
          <a:xfrm>
            <a:off x="3851280" y="2276640"/>
            <a:ext cx="4659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а плоскостопия у детей всегда была насущной и актуальной Здоровье стоп – это здоровье всего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временная профилактическая работа в этом направлении позволит избежать существующих проблем и скорректировать уже имеющие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sun9-68.userapi.com/_a7ttbQEb2U1G0ODBxqUBN5Y7fUQeKc2UfqolQ/bK8HF1p8Lqk.jpg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805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культурный уголок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физ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вает движения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ует поведение детей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развитию подвижности и ловкост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налаживанию положительных взаимоотношений между детьми и взрослым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рабатывает выдержку, смелость, умение преодолевать препятствия, действовать согласованно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умственному развитию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развитию реч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лаготворно воздействует на нервную систему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крепляет здоровье малыш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ение и укрепление здоровья детей, формирование у детей практических навыков по профилактике плоскостопия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Изучить   учебно-методическую литературу по теме «Профилактика плоскостопие у детей дошкольного возра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анализировать и подобрать физические упражнения по профилактике плоскостопия для детей раннего дошкольного возра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ить интерес к выполнению упражнений , воспитывая желание быть здоров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глублять представления родителей  о  профилактических мероприятий по плоскостоп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детей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вышение уровня физической подготовленности,  укрепление мышц стопы и голени н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родителей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вышение родительской компетентности по вопросам здоровьесбережения, а также сформированное желание и интерес к проведению профилактики 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бота с родител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ультации для родителей: «Профилактика плоскостопия у ребенка», «Как правильно выбрать ребенку обувь?», «Пальчиковая зарядка для ног» , «Ходьба босиком, польза хождения босиком», «Массаж ног- эффективный вид закаливания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клет: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«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омендации для родителей по использованию и изготовлению  нестандартного оборудования для профилактики плоскостопия»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с удовольствием выполняют физические упражнения. Сформированы умения и навыки правильного выполнения движений. Дети могут самостоятельно заниматься профилактикой в домашних услов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родитель хочет видеть своих детей здоровыми, сильными, жизнерадостными, стройными, красивыми и счастливыми. Вырастить здоровых, красиво сложенных детей - задача каждой семьи. А начинать нужно с профилактики заболеваний. Помните! Легче предупредить заболевание, чем его леч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нний возраст  -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иод  интенсивного физического развития детей 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я функциональных систем детского организм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6:54:42Z</dcterms:created>
  <dc:creator>Sveta</dc:creator>
  <dc:description/>
  <dc:language>en-US</dc:language>
  <cp:lastModifiedBy>Sveta</cp:lastModifiedBy>
  <dcterms:modified xsi:type="dcterms:W3CDTF">2022-04-08T06:57:11Z</dcterms:modified>
  <cp:revision>23</cp:revision>
  <dc:subject/>
  <dc:title>Слайд 1</dc:title>
</cp:coreProperties>
</file>