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9AF5-2CB6-4ACE-BED0-589F41703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3738-4E34-43E2-8EC0-79E6FEB1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C640DE-9A47-4456-BBD4-12023E2D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1C18BA-DBBB-4B24-B897-6AAC3525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75F26-AA22-49B3-B7F3-3F7D2759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E5D219-07B5-4E8D-B589-7483B02C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D20FB0-F9EE-440A-A383-6ACAE5C8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4DC3C-1389-476C-A78F-2D866685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AF1D8-FD60-4B4F-944C-D14962AD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63294-144B-4143-BC07-058D1EE1B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744EC-0CFA-449B-9E19-6031F0F64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3F901D-323C-48A2-A1E3-92C75C40A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32B7-5E8B-47AE-8CE9-CA2AA58B8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135A24-4E24-45D7-9097-5EC197EA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6A5698-7E8D-481D-9BA2-EC7A17C6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544083-F7C2-4448-821A-59D5E285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9BD739-CAF4-4706-B4E8-79E6C306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E60C0B-A9FA-45B0-8465-CBAE02D3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BE64E2-F28B-4793-82A6-39826F9F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6F29BD-7053-4784-85F5-05A7E01A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5879D6-FD8A-418E-95C3-B97A752F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60A3E5-9B53-4FD6-8175-779EE546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9DE15A-4F9B-4BF5-BDB4-104FAC1F0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2319-BD97-4482-B4FD-668DA34DB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EEFD73-8663-4C94-B75E-44E8FE8C9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25D3A-1C9A-45CD-8DFE-D2760CCA9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83E9D-38E2-4051-8063-DF0DA5D3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1B16C-0912-4551-A3B8-765C52C8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BCF89-45DD-4271-A8E9-9CB4CA61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E2C8D-DBF5-4C8C-BF3D-CC347B4E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09D95-AC3E-466F-8A6B-08EE0E96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EA764-96B0-4778-9AA5-CE5C27D1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BFF11-8F32-487C-BBF1-078AEFF2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F47EC7-A530-4046-80DD-8B38E84A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45D2E-6C1E-4299-921F-D3B8D4138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AC769-E113-4DCE-B889-5441D523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87064F-6545-4935-B8A2-FCF98187E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4AC5E-CD3E-48EB-807E-A10287524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4A8A5B-B02F-4A99-9615-E89075278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C5E39E-D374-4997-8B23-2E78B710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477EBA-4382-47EC-AB49-403D3F25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219CFD-53F1-4B84-ABEC-DB7CD7CC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F81274-1DDD-4818-83A3-31297224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85A98D-3394-4855-9225-7038C9EE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80B414-0D46-4A80-8543-E66079DA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027B-4B89-4C77-9C13-16909C76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D1B00B-F92D-4B1D-BF9A-D2C5CE07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B1AC45-DFCF-41D3-870C-4A776B6A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720EC2-4097-42D9-888C-A54AB477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E8FD6A-B22A-4EAC-8A54-0317204A2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2C9373-3865-4DBD-8555-C567830FB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3B0317-8024-426C-B475-E708CD139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563DD2-C1C2-4F6E-B0D4-36DA115D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C1DEEF-3672-4AFF-973D-36AE019C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0FCA7F-120F-4C58-95CF-A83C1BC7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1DF692-07A2-49F1-B4E5-1BA45A18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AF92-8274-4465-85EC-7AE6D7A6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280BEF-258C-48F4-8C14-80BEE8BB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8CBA16-9BE0-4A75-A211-F3F9E8A7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C0AE1C-5E2B-4AAC-8150-A8CFBDAA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7DA6B0-9702-4738-9617-6BBE3124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527BFE-AFE3-4AD9-B86B-44611E04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3368E8-009C-4642-A0D3-D753AFC22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6DDA16-8D64-40FF-875A-A6FB22419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70A248-22A5-4B1D-93BC-2E5CDFC35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0B2E2A-98E8-420B-AC51-F8CA0184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576E08-7CC9-47B9-B615-467231D5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F444-3F15-438B-9FFF-D3A24A2F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5483EC-43A2-406D-A99A-AB4B9C47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5C126B-E56E-4057-94AB-D14AC9AB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838753-4C02-4DBE-B4F7-111C8488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D96D16-2E78-43A9-AD7C-4C47B761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6DA920-B838-408D-B5F4-5A8C7CB0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AD7DB9-006A-4E78-A7FD-E2C8E59E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8DBF68-86A9-4ECA-9F5A-EDBFA522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B8C2CB-1358-4F6A-8417-902286F1D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CABD7A-ECD7-4A19-BF22-63EDB3344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F6B87C-9CF0-4E90-8DAC-6F0283E38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B3C8-1DCE-43A8-84F0-58451863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3E34D1-AF5F-4447-99B8-CECBF35F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25D50B-8BD5-4B6D-936D-C486F108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F1AB44-6E24-470A-8AAD-63CD43F3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A7742F-8D93-4EC5-9A06-B637A5F4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FA41DA-6288-43F3-8134-370DE888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FF8461-C37F-428E-8CE9-96549A62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755F9C-9E51-4BF1-B097-97509A66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B0FD8D-24CE-4FC3-AED6-494DBEEC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468544-375D-4CC0-8F39-53D93A8B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5CEDAB-C4EE-4D2E-AB7F-DAA340F3A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F3A8-AA63-40FB-BB70-45A6ADD1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622AFD-3D9D-4E6F-83CF-5E42D53D4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0147C8-D492-4D61-AC5C-FA0CD5054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2DD235-F108-4B21-BEFF-1D21CFF3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BE97CE-84C4-4004-82AA-B21AB389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DB8D21-216C-43B3-9C72-47DC7DD9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A046F2-4F34-46B0-A25D-FBE87D54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1C0AB5-E518-48F7-BC15-DA45954D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37FD38-EB45-49B9-A06F-504E482F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4418F6-D1FD-45DF-A1B7-B7680C43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18C49E-ED38-4C70-BDCE-7AAAD72E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EE85-A8CC-4CE0-9CC9-1BFF1A2D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BA5E5F-C4E9-407A-8BCF-28AB8C11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2D61CA-6AA5-4406-890B-710B71A74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702F81-A233-43E8-A0E4-FEAD569DC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FE8623-BE76-4B0D-89E9-B561A1FF4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3E69A5-E36C-4372-99CE-F4592010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22F081-B4E6-4A50-9738-E7EB63F6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FA7305-DA3C-4430-BDF8-6AEF6E94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6B6654-3FE5-4A51-9AC7-D2B16417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C80E58-CFAE-4FE8-98BD-0775AF7C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139812-98EE-43C6-BF61-781A1A40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D083-6C94-45AA-8A80-BEE77BE0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DCDD-B22D-42E3-AC33-DC04919A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21003E-EACE-4667-AE8A-1334FC4C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1B678D-D651-456C-999B-88638944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7AFAB2-3390-4748-9B77-FA01DB22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6472B8-2574-4038-85F9-96CA613C0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77ABE9-7818-4092-84CF-C6A234942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F9C6-7DE0-43D2-B379-1BF6C4F1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B04BA-60E6-4B6F-A555-4A7B1A23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3F7E-C07A-433F-84C9-6B7AF5EEC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622D-5AF4-4857-906D-E86B27D8A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1103E-0E67-46AA-97C2-65AFCDDAC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814A1-BD7E-409A-9085-671CAFA2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D280B-6C73-4AF2-8FC9-7E92FE86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3237C-8437-4A2A-9F50-D5385748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746D4-370D-414C-B192-C6FDBCCF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D473-A645-495A-AE52-8279F0FC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C699D-4336-492D-B0AF-85E5E38E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3C602-9F00-4C27-ABF5-B5FE80F5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22BE9-7246-4B01-887E-D6B9A200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10B21-0E9A-4365-BBF0-81C58675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A767C-2156-4394-A17C-A8845282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D6433-0856-4BAA-B573-CE5466231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EAACE-81F1-4004-9921-616FD2291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86D8F-60CE-48F3-A4B0-8EBD31B6C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0DA55-63EE-4B92-ADBD-6843144C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59752-DF53-410B-9348-AC9AC28A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593A-35F4-4D45-A693-26E28D5E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AA8B1-66F1-48BD-BC01-B318B4E7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AFF0F-AA24-4002-9A4E-203A25CC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22BE3-3461-47DF-8BEE-35684D21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EC9A8-A9DC-48B9-8F2A-C3BDF549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79752-198B-46FA-98F9-305F4767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F6DC0-2D37-4BD0-90D2-A1953EE2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5525D-EF81-47EC-9841-33DE5543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3701D-7BA9-4EEA-A240-26A2DCA4D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9AF53-28E5-4069-88DE-1BDBAED8C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09D57-6685-474B-8E11-F2EAB615E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3FC6-0CE8-4B43-9B84-D248C17B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D5DE3-A25B-4583-AA77-946E256B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C24A9-685C-439D-845A-581B9C26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12310-5F39-4ECF-8C14-BD354879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C8AC2-6FA0-4818-9360-CE533E5D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62079-EDD3-4882-B750-C9A6F600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0811A-353E-4F7F-8084-6BF0018F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B8328-0526-4B61-98C6-614A890B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8FD51-054D-495C-85EE-6090F256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9C25D-B367-43F4-9717-E2633944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63491-C382-45ED-9B14-4D5B49999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8248-6C2B-4B5C-B6E3-5C83004F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4926C-E359-47DB-8032-50F85AD8D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4904F-BE71-4EE2-AF4F-EDF0E6DB1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57872-F1DD-4F63-91B9-FA58C885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73E46-C78E-4B85-922D-26DEC0F2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60AD6-F434-458B-8897-6FB2A196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FDFC3-83EC-44BD-B50C-194D5C40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32AA7-7641-44F0-936C-3217509B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E6B4E-4DEE-4D85-907C-0A31CB4D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1FF6D-C934-4909-8CF6-A3525E78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F07BC-A4B0-4970-A649-8498E736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A9C2-DE8B-40CF-B399-58806DBB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CE9E6-07DC-4516-88CF-E8BB10FD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C60CC-4324-42AC-AFC4-135D41B84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5A68D-00F2-4476-B90D-84293C7F0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7BB63-F0A8-4F7A-9E81-4830CF562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FDD97-1260-4A11-89BD-BC3DB827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D95DA-C800-42C2-9939-991674E4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FCF23-C0D6-46F2-A89C-68215FFF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8663E-636E-45E6-AA08-726C7BA8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E9833-FCF5-4D78-A36B-999F4FDF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F65BC-EA59-499C-9667-D2FC9795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B749-AA45-4C8D-BB0C-0A104A0D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64949-409F-43C4-879F-85C6ADA3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E2D9D-C6A5-4528-9C55-9F28A944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6795E-ACF6-4B7B-A844-262F3C67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10397-8B16-4A8B-BAB2-9A20D571E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646F1-EF72-42BF-A14D-E1CF1FDF7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394FB-F6FF-4255-BB87-61BE7F3A2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B13B6-DD6D-4B6B-8AE9-E762B44D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972B5-1A58-49E5-B674-D84B32D1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A3995-4A73-445B-B485-3D98D56A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D4523-5F5A-429F-83C9-20C7E009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4C6D-DD0C-42F0-8B01-343B04B1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F384A-4723-4ABD-8946-3A7EA40B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CF610-1F3F-4274-B6C9-F935EFA2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BFE91-4069-4C09-9936-BE3D7F8B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26FD3-7FB2-4059-AE5C-EE7F875F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ED066-59F6-4972-971E-C182D2BC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BE1E9-F382-474B-BC4E-C3C642D03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E60E8-002E-4E66-9AFD-F03C003BF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07A19A-9766-4289-B61F-23B505838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74597C-9898-44ED-9CB1-92B97A8B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A0AF7-8E1B-4A37-884F-804B7F01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3C81-F34A-4C68-A969-06CC2C20B5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5AD1-40DB-40F4-87BE-E4893A4D4B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D7A3-18CE-4D66-9D5E-3D0C2F6C01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1E49-32AF-4121-9585-E4E8EFCF81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5ED0-4636-4DA2-88E0-FF4C9636C7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9AB4-202A-41B4-8D3B-CD6E63DC60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0CFA-B660-4ACF-91CC-703538CF5E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4277-6B9F-49E2-9FF4-D8CCBC997B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41F0-70F1-4CE5-BD91-640CA52ED3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FADC-C606-46BC-8856-DA8197A9708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76D5-6813-4DBD-99BF-DF519C92BA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7790-F483-46CD-99B6-8637981AFB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807E-B688-4D61-A40D-AE20C68FAE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176E-B15B-426A-BBA5-710FDEC848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178E-6CF1-43B7-BC2D-5DA7614DCA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2AAA-25B5-4BB2-B973-C94A6F832E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306E-33C8-49F0-9618-685188A86F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Palatino Linotype"/>
              </a:rPr>
              <a:t>Частица как часть реч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1403280" y="1700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ff0000"/>
              </a:solidFill>
              <a:latin typeface="Palatino Linotype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орфологический разбор частиц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Крепкую дружбу и</a:t>
            </a:r>
            <a:r>
              <a:rPr b="0" i="1" lang="ru-RU" sz="3200" spc="-1" strike="noStrike" baseline="30000">
                <a:solidFill>
                  <a:srgbClr val="ff0000"/>
                </a:solidFill>
                <a:latin typeface="Calibri"/>
              </a:rPr>
              <a:t>3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 топором не разрубиш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стный разб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— частиц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-первых, вносит дополнительное значение усиления: 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(в значении «даже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-вторых, смыслоразличительна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исьменный разб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— частиц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I. Доп. знач. усил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II. Смыс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Отрицательная частица Н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астица н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придаёт отрицательное значение всему предложению (стоит перед сказуемым) или отдельным его член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Не бывать этому. За лесом не большой, а маленький овра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Предложение получает положительный смысл, если в нём две частицы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одна из которых стоит перед глаголом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ч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(в одной из его форм), а вторая - перед неопределённой формой глагола: </a:t>
            </a: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Я 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не мог</a:t>
            </a: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 не поеха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трицательная частица НИ служит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 для выражения отрицания в предложениях без подлежащего (в этом случае частица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употребляется при существительном в родительном падеже), например: </a:t>
            </a: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Кругом ни деревца; Ни шагу назад!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 для усиления отрицания, которое выражено частицей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или словом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например: </a:t>
            </a: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Не слышно ни звука; Нет ни кустика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 для выражения утверждения после слов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то, что, как, куд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и т. п., например: </a:t>
            </a: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Кто ни взглянет на Машино рукоделие, всякий залюбуется; Куда ни поеду, всюду встречаю друз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 с существительными, прилагательными, наречиями на –о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3" name="Содержимое 3" descr=""/>
          <p:cNvPicPr/>
          <p:nvPr/>
        </p:nvPicPr>
        <p:blipFill>
          <a:blip r:embed="rId1"/>
          <a:stretch/>
        </p:blipFill>
        <p:spPr>
          <a:xfrm>
            <a:off x="590400" y="1487520"/>
            <a:ext cx="8272440" cy="4657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ме того, НЕ пишется раздельно со следующими прилагательными и наречиям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5" name="Содержимое 4" descr=""/>
          <p:cNvPicPr/>
          <p:nvPr/>
        </p:nvPicPr>
        <p:blipFill>
          <a:blip r:embed="rId1"/>
          <a:stretch/>
        </p:blipFill>
        <p:spPr>
          <a:xfrm>
            <a:off x="268200" y="1596960"/>
            <a:ext cx="8607600" cy="4535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чани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45720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краткими прилагательными, имеющими то же значение, что и полные, написание НЕ подчиняется тем же правилам, что и написание НЕ с полными прилагательны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Calibri"/>
              </a:rPr>
              <a:t>Капля невелика (мала), а камень разруша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Calibri"/>
              </a:rPr>
              <a:t>Кепка была не велика, а ма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сли прилагательные и наречия на –о, -е связаны противительным союзом но, то частица НЕ обычно пишется слитно: в этом случае нет прямого противопоставления признаков и они приписываются предмету или действию одновременно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Calibri"/>
              </a:rPr>
              <a:t>Отец купил недорогой, но красивый костюм (т.е. и недорогой (дешевый), и красивый костюм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ч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здельно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 пишется раздельно с числительны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Calibri"/>
              </a:rPr>
              <a:t>Не пять, не ше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 пишется раздельно с наречиями не на –о, -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Calibri"/>
              </a:rPr>
              <a:t>Не всегда, не ту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наречиями, которые употребляются только в качестве сказуемого в безличных предложения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Calibri"/>
              </a:rPr>
              <a:t>не надо, не жаль, не п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571640" y="1125000"/>
            <a:ext cx="404172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лит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пишется слитно с отрицательными наречиями, образованными от вопросительных нареч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Calibri"/>
              </a:rPr>
              <a:t>Незачем, некуд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 с причасти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5" name="Содержимое 3" descr=""/>
          <p:cNvPicPr/>
          <p:nvPr/>
        </p:nvPicPr>
        <p:blipFill>
          <a:blip r:embed="rId1"/>
          <a:stretch/>
        </p:blipFill>
        <p:spPr>
          <a:xfrm>
            <a:off x="281160" y="1500120"/>
            <a:ext cx="8581680" cy="4645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Е с глаголами и деепричастиям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7" name="Содержимое 3" descr=""/>
          <p:cNvPicPr/>
          <p:nvPr/>
        </p:nvPicPr>
        <p:blipFill>
          <a:blip r:embed="rId1"/>
          <a:stretch/>
        </p:blipFill>
        <p:spPr>
          <a:xfrm>
            <a:off x="281160" y="1536840"/>
            <a:ext cx="8581680" cy="4601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 с местоимениям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9" name="Содержимое 3" descr=""/>
          <p:cNvPicPr/>
          <p:nvPr/>
        </p:nvPicPr>
        <p:blipFill>
          <a:blip r:embed="rId1"/>
          <a:stretch/>
        </p:blipFill>
        <p:spPr>
          <a:xfrm>
            <a:off x="281160" y="1584360"/>
            <a:ext cx="8581680" cy="45482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f0"/>
                </a:solidFill>
                <a:latin typeface="Cambria"/>
              </a:rPr>
              <a:t>Цель уроков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Познакомить учащихся с частицей как частью реч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Palatino Linotype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Не раз = много ра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Ни разу = никог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Как ни в чем не быва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Во что бы то ни ста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Palatino Linotype"/>
              </a:rPr>
              <a:t>Мне не раз приходилось наблюдать за закат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Palatino Linotype"/>
              </a:rPr>
              <a:t>Мне ни разу не посчастливилось увидеть розового фламин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Palatino Linotype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alatino Linotype"/>
              </a:rPr>
              <a:t>Не один = мн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alatino Linotype"/>
              </a:rPr>
              <a:t>Ни один = никт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Palatino Linotype"/>
              </a:rPr>
              <a:t>Не один раз он выручал свою команд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Palatino Linotype"/>
              </a:rPr>
              <a:t>Ни один из них не пропустил интересный матч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Palatino Linotype"/>
              </a:rPr>
              <a:t>Не что иное, как…, не кто иной, как…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Palatino Linotype"/>
              </a:rPr>
              <a:t>никто иной не …, ничто иное …н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457200" y="1600200"/>
          <a:ext cx="8229600" cy="4584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Не что иное, ка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Не кто иной, ка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Ничто иное н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Никто иной н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1. Сказуемое в предложении утвердительное. </a:t>
                      </a:r>
                      <a:r>
                        <a:rPr b="1" i="1" lang="ru-RU" sz="2000" spc="-1" strike="noStrike">
                          <a:solidFill>
                            <a:srgbClr val="ff0000"/>
                          </a:solidFill>
                          <a:latin typeface="Palatino Linotype"/>
                        </a:rPr>
                        <a:t>Не кто иной, как Попов, изобрел ради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1. Сказуемое в предложении  отрицательное. </a:t>
                      </a:r>
                      <a:r>
                        <a:rPr b="1" i="1" lang="ru-RU" sz="2000" spc="-1" strike="noStrike">
                          <a:solidFill>
                            <a:srgbClr val="ff0000"/>
                          </a:solidFill>
                          <a:latin typeface="Palatino Linotype"/>
                        </a:rPr>
                        <a:t>Никто иной не мог сделать это так умел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2. Есть союз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как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2. Нет союза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как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3. Сочетание не является членом предлож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3. Сочетание  является членом предлож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6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4. Возможна замена сочетания  частицами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только, именн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4. Замена невозмож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трольные вопрос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250920" y="1413000"/>
            <a:ext cx="8642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Что такое частица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Назовите разряды частиц. Чем по значению они отличаются друг от друга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Приведите примеры смыслоразличительных частиц и расскажите, для чего они служат в предложени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Когда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является отрицательной частицей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Какие частицы пишутся раздельно, через дефис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 Когда пишется отрицательная частица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а когда —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mbria"/>
              </a:rPr>
              <a:t>Сравните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28440">
            <a:solidFill>
              <a:srgbClr val="953735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b0f0"/>
                </a:solidFill>
                <a:latin typeface="Cambria"/>
              </a:rPr>
              <a:t>Сегодня к нам приедут артист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28440">
            <a:solidFill>
              <a:srgbClr val="953735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b0f0"/>
                </a:solidFill>
                <a:latin typeface="Cambria"/>
              </a:rPr>
              <a:t>Разве сегодня к нам приедут артист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Частица – эт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mbria"/>
              </a:rPr>
              <a:t>служебная часть речи, которая вносит различные оттенки значения в предложение или служит для образования форм слов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Palatino Linotype"/>
              </a:rPr>
              <a:t>Разряды части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Содержимое 3" descr=""/>
          <p:cNvPicPr/>
          <p:nvPr/>
        </p:nvPicPr>
        <p:blipFill>
          <a:blip r:embed="rId1"/>
          <a:stretch/>
        </p:blipFill>
        <p:spPr>
          <a:xfrm>
            <a:off x="396720" y="1566720"/>
            <a:ext cx="8313840" cy="4632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Формообразующие частицы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Содержимое 3" descr=""/>
          <p:cNvPicPr/>
          <p:nvPr/>
        </p:nvPicPr>
        <p:blipFill>
          <a:blip r:embed="rId1"/>
          <a:stretch/>
        </p:blipFill>
        <p:spPr>
          <a:xfrm>
            <a:off x="396720" y="1139760"/>
            <a:ext cx="8406000" cy="5284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75614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Смыслоразличительные (модальные) частицы вносят различные смысловые оттенки в предложение, а также выражают чувства и отношение говорящего к тому, о чём говорится в предложении.</a:t>
            </a: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1" name="Содержимое 5" descr="osnovnye-gruppy-modalnyh-chastits.jpg"/>
          <p:cNvPicPr/>
          <p:nvPr/>
        </p:nvPicPr>
        <p:blipFill>
          <a:blip r:embed="rId1"/>
          <a:stretch/>
        </p:blipFill>
        <p:spPr>
          <a:xfrm>
            <a:off x="179280" y="1484280"/>
            <a:ext cx="8713800" cy="5040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авописание частиц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Частицы </a:t>
            </a:r>
            <a:r>
              <a:rPr b="1" i="1" lang="ru-RU" sz="3200" spc="-1" strike="noStrike">
                <a:solidFill>
                  <a:srgbClr val="ff0000"/>
                </a:solidFill>
                <a:latin typeface="Palatino Linotype"/>
              </a:rPr>
              <a:t>бы, ли, же </a:t>
            </a: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пишутся </a:t>
            </a: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раздель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Бы:</a:t>
            </a: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 Вы бы не согласились мне помоч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Ли:</a:t>
            </a: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 Все ли ребята сдали тетрад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Же:</a:t>
            </a: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 Ты же не откажешь мне в просьб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описание частиц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рез дефис пишутся частиц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Содержимое 3" descr=""/>
          <p:cNvPicPr/>
          <p:nvPr/>
        </p:nvPicPr>
        <p:blipFill>
          <a:blip r:embed="rId1"/>
          <a:stretch/>
        </p:blipFill>
        <p:spPr>
          <a:xfrm>
            <a:off x="438120" y="1047600"/>
            <a:ext cx="8267760" cy="5486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31T13:17:49Z</dcterms:created>
  <dc:creator>Admin</dc:creator>
  <dc:description/>
  <dc:language>en-US</dc:language>
  <cp:lastModifiedBy>yuliyabakuma@hotmail.com</cp:lastModifiedBy>
  <dcterms:modified xsi:type="dcterms:W3CDTF">2022-04-09T12:04:21Z</dcterms:modified>
  <cp:revision>46</cp:revision>
  <dc:subject/>
  <dc:title>«Частица как часть речи»</dc:title>
</cp:coreProperties>
</file>