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FD6-2EDA-4A3F-A26A-898D5C6E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E0C-373D-49ED-9895-9E7D51D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8D2A-A2E8-4014-9663-D4AB2838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D3AF2-CB8A-476E-AD6D-0C42A97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400A0-67F2-4D59-AD3A-DAF289C5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31C42-9B7D-4A86-871D-052B428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7059-6827-4B7A-8DF6-F01B2BC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E7885-3EA1-40CB-916A-437ED7E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8CED-6B35-46D3-A686-CFFE7D4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219E1-72E5-421C-B5E3-094ABDB6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E2B5B-D436-4670-83E6-DE9F5B61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C06F6-1248-4FFC-B9AB-64B425E8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028-38CF-4C5E-AF7F-E8784BE4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A5EF3-886E-4D39-9D53-02CF9853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E9438-A842-4FD5-BFF7-64BFB53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6A70E-6AF5-450D-AB16-5BFBB1F5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457B-183A-4303-AF4D-89F6283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B680-491E-48A0-9183-5073736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0D02-ACCD-44C9-9C53-DB75AB4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1356F-F366-4A66-BA94-30910A2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FCD8-9D48-444F-8C02-C4DBF40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D5E99-6020-4876-9946-53724885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CB6F8-7D21-4767-805F-283D0A40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E3C-6A6E-4466-9679-0C9F65FE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80B66-4B2B-452C-964C-8A197468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1F37-221F-4A81-BF66-742FEE41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02146-4FE0-455E-A001-D319BE3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29A32-6FE0-43F7-BD50-F109A54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FCC8F-DCBE-4A88-AD4A-8D5C3B1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98AC-7F50-4D1C-AC79-A7F471F6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04886-65FF-4515-B83C-5C2BDD7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7C63F-71AF-4115-A76D-B652B84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74913-FC4A-40EB-A290-71AAF23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B87E-F895-42BB-AF69-8152D27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16E-71BD-4227-A592-7C18B764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07FB-667C-4310-8F4B-A71EE30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1BA32-827A-40C6-AB59-56A12FC8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D86EF-2F23-45DD-87EB-7B42FC35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A71E0-4BC1-487E-A72D-7B3E1457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5710-2484-4A25-BCBE-39D84A1D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AC1EA-6B8B-43CA-B229-09B18E1C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3A74D-0322-44A2-91E7-49B7AA36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BD978-FDDA-46D2-ADF2-DC7EA83A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B00D8-A4DC-44EC-B5FD-CA03532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750FB-D754-4996-A14E-65D94B1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D6F-694C-4672-9DDF-58964BD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DA2C9-A4A5-45D6-AD43-BA025E7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F13A0-426B-44DC-8787-1F69650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83BB1-5FF9-4AA9-9C83-21CBC81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833B9-8271-4BBA-ABF8-1A665FDB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798CB-E9CB-4AB9-BA45-D23C73C8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B97CB-55E6-442E-AD8A-33D10A17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8083F-72F6-4028-B41D-335B79C0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ACBA6-4E1E-4BB0-9236-C1FFBDE6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F0F6F-8D67-40A5-969E-02CB5551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2DA6D-BBE4-4896-906C-E3074BC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D15B-C09E-4F54-80B2-163F936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27371-3DE0-4970-8D66-893011E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DC047-FBF2-4333-9A93-5710C10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57368-B7DB-4373-8563-C75A73F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07CA9-BEC9-4507-9E05-C914CBB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45F58-06DF-4775-A9A2-83723A2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D0EB2-4BC1-426F-95E5-812EAB88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E6115-AACD-4B00-A5D0-351B2670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748F5-A062-4EF2-B3C1-0789C6FC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A4A22-3463-4EBE-87CC-DD39820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2D60A-D44E-42B5-A2A5-436C8C3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A62-1F59-4DCE-B384-9A8123EB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5E001-9A1F-49FE-BB4D-B798A14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861B6-82FE-4FF5-8613-77250CB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EE242-CC3A-4AB7-B416-20AE8B8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6AA2F-616D-4440-81BA-879D272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FB216-762E-4462-809E-2AC6B17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622D4-B856-448C-9B75-98CCD8D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FA0DB-D073-4FA3-A2A8-61A86B5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17DA0-A8E4-4B5B-A825-FC01F847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C9169-7ACF-44CF-A9EF-AC4DC4A4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3B8D7-D863-41C2-9704-DD9BC36D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9AE7-30B9-4E41-AE88-6331B09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7611B-767D-4382-AA1D-8BA499F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0E18B-B2CE-4CF0-BF40-3239D4C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7D553-B02C-4366-8DAC-BB74A668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A207E-0612-47AB-9467-D5FFF94D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C1E75-5DCF-4833-8FEA-18EC16C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FC00A-4CFB-48A2-9832-B86544D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5FB10-02CD-4128-9CF3-11F5FFE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DA1FA-4584-4E1B-9CD5-9B76A27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9BC86-35A1-4BAD-8651-E3DED6F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AA580-FEA2-4022-8728-A2BFCD08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4C41-9D89-41A7-ADFF-175FB92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9D855-E54E-4710-A3F3-93E19F62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BB58E-EFF2-46A5-864A-A7BC5EAB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4C645-05A9-480F-82FC-F70EE2B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F5E32-364B-422A-8242-A4BFF52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E7444-7755-4986-BA0D-9DEC675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0F693-7705-45A9-B7E9-FA0880E4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8B774-CFC4-41B0-85DE-79289EC4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01849-29C5-4336-9034-BBEFCF3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27534-E7BD-4EBE-B216-6699C68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45FE7-7C8B-400F-A31E-4B84F22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FFE2-C3D3-421B-8BDD-B2B2AA3A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BE486-D074-4914-8E68-F2FA8BB5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A46BD-DAED-4D7A-90EF-9454BAD7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6B701-CD1B-4595-ABD1-FC8ED515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91A6A-4F52-4047-9280-950E76B3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8C2D9-D762-4583-9151-E91A08D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40D30-671B-471E-AADD-0C4E6C4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351CD-EA90-4ED2-88CE-9084A6C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E4D23-AA4F-4037-8617-E5A52B3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2948D-D2A7-4279-8F50-9E2FF0C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72A67-91C2-47D4-A496-D78DEBA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9E2-D46D-4198-86C6-124BCA0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2101-DD0B-4A34-A398-83548FE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F18CE-3696-4E1E-8234-29363B6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B2F55-CD29-4F85-8F13-3D7560D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1F008-08DF-4927-957C-A7EF3F1E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2B501-D339-46BD-B8E0-0DC7B315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84593-99AF-46B4-AFF3-11415570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BC0-BE78-4A4E-B0A1-6606A25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561-E002-4C9B-8700-2FE37B76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27CE-A708-4076-A90A-2E809111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430E-7F9F-4D76-9516-AE8BC331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2B3C-64BC-4F7F-B836-6A85560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22AA-5B4B-47AA-8C17-5730C61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01E2-1E5B-440A-9B69-4CF19BB3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D031-0A1F-451F-B5D1-B1E3EFB6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8772-2C41-422B-A415-3F3D869F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6A8-AAF8-4974-B22A-AD16504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B67C-8F08-48CE-BD32-034642A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0EEB-8BDD-464B-85DA-1C6C6E2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39E6-6739-477A-A956-82BAEB5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286A-97B9-4AC8-8B1A-9D34C42D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4EC2-E36B-4A1E-AF83-409D7B7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D941-5654-4279-97C5-4C88C6E4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8607-5F85-4B0A-AD7A-DD37711F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0327-75DF-4366-B5A4-051AE1A9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21C6-1C61-487F-AED9-944920E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27F2-8D8C-46C3-AAA2-1F1C6889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060-C859-423A-841F-2273E50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F942-E980-4411-A949-F36728B3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1AEC-2392-4BC6-94F8-AD9314C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9685-6DA2-41B3-BF7C-DD387B6F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6759-FD60-41A8-81EF-ECD2B7E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1D90-8F03-42EC-8633-DD8E9ED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3545-4D65-4278-8E95-208006C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584C-E820-428C-B330-BB8DB4D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0559-11A4-4AEB-A7CA-3DEDFDD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18A1-0024-4CC5-BD6B-6C45925A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E929-B71E-4124-8CE2-E03ED2E3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8B0-2A79-41C4-A964-AC30099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81E7-F7CC-4BD1-B3B2-00DC689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43A8-696D-4BD5-963E-DF76A6D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5D28-38F4-4BEE-92C4-40BD4C5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75E1-FA85-4650-80FB-A17AE7E1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DCDF-ECEB-4A1C-AB4C-505C2889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DABB-76A9-495F-B806-7682160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EDB2-6EB6-4D68-99EA-B236E87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EF43-0B48-4B80-A3C5-BC0502A5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93B1-7013-4915-B41C-EAEC0EB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8EEA-5E40-40EB-9130-853760AE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192-813E-406E-A630-F4228E26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EE24-CC61-4DEC-A5CE-3EBEF39E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3C61-47A9-4EFF-92AE-DD4EB39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2C04-FCDA-496B-A8E5-CBC2C804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5910-AA89-434D-B64E-11F5FB5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D4741-F3AF-459B-B66F-B61FFA32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A4FC-963F-4D2F-823E-1E07351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04AA-9FDB-4790-AFB9-F86E637B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6488-7DD1-4836-8F13-5C28A7A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9AF1-8EF9-4BBF-972B-443A50C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85DC-0060-4A13-8097-58D21DA4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A74-121B-4B22-A41F-77ABEE5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B6F7-BBDD-4412-9E64-6B1F2E4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B372-362A-4C8D-92DD-4348B84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3DD6-68BE-40AD-BDB3-ABA4F1D1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3029-25CC-49EF-9851-D57695D4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80BF-CD79-4FE6-9AFD-F05B709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7798-765C-41D0-8096-EB9219FE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51EE-BDE0-495C-886D-8D33FD18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F0FC-2B2C-4C0C-81A3-9B3EEBFD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ECCEE-AD13-44C8-B6CF-A0CF7964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5C71-3228-40BB-B98B-28A8A07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7E0-7C02-4C3B-92DC-BF9179B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4E14-EFF7-469B-9637-A378839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C223-A030-4F51-A145-6E2FCB6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2F79-4E7D-4EAA-95C5-41BF34DD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5DB8-A2F8-454A-8687-AC101A80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9D43-3FA9-43EC-8FCA-4866A156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4CEF9-6624-4401-935B-18FA02B0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DB6F-4D42-4360-8383-2CFB94A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0A8E-030C-439C-8AB0-A44BB0DF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A9F3-DD24-4344-9260-7F9FEA8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F4D0-2984-4326-A426-1F7AA3B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BFF-49E5-4DDA-B69F-53D3B07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B45A0-8935-40FA-838F-EF5C3AD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C56E-5BC8-43EC-87D0-F522486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9D06A-9306-4EB6-A955-A2ECC40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F5B0E-CE4A-4170-B165-3AA1AFC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A565-DA15-476A-9D76-B0103C89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62E0-9B3F-41BF-A61A-C3814661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77ED-87D6-4D52-909B-BF60281E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8A4A8-DB01-4E42-95DC-08029DD3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B5260-9970-4356-B8EE-DEAD4189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31EFE-5753-44A9-B322-717D607E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A50-7F1E-4E3D-89C1-FEF553EE5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BB7-A5BB-4114-8F42-1C0B3985B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DC7-30FA-41C4-8894-204F17664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F7F8-B4D2-4947-BFED-0AEBA57AD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39A-2364-40FE-B80A-32163E65A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044-47E9-4BA8-B43D-447A8B95A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9227-2492-4E41-AA17-C3D2E6A3F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B2A7-A17F-4AA4-95FA-6AFFA7212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E66C-EE5E-4245-9746-55CF911A4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F73E-9524-40B6-B929-AC56A10BA8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D81-A0CC-4892-89CA-8F67387C6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3D7-83C9-4835-B1C2-D7F371AE20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A4D-1748-4EEA-A36A-33D12EAD8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F2F-1F52-40EF-8D52-AB7BAA027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92A-189F-478C-BD07-9F63C8054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A26-E3D0-4F63-8A88-353C7B5E3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8237-8D94-4623-A7DC-EED654107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Частица как часть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0000"/>
              </a:solidFill>
              <a:latin typeface="Palatino Linotype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рфологический разбор част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репкую дружбу и</a:t>
            </a:r>
            <a:r>
              <a:rPr b="0" i="1" lang="ru-RU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 топором не разруб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ный разб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вносит дополнительное значение усиления: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 значении «даже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смыслоразличительн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сьменный разб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. Доп. знач. уси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I. Смыс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Отрицательная частица 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ица 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ридаёт отрицательное значение всему предложению (стоит перед сказуемым) или отдельным его чле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Не бывать этому. За лесом не большой, а маленький овр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редложение получает положительный смысл, если в нём две частицы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дна из которых стоит перед глаголом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ч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 одной из его форм), а вторая - перед неопределённой формой глагола: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Я 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не мог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 не поех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ая частица НИ служи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для выражения отрицания в предложениях без подлежащего (в этом случае частица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употребляется при существительном в родительном падеже)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ругом ни деревца; Ни шагу назад!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для усиления отрицания, которое выражено частицей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или словом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е слышно ни звука; Нет ни кустик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для выражения утверждения после слов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, что, как, к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и т. п., например: 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то ни взглянет на Машино рукоделие, всякий залюбуется; Куда ни поеду, всюду встречаю друз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 существительными, прилагательными, наречиями на –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Содержимое 3" descr=""/>
          <p:cNvPicPr/>
          <p:nvPr/>
        </p:nvPicPr>
        <p:blipFill>
          <a:blip r:embed="rId1"/>
          <a:stretch/>
        </p:blipFill>
        <p:spPr>
          <a:xfrm>
            <a:off x="590400" y="1487520"/>
            <a:ext cx="8272440" cy="46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НЕ пишется раздельно со следующими прилагательными и нареч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Содержимое 4" descr=""/>
          <p:cNvPicPr/>
          <p:nvPr/>
        </p:nvPicPr>
        <p:blipFill>
          <a:blip r:embed="rId1"/>
          <a:stretch/>
        </p:blipFill>
        <p:spPr>
          <a:xfrm>
            <a:off x="268200" y="1596960"/>
            <a:ext cx="8607600" cy="45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ч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раткими прилагательными, имеющими то же значение, что и полные, написание НЕ подчиняется тем же правилам, что и написание НЕ с полными прилагатель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Капля невелика (мала), а камень разруш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Кепка была не велика, а м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прилагательные и наречия на –о, -е связаны противительным союзом но, то частица НЕ обычно пишется слитно: в этом случае нет прямого противопоставления признаков и они приписываются предмету или действию одновремен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Отец купил недорогой, но красивый костюм (т.е. и недорогой (дешевый), и красивый костю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ч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дель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ишется раздельно с числитель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Не пять, не ше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ишется раздельно с наречиями не на –о, -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Не всегда, не т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аречиями, которые употребляются только в качестве сказуемого в безличных предлож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е надо, не жаль, не п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1640" y="11250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и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ишется слитно с отрицательными наречиями, образованными от вопросительных наре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езачем, неку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с причаст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00120"/>
            <a:ext cx="8581680" cy="464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 глаголами и деепричаст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36840"/>
            <a:ext cx="8581680" cy="4601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с местоимени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Содержимое 3" descr=""/>
          <p:cNvPicPr/>
          <p:nvPr/>
        </p:nvPicPr>
        <p:blipFill>
          <a:blip r:embed="rId1"/>
          <a:stretch/>
        </p:blipFill>
        <p:spPr>
          <a:xfrm>
            <a:off x="281160" y="1584360"/>
            <a:ext cx="8581680" cy="4548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mbria"/>
              </a:rPr>
              <a:t>Цель уроков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ознакомить учащихся с частицей как частью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е раз = много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и разу = ник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Как ни в чем не быв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о что бы то ни ст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Мне не раз приходилось наблюдать за зака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Мне ни разу не посчастливилось увидеть розового фламин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Не один = м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Ни один = ник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Palatino Linotype"/>
              </a:rPr>
              <a:t>Не один раз он выручал свою коман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Palatino Linotype"/>
              </a:rPr>
              <a:t>Ни один из них не пропустил интересный мат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Не что иное, как…, не кто иной, как…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никто иной не …, ничто иное …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е что иное, 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е кто иной, 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что иное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кто иной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Сказуемое в предложении утвердительное.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Не кто иной, как Попов, изобрел ради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Сказуемое в предложении  отрицательное.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Никто иной не мог сделать это так ум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Есть союз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Нет союза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Сочетание не является членом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Сочетание  является членом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Возможна замена сочетания  частицам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олько, имен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Замена невозмож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то такое частиц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зовите разряды частиц. Чем по значению они отличаются друг от друг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иведите примеры смыслоразличительных частиц и расскажите, для чего они служат в предложе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Когда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является отрицательной частице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кие частицы пишутся раздельно, через дефис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Когда пишется отрицательная частица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когда —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Сравнит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mbria"/>
              </a:rPr>
              <a:t>Сегодня к нам приедут арт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mbria"/>
              </a:rPr>
              <a:t>Разве сегодня к нам приедут арт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Частица – э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служебная часть речи, которая вносит различные оттенки значения в предложение или служит для образования форм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Разряды час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Содержимое 3" descr=""/>
          <p:cNvPicPr/>
          <p:nvPr/>
        </p:nvPicPr>
        <p:blipFill>
          <a:blip r:embed="rId1"/>
          <a:stretch/>
        </p:blipFill>
        <p:spPr>
          <a:xfrm>
            <a:off x="396720" y="1566720"/>
            <a:ext cx="8313840" cy="4632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Формообразующие частиц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Содержимое 3" descr=""/>
          <p:cNvPicPr/>
          <p:nvPr/>
        </p:nvPicPr>
        <p:blipFill>
          <a:blip r:embed="rId1"/>
          <a:stretch/>
        </p:blipFill>
        <p:spPr>
          <a:xfrm>
            <a:off x="396720" y="1139760"/>
            <a:ext cx="8406000" cy="52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мыслоразличительные (модальные) частицы вносят различные смысловые оттенки в предложение, а также выражают чувства и отношение говорящего к тому, о чём говорится в предложении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Содержимое 5" descr="osnovnye-gruppy-modalnyh-chastits.jpg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писание частиц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Частицы </a:t>
            </a:r>
            <a:r>
              <a:rPr b="1" i="1" lang="ru-RU" sz="3200" spc="-1" strike="noStrike">
                <a:solidFill>
                  <a:srgbClr val="ff0000"/>
                </a:solidFill>
                <a:latin typeface="Palatino Linotype"/>
              </a:rPr>
              <a:t>бы, ли, же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ишутся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разд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Бы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Вы бы не согласились мне помо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Ли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Все ли ребята сдали тетра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Же: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Ты же не откажешь мне в просьб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писание частиц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дефис пишутся частиц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Содержимое 3" descr=""/>
          <p:cNvPicPr/>
          <p:nvPr/>
        </p:nvPicPr>
        <p:blipFill>
          <a:blip r:embed="rId1"/>
          <a:stretch/>
        </p:blipFill>
        <p:spPr>
          <a:xfrm>
            <a:off x="438120" y="1047600"/>
            <a:ext cx="82677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3:17:49Z</dcterms:created>
  <dc:creator>Admin</dc:creator>
  <dc:description/>
  <dc:language>en-US</dc:language>
  <cp:lastModifiedBy>yuliyabakuma@hotmail.com</cp:lastModifiedBy>
  <dcterms:modified xsi:type="dcterms:W3CDTF">2022-04-09T12:04:21Z</dcterms:modified>
  <cp:revision>46</cp:revision>
  <dc:subject/>
  <dc:title>«Частица как часть речи»</dc:title>
</cp:coreProperties>
</file>