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52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61.jpeg" ContentType="image/jpeg"/>
  <Override PartName="/ppt/media/image25.png" ContentType="image/png"/>
  <Override PartName="/ppt/media/image19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2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39.jpeg" ContentType="image/jpeg"/>
  <Override PartName="/ppt/media/image17.png" ContentType="image/pn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4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7.jpeg" ContentType="image/jpeg"/>
  <Override PartName="/ppt/media/image48.png" ContentType="image/png"/>
  <Override PartName="/ppt/media/image49.jpeg" ContentType="image/jpeg"/>
  <Override PartName="/ppt/media/image50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46.jpeg" ContentType="image/jpeg"/>
  <Override PartName="/ppt/media/image5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12193588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D4742-094B-4956-94C5-B257AC58F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14C22-95E6-4D13-A164-C1CE4F91F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B3AC2-E9C7-466B-A968-177C2DA80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D24E0-6746-4E88-985F-3729AAF8B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BD6C2-97BC-4C8F-A139-D0859A84B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3C908-537D-4A0C-AB13-B970440FE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D7FC7-7F2F-4B6B-BD50-B4FF8312F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724D9-45CF-4343-8C1F-A9E2D9991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FA9C6-4045-48A2-B125-C9750D0D1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BA6EC-D98B-4B0C-94F4-EDC8BDAA2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1DC67-EBE0-4623-A1F3-A20A31F3E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F7618-5149-4ADD-BAED-8F11A7463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8DBA0-60A2-44FB-B134-D4CDA1673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2BCE2-0B64-46F4-BBEF-01F57D3B0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BE0F1-6468-4EEB-849D-EFE4D4336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E8244-18DC-4277-9C0A-64052CEAF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81CCC-74C1-4E43-B1DD-2C8AB86EB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B6D69-E3AC-448C-8723-CF73CFD9B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97AD4-7EFB-4419-AA8C-19D5FC2CD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B1ABC-CC44-4C1B-B118-30FF5E452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141A8-5558-4614-8B69-771D84EB2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27DAB-6C16-4DAD-AB66-730AFDDF0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FCCEE-B441-4468-8223-8B43BB689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25C7D-7554-42BF-B538-CE87E157E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2C3EE-3E16-463F-BFB0-6147AABA2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73891-91BF-4364-B7FB-2E67900C2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A83B7-A922-4970-80E1-78AEDC930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0D235-F4A4-4C4B-BB71-E7FEBCF46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E987F-3C24-4F7E-933C-6EDC26106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7E7E0-40B9-4D3D-8E3F-D2D0BAC45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704DE-FA85-4E34-9EEB-59C1E0F86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4984A-043D-4577-A520-F8D502EA0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49BA2-497E-4677-A3D2-52B6030AB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58182-1240-4B6C-964F-8AC7F9938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91015-C01E-4A58-B625-E4255EA27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FDEE0-78C0-46C1-B0CB-9D8591D92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48511-B40B-40B4-896D-BE5EB213E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9549C-B339-4D86-9823-8A599FF37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BDD99-8FB0-4395-9E70-C70030E2C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6B50D-A8F0-4A8D-BF4B-6CBD7A988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89D7D-D01D-4374-BA6F-04ACD9D1E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EFCBF-3AC7-4DA7-A570-B2D0B748A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25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260360" y="2082960"/>
            <a:ext cx="91440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1000" spc="-1" strike="noStrike">
                <a:solidFill>
                  <a:srgbClr val="000000"/>
                </a:solidFill>
                <a:latin typeface="Calibri Light"/>
              </a:rPr>
              <a:t>Многообразие листьев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8280" y="82440"/>
            <a:ext cx="1198116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6969240" y="365040"/>
            <a:ext cx="43844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струб из прилист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8280" y="111240"/>
            <a:ext cx="6023160" cy="451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781600" y="2030400"/>
            <a:ext cx="631188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895320" y="-968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3. Простые и сложны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885960"/>
            <a:ext cx="7848720" cy="58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04640" y="192240"/>
            <a:ext cx="11376360" cy="65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50920" y="249120"/>
            <a:ext cx="118472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972800"/>
                <a:tab algn="l" pos="11430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4. Морфологические особенности пластинки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94040" y="990720"/>
            <a:ext cx="6379920" cy="57020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 flipH="1">
            <a:off x="8614800" y="1574640"/>
            <a:ext cx="3011400" cy="1555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 листовых пласт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7497720" y="923760"/>
            <a:ext cx="43182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Формы верхушки, основания и края лис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035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92556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Особые формы листовых пласти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62080" y="1187280"/>
            <a:ext cx="10053360" cy="42325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3"/>
          <p:cNvSpPr/>
          <p:nvPr/>
        </p:nvSpPr>
        <p:spPr>
          <a:xfrm flipH="1">
            <a:off x="305640" y="5688000"/>
            <a:ext cx="1000908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ольчатая   Сердцевидная          Почковидная        Стреловидная       Копьевидная          Серпови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8163000" y="1174680"/>
            <a:ext cx="37195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Формы расчленения пластинки простого л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8280" y="92160"/>
            <a:ext cx="7804440" cy="67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414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828720" y="856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5. Жилкование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374760" y="1411200"/>
            <a:ext cx="3716280" cy="2043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хотомическое у примитивных голосеменных и папоро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48000" y="1300320"/>
            <a:ext cx="477216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Функции лис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838080" y="1825560"/>
            <a:ext cx="41022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2640" indent="-51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то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спи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зооб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6095880" y="1825560"/>
            <a:ext cx="5411880" cy="435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егетативное раз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Запасание веществ и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Защ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Дополнительно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. Удаление ядови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828720" y="856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5. Жилкование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394200" y="1411200"/>
            <a:ext cx="8104320" cy="58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ллельное и дуговидное у однодо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203480" y="2233440"/>
            <a:ext cx="689112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838080" y="365040"/>
            <a:ext cx="65739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Жилкование у двудо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821120" y="1954080"/>
            <a:ext cx="6521400" cy="48895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/>
          <p:cNvSpPr/>
          <p:nvPr/>
        </p:nvSpPr>
        <p:spPr>
          <a:xfrm>
            <a:off x="1585800" y="1305000"/>
            <a:ext cx="2330640" cy="482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Перисто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4613400" y="1185840"/>
            <a:ext cx="2330280" cy="48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Пальчато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20520" y="1941480"/>
            <a:ext cx="226224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 Light"/>
              </a:rPr>
              <a:t>Перистокрае-бежно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773440" y="1954080"/>
            <a:ext cx="210816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 Light"/>
              </a:rPr>
              <a:t>Перистопет-левидно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000080" y="2894040"/>
            <a:ext cx="278280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 Light"/>
              </a:rPr>
              <a:t>Перистосетчато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7232760" y="1311120"/>
            <a:ext cx="363384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 Light"/>
              </a:rPr>
              <a:t>Пальчатокраебежно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7272360" y="85680"/>
            <a:ext cx="363384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 Light"/>
              </a:rPr>
              <a:t>Пальчатопетлевидно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9315360" y="682560"/>
            <a:ext cx="287676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 Light"/>
              </a:rPr>
              <a:t>Пальчатосетчато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82040" y="791640"/>
            <a:ext cx="190800" cy="513360"/>
            <a:chOff x="2282040" y="791640"/>
            <a:chExt cx="190800" cy="513360"/>
          </a:xfrm>
        </p:grpSpPr>
        <p:cxnSp>
          <p:nvCxnSpPr>
            <p:cNvPr id="106" name="AutoShape 11"/>
            <p:cNvCxnSpPr/>
            <p:nvPr/>
          </p:nvCxnSpPr>
          <p:spPr>
            <a:xfrm flipH="1">
              <a:off x="2282040" y="791640"/>
              <a:ext cx="191160" cy="513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7" name=""/>
            <p:cNvSpPr txBox="1"/>
            <p:nvPr/>
          </p:nvSpPr>
          <p:spPr>
            <a:xfrm>
              <a:off x="2282400" y="791640"/>
              <a:ext cx="190440" cy="51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319720" y="755640"/>
            <a:ext cx="248040" cy="349560"/>
            <a:chOff x="5319720" y="755640"/>
            <a:chExt cx="248040" cy="349560"/>
          </a:xfrm>
        </p:grpSpPr>
        <p:cxnSp>
          <p:nvCxnSpPr>
            <p:cNvPr id="109" name="AutoShape 12"/>
            <p:cNvCxnSpPr/>
            <p:nvPr/>
          </p:nvCxnSpPr>
          <p:spPr>
            <a:xfrm>
              <a:off x="5319720" y="755640"/>
              <a:ext cx="248400" cy="349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0" name=""/>
            <p:cNvSpPr txBox="1"/>
            <p:nvPr/>
          </p:nvSpPr>
          <p:spPr>
            <a:xfrm>
              <a:off x="5319720" y="755640"/>
              <a:ext cx="2476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975600" y="1787040"/>
            <a:ext cx="957600" cy="297360"/>
            <a:chOff x="975600" y="1787040"/>
            <a:chExt cx="957600" cy="297360"/>
          </a:xfrm>
        </p:grpSpPr>
        <p:cxnSp>
          <p:nvCxnSpPr>
            <p:cNvPr id="112" name="AutoShape 13"/>
            <p:cNvCxnSpPr/>
            <p:nvPr/>
          </p:nvCxnSpPr>
          <p:spPr>
            <a:xfrm flipH="1">
              <a:off x="975600" y="1787040"/>
              <a:ext cx="957960" cy="297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 txBox="1"/>
            <p:nvPr/>
          </p:nvSpPr>
          <p:spPr>
            <a:xfrm>
              <a:off x="975960" y="1787040"/>
              <a:ext cx="957240" cy="29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933280" y="1715760"/>
            <a:ext cx="560880" cy="368640"/>
            <a:chOff x="2933280" y="1715760"/>
            <a:chExt cx="560880" cy="368640"/>
          </a:xfrm>
        </p:grpSpPr>
        <p:cxnSp>
          <p:nvCxnSpPr>
            <p:cNvPr id="115" name="AutoShape 14"/>
            <p:cNvCxnSpPr/>
            <p:nvPr/>
          </p:nvCxnSpPr>
          <p:spPr>
            <a:xfrm>
              <a:off x="2933280" y="1715760"/>
              <a:ext cx="561240" cy="369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" name=""/>
            <p:cNvSpPr txBox="1"/>
            <p:nvPr/>
          </p:nvSpPr>
          <p:spPr>
            <a:xfrm>
              <a:off x="2933280" y="171576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61440" y="1722240"/>
            <a:ext cx="268560" cy="1425240"/>
            <a:chOff x="2161440" y="1722240"/>
            <a:chExt cx="268560" cy="1425240"/>
          </a:xfrm>
        </p:grpSpPr>
        <p:cxnSp>
          <p:nvCxnSpPr>
            <p:cNvPr id="118" name="AutoShape 15"/>
            <p:cNvCxnSpPr/>
            <p:nvPr/>
          </p:nvCxnSpPr>
          <p:spPr>
            <a:xfrm flipH="1">
              <a:off x="2161440" y="1722240"/>
              <a:ext cx="268920" cy="1425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" name=""/>
            <p:cNvSpPr txBox="1"/>
            <p:nvPr/>
          </p:nvSpPr>
          <p:spPr>
            <a:xfrm>
              <a:off x="2161800" y="1722240"/>
              <a:ext cx="268200" cy="142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719040" y="669600"/>
            <a:ext cx="685080" cy="659160"/>
            <a:chOff x="6719040" y="669600"/>
            <a:chExt cx="685080" cy="659160"/>
          </a:xfrm>
        </p:grpSpPr>
        <p:cxnSp>
          <p:nvCxnSpPr>
            <p:cNvPr id="121" name="AutoShape 16"/>
            <p:cNvCxnSpPr/>
            <p:nvPr/>
          </p:nvCxnSpPr>
          <p:spPr>
            <a:xfrm flipV="1">
              <a:off x="6719400" y="669600"/>
              <a:ext cx="685080" cy="659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2" name=""/>
            <p:cNvSpPr txBox="1"/>
            <p:nvPr/>
          </p:nvSpPr>
          <p:spPr>
            <a:xfrm rot="10800000">
              <a:off x="6719040" y="669600"/>
              <a:ext cx="684360" cy="65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719760" y="1552320"/>
            <a:ext cx="602280" cy="130320"/>
            <a:chOff x="6719760" y="1552320"/>
            <a:chExt cx="602280" cy="130320"/>
          </a:xfrm>
        </p:grpSpPr>
        <p:cxnSp>
          <p:nvCxnSpPr>
            <p:cNvPr id="124" name="AutoShape 17"/>
            <p:cNvCxnSpPr/>
            <p:nvPr/>
          </p:nvCxnSpPr>
          <p:spPr>
            <a:xfrm>
              <a:off x="6719760" y="1552320"/>
              <a:ext cx="602640" cy="1306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 txBox="1"/>
            <p:nvPr/>
          </p:nvSpPr>
          <p:spPr>
            <a:xfrm>
              <a:off x="6719760" y="1552320"/>
              <a:ext cx="601920" cy="12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761880" y="1106280"/>
            <a:ext cx="2553120" cy="328680"/>
            <a:chOff x="6761880" y="1106280"/>
            <a:chExt cx="2553120" cy="328680"/>
          </a:xfrm>
        </p:grpSpPr>
        <p:cxnSp>
          <p:nvCxnSpPr>
            <p:cNvPr id="127" name="AutoShape 18"/>
            <p:cNvCxnSpPr/>
            <p:nvPr/>
          </p:nvCxnSpPr>
          <p:spPr>
            <a:xfrm flipV="1">
              <a:off x="6762240" y="1106280"/>
              <a:ext cx="2553120" cy="329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8" name=""/>
            <p:cNvSpPr txBox="1"/>
            <p:nvPr/>
          </p:nvSpPr>
          <p:spPr>
            <a:xfrm rot="10800000">
              <a:off x="6761880" y="1106280"/>
              <a:ext cx="2552760" cy="32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255600" y="2318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6. Анатомия лист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1) Пластинка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4520" y="1754280"/>
            <a:ext cx="8261280" cy="490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7112160" y="-34920"/>
            <a:ext cx="507996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376200" y="133200"/>
            <a:ext cx="10515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Хвоинка сос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71440" y="1276200"/>
            <a:ext cx="731376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17360" y="101520"/>
            <a:ext cx="11971440" cy="665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385920" y="20160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орфологические особенности растений разных экологических усло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539640" y="1608120"/>
            <a:ext cx="769932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Дорсивентральные и 2. Изолатер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rcRect l="-686" t="0" r="0" b="0"/>
          <a:stretch/>
        </p:blipFill>
        <p:spPr>
          <a:xfrm>
            <a:off x="1585800" y="2192400"/>
            <a:ext cx="8323200" cy="45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92240" y="1634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орфологические особенности растений разных экологических усло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414360" y="1503360"/>
            <a:ext cx="4368600" cy="58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Центр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3524400" y="1371600"/>
            <a:ext cx="7073640" cy="53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19256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62712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троение жи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50960" y="1028880"/>
            <a:ext cx="867240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366840" y="856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Черешок и основание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2120" y="1181160"/>
            <a:ext cx="5923080" cy="393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5767560" y="3218040"/>
            <a:ext cx="628632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1. Образование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129280" y="153504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04840" y="1690560"/>
            <a:ext cx="46846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846000" y="237960"/>
            <a:ext cx="10515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Фазы развития лист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60520" y="870120"/>
            <a:ext cx="7905600" cy="592272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3"/>
          <p:cNvSpPr/>
          <p:nvPr/>
        </p:nvSpPr>
        <p:spPr>
          <a:xfrm>
            <a:off x="7265880" y="438120"/>
            <a:ext cx="374040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гин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838080" y="87480"/>
            <a:ext cx="105156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8. Видоизменения лист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95160" y="746280"/>
            <a:ext cx="9583920" cy="60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492120" y="133200"/>
            <a:ext cx="10515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1) Колю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492120" y="1459080"/>
            <a:ext cx="6111720" cy="4074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5267160" y="714240"/>
            <a:ext cx="6726240" cy="1490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6603840" y="2292480"/>
            <a:ext cx="5383440" cy="1923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4"/>
          <a:stretch/>
        </p:blipFill>
        <p:spPr>
          <a:xfrm>
            <a:off x="5973840" y="3932280"/>
            <a:ext cx="409392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231840" y="0"/>
            <a:ext cx="105156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1. Лист каме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27080" y="826920"/>
            <a:ext cx="8642160" cy="59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144360" y="9360"/>
            <a:ext cx="10515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2. Лист хвоинка сос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697280" y="923760"/>
            <a:ext cx="7415280" cy="593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73080" y="923760"/>
            <a:ext cx="4697280" cy="34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530280" y="284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2) Сочны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55680" y="1117440"/>
            <a:ext cx="6757920" cy="506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295960" y="3475080"/>
            <a:ext cx="593892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70000" y="1634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3) Ус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33440" y="1174680"/>
            <a:ext cx="6535800" cy="4421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7130880" y="487440"/>
            <a:ext cx="4900680" cy="55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212760" y="1443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4) Ловчи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45960" y="1203480"/>
            <a:ext cx="4145040" cy="3108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8486640" y="144360"/>
            <a:ext cx="3519720" cy="3517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4726080" y="144360"/>
            <a:ext cx="3527280" cy="4359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4"/>
          <a:stretch/>
        </p:blipFill>
        <p:spPr>
          <a:xfrm>
            <a:off x="981000" y="4051440"/>
            <a:ext cx="4803840" cy="2701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5"/>
          <a:stretch/>
        </p:blipFill>
        <p:spPr>
          <a:xfrm>
            <a:off x="7572240" y="3890880"/>
            <a:ext cx="3705480" cy="27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711440" y="130320"/>
            <a:ext cx="8030880" cy="65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347760" y="1540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5) Листья-чешу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82520" y="1366920"/>
            <a:ext cx="5843520" cy="4898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6189840" y="243000"/>
            <a:ext cx="56782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9288360" y="365040"/>
            <a:ext cx="2616480" cy="1695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646200" y="5457960"/>
            <a:ext cx="3390840" cy="140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9453600" y="4768920"/>
            <a:ext cx="2286000" cy="177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9326520" y="2139840"/>
            <a:ext cx="2578320" cy="25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318960" y="18252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6) Жгучие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39560" y="1319040"/>
            <a:ext cx="8116920" cy="53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693720" y="2655720"/>
            <a:ext cx="10515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П/р «Описание листьев растений по гербарным объектам»</a:t>
            </a: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 Light"/>
              </a:rPr>
              <a:t>Цель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: научиться осуществлять описание листа для живого объ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838080" y="365040"/>
            <a:ext cx="10515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2. Морфология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96880" y="1171440"/>
            <a:ext cx="896616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02060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ельвичия удивите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4600" y="1087560"/>
            <a:ext cx="5384880" cy="359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207040" y="1917720"/>
            <a:ext cx="643896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81900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нешнее строение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43000" y="1011240"/>
            <a:ext cx="1176336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2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9399600" y="192240"/>
            <a:ext cx="2352600" cy="65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857160" y="856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особы прикрепления листа к стебл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10009440" cy="53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1T08:37:47Z</dcterms:created>
  <dc:creator>Феоктистова Елена Николаевна</dc:creator>
  <dc:description/>
  <dc:language>en-US</dc:language>
  <cp:lastModifiedBy>Елена Феоктистова</cp:lastModifiedBy>
  <dcterms:modified xsi:type="dcterms:W3CDTF">2022-04-08T21:54:22Z</dcterms:modified>
  <cp:revision>23</cp:revision>
  <dc:subject/>
  <dc:title>Ли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