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41.jpeg" ContentType="image/jpeg"/>
  <Override PartName="/ppt/media/image14.jpeg" ContentType="image/jpeg"/>
  <Override PartName="/ppt/media/image23.jpeg" ContentType="image/jpeg"/>
  <Override PartName="/ppt/media/image8.png" ContentType="image/png"/>
  <Override PartName="/ppt/media/image52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10.jpeg" ContentType="image/jpeg"/>
  <Override PartName="/ppt/media/image35.jpeg" ContentType="image/jpeg"/>
  <Override PartName="/ppt/media/image1.jpeg" ContentType="image/jpeg"/>
  <Override PartName="/ppt/media/image9.png" ContentType="image/png"/>
  <Override PartName="/ppt/media/image22.jpeg" ContentType="image/jpeg"/>
  <Override PartName="/ppt/media/image61.jpeg" ContentType="image/jpeg"/>
  <Override PartName="/ppt/media/image25.png" ContentType="image/png"/>
  <Override PartName="/ppt/media/image19.jpeg" ContentType="image/jpeg"/>
  <Override PartName="/ppt/media/image27.png" ContentType="image/png"/>
  <Override PartName="/ppt/media/image33.jpeg" ContentType="image/jpeg"/>
  <Override PartName="/ppt/media/image6.jpeg" ContentType="image/jpeg"/>
  <Override PartName="/ppt/media/image21.jpeg" ContentType="image/jpeg"/>
  <Override PartName="/ppt/media/image5.jpeg" ContentType="image/jpeg"/>
  <Override PartName="/ppt/media/image26.jpeg" ContentType="image/jpeg"/>
  <Override PartName="/ppt/media/image32.jpeg" ContentType="image/jpeg"/>
  <Override PartName="/ppt/media/image39.jpeg" ContentType="image/jpeg"/>
  <Override PartName="/ppt/media/image17.png" ContentType="image/pn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1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29.jpeg" ContentType="image/jpeg"/>
  <Override PartName="/ppt/media/image12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2.jpeg" ContentType="image/jpeg"/>
  <Override PartName="/ppt/media/image31.png" ContentType="image/png"/>
  <Override PartName="/ppt/media/image34.jpeg" ContentType="image/jpeg"/>
  <Override PartName="/ppt/media/image43.jpeg" ContentType="image/jpeg"/>
  <Override PartName="/ppt/media/image44.jpeg" ContentType="image/jpeg"/>
  <Override PartName="/ppt/media/image45.png" ContentType="image/png"/>
  <Override PartName="/ppt/media/image47.jpeg" ContentType="image/jpeg"/>
  <Override PartName="/ppt/media/image48.png" ContentType="image/png"/>
  <Override PartName="/ppt/media/image49.jpeg" ContentType="image/jpeg"/>
  <Override PartName="/ppt/media/image50.jpeg" ContentType="image/jpeg"/>
  <Override PartName="/ppt/media/image4.jpeg" ContentType="image/jpeg"/>
  <Override PartName="/ppt/media/image51.png" ContentType="image/png"/>
  <Override PartName="/ppt/media/image53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media/image46.jpeg" ContentType="image/jpeg"/>
  <Override PartName="/ppt/media/image5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12193588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533520" y="763200"/>
            <a:ext cx="670248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9B4F93-A313-4605-9E0A-FF49FB2C09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24C382-F04C-4F3E-8C63-42C0F095ED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4C2D65-95E1-4BBA-BDA7-F468EA7B9C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AF932E-0A4E-4FB4-804E-2F66B93DDD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E4B3CA-6C85-4579-9F75-1DAE95015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9A0F62-C9D6-49EC-B7AA-6D8D0041B0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4D8668-2B91-4873-B064-B65B050830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0566F8-8E1C-4253-9113-70E2E7C309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940459-5E1D-4DC6-9770-31DEA20B52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40E605-7CD7-47A2-9197-6762FD7F5B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E1F25E-A905-4FB6-A5E6-D72FC84FB1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80E1A0-AD83-4721-8872-5F114577C1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443B9B-FF3F-4D1B-8B51-BA1567A1AA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80C529-8BC9-4CFA-9DFB-307C7364A7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BCF3C1-D32E-4DC4-80F0-A491749B10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4C5A01-57BC-4A22-BFC1-AEB12D21A8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3A3E8F-EA1C-481F-BCC6-2B0DCFDD85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F1865A-093B-4587-8570-4C510FE6B5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68D3EB-52C6-4AEC-8FC3-639A4F855F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3AE067-3B98-4B3E-A892-2123862522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8DF3B7-8391-4D97-969C-5F75D3D1B2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735F21-F0B4-47E2-80AD-9309B1AFE6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39599B-10A1-41F8-B9BC-6C7A139FBD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00FCF1-C8D7-4E0F-BE76-A92BA13A7A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477E15-DF74-4C9B-9A25-638BD5C42D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EA5B6A-B543-411F-918A-43AEAFB1AD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7DE8FD-CA2F-45A0-9957-5C10A0B099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F238A2-9E7A-43E1-8CD0-8361B1E7DC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6D6B12-2828-4F33-A5FC-E3A618668E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5241D6-3759-4B54-A9D4-61EF7642C7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C854E7-30B0-4709-AF69-0204E733FF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9F4063-CCEC-4843-AAD5-CEB613B401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1D1C09-F82C-49B7-B90C-F5B6D3B794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B2D5F0-AE5E-4841-86BF-9CF1220FDC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FB56DE-FB30-44A1-8DB9-68D22B17F1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BDD359-DCE5-402C-8F32-F588A484A9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505F74-DAC0-4240-B488-FAA793B821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54BF86-A824-4A2A-B235-96DE6809AF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F81F25-69DC-41EF-B030-C9B44D7112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0DD442-D73A-452E-842F-41CD0B9B4E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8D7942-74E1-4872-9874-B981A80D16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0513B0-638A-4BA4-B0A1-D5B4CB1CDD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09480" y="368136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23160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0948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31928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02872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09480" y="272520"/>
            <a:ext cx="1097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3160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1260360" y="2082960"/>
            <a:ext cx="9144000" cy="23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1000" spc="-1" strike="noStrike">
                <a:solidFill>
                  <a:srgbClr val="000000"/>
                </a:solidFill>
                <a:latin typeface="Calibri Light"/>
              </a:rPr>
              <a:t>Многообразие листьев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98280" y="82440"/>
            <a:ext cx="11981160" cy="670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"/>
          <p:cNvSpPr/>
          <p:nvPr/>
        </p:nvSpPr>
        <p:spPr>
          <a:xfrm>
            <a:off x="6969240" y="365040"/>
            <a:ext cx="438444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Раструб из прилистн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98280" y="111240"/>
            <a:ext cx="6023160" cy="451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5781600" y="2030400"/>
            <a:ext cx="631188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"/>
          <p:cNvSpPr/>
          <p:nvPr/>
        </p:nvSpPr>
        <p:spPr>
          <a:xfrm>
            <a:off x="895320" y="-968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3. Простые и сложные лист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179280" y="885960"/>
            <a:ext cx="7848720" cy="588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404640" y="192240"/>
            <a:ext cx="11376360" cy="653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"/>
          <p:cNvSpPr/>
          <p:nvPr/>
        </p:nvSpPr>
        <p:spPr>
          <a:xfrm>
            <a:off x="250920" y="249120"/>
            <a:ext cx="1184724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972800"/>
                <a:tab algn="l" pos="114300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4. Морфологические особенности пластинки ли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1994040" y="990720"/>
            <a:ext cx="6379920" cy="570204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3"/>
          <p:cNvSpPr/>
          <p:nvPr/>
        </p:nvSpPr>
        <p:spPr>
          <a:xfrm flipH="1">
            <a:off x="8614800" y="1574640"/>
            <a:ext cx="3011400" cy="1555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ормы листовых пласти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7497720" y="923760"/>
            <a:ext cx="4318200" cy="13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Формы верхушки, основания и края лист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70358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"/>
          <p:cNvSpPr/>
          <p:nvPr/>
        </p:nvSpPr>
        <p:spPr>
          <a:xfrm>
            <a:off x="925560" y="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Особые формы листовых пластин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262080" y="1187280"/>
            <a:ext cx="10053360" cy="423252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3"/>
          <p:cNvSpPr/>
          <p:nvPr/>
        </p:nvSpPr>
        <p:spPr>
          <a:xfrm flipH="1">
            <a:off x="305640" y="5688000"/>
            <a:ext cx="10009080" cy="368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гольчатая   Сердцевидная          Почковидная        Стреловидная       Копьевидная          Серповид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"/>
          <p:cNvSpPr/>
          <p:nvPr/>
        </p:nvSpPr>
        <p:spPr>
          <a:xfrm>
            <a:off x="8163000" y="1174680"/>
            <a:ext cx="371952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Формы расчленения пластинки простого лис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98280" y="92160"/>
            <a:ext cx="7804440" cy="676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1414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828720" y="8568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5. Жилкование ли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2"/>
          <p:cNvSpPr/>
          <p:nvPr/>
        </p:nvSpPr>
        <p:spPr>
          <a:xfrm>
            <a:off x="374760" y="1411200"/>
            <a:ext cx="3716280" cy="2043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ихотомическое у примитивных голосеменных и папорот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4248000" y="1300320"/>
            <a:ext cx="4772160" cy="537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Функции лис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838080" y="1825560"/>
            <a:ext cx="41022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12640" indent="-512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тосинте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ранспир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азообм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6095880" y="1825560"/>
            <a:ext cx="5411880" cy="4351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 Вегетативное размно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. Запасание веществ и 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. Защ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7. Дополнительное пит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8. Удаление ядовитых ве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828720" y="8568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5. Жилкование ли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394200" y="1411200"/>
            <a:ext cx="8104320" cy="581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араллельное и дуговидное у однодоль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1203480" y="2233440"/>
            <a:ext cx="6891120" cy="44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"/>
          <p:cNvSpPr/>
          <p:nvPr/>
        </p:nvSpPr>
        <p:spPr>
          <a:xfrm>
            <a:off x="838080" y="365040"/>
            <a:ext cx="65739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Жилкование у двудоль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4821120" y="1954080"/>
            <a:ext cx="6521400" cy="488952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3"/>
          <p:cNvSpPr/>
          <p:nvPr/>
        </p:nvSpPr>
        <p:spPr>
          <a:xfrm>
            <a:off x="1585800" y="1305000"/>
            <a:ext cx="2330640" cy="482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 Light"/>
              </a:rPr>
              <a:t>Перистое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4"/>
          <p:cNvSpPr/>
          <p:nvPr/>
        </p:nvSpPr>
        <p:spPr>
          <a:xfrm>
            <a:off x="4613400" y="1185840"/>
            <a:ext cx="2330280" cy="484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 Light"/>
              </a:rPr>
              <a:t>Пальчатое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5"/>
          <p:cNvSpPr/>
          <p:nvPr/>
        </p:nvSpPr>
        <p:spPr>
          <a:xfrm>
            <a:off x="20520" y="1941480"/>
            <a:ext cx="2262240" cy="851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 Light"/>
              </a:rPr>
              <a:t>Перистокрае-бежно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6"/>
          <p:cNvSpPr/>
          <p:nvPr/>
        </p:nvSpPr>
        <p:spPr>
          <a:xfrm>
            <a:off x="2773440" y="1954080"/>
            <a:ext cx="2108160" cy="851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 Light"/>
              </a:rPr>
              <a:t>Перистопет-левидно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7"/>
          <p:cNvSpPr/>
          <p:nvPr/>
        </p:nvSpPr>
        <p:spPr>
          <a:xfrm>
            <a:off x="1000080" y="2894040"/>
            <a:ext cx="2782800" cy="851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 Light"/>
              </a:rPr>
              <a:t>Перистосетчато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7232760" y="1311120"/>
            <a:ext cx="3633840" cy="851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 Light"/>
              </a:rPr>
              <a:t>Пальчатокраебежно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9"/>
          <p:cNvSpPr/>
          <p:nvPr/>
        </p:nvSpPr>
        <p:spPr>
          <a:xfrm>
            <a:off x="7272360" y="85680"/>
            <a:ext cx="3633840" cy="851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 Light"/>
              </a:rPr>
              <a:t>Пальчатопетлевидно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0"/>
          <p:cNvSpPr/>
          <p:nvPr/>
        </p:nvSpPr>
        <p:spPr>
          <a:xfrm>
            <a:off x="9315360" y="682560"/>
            <a:ext cx="2876760" cy="851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 Light"/>
              </a:rPr>
              <a:t>Пальчатосетчато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282040" y="791640"/>
            <a:ext cx="190800" cy="513360"/>
            <a:chOff x="2282040" y="791640"/>
            <a:chExt cx="190800" cy="513360"/>
          </a:xfrm>
        </p:grpSpPr>
        <p:cxnSp>
          <p:nvCxnSpPr>
            <p:cNvPr id="106" name="AutoShape 11"/>
            <p:cNvCxnSpPr/>
            <p:nvPr/>
          </p:nvCxnSpPr>
          <p:spPr>
            <a:xfrm flipH="1">
              <a:off x="2282040" y="791640"/>
              <a:ext cx="191160" cy="5137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7" name=""/>
            <p:cNvSpPr txBox="1"/>
            <p:nvPr/>
          </p:nvSpPr>
          <p:spPr>
            <a:xfrm>
              <a:off x="2282400" y="791640"/>
              <a:ext cx="190440" cy="513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5319720" y="755640"/>
            <a:ext cx="248040" cy="349560"/>
            <a:chOff x="5319720" y="755640"/>
            <a:chExt cx="248040" cy="349560"/>
          </a:xfrm>
        </p:grpSpPr>
        <p:cxnSp>
          <p:nvCxnSpPr>
            <p:cNvPr id="109" name="AutoShape 12"/>
            <p:cNvCxnSpPr/>
            <p:nvPr/>
          </p:nvCxnSpPr>
          <p:spPr>
            <a:xfrm>
              <a:off x="5319720" y="755640"/>
              <a:ext cx="248400" cy="3499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0" name=""/>
            <p:cNvSpPr txBox="1"/>
            <p:nvPr/>
          </p:nvSpPr>
          <p:spPr>
            <a:xfrm>
              <a:off x="5319720" y="755640"/>
              <a:ext cx="247680" cy="349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975600" y="1787040"/>
            <a:ext cx="957600" cy="297360"/>
            <a:chOff x="975600" y="1787040"/>
            <a:chExt cx="957600" cy="297360"/>
          </a:xfrm>
        </p:grpSpPr>
        <p:cxnSp>
          <p:nvCxnSpPr>
            <p:cNvPr id="112" name="AutoShape 13"/>
            <p:cNvCxnSpPr/>
            <p:nvPr/>
          </p:nvCxnSpPr>
          <p:spPr>
            <a:xfrm flipH="1">
              <a:off x="975600" y="1787040"/>
              <a:ext cx="957960" cy="2977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3" name=""/>
            <p:cNvSpPr txBox="1"/>
            <p:nvPr/>
          </p:nvSpPr>
          <p:spPr>
            <a:xfrm>
              <a:off x="975960" y="1787040"/>
              <a:ext cx="957240" cy="297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2933280" y="1715760"/>
            <a:ext cx="560880" cy="368640"/>
            <a:chOff x="2933280" y="1715760"/>
            <a:chExt cx="560880" cy="368640"/>
          </a:xfrm>
        </p:grpSpPr>
        <p:cxnSp>
          <p:nvCxnSpPr>
            <p:cNvPr id="115" name="AutoShape 14"/>
            <p:cNvCxnSpPr/>
            <p:nvPr/>
          </p:nvCxnSpPr>
          <p:spPr>
            <a:xfrm>
              <a:off x="2933280" y="1715760"/>
              <a:ext cx="561240" cy="3690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6" name=""/>
            <p:cNvSpPr txBox="1"/>
            <p:nvPr/>
          </p:nvSpPr>
          <p:spPr>
            <a:xfrm>
              <a:off x="2933280" y="1715760"/>
              <a:ext cx="560520" cy="368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161440" y="1722240"/>
            <a:ext cx="268560" cy="1425240"/>
            <a:chOff x="2161440" y="1722240"/>
            <a:chExt cx="268560" cy="1425240"/>
          </a:xfrm>
        </p:grpSpPr>
        <p:cxnSp>
          <p:nvCxnSpPr>
            <p:cNvPr id="118" name="AutoShape 15"/>
            <p:cNvCxnSpPr/>
            <p:nvPr/>
          </p:nvCxnSpPr>
          <p:spPr>
            <a:xfrm flipH="1">
              <a:off x="2161440" y="1722240"/>
              <a:ext cx="268920" cy="14256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9" name=""/>
            <p:cNvSpPr txBox="1"/>
            <p:nvPr/>
          </p:nvSpPr>
          <p:spPr>
            <a:xfrm>
              <a:off x="2161800" y="1722240"/>
              <a:ext cx="268200" cy="1425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6719040" y="669600"/>
            <a:ext cx="685080" cy="659160"/>
            <a:chOff x="6719040" y="669600"/>
            <a:chExt cx="685080" cy="659160"/>
          </a:xfrm>
        </p:grpSpPr>
        <p:cxnSp>
          <p:nvCxnSpPr>
            <p:cNvPr id="121" name="AutoShape 16"/>
            <p:cNvCxnSpPr/>
            <p:nvPr/>
          </p:nvCxnSpPr>
          <p:spPr>
            <a:xfrm flipV="1">
              <a:off x="6719400" y="669600"/>
              <a:ext cx="685080" cy="6595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2" name=""/>
            <p:cNvSpPr txBox="1"/>
            <p:nvPr/>
          </p:nvSpPr>
          <p:spPr>
            <a:xfrm rot="10800000">
              <a:off x="6719040" y="669600"/>
              <a:ext cx="684360" cy="658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6719760" y="1552320"/>
            <a:ext cx="602280" cy="130320"/>
            <a:chOff x="6719760" y="1552320"/>
            <a:chExt cx="602280" cy="130320"/>
          </a:xfrm>
        </p:grpSpPr>
        <p:cxnSp>
          <p:nvCxnSpPr>
            <p:cNvPr id="124" name="AutoShape 17"/>
            <p:cNvCxnSpPr/>
            <p:nvPr/>
          </p:nvCxnSpPr>
          <p:spPr>
            <a:xfrm>
              <a:off x="6719760" y="1552320"/>
              <a:ext cx="602640" cy="1306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5" name=""/>
            <p:cNvSpPr txBox="1"/>
            <p:nvPr/>
          </p:nvSpPr>
          <p:spPr>
            <a:xfrm>
              <a:off x="6719760" y="1552320"/>
              <a:ext cx="601920" cy="129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6761880" y="1106280"/>
            <a:ext cx="2553120" cy="328680"/>
            <a:chOff x="6761880" y="1106280"/>
            <a:chExt cx="2553120" cy="328680"/>
          </a:xfrm>
        </p:grpSpPr>
        <p:cxnSp>
          <p:nvCxnSpPr>
            <p:cNvPr id="127" name="AutoShape 18"/>
            <p:cNvCxnSpPr/>
            <p:nvPr/>
          </p:nvCxnSpPr>
          <p:spPr>
            <a:xfrm flipV="1">
              <a:off x="6762240" y="1106280"/>
              <a:ext cx="2553120" cy="3290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8" name=""/>
            <p:cNvSpPr txBox="1"/>
            <p:nvPr/>
          </p:nvSpPr>
          <p:spPr>
            <a:xfrm rot="10800000">
              <a:off x="6761880" y="1106280"/>
              <a:ext cx="2552760" cy="328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"/>
          <p:cNvSpPr/>
          <p:nvPr/>
        </p:nvSpPr>
        <p:spPr>
          <a:xfrm>
            <a:off x="255600" y="2318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6. Анатомия листа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1) Пластинка ли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74520" y="1754280"/>
            <a:ext cx="8261280" cy="49021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"/>
          <p:cNvPicPr/>
          <p:nvPr/>
        </p:nvPicPr>
        <p:blipFill>
          <a:blip r:embed="rId2"/>
          <a:stretch/>
        </p:blipFill>
        <p:spPr>
          <a:xfrm>
            <a:off x="7112160" y="-34920"/>
            <a:ext cx="5079960" cy="357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"/>
          <p:cNvSpPr/>
          <p:nvPr/>
        </p:nvSpPr>
        <p:spPr>
          <a:xfrm>
            <a:off x="376200" y="133200"/>
            <a:ext cx="10515600" cy="13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Хвоинка сос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271440" y="1276200"/>
            <a:ext cx="7313760" cy="548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117360" y="101520"/>
            <a:ext cx="11971440" cy="665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"/>
          <p:cNvSpPr/>
          <p:nvPr/>
        </p:nvSpPr>
        <p:spPr>
          <a:xfrm>
            <a:off x="385920" y="20160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Морфологические особенности растений разных экологических услов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2"/>
          <p:cNvSpPr/>
          <p:nvPr/>
        </p:nvSpPr>
        <p:spPr>
          <a:xfrm>
            <a:off x="539640" y="1608120"/>
            <a:ext cx="7699320" cy="581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Дорсивентральные и 2. Изолатера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rcRect l="-686" t="0" r="0" b="0"/>
          <a:stretch/>
        </p:blipFill>
        <p:spPr>
          <a:xfrm>
            <a:off x="1585800" y="2192400"/>
            <a:ext cx="8323200" cy="45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"/>
          <p:cNvSpPr/>
          <p:nvPr/>
        </p:nvSpPr>
        <p:spPr>
          <a:xfrm>
            <a:off x="192240" y="1634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Морфологические особенности растений разных экологических услов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2"/>
          <p:cNvSpPr/>
          <p:nvPr/>
        </p:nvSpPr>
        <p:spPr>
          <a:xfrm>
            <a:off x="414360" y="1503360"/>
            <a:ext cx="4368600" cy="581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Центричес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3524400" y="1371600"/>
            <a:ext cx="7073640" cy="53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" descr=""/>
          <p:cNvPicPr/>
          <p:nvPr/>
        </p:nvPicPr>
        <p:blipFill>
          <a:blip r:embed="rId1"/>
          <a:stretch/>
        </p:blipFill>
        <p:spPr>
          <a:xfrm>
            <a:off x="19256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"/>
          <p:cNvSpPr/>
          <p:nvPr/>
        </p:nvSpPr>
        <p:spPr>
          <a:xfrm>
            <a:off x="627120" y="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Строение жил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750960" y="1028880"/>
            <a:ext cx="8672400" cy="574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"/>
          <p:cNvSpPr/>
          <p:nvPr/>
        </p:nvSpPr>
        <p:spPr>
          <a:xfrm>
            <a:off x="366840" y="8568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Черешок и основание ли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222120" y="1181160"/>
            <a:ext cx="5923080" cy="3930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"/>
          <p:cNvPicPr/>
          <p:nvPr/>
        </p:nvPicPr>
        <p:blipFill>
          <a:blip r:embed="rId2"/>
          <a:stretch/>
        </p:blipFill>
        <p:spPr>
          <a:xfrm>
            <a:off x="5767560" y="3218040"/>
            <a:ext cx="6286320" cy="35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1. Образование ли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5129280" y="153504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204840" y="1690560"/>
            <a:ext cx="4684680" cy="438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"/>
          <p:cNvSpPr/>
          <p:nvPr/>
        </p:nvSpPr>
        <p:spPr>
          <a:xfrm>
            <a:off x="846000" y="237960"/>
            <a:ext cx="10515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Фазы развития листье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1460520" y="870120"/>
            <a:ext cx="7905600" cy="592272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3"/>
          <p:cNvSpPr/>
          <p:nvPr/>
        </p:nvSpPr>
        <p:spPr>
          <a:xfrm>
            <a:off x="7265880" y="438120"/>
            <a:ext cx="3740400" cy="368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ргиналь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838080" y="87480"/>
            <a:ext cx="10515600" cy="9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8. Видоизменения листь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695160" y="746280"/>
            <a:ext cx="9583920" cy="601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"/>
          <p:cNvSpPr/>
          <p:nvPr/>
        </p:nvSpPr>
        <p:spPr>
          <a:xfrm>
            <a:off x="492120" y="133200"/>
            <a:ext cx="10515600" cy="13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1) Колюч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492120" y="1459080"/>
            <a:ext cx="6111720" cy="40748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"/>
          <p:cNvPicPr/>
          <p:nvPr/>
        </p:nvPicPr>
        <p:blipFill>
          <a:blip r:embed="rId2"/>
          <a:stretch/>
        </p:blipFill>
        <p:spPr>
          <a:xfrm>
            <a:off x="5267160" y="714240"/>
            <a:ext cx="6726240" cy="14907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"/>
          <p:cNvPicPr/>
          <p:nvPr/>
        </p:nvPicPr>
        <p:blipFill>
          <a:blip r:embed="rId3"/>
          <a:stretch/>
        </p:blipFill>
        <p:spPr>
          <a:xfrm>
            <a:off x="6603840" y="2292480"/>
            <a:ext cx="5383440" cy="1923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"/>
          <p:cNvPicPr/>
          <p:nvPr/>
        </p:nvPicPr>
        <p:blipFill>
          <a:blip r:embed="rId4"/>
          <a:stretch/>
        </p:blipFill>
        <p:spPr>
          <a:xfrm>
            <a:off x="5973840" y="3932280"/>
            <a:ext cx="4093920" cy="284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"/>
          <p:cNvSpPr/>
          <p:nvPr/>
        </p:nvSpPr>
        <p:spPr>
          <a:xfrm>
            <a:off x="231840" y="0"/>
            <a:ext cx="1051560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1. Лист камел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127080" y="826920"/>
            <a:ext cx="8642160" cy="596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"/>
          <p:cNvSpPr/>
          <p:nvPr/>
        </p:nvSpPr>
        <p:spPr>
          <a:xfrm>
            <a:off x="144360" y="9360"/>
            <a:ext cx="10515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2. Лист хвоинка сос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4697280" y="923760"/>
            <a:ext cx="7415280" cy="5932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"/>
          <p:cNvPicPr/>
          <p:nvPr/>
        </p:nvPicPr>
        <p:blipFill>
          <a:blip r:embed="rId2"/>
          <a:stretch/>
        </p:blipFill>
        <p:spPr>
          <a:xfrm>
            <a:off x="73080" y="923760"/>
            <a:ext cx="4697280" cy="348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"/>
          <p:cNvSpPr/>
          <p:nvPr/>
        </p:nvSpPr>
        <p:spPr>
          <a:xfrm>
            <a:off x="530280" y="284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2) Сочные лист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355680" y="1117440"/>
            <a:ext cx="6757920" cy="5067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5295960" y="3475080"/>
            <a:ext cx="5938920" cy="315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"/>
          <p:cNvSpPr/>
          <p:nvPr/>
        </p:nvSpPr>
        <p:spPr>
          <a:xfrm>
            <a:off x="270000" y="1634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3) Ус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433440" y="1174680"/>
            <a:ext cx="6535800" cy="44211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" descr=""/>
          <p:cNvPicPr/>
          <p:nvPr/>
        </p:nvPicPr>
        <p:blipFill>
          <a:blip r:embed="rId2"/>
          <a:stretch/>
        </p:blipFill>
        <p:spPr>
          <a:xfrm>
            <a:off x="7130880" y="487440"/>
            <a:ext cx="4900680" cy="551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"/>
          <p:cNvSpPr/>
          <p:nvPr/>
        </p:nvSpPr>
        <p:spPr>
          <a:xfrm>
            <a:off x="212760" y="14436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4) Ловчие лист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345960" y="1203480"/>
            <a:ext cx="4145040" cy="31082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"/>
          <p:cNvPicPr/>
          <p:nvPr/>
        </p:nvPicPr>
        <p:blipFill>
          <a:blip r:embed="rId2"/>
          <a:stretch/>
        </p:blipFill>
        <p:spPr>
          <a:xfrm>
            <a:off x="8486640" y="144360"/>
            <a:ext cx="3519720" cy="3517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"/>
          <p:cNvPicPr/>
          <p:nvPr/>
        </p:nvPicPr>
        <p:blipFill>
          <a:blip r:embed="rId3"/>
          <a:stretch/>
        </p:blipFill>
        <p:spPr>
          <a:xfrm>
            <a:off x="4726080" y="144360"/>
            <a:ext cx="3527280" cy="43592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"/>
          <p:cNvPicPr/>
          <p:nvPr/>
        </p:nvPicPr>
        <p:blipFill>
          <a:blip r:embed="rId4"/>
          <a:stretch/>
        </p:blipFill>
        <p:spPr>
          <a:xfrm>
            <a:off x="981000" y="4051440"/>
            <a:ext cx="4803840" cy="2701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"/>
          <p:cNvPicPr/>
          <p:nvPr/>
        </p:nvPicPr>
        <p:blipFill>
          <a:blip r:embed="rId5"/>
          <a:stretch/>
        </p:blipFill>
        <p:spPr>
          <a:xfrm>
            <a:off x="7572240" y="3890880"/>
            <a:ext cx="3705480" cy="277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1711440" y="130320"/>
            <a:ext cx="8030880" cy="657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"/>
          <p:cNvSpPr/>
          <p:nvPr/>
        </p:nvSpPr>
        <p:spPr>
          <a:xfrm>
            <a:off x="347760" y="15408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5) Листья-чешу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182520" y="1366920"/>
            <a:ext cx="5843520" cy="48988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" descr=""/>
          <p:cNvPicPr/>
          <p:nvPr/>
        </p:nvPicPr>
        <p:blipFill>
          <a:blip r:embed="rId2"/>
          <a:stretch/>
        </p:blipFill>
        <p:spPr>
          <a:xfrm>
            <a:off x="6189840" y="243000"/>
            <a:ext cx="5678280" cy="43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9288360" y="365040"/>
            <a:ext cx="2616480" cy="1695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3"/>
          <a:stretch/>
        </p:blipFill>
        <p:spPr>
          <a:xfrm>
            <a:off x="646200" y="5457960"/>
            <a:ext cx="3390840" cy="1400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4"/>
          <a:stretch/>
        </p:blipFill>
        <p:spPr>
          <a:xfrm>
            <a:off x="9453600" y="4768920"/>
            <a:ext cx="2286000" cy="1774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5"/>
          <a:stretch/>
        </p:blipFill>
        <p:spPr>
          <a:xfrm>
            <a:off x="9326520" y="2139840"/>
            <a:ext cx="2578320" cy="257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"/>
          <p:cNvSpPr/>
          <p:nvPr/>
        </p:nvSpPr>
        <p:spPr>
          <a:xfrm>
            <a:off x="318960" y="18252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6) Жгучие лист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439560" y="1319040"/>
            <a:ext cx="8116920" cy="538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"/>
          <p:cNvSpPr/>
          <p:nvPr/>
        </p:nvSpPr>
        <p:spPr>
          <a:xfrm>
            <a:off x="693720" y="2655720"/>
            <a:ext cx="10515600" cy="13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П/р «Описание листьев растений по гербарным объектам»</a:t>
            </a:r>
            <a:br>
              <a:rPr sz="4000"/>
            </a:br>
            <a:br>
              <a:rPr sz="4000"/>
            </a:br>
            <a:r>
              <a:rPr b="0" lang="ru-RU" sz="4000" spc="-1" strike="noStrike" u="sng">
                <a:solidFill>
                  <a:srgbClr val="000000"/>
                </a:solidFill>
                <a:uFillTx/>
                <a:latin typeface="Calibri Light"/>
              </a:rPr>
              <a:t>Цель</a:t>
            </a: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: научиться осуществлять описание листа для живого объе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838080" y="365040"/>
            <a:ext cx="1051560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2. Морфология ли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596880" y="1171440"/>
            <a:ext cx="8966160" cy="503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>
            <a:off x="1020600" y="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Вельвичия удивитель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74600" y="1087560"/>
            <a:ext cx="5384880" cy="3590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5207040" y="1917720"/>
            <a:ext cx="6438960" cy="483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"/>
          <p:cNvSpPr/>
          <p:nvPr/>
        </p:nvSpPr>
        <p:spPr>
          <a:xfrm>
            <a:off x="819000" y="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Внешнее строение ли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43000" y="1011240"/>
            <a:ext cx="11763360" cy="56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34640" cy="68421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9399600" y="192240"/>
            <a:ext cx="2352600" cy="656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857160" y="8568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Способы прикрепления листа к стебл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857160" y="1285920"/>
            <a:ext cx="10009440" cy="5381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01T08:37:47Z</dcterms:created>
  <dc:creator>Феоктистова Елена Николаевна</dc:creator>
  <dc:description/>
  <dc:language>en-US</dc:language>
  <cp:lastModifiedBy>Елена Феоктистова</cp:lastModifiedBy>
  <dcterms:modified xsi:type="dcterms:W3CDTF">2022-04-08T21:54:22Z</dcterms:modified>
  <cp:revision>23</cp:revision>
  <dc:subject/>
  <dc:title>Лис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