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0372-8E9A-4D6A-8B8B-CF2E99E904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9AF3-E94F-4D1E-A1A6-76A42BC84B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AB7A-0EBE-4E39-86D1-D34038BA2A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EE7-6116-4141-BCFA-2D66ABDE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A3E-FD53-4B62-8060-20E783E9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C0B-F108-4CD1-9958-C4052E22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41A-7669-4D7C-B84D-948DB550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42F3-B5DC-44E4-92B0-258BAE7F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2A68-2311-487E-B77F-BB1C1602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0713-686B-467E-BBD7-7C6D8468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518E-4290-4E67-87BD-32E5DC1E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65A7-33A4-4B4C-905D-B3159C38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B7F7-E356-488A-BE94-A3A89B7E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48E6-1702-4EDF-8936-11E420BA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EDD-9E6E-41D1-B2BF-BD6CECCA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279E-D8CC-4BD0-9E46-962B3D88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F6CE-62E3-4D15-8B3F-3AACA82C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A21C-40CA-4CAA-8CB4-33BEFAEF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574F-C1F5-42B9-94FF-7E446163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200C-F466-4F63-825A-1AF09DB8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78F-E12B-426F-AF5C-5531EF0F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937-A2B3-400F-A5E3-E4C10C39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392-27F8-433E-80E0-E659F175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E81-6286-4C3C-8B48-12A0E490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2A3-7DA9-4C19-8E16-CA5F8A59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78E-C24C-479B-9643-1A799A37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895-F112-4E8B-8805-BBB2B41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1113-4EC1-4740-99BC-3AC75FC5B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46FC-AEA3-440A-A53F-1ECCE40F8A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571920" y="765000"/>
            <a:ext cx="518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УРАВН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(НАЙДИ ОШИБКУ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оробку с конфетами добавили 16 конфет и разделили их поровну между 8 детьми. Каждый получил по 5 конфет . Сколько конфет было в коробке снача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: х+16:8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+2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+16:8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6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1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 (-∞; -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U[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;+∞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rId2" action="ppaction://hlinksldjump"/>
          </p:cNvPr>
          <p:cNvSpPr/>
          <p:nvPr/>
        </p:nvSpPr>
        <p:spPr>
          <a:xfrm>
            <a:off x="8172360" y="5805360"/>
            <a:ext cx="827280" cy="827280"/>
          </a:xfrm>
          <a:custGeom>
            <a:avLst/>
            <a:gdLst>
              <a:gd name="textAreaLeft" fmla="*/ 53640 w 827280"/>
              <a:gd name="textAreaRight" fmla="*/ 773640 w 82728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я в 4 раза старше Юли. Сколько лет каждой девочке, если Оля на 12 лет старше Ю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ля –х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я-4+х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+х+х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х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  Юле 8 лет, Оле 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rId2" action="ppaction://hlinksldjump"/>
          </p:cNvPr>
          <p:cNvSpPr/>
          <p:nvPr/>
        </p:nvSpPr>
        <p:spPr>
          <a:xfrm>
            <a:off x="7093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2"/>
          <p:cNvSpPr txBox="1"/>
          <p:nvPr/>
        </p:nvSpPr>
        <p:spPr>
          <a:xfrm>
            <a:off x="4716360" y="5516640"/>
            <a:ext cx="28908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WordArt 22"/>
          <p:cNvSpPr txBox="1"/>
          <p:nvPr/>
        </p:nvSpPr>
        <p:spPr>
          <a:xfrm>
            <a:off x="3924360" y="494172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WordArt 22"/>
          <p:cNvSpPr txBox="1"/>
          <p:nvPr/>
        </p:nvSpPr>
        <p:spPr>
          <a:xfrm>
            <a:off x="5580000" y="494172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11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ано:  учителем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ОУ «Большеямашевская СОШ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иков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вашской Республ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ьдер Ириной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рман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см.gif"/>
          <p:cNvPicPr/>
          <p:nvPr/>
        </p:nvPicPr>
        <p:blipFill>
          <a:blip r:embed="rId1"/>
          <a:stretch/>
        </p:blipFill>
        <p:spPr>
          <a:xfrm>
            <a:off x="826920" y="2421000"/>
            <a:ext cx="2286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499760" y="1500120"/>
            <a:ext cx="7186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.allday.ru/uploads/posts/2009-08/thumbs/1250058141_1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cboe.net/Teachers/Durham_Sharon/images/918F9422010B4BB0B160956D6B9D4E3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utkonos.ru/images/it/027/008/006/1238197P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28640" cy="10000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3"/>
          <a:stretch/>
        </p:blipFill>
        <p:spPr>
          <a:xfrm>
            <a:off x="428760" y="2857680"/>
            <a:ext cx="1011240" cy="996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Мои документы\Мои рисунки\+14448-800x800.jpg"/>
          <p:cNvPicPr/>
          <p:nvPr/>
        </p:nvPicPr>
        <p:blipFill>
          <a:blip r:embed="rId4"/>
          <a:stretch/>
        </p:blipFill>
        <p:spPr>
          <a:xfrm>
            <a:off x="139680" y="4138560"/>
            <a:ext cx="1476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258920" y="333360"/>
            <a:ext cx="66978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Математику нельзя изучать, 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</a:rPr>
              <a:t>наблюдая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как это делает сосед.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ите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ите задачу, составив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908000" y="2276640"/>
            <a:ext cx="827280" cy="720720"/>
          </a:xfrm>
          <a:custGeom>
            <a:avLst/>
            <a:gdLst>
              <a:gd name="textAreaLeft" fmla="*/ 46440 w 827280"/>
              <a:gd name="textAreaRight" fmla="*/ 780840 w 8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4792" h="21600">
                <a:moveTo>
                  <a:pt x="0" y="0"/>
                </a:moveTo>
                <a:lnTo>
                  <a:pt x="24792" y="0"/>
                </a:lnTo>
                <a:lnTo>
                  <a:pt x="24792" y="21600"/>
                </a:lnTo>
                <a:lnTo>
                  <a:pt x="0" y="21600"/>
                </a:lnTo>
                <a:close/>
              </a:path>
              <a:path fill="lightenLess" w="24792" h="21600">
                <a:moveTo>
                  <a:pt x="0" y="0"/>
                </a:moveTo>
                <a:lnTo>
                  <a:pt x="24792" y="0"/>
                </a:lnTo>
                <a:lnTo>
                  <a:pt x="23392" y="1400"/>
                </a:lnTo>
                <a:lnTo>
                  <a:pt x="1400" y="1400"/>
                </a:lnTo>
                <a:close/>
              </a:path>
              <a:path fill="darken" w="24792" h="21600">
                <a:moveTo>
                  <a:pt x="24792" y="0"/>
                </a:moveTo>
                <a:lnTo>
                  <a:pt x="24792" y="21600"/>
                </a:lnTo>
                <a:lnTo>
                  <a:pt x="23392" y="20200"/>
                </a:lnTo>
                <a:lnTo>
                  <a:pt x="23392" y="1400"/>
                </a:lnTo>
                <a:close/>
              </a:path>
              <a:path fill="darkenLess" w="24792" h="21600">
                <a:moveTo>
                  <a:pt x="2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92" y="20200"/>
                </a:lnTo>
                <a:close/>
              </a:path>
              <a:path fill="lighten" w="2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3132000" y="2276640"/>
            <a:ext cx="792360" cy="7207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46" h="21600">
                <a:moveTo>
                  <a:pt x="0" y="0"/>
                </a:moveTo>
                <a:lnTo>
                  <a:pt x="23746" y="0"/>
                </a:lnTo>
                <a:lnTo>
                  <a:pt x="23746" y="21600"/>
                </a:lnTo>
                <a:lnTo>
                  <a:pt x="0" y="21600"/>
                </a:lnTo>
                <a:close/>
              </a:path>
              <a:path fill="lightenLess" w="23746" h="21600">
                <a:moveTo>
                  <a:pt x="0" y="0"/>
                </a:moveTo>
                <a:lnTo>
                  <a:pt x="23746" y="0"/>
                </a:lnTo>
                <a:lnTo>
                  <a:pt x="22346" y="1400"/>
                </a:lnTo>
                <a:lnTo>
                  <a:pt x="1400" y="1400"/>
                </a:lnTo>
                <a:close/>
              </a:path>
              <a:path fill="darken" w="23746" h="21600">
                <a:moveTo>
                  <a:pt x="23746" y="0"/>
                </a:moveTo>
                <a:lnTo>
                  <a:pt x="23746" y="21600"/>
                </a:lnTo>
                <a:lnTo>
                  <a:pt x="22346" y="20200"/>
                </a:lnTo>
                <a:lnTo>
                  <a:pt x="22346" y="1400"/>
                </a:lnTo>
                <a:close/>
              </a:path>
              <a:path fill="darkenLess" w="23746" h="21600">
                <a:moveTo>
                  <a:pt x="23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46" y="20200"/>
                </a:lnTo>
                <a:close/>
              </a:path>
              <a:path fill="lighten" w="23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284720" y="227664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5364000" y="2276640"/>
            <a:ext cx="792360" cy="7207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46" h="21600">
                <a:moveTo>
                  <a:pt x="0" y="0"/>
                </a:moveTo>
                <a:lnTo>
                  <a:pt x="23746" y="0"/>
                </a:lnTo>
                <a:lnTo>
                  <a:pt x="23746" y="21600"/>
                </a:lnTo>
                <a:lnTo>
                  <a:pt x="0" y="21600"/>
                </a:lnTo>
                <a:close/>
              </a:path>
              <a:path fill="lightenLess" w="23746" h="21600">
                <a:moveTo>
                  <a:pt x="0" y="0"/>
                </a:moveTo>
                <a:lnTo>
                  <a:pt x="23746" y="0"/>
                </a:lnTo>
                <a:lnTo>
                  <a:pt x="22346" y="1400"/>
                </a:lnTo>
                <a:lnTo>
                  <a:pt x="1400" y="1400"/>
                </a:lnTo>
                <a:close/>
              </a:path>
              <a:path fill="darken" w="23746" h="21600">
                <a:moveTo>
                  <a:pt x="23746" y="0"/>
                </a:moveTo>
                <a:lnTo>
                  <a:pt x="23746" y="21600"/>
                </a:lnTo>
                <a:lnTo>
                  <a:pt x="22346" y="20200"/>
                </a:lnTo>
                <a:lnTo>
                  <a:pt x="22346" y="1400"/>
                </a:lnTo>
                <a:close/>
              </a:path>
              <a:path fill="darkenLess" w="23746" h="21600">
                <a:moveTo>
                  <a:pt x="23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46" y="20200"/>
                </a:lnTo>
                <a:close/>
              </a:path>
              <a:path fill="lighten" w="23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908000" y="407664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3132000" y="407664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4284720" y="407664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5435640" y="407664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 уравн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2х+1=77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х=78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=78:2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=3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х=3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>
            <a:hlinkClick r:id="rId2" action="ppaction://hlinksldjump"/>
          </p:cNvPr>
          <p:cNvSpPr/>
          <p:nvPr/>
        </p:nvSpPr>
        <p:spPr>
          <a:xfrm>
            <a:off x="7524720" y="5877000"/>
            <a:ext cx="754200" cy="682560"/>
          </a:xfrm>
          <a:custGeom>
            <a:avLst/>
            <a:gdLst>
              <a:gd name="textAreaLeft" fmla="*/ 43920 w 754200"/>
              <a:gd name="textAreaRight" fmla="*/ 710280 w 75420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866" h="21600">
                <a:moveTo>
                  <a:pt x="0" y="0"/>
                </a:moveTo>
                <a:lnTo>
                  <a:pt x="23866" y="0"/>
                </a:lnTo>
                <a:lnTo>
                  <a:pt x="23866" y="21600"/>
                </a:lnTo>
                <a:lnTo>
                  <a:pt x="0" y="21600"/>
                </a:lnTo>
                <a:close/>
              </a:path>
              <a:path fill="lightenLess" w="23866" h="21600">
                <a:moveTo>
                  <a:pt x="0" y="0"/>
                </a:moveTo>
                <a:lnTo>
                  <a:pt x="23866" y="0"/>
                </a:lnTo>
                <a:lnTo>
                  <a:pt x="22466" y="1400"/>
                </a:lnTo>
                <a:lnTo>
                  <a:pt x="1400" y="1400"/>
                </a:lnTo>
                <a:close/>
              </a:path>
              <a:path fill="darken" w="23866" h="21600">
                <a:moveTo>
                  <a:pt x="23866" y="0"/>
                </a:moveTo>
                <a:lnTo>
                  <a:pt x="23866" y="21600"/>
                </a:lnTo>
                <a:lnTo>
                  <a:pt x="22466" y="20200"/>
                </a:lnTo>
                <a:lnTo>
                  <a:pt x="22466" y="1400"/>
                </a:lnTo>
                <a:close/>
              </a:path>
              <a:path fill="darkenLess" w="23866" h="21600">
                <a:moveTo>
                  <a:pt x="23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66" y="20200"/>
                </a:lnTo>
                <a:close/>
              </a:path>
              <a:path fill="lighten" w="23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66" h="21600">
                <a:moveTo>
                  <a:pt x="11933" y="3837"/>
                </a:moveTo>
                <a:lnTo>
                  <a:pt x="14509" y="6448"/>
                </a:lnTo>
                <a:lnTo>
                  <a:pt x="14509" y="4707"/>
                </a:lnTo>
                <a:lnTo>
                  <a:pt x="16285" y="4707"/>
                </a:lnTo>
                <a:lnTo>
                  <a:pt x="16285" y="8224"/>
                </a:lnTo>
                <a:lnTo>
                  <a:pt x="18896" y="10800"/>
                </a:lnTo>
                <a:lnTo>
                  <a:pt x="17242" y="10800"/>
                </a:lnTo>
                <a:lnTo>
                  <a:pt x="17242" y="17989"/>
                </a:lnTo>
                <a:lnTo>
                  <a:pt x="6624" y="17989"/>
                </a:lnTo>
                <a:lnTo>
                  <a:pt x="6624" y="10800"/>
                </a:lnTo>
                <a:lnTo>
                  <a:pt x="4970" y="10800"/>
                </a:lnTo>
                <a:close/>
              </a:path>
              <a:path fill="darkenLess" w="23866" h="21600">
                <a:moveTo>
                  <a:pt x="14509" y="6448"/>
                </a:moveTo>
                <a:lnTo>
                  <a:pt x="14509" y="4707"/>
                </a:lnTo>
                <a:lnTo>
                  <a:pt x="16285" y="4707"/>
                </a:lnTo>
                <a:lnTo>
                  <a:pt x="16285" y="8224"/>
                </a:lnTo>
                <a:close/>
              </a:path>
              <a:path fill="darkenLess" w="23866" h="21600">
                <a:moveTo>
                  <a:pt x="11010" y="14299"/>
                </a:moveTo>
                <a:lnTo>
                  <a:pt x="12856" y="14299"/>
                </a:lnTo>
                <a:lnTo>
                  <a:pt x="12856" y="17989"/>
                </a:lnTo>
                <a:lnTo>
                  <a:pt x="17242" y="17989"/>
                </a:lnTo>
                <a:lnTo>
                  <a:pt x="17242" y="10800"/>
                </a:lnTo>
                <a:lnTo>
                  <a:pt x="6624" y="10800"/>
                </a:lnTo>
                <a:lnTo>
                  <a:pt x="6624" y="17989"/>
                </a:lnTo>
                <a:lnTo>
                  <a:pt x="11010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 уравнение 21-5х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  5х =21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х =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=5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 х =5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2" action="ppaction://hlinksldjump"/>
          </p:cNvPr>
          <p:cNvSpPr/>
          <p:nvPr/>
        </p:nvSpPr>
        <p:spPr>
          <a:xfrm>
            <a:off x="6948360" y="5661000"/>
            <a:ext cx="1008360" cy="934920"/>
          </a:xfrm>
          <a:custGeom>
            <a:avLst/>
            <a:gdLst>
              <a:gd name="textAreaLeft" fmla="*/ 60480 w 1008360"/>
              <a:gd name="textAreaRight" fmla="*/ 947880 w 100836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96" h="21600">
                <a:moveTo>
                  <a:pt x="0" y="0"/>
                </a:moveTo>
                <a:lnTo>
                  <a:pt x="23296" y="0"/>
                </a:lnTo>
                <a:lnTo>
                  <a:pt x="23296" y="21600"/>
                </a:lnTo>
                <a:lnTo>
                  <a:pt x="0" y="21600"/>
                </a:lnTo>
                <a:close/>
              </a:path>
              <a:path fill="lightenLess" w="23296" h="21600">
                <a:moveTo>
                  <a:pt x="0" y="0"/>
                </a:moveTo>
                <a:lnTo>
                  <a:pt x="23296" y="0"/>
                </a:lnTo>
                <a:lnTo>
                  <a:pt x="21896" y="1400"/>
                </a:lnTo>
                <a:lnTo>
                  <a:pt x="1400" y="1400"/>
                </a:lnTo>
                <a:close/>
              </a:path>
              <a:path fill="darken" w="23296" h="21600">
                <a:moveTo>
                  <a:pt x="23296" y="0"/>
                </a:moveTo>
                <a:lnTo>
                  <a:pt x="23296" y="21600"/>
                </a:lnTo>
                <a:lnTo>
                  <a:pt x="21896" y="20200"/>
                </a:lnTo>
                <a:lnTo>
                  <a:pt x="21896" y="1400"/>
                </a:lnTo>
                <a:close/>
              </a:path>
              <a:path fill="darkenLess" w="23296" h="21600">
                <a:moveTo>
                  <a:pt x="23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96" y="20200"/>
                </a:lnTo>
                <a:close/>
              </a:path>
              <a:path fill="lighten" w="23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96" h="21600">
                <a:moveTo>
                  <a:pt x="11648" y="3837"/>
                </a:moveTo>
                <a:lnTo>
                  <a:pt x="14224" y="6448"/>
                </a:lnTo>
                <a:lnTo>
                  <a:pt x="14224" y="4707"/>
                </a:lnTo>
                <a:lnTo>
                  <a:pt x="16000" y="4707"/>
                </a:lnTo>
                <a:lnTo>
                  <a:pt x="16000" y="8224"/>
                </a:lnTo>
                <a:lnTo>
                  <a:pt x="18611" y="10800"/>
                </a:lnTo>
                <a:lnTo>
                  <a:pt x="16957" y="10800"/>
                </a:lnTo>
                <a:lnTo>
                  <a:pt x="16957" y="17989"/>
                </a:lnTo>
                <a:lnTo>
                  <a:pt x="6339" y="17989"/>
                </a:lnTo>
                <a:lnTo>
                  <a:pt x="6339" y="10800"/>
                </a:lnTo>
                <a:lnTo>
                  <a:pt x="4685" y="10800"/>
                </a:lnTo>
                <a:close/>
              </a:path>
              <a:path fill="darkenLess" w="23296" h="21600">
                <a:moveTo>
                  <a:pt x="14224" y="6448"/>
                </a:moveTo>
                <a:lnTo>
                  <a:pt x="14224" y="4707"/>
                </a:lnTo>
                <a:lnTo>
                  <a:pt x="16000" y="4707"/>
                </a:lnTo>
                <a:lnTo>
                  <a:pt x="16000" y="8224"/>
                </a:lnTo>
                <a:close/>
              </a:path>
              <a:path fill="darkenLess" w="23296" h="21600">
                <a:moveTo>
                  <a:pt x="10725" y="14299"/>
                </a:moveTo>
                <a:lnTo>
                  <a:pt x="12571" y="14299"/>
                </a:lnTo>
                <a:lnTo>
                  <a:pt x="12571" y="17989"/>
                </a:lnTo>
                <a:lnTo>
                  <a:pt x="16957" y="17989"/>
                </a:lnTo>
                <a:lnTo>
                  <a:pt x="16957" y="10800"/>
                </a:lnTo>
                <a:lnTo>
                  <a:pt x="6339" y="10800"/>
                </a:lnTo>
                <a:lnTo>
                  <a:pt x="6339" y="17989"/>
                </a:lnTo>
                <a:lnTo>
                  <a:pt x="10725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у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(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-7)=0,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х-7=0.5*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х=5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х=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х =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х 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2" action="ppaction://hlinksldjump"/>
          </p:cNvPr>
          <p:cNvSpPr/>
          <p:nvPr/>
        </p:nvSpPr>
        <p:spPr>
          <a:xfrm>
            <a:off x="7164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 уравнение 10-(х-0,5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  х – 0,5=10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= 8+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=0,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 х =0,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rId2" action="ppaction://hlinksldjump"/>
          </p:cNvPr>
          <p:cNvSpPr/>
          <p:nvPr/>
        </p:nvSpPr>
        <p:spPr>
          <a:xfrm>
            <a:off x="6948360" y="5661000"/>
            <a:ext cx="1008360" cy="934920"/>
          </a:xfrm>
          <a:custGeom>
            <a:avLst/>
            <a:gdLst>
              <a:gd name="textAreaLeft" fmla="*/ 60480 w 1008360"/>
              <a:gd name="textAreaRight" fmla="*/ 947880 w 100836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96" h="21600">
                <a:moveTo>
                  <a:pt x="0" y="0"/>
                </a:moveTo>
                <a:lnTo>
                  <a:pt x="23296" y="0"/>
                </a:lnTo>
                <a:lnTo>
                  <a:pt x="23296" y="21600"/>
                </a:lnTo>
                <a:lnTo>
                  <a:pt x="0" y="21600"/>
                </a:lnTo>
                <a:close/>
              </a:path>
              <a:path fill="lightenLess" w="23296" h="21600">
                <a:moveTo>
                  <a:pt x="0" y="0"/>
                </a:moveTo>
                <a:lnTo>
                  <a:pt x="23296" y="0"/>
                </a:lnTo>
                <a:lnTo>
                  <a:pt x="21896" y="1400"/>
                </a:lnTo>
                <a:lnTo>
                  <a:pt x="1400" y="1400"/>
                </a:lnTo>
                <a:close/>
              </a:path>
              <a:path fill="darken" w="23296" h="21600">
                <a:moveTo>
                  <a:pt x="23296" y="0"/>
                </a:moveTo>
                <a:lnTo>
                  <a:pt x="23296" y="21600"/>
                </a:lnTo>
                <a:lnTo>
                  <a:pt x="21896" y="20200"/>
                </a:lnTo>
                <a:lnTo>
                  <a:pt x="21896" y="1400"/>
                </a:lnTo>
                <a:close/>
              </a:path>
              <a:path fill="darkenLess" w="23296" h="21600">
                <a:moveTo>
                  <a:pt x="23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96" y="20200"/>
                </a:lnTo>
                <a:close/>
              </a:path>
              <a:path fill="lighten" w="23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96" h="21600">
                <a:moveTo>
                  <a:pt x="11648" y="3837"/>
                </a:moveTo>
                <a:lnTo>
                  <a:pt x="14224" y="6448"/>
                </a:lnTo>
                <a:lnTo>
                  <a:pt x="14224" y="4707"/>
                </a:lnTo>
                <a:lnTo>
                  <a:pt x="16000" y="4707"/>
                </a:lnTo>
                <a:lnTo>
                  <a:pt x="16000" y="8224"/>
                </a:lnTo>
                <a:lnTo>
                  <a:pt x="18611" y="10800"/>
                </a:lnTo>
                <a:lnTo>
                  <a:pt x="16957" y="10800"/>
                </a:lnTo>
                <a:lnTo>
                  <a:pt x="16957" y="17989"/>
                </a:lnTo>
                <a:lnTo>
                  <a:pt x="6339" y="17989"/>
                </a:lnTo>
                <a:lnTo>
                  <a:pt x="6339" y="10800"/>
                </a:lnTo>
                <a:lnTo>
                  <a:pt x="4685" y="10800"/>
                </a:lnTo>
                <a:close/>
              </a:path>
              <a:path fill="darkenLess" w="23296" h="21600">
                <a:moveTo>
                  <a:pt x="14224" y="6448"/>
                </a:moveTo>
                <a:lnTo>
                  <a:pt x="14224" y="4707"/>
                </a:lnTo>
                <a:lnTo>
                  <a:pt x="16000" y="4707"/>
                </a:lnTo>
                <a:lnTo>
                  <a:pt x="16000" y="8224"/>
                </a:lnTo>
                <a:close/>
              </a:path>
              <a:path fill="darkenLess" w="23296" h="21600">
                <a:moveTo>
                  <a:pt x="10725" y="14299"/>
                </a:moveTo>
                <a:lnTo>
                  <a:pt x="12571" y="14299"/>
                </a:lnTo>
                <a:lnTo>
                  <a:pt x="12571" y="17989"/>
                </a:lnTo>
                <a:lnTo>
                  <a:pt x="16957" y="17989"/>
                </a:lnTo>
                <a:lnTo>
                  <a:pt x="16957" y="10800"/>
                </a:lnTo>
                <a:lnTo>
                  <a:pt x="6339" y="10800"/>
                </a:lnTo>
                <a:lnTo>
                  <a:pt x="6339" y="17989"/>
                </a:lnTo>
                <a:lnTo>
                  <a:pt x="10725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ь уравнение по условию задачи и реши 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ша задумала число, умножила его на 25 и результат вычла из 80. Получила 20. Какое число задумала Ма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    2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-80=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5х=80+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х=100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 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>
            <a:hlinkClick r:id="rId2" action="ppaction://hlinksldjump"/>
          </p:cNvPr>
          <p:cNvSpPr/>
          <p:nvPr/>
        </p:nvSpPr>
        <p:spPr>
          <a:xfrm>
            <a:off x="7164360" y="5877000"/>
            <a:ext cx="827280" cy="682560"/>
          </a:xfrm>
          <a:custGeom>
            <a:avLst/>
            <a:gdLst>
              <a:gd name="textAreaLeft" fmla="*/ 43920 w 827280"/>
              <a:gd name="textAreaRight" fmla="*/ 783360 w 82728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6177" h="21600">
                <a:moveTo>
                  <a:pt x="0" y="0"/>
                </a:moveTo>
                <a:lnTo>
                  <a:pt x="26177" y="0"/>
                </a:lnTo>
                <a:lnTo>
                  <a:pt x="26177" y="21600"/>
                </a:lnTo>
                <a:lnTo>
                  <a:pt x="0" y="21600"/>
                </a:lnTo>
                <a:close/>
              </a:path>
              <a:path fill="lightenLess" w="26177" h="21600">
                <a:moveTo>
                  <a:pt x="0" y="0"/>
                </a:moveTo>
                <a:lnTo>
                  <a:pt x="26177" y="0"/>
                </a:lnTo>
                <a:lnTo>
                  <a:pt x="24777" y="1400"/>
                </a:lnTo>
                <a:lnTo>
                  <a:pt x="1400" y="1400"/>
                </a:lnTo>
                <a:close/>
              </a:path>
              <a:path fill="darken" w="26177" h="21600">
                <a:moveTo>
                  <a:pt x="26177" y="0"/>
                </a:moveTo>
                <a:lnTo>
                  <a:pt x="26177" y="21600"/>
                </a:lnTo>
                <a:lnTo>
                  <a:pt x="24777" y="20200"/>
                </a:lnTo>
                <a:lnTo>
                  <a:pt x="24777" y="1400"/>
                </a:lnTo>
                <a:close/>
              </a:path>
              <a:path fill="darkenLess" w="26177" h="21600">
                <a:moveTo>
                  <a:pt x="26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77" y="20200"/>
                </a:lnTo>
                <a:close/>
              </a:path>
              <a:path fill="lighten" w="26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77" h="21600">
                <a:moveTo>
                  <a:pt x="13089" y="3837"/>
                </a:moveTo>
                <a:lnTo>
                  <a:pt x="15665" y="6448"/>
                </a:lnTo>
                <a:lnTo>
                  <a:pt x="15665" y="4707"/>
                </a:lnTo>
                <a:lnTo>
                  <a:pt x="17441" y="4707"/>
                </a:lnTo>
                <a:lnTo>
                  <a:pt x="17441" y="8224"/>
                </a:lnTo>
                <a:lnTo>
                  <a:pt x="20052" y="10800"/>
                </a:lnTo>
                <a:lnTo>
                  <a:pt x="18398" y="10800"/>
                </a:lnTo>
                <a:lnTo>
                  <a:pt x="18398" y="17989"/>
                </a:lnTo>
                <a:lnTo>
                  <a:pt x="7779" y="17989"/>
                </a:lnTo>
                <a:lnTo>
                  <a:pt x="7779" y="10800"/>
                </a:lnTo>
                <a:lnTo>
                  <a:pt x="6126" y="10800"/>
                </a:lnTo>
                <a:close/>
              </a:path>
              <a:path fill="darkenLess" w="26177" h="21600">
                <a:moveTo>
                  <a:pt x="15665" y="6448"/>
                </a:moveTo>
                <a:lnTo>
                  <a:pt x="15665" y="4707"/>
                </a:lnTo>
                <a:lnTo>
                  <a:pt x="17441" y="4707"/>
                </a:lnTo>
                <a:lnTo>
                  <a:pt x="17441" y="8224"/>
                </a:lnTo>
                <a:close/>
              </a:path>
              <a:path fill="darkenLess" w="26177" h="21600">
                <a:moveTo>
                  <a:pt x="12166" y="14299"/>
                </a:moveTo>
                <a:lnTo>
                  <a:pt x="14011" y="14299"/>
                </a:lnTo>
                <a:lnTo>
                  <a:pt x="14011" y="17989"/>
                </a:lnTo>
                <a:lnTo>
                  <a:pt x="18398" y="17989"/>
                </a:lnTo>
                <a:lnTo>
                  <a:pt x="18398" y="10800"/>
                </a:lnTo>
                <a:lnTo>
                  <a:pt x="7779" y="10800"/>
                </a:lnTo>
                <a:lnTo>
                  <a:pt x="7779" y="17989"/>
                </a:lnTo>
                <a:lnTo>
                  <a:pt x="12166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ь уравнение по условию задачи и реши 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 из сторон прямоугольника на 3 больше другой, а площадь его равна 10 . Чему равна меньшая сторо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    2(х+3+х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х+3=10: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х=2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 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>
            <a:hlinkClick r:id="rId2" action="ppaction://hlinksldjump"/>
          </p:cNvPr>
          <p:cNvSpPr/>
          <p:nvPr/>
        </p:nvSpPr>
        <p:spPr>
          <a:xfrm>
            <a:off x="7164360" y="5877000"/>
            <a:ext cx="827280" cy="682560"/>
          </a:xfrm>
          <a:custGeom>
            <a:avLst/>
            <a:gdLst>
              <a:gd name="textAreaLeft" fmla="*/ 43920 w 827280"/>
              <a:gd name="textAreaRight" fmla="*/ 783360 w 82728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6177" h="21600">
                <a:moveTo>
                  <a:pt x="0" y="0"/>
                </a:moveTo>
                <a:lnTo>
                  <a:pt x="26177" y="0"/>
                </a:lnTo>
                <a:lnTo>
                  <a:pt x="26177" y="21600"/>
                </a:lnTo>
                <a:lnTo>
                  <a:pt x="0" y="21600"/>
                </a:lnTo>
                <a:close/>
              </a:path>
              <a:path fill="lightenLess" w="26177" h="21600">
                <a:moveTo>
                  <a:pt x="0" y="0"/>
                </a:moveTo>
                <a:lnTo>
                  <a:pt x="26177" y="0"/>
                </a:lnTo>
                <a:lnTo>
                  <a:pt x="24777" y="1400"/>
                </a:lnTo>
                <a:lnTo>
                  <a:pt x="1400" y="1400"/>
                </a:lnTo>
                <a:close/>
              </a:path>
              <a:path fill="darken" w="26177" h="21600">
                <a:moveTo>
                  <a:pt x="26177" y="0"/>
                </a:moveTo>
                <a:lnTo>
                  <a:pt x="26177" y="21600"/>
                </a:lnTo>
                <a:lnTo>
                  <a:pt x="24777" y="20200"/>
                </a:lnTo>
                <a:lnTo>
                  <a:pt x="24777" y="1400"/>
                </a:lnTo>
                <a:close/>
              </a:path>
              <a:path fill="darkenLess" w="26177" h="21600">
                <a:moveTo>
                  <a:pt x="26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77" y="20200"/>
                </a:lnTo>
                <a:close/>
              </a:path>
              <a:path fill="lighten" w="26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77" h="21600">
                <a:moveTo>
                  <a:pt x="13089" y="3837"/>
                </a:moveTo>
                <a:lnTo>
                  <a:pt x="15665" y="6448"/>
                </a:lnTo>
                <a:lnTo>
                  <a:pt x="15665" y="4707"/>
                </a:lnTo>
                <a:lnTo>
                  <a:pt x="17441" y="4707"/>
                </a:lnTo>
                <a:lnTo>
                  <a:pt x="17441" y="8224"/>
                </a:lnTo>
                <a:lnTo>
                  <a:pt x="20052" y="10800"/>
                </a:lnTo>
                <a:lnTo>
                  <a:pt x="18398" y="10800"/>
                </a:lnTo>
                <a:lnTo>
                  <a:pt x="18398" y="17989"/>
                </a:lnTo>
                <a:lnTo>
                  <a:pt x="7779" y="17989"/>
                </a:lnTo>
                <a:lnTo>
                  <a:pt x="7779" y="10800"/>
                </a:lnTo>
                <a:lnTo>
                  <a:pt x="6126" y="10800"/>
                </a:lnTo>
                <a:close/>
              </a:path>
              <a:path fill="darkenLess" w="26177" h="21600">
                <a:moveTo>
                  <a:pt x="15665" y="6448"/>
                </a:moveTo>
                <a:lnTo>
                  <a:pt x="15665" y="4707"/>
                </a:lnTo>
                <a:lnTo>
                  <a:pt x="17441" y="4707"/>
                </a:lnTo>
                <a:lnTo>
                  <a:pt x="17441" y="8224"/>
                </a:lnTo>
                <a:close/>
              </a:path>
              <a:path fill="darkenLess" w="26177" h="21600">
                <a:moveTo>
                  <a:pt x="12166" y="14299"/>
                </a:moveTo>
                <a:lnTo>
                  <a:pt x="14011" y="14299"/>
                </a:lnTo>
                <a:lnTo>
                  <a:pt x="14011" y="17989"/>
                </a:lnTo>
                <a:lnTo>
                  <a:pt x="18398" y="17989"/>
                </a:lnTo>
                <a:lnTo>
                  <a:pt x="18398" y="10800"/>
                </a:lnTo>
                <a:lnTo>
                  <a:pt x="7779" y="10800"/>
                </a:lnTo>
                <a:lnTo>
                  <a:pt x="7779" y="17989"/>
                </a:lnTo>
                <a:lnTo>
                  <a:pt x="12166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Пользователь Windows</cp:lastModifiedBy>
  <dcterms:modified xsi:type="dcterms:W3CDTF">2022-04-09T10:16:22Z</dcterms:modified>
  <cp:revision>27</cp:revision>
  <dc:subject/>
  <dc:title>Слайд 1</dc:title>
</cp:coreProperties>
</file>