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E25-C2AD-4BFF-9FC4-860DBF39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A38-235E-4015-ABAD-0A71A1AC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805-EF2A-4453-9925-9962B611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FEE-0F44-49D4-833E-F2C209B5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CF79-FC87-4B33-83A7-AFAF5F3E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9DA7-A877-4957-819D-9DA7B03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CD88-36D5-47E1-88B6-DA18228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4FB1-5885-427D-9F06-EC37B98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86D-4A9A-4FE3-94ED-11DFFF61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D85-F073-4B0F-A7FC-40AE636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E277-072B-4B24-B528-FBBECC4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EB1-7B11-45C0-BCBF-E53A5F7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1D7-DF61-472C-9FCC-F59428E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99F7-AE8E-4902-982F-EAFD5B7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6DF2-EE33-43D2-BA66-C9BFB05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5749-E75D-4077-A1C6-307E7847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0457-AA6C-4020-97D0-28A78A82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3CB-42DA-45FA-8CC9-0D6635D1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DCE-5DE8-449F-8716-D762F39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61E-0FFB-44AC-8B39-CFF2C8F2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8A6-8C61-4B44-B1EA-5FD09B5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604-D840-4FE0-9F92-73655EE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4CF-1893-40F7-BA60-9DA639F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87F-B359-44C1-89F2-318F6CB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EBF4-6F0A-4DE9-9244-CA14C59047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5F42-A608-4D38-A15D-F9534C2A7D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disom.ru%2Falbums%2Fdis%2Fleafs%2Fthumb_7701590.JPG&amp;pageurl=http%3A%2F%2Fminigalerry.ru%2Fdisplayimage.php%3Falbum%3D7%26pos%3D85&amp;id=101149357&amp;iid=7&amp;imgwidth=1233&amp;imgheight=1191&amp;imgsize=321958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o.mail.ru/frame.html?&amp;imgurl=http%3A%2F%2Fwww.disom.ru%2Falbums%2Fdis%2Fleafs%2Fthumb_2452970.JPG&amp;pageurl=http%3A%2F%2Fwww.disom.ru%2Fdisplayimage.php%3Fpos%3D-1077&amp;id=79469813&amp;iid=8&amp;imgwidth=768&amp;imgheight=664&amp;imgsize=81245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o.mail.ru/frame.html?&amp;imgurl=http%3A%2F%2Fi035.radikal.ru%2F0805%2Fc5%2F2a09df6b15e0.jpg&amp;pageurl=http%3A%2F%2Fphotoshop-school.in.ua%2Fload%2F11-3-2&amp;id=91565533&amp;iid=6&amp;imgwidth=508&amp;imgheight=359&amp;imgsize=35049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go.mail.ru/frame.html?&amp;imgurl=http%3A%2F%2Fzhelezyaka.com%2Fi%2Fp%2F080609180945-21-leaf%2520clover-icon.jpg&amp;pageurl=http%3A%2F%2Fzhelezyaka.com%2Fnews.php%3Fid%3D2149&amp;id=97798365&amp;iid=3&amp;imgwidth=468&amp;imgheight=368&amp;imgsize=40971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651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Органы цветковых растений   </a:t>
            </a:r>
            <a:br>
              <a:rPr sz="54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дготовил учитель биологии : Амирджанян Светлана Суреновн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0BPCA2AMEKUCAQ9MT9QCAGEZUEGCA9DB1JOCAZCKRDYCAJVOP2ICACNW6IWCA6ZZF62CA27DNTYCAYN7ZYMCAO6RPM1CAF2QLTJCA1JNWZ3CAZATQGYCAOI2NJ3CA6IK5HVCA09BB7ZCABBZ8Z8CAEYVG9L"/>
          <p:cNvPicPr/>
          <p:nvPr/>
        </p:nvPicPr>
        <p:blipFill>
          <a:blip r:embed="rId1"/>
          <a:stretch/>
        </p:blipFill>
        <p:spPr>
          <a:xfrm>
            <a:off x="-6480" y="0"/>
            <a:ext cx="327672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23WCAXLYWLHCA0PLJPKCAC8L0DMCAD5UJKPCAB5AVF8CAL3IFBJCABV4H6NCAPOIZ29CA499XVRCACREIOKCAG0JTD4CAA79BANCA4DWX1RCAZ338MFCAZTCC4DCAQJ0ZF2CACZZJLBCAXN9WZRCALX0DMY"/>
          <p:cNvPicPr/>
          <p:nvPr/>
        </p:nvPicPr>
        <p:blipFill>
          <a:blip r:embed="rId2"/>
          <a:stretch/>
        </p:blipFill>
        <p:spPr>
          <a:xfrm>
            <a:off x="533520" y="4545000"/>
            <a:ext cx="3352680" cy="1809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Изображение 059"/>
          <p:cNvPicPr/>
          <p:nvPr/>
        </p:nvPicPr>
        <p:blipFill>
          <a:blip r:embed="rId3"/>
          <a:stretch/>
        </p:blipFill>
        <p:spPr>
          <a:xfrm>
            <a:off x="5562720" y="43434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5400" y="9903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абота с гербарным материал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те гербарный матери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ите органы цветкового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?id=74240558&amp;tov=7"/>
          <p:cNvPicPr/>
          <p:nvPr/>
        </p:nvPicPr>
        <p:blipFill>
          <a:blip r:embed="rId1"/>
          <a:stretch/>
        </p:blipFill>
        <p:spPr>
          <a:xfrm>
            <a:off x="0" y="0"/>
            <a:ext cx="4599000" cy="305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?id=35970249&amp;tov=2"/>
          <p:cNvPicPr/>
          <p:nvPr/>
        </p:nvPicPr>
        <p:blipFill>
          <a:blip r:embed="rId2"/>
          <a:stretch/>
        </p:blipFill>
        <p:spPr>
          <a:xfrm>
            <a:off x="5141880" y="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i?id=118246277&amp;tov=4"/>
          <p:cNvPicPr/>
          <p:nvPr/>
        </p:nvPicPr>
        <p:blipFill>
          <a:blip r:embed="rId3"/>
          <a:stretch/>
        </p:blipFill>
        <p:spPr>
          <a:xfrm>
            <a:off x="2209680" y="3567240"/>
            <a:ext cx="4716720" cy="32907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2362320" y="2438280"/>
            <a:ext cx="401940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пехов!</a:t>
            </a:r>
            <a:endParaRPr b="0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Генеративные органы раст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Picture 4" descr="Симетрия 4"/>
          <p:cNvPicPr/>
          <p:nvPr/>
        </p:nvPicPr>
        <p:blipFill>
          <a:blip r:embed="rId1"/>
          <a:stretch/>
        </p:blipFill>
        <p:spPr>
          <a:xfrm>
            <a:off x="228600" y="2781360"/>
            <a:ext cx="3962520" cy="365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Рисунок2"/>
          <p:cNvPicPr/>
          <p:nvPr/>
        </p:nvPicPr>
        <p:blipFill>
          <a:blip r:embed="rId2"/>
          <a:stretch/>
        </p:blipFill>
        <p:spPr>
          <a:xfrm>
            <a:off x="5181480" y="1468440"/>
            <a:ext cx="35053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Цветок – укороченный, видоизмененный побег, развивающийся из почк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ган размножения цветковых растений. В нем происходит опыление, развитие зародыша, образование плода с семена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мать мачеха"/>
          <p:cNvPicPr/>
          <p:nvPr/>
        </p:nvPicPr>
        <p:blipFill>
          <a:blip r:embed="rId1"/>
          <a:stretch/>
        </p:blipFill>
        <p:spPr>
          <a:xfrm>
            <a:off x="4932360" y="1700280"/>
            <a:ext cx="4038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зшие                             Высш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орней,                      Есть корень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блей, листьев                   побе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одоросли)             (Мхи. Папорот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еменные. Покрытосеменны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8"/>
          <p:cNvSpPr/>
          <p:nvPr/>
        </p:nvSpPr>
        <p:spPr>
          <a:xfrm flipH="1">
            <a:off x="1676520" y="762120"/>
            <a:ext cx="1676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5791320" y="762120"/>
            <a:ext cx="12189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1295280" y="1600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7010280" y="1600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Ответьте на вопрос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растения называются цветковы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овите органы цветкового расте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отаника – это наука, которая занимается изучением раст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рганы цветкового раст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б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14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f436"/>
                </a:solidFill>
                <a:latin typeface="Arial"/>
              </a:rPr>
              <a:t>Орган – это часть тела, имеющая определенную форму и строение, выполняющая какую – либо функцию и занимающая определенное местоположение в организме</a:t>
            </a:r>
            <a:r>
              <a:rPr b="0" lang="ru-R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ы раст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Генеративные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В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егетатив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к                            1. Стеб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я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Ли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Коре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4"/>
          <p:cNvSpPr/>
          <p:nvPr/>
        </p:nvSpPr>
        <p:spPr>
          <a:xfrm flipH="1">
            <a:off x="3200040" y="2438280"/>
            <a:ext cx="7621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5334120" y="2438280"/>
            <a:ext cx="5331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укописный ввод 1" descr=""/>
          <p:cNvPicPr/>
          <p:nvPr/>
        </p:nvPicPr>
        <p:blipFill>
          <a:blip r:embed="rId1"/>
          <a:stretch/>
        </p:blipFill>
        <p:spPr>
          <a:xfrm>
            <a:off x="885960" y="5240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9" name="Рукописный ввод 2" descr=""/>
          <p:cNvPicPr/>
          <p:nvPr/>
        </p:nvPicPr>
        <p:blipFill>
          <a:blip r:embed="rId2"/>
          <a:stretch/>
        </p:blipFill>
        <p:spPr>
          <a:xfrm>
            <a:off x="885960" y="5240160"/>
            <a:ext cx="316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асть 1. Вегетативные органы раст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3" descr="04040205"/>
          <p:cNvPicPr/>
          <p:nvPr/>
        </p:nvPicPr>
        <p:blipFill>
          <a:blip r:embed="rId1"/>
          <a:stretch/>
        </p:blipFill>
        <p:spPr>
          <a:xfrm>
            <a:off x="770040" y="2093760"/>
            <a:ext cx="763272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1880" cy="181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.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орень – вегетативный орган растения, служащий для укрепления растения в почве, поглощения из него воды и минеральных веществ.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3" descr="i[11]"/>
          <p:cNvPicPr/>
          <p:nvPr/>
        </p:nvPicPr>
        <p:blipFill>
          <a:blip r:embed="rId1"/>
          <a:stretch/>
        </p:blipFill>
        <p:spPr>
          <a:xfrm>
            <a:off x="2438280" y="20574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876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II. </a:t>
            </a:r>
            <a:r>
              <a:rPr b="0" lang="ru-RU" sz="2800" spc="-1" strike="noStrike">
                <a:solidFill>
                  <a:srgbClr val="00ccff"/>
                </a:solidFill>
                <a:latin typeface="Arial"/>
              </a:rPr>
              <a:t>Побег – часть стебля с расположенными на нем листьями и почками.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бе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Стебель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Лист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ь побега растения.                         Часть побег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ора растения, проводит               Необходим для дыхани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итательные вещества,                  образования питатель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уществляет связь между             веществ, испарения во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нями и листья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Поч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чаточный побег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(листовой и цветочный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2895120" y="22096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410080" y="22096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4724280" y="2438280"/>
            <a:ext cx="76320" cy="259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равянистый      Стебель      Деревянисты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H="1" flipV="1">
            <a:off x="3047760" y="91440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 flipV="1">
            <a:off x="5334120" y="91440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5" descr="142"/>
          <p:cNvPicPr/>
          <p:nvPr/>
        </p:nvPicPr>
        <p:blipFill>
          <a:blip r:embed="rId1"/>
          <a:stretch/>
        </p:blipFill>
        <p:spPr>
          <a:xfrm>
            <a:off x="1092240" y="1600200"/>
            <a:ext cx="2766960" cy="218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ls3_1"/>
          <p:cNvPicPr/>
          <p:nvPr/>
        </p:nvPicPr>
        <p:blipFill>
          <a:blip r:embed="rId2"/>
          <a:stretch/>
        </p:blipFill>
        <p:spPr>
          <a:xfrm>
            <a:off x="5370480" y="1600200"/>
            <a:ext cx="2595600" cy="218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0449"/>
          <p:cNvPicPr/>
          <p:nvPr/>
        </p:nvPicPr>
        <p:blipFill>
          <a:blip r:embed="rId3"/>
          <a:stretch/>
        </p:blipFill>
        <p:spPr>
          <a:xfrm>
            <a:off x="5284800" y="3948120"/>
            <a:ext cx="2766960" cy="2182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Крапива"/>
          <p:cNvPicPr/>
          <p:nvPr/>
        </p:nvPicPr>
        <p:blipFill>
          <a:blip r:embed="rId4"/>
          <a:stretch/>
        </p:blipFill>
        <p:spPr>
          <a:xfrm>
            <a:off x="1447920" y="4038480"/>
            <a:ext cx="28954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ист – один из основных органов растения, занимающий боковое положение в побег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3" descr="i?id=101149357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001880"/>
            <a:ext cx="3124440" cy="3019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i?id=7946981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60" y="4330800"/>
            <a:ext cx="2882880" cy="250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?id=91565533&amp;tov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5360" y="1333440"/>
            <a:ext cx="2743200" cy="1920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i?id=97798365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4419720"/>
            <a:ext cx="2768760" cy="21733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" descr=""/>
          <p:cNvPicPr/>
          <p:nvPr/>
        </p:nvPicPr>
        <p:blipFill>
          <a:blip r:embed="rId9"/>
          <a:stretch/>
        </p:blipFill>
        <p:spPr>
          <a:xfrm>
            <a:off x="2868480" y="2549520"/>
            <a:ext cx="3048120" cy="2502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" descr=""/>
          <p:cNvPicPr/>
          <p:nvPr/>
        </p:nvPicPr>
        <p:blipFill>
          <a:blip r:embed="rId10"/>
          <a:stretch/>
        </p:blipFill>
        <p:spPr>
          <a:xfrm>
            <a:off x="562932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6:24:24Z</dcterms:created>
  <dc:creator>1</dc:creator>
  <dc:description/>
  <dc:language>en-US</dc:language>
  <cp:lastModifiedBy>Пользователь</cp:lastModifiedBy>
  <dcterms:modified xsi:type="dcterms:W3CDTF">2022-04-08T07:18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