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55B-CC22-48FA-894A-5121D2D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0BD-F2B9-4162-8957-2468DFD7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3BE-F953-4C67-B5A1-DB1507A4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BF7-7DC9-47C9-BD9A-7CB9446C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0F46-C6E0-4B26-9026-573B26B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B334-7717-46A8-91E9-1FD17AC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6CC-6EF5-4A48-BBA4-FDED7CF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562C-FAEB-4D39-B256-DD49B14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C71-D40C-451C-B584-FC327CB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2441-7E91-4CEA-9798-2C865DAC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B35-619E-4452-9FE3-4479C71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C76-D911-470B-B7AC-30A2C65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3F9C-64E7-4040-862A-35D0C2E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0A16-4679-45CF-8BA7-E74B666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958-7B45-4AAF-8F5C-67526911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9F3-FDCE-465F-8446-9956BCB4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A44-4C14-4B70-AF04-80D31331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C4E-E1C2-4488-8104-D20F9B7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89E-1CAE-4188-AD31-A8A1B12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F8B-4E90-4A84-9B10-23B823BE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57A-959A-422D-AC4D-53B47BE0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5E3-7766-4988-BDEA-91EF428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37A-3C91-461B-A801-F91D09A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AB1-9948-4BA8-9BC6-9D68B0D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F60-7FB9-4F4A-85D2-3F30391224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5CB-9EFE-4390-BA62-AE758B894A1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27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остроение чертежа прямой юбк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4"/>
          <p:cNvGrpSpPr/>
          <p:nvPr/>
        </p:nvGrpSpPr>
        <p:grpSpPr>
          <a:xfrm>
            <a:off x="1405800" y="1268280"/>
            <a:ext cx="5748480" cy="4681080"/>
            <a:chOff x="1405800" y="1268280"/>
            <a:chExt cx="5748480" cy="4681080"/>
          </a:xfrm>
        </p:grpSpPr>
        <p:grpSp>
          <p:nvGrpSpPr>
            <p:cNvPr id="296" name="Group 4"/>
            <p:cNvGrpSpPr/>
            <p:nvPr/>
          </p:nvGrpSpPr>
          <p:grpSpPr>
            <a:xfrm>
              <a:off x="1405800" y="1268280"/>
              <a:ext cx="4512960" cy="4681080"/>
              <a:chOff x="1405800" y="1268280"/>
              <a:chExt cx="4512960" cy="4681080"/>
            </a:xfrm>
          </p:grpSpPr>
          <p:grpSp>
            <p:nvGrpSpPr>
              <p:cNvPr id="297" name="Group 5"/>
              <p:cNvGrpSpPr/>
              <p:nvPr/>
            </p:nvGrpSpPr>
            <p:grpSpPr>
              <a:xfrm>
                <a:off x="2002680" y="1851840"/>
                <a:ext cx="3916080" cy="2578680"/>
                <a:chOff x="2002680" y="1851840"/>
                <a:chExt cx="3916080" cy="2578680"/>
              </a:xfrm>
            </p:grpSpPr>
            <p:sp>
              <p:nvSpPr>
                <p:cNvPr id="298" name="Line 6"/>
                <p:cNvSpPr/>
                <p:nvPr/>
              </p:nvSpPr>
              <p:spPr>
                <a:xfrm>
                  <a:off x="2002680" y="1851840"/>
                  <a:ext cx="3916080" cy="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9" name="Line 7"/>
                <p:cNvSpPr/>
                <p:nvPr/>
              </p:nvSpPr>
              <p:spPr>
                <a:xfrm>
                  <a:off x="2002680" y="1851840"/>
                  <a:ext cx="0" cy="257868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8"/>
              <p:cNvSpPr/>
              <p:nvPr/>
            </p:nvSpPr>
            <p:spPr>
              <a:xfrm>
                <a:off x="2002680" y="1851840"/>
                <a:ext cx="0" cy="409752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Text Box 9"/>
              <p:cNvSpPr/>
              <p:nvPr/>
            </p:nvSpPr>
            <p:spPr>
              <a:xfrm>
                <a:off x="1910520" y="12682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Т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Text Box 10"/>
              <p:cNvSpPr/>
              <p:nvPr/>
            </p:nvSpPr>
            <p:spPr>
              <a:xfrm>
                <a:off x="1405800" y="5384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Н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03" name="Line 11"/>
            <p:cNvSpPr/>
            <p:nvPr/>
          </p:nvSpPr>
          <p:spPr>
            <a:xfrm>
              <a:off x="1976040" y="1851840"/>
              <a:ext cx="4010760" cy="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Line 12"/>
            <p:cNvSpPr/>
            <p:nvPr/>
          </p:nvSpPr>
          <p:spPr>
            <a:xfrm>
              <a:off x="1976040" y="1851840"/>
              <a:ext cx="4775400" cy="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6658200" y="126828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6" name="Text Box 15"/>
          <p:cNvSpPr/>
          <p:nvPr/>
        </p:nvSpPr>
        <p:spPr>
          <a:xfrm>
            <a:off x="1039680" y="50004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4. ТТ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строить прямоугольни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>
            <a:off x="6732720" y="1844640"/>
            <a:ext cx="0" cy="4105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1979640" y="5950080"/>
            <a:ext cx="4753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6950520" y="5300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8"/>
          <p:cNvGrpSpPr/>
          <p:nvPr/>
        </p:nvGrpSpPr>
        <p:grpSpPr>
          <a:xfrm>
            <a:off x="1405800" y="1484280"/>
            <a:ext cx="6060240" cy="4536720"/>
            <a:chOff x="1405800" y="1484280"/>
            <a:chExt cx="6060240" cy="4536720"/>
          </a:xfrm>
        </p:grpSpPr>
        <p:grpSp>
          <p:nvGrpSpPr>
            <p:cNvPr id="312" name="Group 4"/>
            <p:cNvGrpSpPr/>
            <p:nvPr/>
          </p:nvGrpSpPr>
          <p:grpSpPr>
            <a:xfrm>
              <a:off x="1405800" y="1484280"/>
              <a:ext cx="5852880" cy="4536000"/>
              <a:chOff x="1405800" y="1484280"/>
              <a:chExt cx="5852880" cy="4536000"/>
            </a:xfrm>
          </p:grpSpPr>
          <p:grpSp>
            <p:nvGrpSpPr>
              <p:cNvPr id="313" name="Group 5"/>
              <p:cNvGrpSpPr/>
              <p:nvPr/>
            </p:nvGrpSpPr>
            <p:grpSpPr>
              <a:xfrm>
                <a:off x="1405800" y="1484280"/>
                <a:ext cx="4602240" cy="4536000"/>
                <a:chOff x="1405800" y="1484280"/>
                <a:chExt cx="4602240" cy="4536000"/>
              </a:xfrm>
            </p:grpSpPr>
            <p:grpSp>
              <p:nvGrpSpPr>
                <p:cNvPr id="314" name="Group 6"/>
                <p:cNvGrpSpPr/>
                <p:nvPr/>
              </p:nvGrpSpPr>
              <p:grpSpPr>
                <a:xfrm>
                  <a:off x="2014560" y="2048400"/>
                  <a:ext cx="3993480" cy="2499480"/>
                  <a:chOff x="2014560" y="2048400"/>
                  <a:chExt cx="3993480" cy="2499480"/>
                </a:xfrm>
              </p:grpSpPr>
              <p:sp>
                <p:nvSpPr>
                  <p:cNvPr id="315" name="Line 7"/>
                  <p:cNvSpPr/>
                  <p:nvPr/>
                </p:nvSpPr>
                <p:spPr>
                  <a:xfrm>
                    <a:off x="2014560" y="2048400"/>
                    <a:ext cx="3993480" cy="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8"/>
                  <p:cNvSpPr/>
                  <p:nvPr/>
                </p:nvSpPr>
                <p:spPr>
                  <a:xfrm>
                    <a:off x="2014560" y="2048400"/>
                    <a:ext cx="0" cy="249948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7" name="Line 9"/>
                <p:cNvSpPr/>
                <p:nvPr/>
              </p:nvSpPr>
              <p:spPr>
                <a:xfrm>
                  <a:off x="2014560" y="2048400"/>
                  <a:ext cx="0" cy="397188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0"/>
                <p:cNvSpPr/>
                <p:nvPr/>
              </p:nvSpPr>
              <p:spPr>
                <a:xfrm>
                  <a:off x="1920240" y="14842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Т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11"/>
                <p:cNvSpPr/>
                <p:nvPr/>
              </p:nvSpPr>
              <p:spPr>
                <a:xfrm>
                  <a:off x="1405800" y="54741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Н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Line 12"/>
              <p:cNvSpPr/>
              <p:nvPr/>
            </p:nvSpPr>
            <p:spPr>
              <a:xfrm>
                <a:off x="1987560" y="2048400"/>
                <a:ext cx="4089960" cy="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Line 13"/>
              <p:cNvSpPr/>
              <p:nvPr/>
            </p:nvSpPr>
            <p:spPr>
              <a:xfrm>
                <a:off x="1987560" y="2048400"/>
                <a:ext cx="4869720" cy="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" name="Text Box 14"/>
              <p:cNvSpPr/>
              <p:nvPr/>
            </p:nvSpPr>
            <p:spPr>
              <a:xfrm>
                <a:off x="6762600" y="1484280"/>
                <a:ext cx="49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Т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3" name="Line 15"/>
            <p:cNvSpPr/>
            <p:nvPr/>
          </p:nvSpPr>
          <p:spPr>
            <a:xfrm>
              <a:off x="6857280" y="2048400"/>
              <a:ext cx="0" cy="39726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4" name="Line 16"/>
            <p:cNvSpPr/>
            <p:nvPr/>
          </p:nvSpPr>
          <p:spPr>
            <a:xfrm>
              <a:off x="1986840" y="6021000"/>
              <a:ext cx="4870080" cy="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Text Box 17"/>
            <p:cNvSpPr/>
            <p:nvPr/>
          </p:nvSpPr>
          <p:spPr>
            <a:xfrm>
              <a:off x="6930360" y="5474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6" name="Text Box 19"/>
          <p:cNvSpPr/>
          <p:nvPr/>
        </p:nvSpPr>
        <p:spPr>
          <a:xfrm>
            <a:off x="179280" y="520560"/>
            <a:ext cx="91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5. ТБ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пределить положение линии беде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979640" y="2060640"/>
            <a:ext cx="0" cy="143964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405440" y="314172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7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2"/>
          <p:cNvGrpSpPr/>
          <p:nvPr/>
        </p:nvGrpSpPr>
        <p:grpSpPr>
          <a:xfrm>
            <a:off x="1621080" y="1268280"/>
            <a:ext cx="6345360" cy="5090400"/>
            <a:chOff x="1621080" y="1268280"/>
            <a:chExt cx="6345360" cy="5090400"/>
          </a:xfrm>
        </p:grpSpPr>
        <p:grpSp>
          <p:nvGrpSpPr>
            <p:cNvPr id="331" name="Group 4"/>
            <p:cNvGrpSpPr/>
            <p:nvPr/>
          </p:nvGrpSpPr>
          <p:grpSpPr>
            <a:xfrm>
              <a:off x="1621080" y="1268280"/>
              <a:ext cx="6345360" cy="5090400"/>
              <a:chOff x="1621080" y="1268280"/>
              <a:chExt cx="6345360" cy="5090400"/>
            </a:xfrm>
          </p:grpSpPr>
          <p:grpSp>
            <p:nvGrpSpPr>
              <p:cNvPr id="332" name="Group 5"/>
              <p:cNvGrpSpPr/>
              <p:nvPr/>
            </p:nvGrpSpPr>
            <p:grpSpPr>
              <a:xfrm>
                <a:off x="1621080" y="1268280"/>
                <a:ext cx="6126120" cy="5089680"/>
                <a:chOff x="1621080" y="1268280"/>
                <a:chExt cx="6126120" cy="5089680"/>
              </a:xfrm>
            </p:grpSpPr>
            <p:grpSp>
              <p:nvGrpSpPr>
                <p:cNvPr id="333" name="Group 6"/>
                <p:cNvGrpSpPr/>
                <p:nvPr/>
              </p:nvGrpSpPr>
              <p:grpSpPr>
                <a:xfrm>
                  <a:off x="1621080" y="1268280"/>
                  <a:ext cx="4840200" cy="5089680"/>
                  <a:chOff x="1621080" y="1268280"/>
                  <a:chExt cx="4840200" cy="5089680"/>
                </a:xfrm>
              </p:grpSpPr>
              <p:grpSp>
                <p:nvGrpSpPr>
                  <p:cNvPr id="334" name="Group 7"/>
                  <p:cNvGrpSpPr/>
                  <p:nvPr/>
                </p:nvGrpSpPr>
                <p:grpSpPr>
                  <a:xfrm>
                    <a:off x="2262240" y="1896480"/>
                    <a:ext cx="4199040" cy="2807640"/>
                    <a:chOff x="2262240" y="1896480"/>
                    <a:chExt cx="4199040" cy="2807640"/>
                  </a:xfrm>
                </p:grpSpPr>
                <p:sp>
                  <p:nvSpPr>
                    <p:cNvPr id="335" name="Line 8"/>
                    <p:cNvSpPr/>
                    <p:nvPr/>
                  </p:nvSpPr>
                  <p:spPr>
                    <a:xfrm>
                      <a:off x="2262240" y="1896480"/>
                      <a:ext cx="419904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9"/>
                    <p:cNvSpPr/>
                    <p:nvPr/>
                  </p:nvSpPr>
                  <p:spPr>
                    <a:xfrm>
                      <a:off x="2262240" y="1896480"/>
                      <a:ext cx="0" cy="280764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Line 10"/>
                  <p:cNvSpPr/>
                  <p:nvPr/>
                </p:nvSpPr>
                <p:spPr>
                  <a:xfrm>
                    <a:off x="2262240" y="1896480"/>
                    <a:ext cx="0" cy="446148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Text Box 11"/>
                  <p:cNvSpPr/>
                  <p:nvPr/>
                </p:nvSpPr>
                <p:spPr>
                  <a:xfrm>
                    <a:off x="2162880" y="1268280"/>
                    <a:ext cx="397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Text Box 12"/>
                  <p:cNvSpPr/>
                  <p:nvPr/>
                </p:nvSpPr>
                <p:spPr>
                  <a:xfrm>
                    <a:off x="1621080" y="57499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Н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3"/>
                <p:cNvSpPr/>
                <p:nvPr/>
              </p:nvSpPr>
              <p:spPr>
                <a:xfrm>
                  <a:off x="2233440" y="1896480"/>
                  <a:ext cx="4300560" cy="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4"/>
                <p:cNvSpPr/>
                <p:nvPr/>
              </p:nvSpPr>
              <p:spPr>
                <a:xfrm>
                  <a:off x="2233440" y="1896480"/>
                  <a:ext cx="5120280" cy="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15"/>
                <p:cNvSpPr/>
                <p:nvPr/>
              </p:nvSpPr>
              <p:spPr>
                <a:xfrm>
                  <a:off x="7251120" y="1268280"/>
                  <a:ext cx="49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Т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Line 16"/>
              <p:cNvSpPr/>
              <p:nvPr/>
            </p:nvSpPr>
            <p:spPr>
              <a:xfrm>
                <a:off x="7354800" y="1896840"/>
                <a:ext cx="0" cy="446184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2233080" y="6358680"/>
                <a:ext cx="5121360" cy="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45" name="Text Box 18"/>
              <p:cNvSpPr/>
              <p:nvPr/>
            </p:nvSpPr>
            <p:spPr>
              <a:xfrm>
                <a:off x="7430760" y="575064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Н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46" name="Text Box 20"/>
            <p:cNvSpPr/>
            <p:nvPr/>
          </p:nvSpPr>
          <p:spPr>
            <a:xfrm>
              <a:off x="1621800" y="316764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Text Box 21"/>
            <p:cNvSpPr/>
            <p:nvPr/>
          </p:nvSpPr>
          <p:spPr>
            <a:xfrm>
              <a:off x="2027880" y="2971080"/>
              <a:ext cx="43092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8" name="Text Box 23"/>
          <p:cNvSpPr/>
          <p:nvPr/>
        </p:nvSpPr>
        <p:spPr>
          <a:xfrm>
            <a:off x="539640" y="426960"/>
            <a:ext cx="78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6. ББ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вести линию бедер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Line 24"/>
          <p:cNvSpPr/>
          <p:nvPr/>
        </p:nvSpPr>
        <p:spPr>
          <a:xfrm>
            <a:off x="2268360" y="3645000"/>
            <a:ext cx="504036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7164360" y="3068640"/>
            <a:ext cx="3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7382160" y="309096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2125440" y="3141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9" descr="12748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179280" y="138240"/>
            <a:ext cx="925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7. ТТ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ширину заднего полотнищ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 ТТ1 : 2 – 1 = 47:2-1=22,5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55" name="Group 26"/>
          <p:cNvGrpSpPr/>
          <p:nvPr/>
        </p:nvGrpSpPr>
        <p:grpSpPr>
          <a:xfrm>
            <a:off x="1477800" y="930240"/>
            <a:ext cx="6269040" cy="5306040"/>
            <a:chOff x="1477800" y="930240"/>
            <a:chExt cx="6269040" cy="5306040"/>
          </a:xfrm>
        </p:grpSpPr>
        <p:grpSp>
          <p:nvGrpSpPr>
            <p:cNvPr id="356" name="Group 5"/>
            <p:cNvGrpSpPr/>
            <p:nvPr/>
          </p:nvGrpSpPr>
          <p:grpSpPr>
            <a:xfrm>
              <a:off x="1477800" y="930240"/>
              <a:ext cx="6269040" cy="5306040"/>
              <a:chOff x="1477800" y="930240"/>
              <a:chExt cx="6269040" cy="5306040"/>
            </a:xfrm>
          </p:grpSpPr>
          <p:grpSp>
            <p:nvGrpSpPr>
              <p:cNvPr id="357" name="Group 6"/>
              <p:cNvGrpSpPr/>
              <p:nvPr/>
            </p:nvGrpSpPr>
            <p:grpSpPr>
              <a:xfrm>
                <a:off x="1478520" y="930240"/>
                <a:ext cx="6268320" cy="5306040"/>
                <a:chOff x="1478520" y="930240"/>
                <a:chExt cx="6268320" cy="5306040"/>
              </a:xfrm>
            </p:grpSpPr>
            <p:grpSp>
              <p:nvGrpSpPr>
                <p:cNvPr id="358" name="Group 7"/>
                <p:cNvGrpSpPr/>
                <p:nvPr/>
              </p:nvGrpSpPr>
              <p:grpSpPr>
                <a:xfrm>
                  <a:off x="1478520" y="930240"/>
                  <a:ext cx="6054480" cy="5305320"/>
                  <a:chOff x="1478520" y="930240"/>
                  <a:chExt cx="6054480" cy="5305320"/>
                </a:xfrm>
              </p:grpSpPr>
              <p:grpSp>
                <p:nvGrpSpPr>
                  <p:cNvPr id="359" name="Group 8"/>
                  <p:cNvGrpSpPr/>
                  <p:nvPr/>
                </p:nvGrpSpPr>
                <p:grpSpPr>
                  <a:xfrm>
                    <a:off x="1478520" y="930240"/>
                    <a:ext cx="4776120" cy="5305320"/>
                    <a:chOff x="1478520" y="930240"/>
                    <a:chExt cx="4776120" cy="5305320"/>
                  </a:xfrm>
                </p:grpSpPr>
                <p:grpSp>
                  <p:nvGrpSpPr>
                    <p:cNvPr id="360" name="Group 9"/>
                    <p:cNvGrpSpPr/>
                    <p:nvPr/>
                  </p:nvGrpSpPr>
                  <p:grpSpPr>
                    <a:xfrm>
                      <a:off x="2110680" y="1583280"/>
                      <a:ext cx="4143960" cy="2927520"/>
                      <a:chOff x="2110680" y="1583280"/>
                      <a:chExt cx="4143960" cy="2927520"/>
                    </a:xfrm>
                  </p:grpSpPr>
                  <p:sp>
                    <p:nvSpPr>
                      <p:cNvPr id="361" name="Line 10"/>
                      <p:cNvSpPr/>
                      <p:nvPr/>
                    </p:nvSpPr>
                    <p:spPr>
                      <a:xfrm>
                        <a:off x="2110680" y="1583280"/>
                        <a:ext cx="4143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Line 11"/>
                      <p:cNvSpPr/>
                      <p:nvPr/>
                    </p:nvSpPr>
                    <p:spPr>
                      <a:xfrm>
                        <a:off x="2110680" y="1583280"/>
                        <a:ext cx="0" cy="292752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Line 12"/>
                    <p:cNvSpPr/>
                    <p:nvPr/>
                  </p:nvSpPr>
                  <p:spPr>
                    <a:xfrm>
                      <a:off x="2110680" y="1583280"/>
                      <a:ext cx="0" cy="465228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Text Box 13"/>
                    <p:cNvSpPr/>
                    <p:nvPr/>
                  </p:nvSpPr>
                  <p:spPr>
                    <a:xfrm>
                      <a:off x="2012400" y="930240"/>
                      <a:ext cx="397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Text Box 14"/>
                    <p:cNvSpPr/>
                    <p:nvPr/>
                  </p:nvSpPr>
                  <p:spPr>
                    <a:xfrm>
                      <a:off x="1478520" y="5603040"/>
                      <a:ext cx="436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Line 15"/>
                  <p:cNvSpPr/>
                  <p:nvPr/>
                </p:nvSpPr>
                <p:spPr>
                  <a:xfrm>
                    <a:off x="2082600" y="1583280"/>
                    <a:ext cx="4244400" cy="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16"/>
                  <p:cNvSpPr/>
                  <p:nvPr/>
                </p:nvSpPr>
                <p:spPr>
                  <a:xfrm>
                    <a:off x="2082600" y="1583280"/>
                    <a:ext cx="5053320" cy="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 Box 17"/>
                  <p:cNvSpPr/>
                  <p:nvPr/>
                </p:nvSpPr>
                <p:spPr>
                  <a:xfrm>
                    <a:off x="7036920" y="930240"/>
                    <a:ext cx="49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9" name="Line 18"/>
                <p:cNvSpPr/>
                <p:nvPr/>
              </p:nvSpPr>
              <p:spPr>
                <a:xfrm>
                  <a:off x="7136640" y="1583280"/>
                  <a:ext cx="0" cy="465264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"/>
                <p:cNvSpPr/>
                <p:nvPr/>
              </p:nvSpPr>
              <p:spPr>
                <a:xfrm>
                  <a:off x="2082240" y="6236280"/>
                  <a:ext cx="5054400" cy="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20"/>
                <p:cNvSpPr/>
                <p:nvPr/>
              </p:nvSpPr>
              <p:spPr>
                <a:xfrm>
                  <a:off x="7211160" y="5604120"/>
                  <a:ext cx="53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Н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Text Box 21"/>
              <p:cNvSpPr/>
              <p:nvPr/>
            </p:nvSpPr>
            <p:spPr>
              <a:xfrm>
                <a:off x="1477800" y="2911320"/>
                <a:ext cx="43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Text Box 22"/>
              <p:cNvSpPr/>
              <p:nvPr/>
            </p:nvSpPr>
            <p:spPr>
              <a:xfrm>
                <a:off x="1879560" y="2703960"/>
                <a:ext cx="42552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74" name="Line 23"/>
            <p:cNvSpPr/>
            <p:nvPr/>
          </p:nvSpPr>
          <p:spPr>
            <a:xfrm>
              <a:off x="2082600" y="3393360"/>
              <a:ext cx="5054040" cy="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Text Box 24"/>
            <p:cNvSpPr/>
            <p:nvPr/>
          </p:nvSpPr>
          <p:spPr>
            <a:xfrm>
              <a:off x="6933960" y="2704320"/>
              <a:ext cx="47700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Text Box 25"/>
            <p:cNvSpPr/>
            <p:nvPr/>
          </p:nvSpPr>
          <p:spPr>
            <a:xfrm>
              <a:off x="7138080" y="291096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7" name="Line 27"/>
          <p:cNvSpPr/>
          <p:nvPr/>
        </p:nvSpPr>
        <p:spPr>
          <a:xfrm>
            <a:off x="2124000" y="1557360"/>
            <a:ext cx="237672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Rectangle 28"/>
          <p:cNvSpPr/>
          <p:nvPr/>
        </p:nvSpPr>
        <p:spPr>
          <a:xfrm>
            <a:off x="4645440" y="9302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1981080" y="285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>
            <a:off x="6949800" y="285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31"/>
          <p:cNvGrpSpPr/>
          <p:nvPr/>
        </p:nvGrpSpPr>
        <p:grpSpPr>
          <a:xfrm>
            <a:off x="1621080" y="1341360"/>
            <a:ext cx="5895360" cy="4678200"/>
            <a:chOff x="1621080" y="1341360"/>
            <a:chExt cx="5895360" cy="4678200"/>
          </a:xfrm>
        </p:grpSpPr>
        <p:grpSp>
          <p:nvGrpSpPr>
            <p:cNvPr id="383" name="Group 5"/>
            <p:cNvGrpSpPr/>
            <p:nvPr/>
          </p:nvGrpSpPr>
          <p:grpSpPr>
            <a:xfrm>
              <a:off x="1621080" y="1364400"/>
              <a:ext cx="5895360" cy="4655160"/>
              <a:chOff x="1621080" y="1364400"/>
              <a:chExt cx="5895360" cy="4655160"/>
            </a:xfrm>
          </p:grpSpPr>
          <p:grpSp>
            <p:nvGrpSpPr>
              <p:cNvPr id="384" name="Group 6"/>
              <p:cNvGrpSpPr/>
              <p:nvPr/>
            </p:nvGrpSpPr>
            <p:grpSpPr>
              <a:xfrm>
                <a:off x="1621080" y="1364400"/>
                <a:ext cx="5895360" cy="4655160"/>
                <a:chOff x="1621080" y="1364400"/>
                <a:chExt cx="5895360" cy="4655160"/>
              </a:xfrm>
            </p:grpSpPr>
            <p:grpSp>
              <p:nvGrpSpPr>
                <p:cNvPr id="385" name="Group 7"/>
                <p:cNvGrpSpPr/>
                <p:nvPr/>
              </p:nvGrpSpPr>
              <p:grpSpPr>
                <a:xfrm>
                  <a:off x="1621800" y="1364400"/>
                  <a:ext cx="5894640" cy="4655160"/>
                  <a:chOff x="1621800" y="1364400"/>
                  <a:chExt cx="5894640" cy="4655160"/>
                </a:xfrm>
              </p:grpSpPr>
              <p:grpSp>
                <p:nvGrpSpPr>
                  <p:cNvPr id="386" name="Group 8"/>
                  <p:cNvGrpSpPr/>
                  <p:nvPr/>
                </p:nvGrpSpPr>
                <p:grpSpPr>
                  <a:xfrm>
                    <a:off x="1621800" y="1364400"/>
                    <a:ext cx="5694480" cy="4654440"/>
                    <a:chOff x="1621800" y="1364400"/>
                    <a:chExt cx="5694480" cy="4654440"/>
                  </a:xfrm>
                </p:grpSpPr>
                <p:grpSp>
                  <p:nvGrpSpPr>
                    <p:cNvPr id="387" name="Group 9"/>
                    <p:cNvGrpSpPr/>
                    <p:nvPr/>
                  </p:nvGrpSpPr>
                  <p:grpSpPr>
                    <a:xfrm>
                      <a:off x="1621800" y="1367640"/>
                      <a:ext cx="4466520" cy="4651200"/>
                      <a:chOff x="1621800" y="1367640"/>
                      <a:chExt cx="4466520" cy="4651200"/>
                    </a:xfrm>
                  </p:grpSpPr>
                  <p:grpSp>
                    <p:nvGrpSpPr>
                      <p:cNvPr id="388" name="Group 10"/>
                      <p:cNvGrpSpPr/>
                      <p:nvPr/>
                    </p:nvGrpSpPr>
                    <p:grpSpPr>
                      <a:xfrm>
                        <a:off x="2212560" y="1943280"/>
                        <a:ext cx="3875760" cy="2564640"/>
                        <a:chOff x="2212560" y="1943280"/>
                        <a:chExt cx="3875760" cy="2564640"/>
                      </a:xfrm>
                    </p:grpSpPr>
                    <p:sp>
                      <p:nvSpPr>
                        <p:cNvPr id="389" name="Line 11"/>
                        <p:cNvSpPr/>
                        <p:nvPr/>
                      </p:nvSpPr>
                      <p:spPr>
                        <a:xfrm>
                          <a:off x="2212560" y="1943280"/>
                          <a:ext cx="3875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Line 12"/>
                        <p:cNvSpPr/>
                        <p:nvPr/>
                      </p:nvSpPr>
                      <p:spPr>
                        <a:xfrm>
                          <a:off x="2212560" y="1943280"/>
                          <a:ext cx="0" cy="256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1" name="Line 13"/>
                      <p:cNvSpPr/>
                      <p:nvPr/>
                    </p:nvSpPr>
                    <p:spPr>
                      <a:xfrm>
                        <a:off x="2212560" y="1943280"/>
                        <a:ext cx="0" cy="407556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Text Box 14"/>
                      <p:cNvSpPr/>
                      <p:nvPr/>
                    </p:nvSpPr>
                    <p:spPr>
                      <a:xfrm>
                        <a:off x="2121480" y="1367640"/>
                        <a:ext cx="397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Т</a:t>
                        </a:r>
                        <a:endParaRPr b="0" lang="en-US" sz="2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Text Box 15"/>
                      <p:cNvSpPr/>
                      <p:nvPr/>
                    </p:nvSpPr>
                    <p:spPr>
                      <a:xfrm>
                        <a:off x="1621800" y="5458320"/>
                        <a:ext cx="4366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Н</a:t>
                        </a:r>
                        <a:endParaRPr b="0" lang="en-US" sz="2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4" name="Line 16"/>
                    <p:cNvSpPr/>
                    <p:nvPr/>
                  </p:nvSpPr>
                  <p:spPr>
                    <a:xfrm>
                      <a:off x="2186280" y="1943280"/>
                      <a:ext cx="396936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"/>
                    <p:cNvSpPr/>
                    <p:nvPr/>
                  </p:nvSpPr>
                  <p:spPr>
                    <a:xfrm>
                      <a:off x="2186280" y="1943280"/>
                      <a:ext cx="472572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Text Box 18"/>
                    <p:cNvSpPr/>
                    <p:nvPr/>
                  </p:nvSpPr>
                  <p:spPr>
                    <a:xfrm>
                      <a:off x="6820200" y="1364400"/>
                      <a:ext cx="496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7" name="Line 19"/>
                  <p:cNvSpPr/>
                  <p:nvPr/>
                </p:nvSpPr>
                <p:spPr>
                  <a:xfrm>
                    <a:off x="6912360" y="1943280"/>
                    <a:ext cx="0" cy="407628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20"/>
                  <p:cNvSpPr/>
                  <p:nvPr/>
                </p:nvSpPr>
                <p:spPr>
                  <a:xfrm>
                    <a:off x="2185560" y="6019560"/>
                    <a:ext cx="4726440" cy="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Text Box 21"/>
                  <p:cNvSpPr/>
                  <p:nvPr/>
                </p:nvSpPr>
                <p:spPr>
                  <a:xfrm>
                    <a:off x="6980760" y="5459040"/>
                    <a:ext cx="535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Н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Text Box 22"/>
                <p:cNvSpPr/>
                <p:nvPr/>
              </p:nvSpPr>
              <p:spPr>
                <a:xfrm>
                  <a:off x="1621080" y="3101040"/>
                  <a:ext cx="435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Б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1" name="Text Box 23"/>
                <p:cNvSpPr/>
                <p:nvPr/>
              </p:nvSpPr>
              <p:spPr>
                <a:xfrm>
                  <a:off x="1996200" y="2925000"/>
                  <a:ext cx="3978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24"/>
              <p:cNvSpPr/>
              <p:nvPr/>
            </p:nvSpPr>
            <p:spPr>
              <a:xfrm>
                <a:off x="2186280" y="3529080"/>
                <a:ext cx="4726440" cy="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Text Box 25"/>
              <p:cNvSpPr/>
              <p:nvPr/>
            </p:nvSpPr>
            <p:spPr>
              <a:xfrm>
                <a:off x="6723360" y="2925360"/>
                <a:ext cx="446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Text Box 26"/>
              <p:cNvSpPr/>
              <p:nvPr/>
            </p:nvSpPr>
            <p:spPr>
              <a:xfrm>
                <a:off x="6914880" y="3101400"/>
                <a:ext cx="53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405" name="Rectangle 28"/>
            <p:cNvSpPr/>
            <p:nvPr/>
          </p:nvSpPr>
          <p:spPr>
            <a:xfrm>
              <a:off x="4268160" y="1364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Text Box 30"/>
            <p:cNvSpPr/>
            <p:nvPr/>
          </p:nvSpPr>
          <p:spPr>
            <a:xfrm>
              <a:off x="4268160" y="134136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2f1311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1474200" y="500040"/>
            <a:ext cx="65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8. Т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вести линию бо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>
            <a:off x="4427640" y="1916280"/>
            <a:ext cx="0" cy="41050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>
            <a:off x="3926160" y="344952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Text Box 34"/>
          <p:cNvSpPr/>
          <p:nvPr/>
        </p:nvSpPr>
        <p:spPr>
          <a:xfrm>
            <a:off x="4069080" y="6114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"/>
          <p:cNvSpPr/>
          <p:nvPr/>
        </p:nvSpPr>
        <p:spPr>
          <a:xfrm>
            <a:off x="1184760" y="284040"/>
            <a:ext cx="746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ределение положения вытачек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переднем и заднем полотнища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13" name="Group 35"/>
          <p:cNvGrpSpPr/>
          <p:nvPr/>
        </p:nvGrpSpPr>
        <p:grpSpPr>
          <a:xfrm>
            <a:off x="1694160" y="2060640"/>
            <a:ext cx="5842800" cy="4501800"/>
            <a:chOff x="1694160" y="2060640"/>
            <a:chExt cx="5842800" cy="4501800"/>
          </a:xfrm>
        </p:grpSpPr>
        <p:grpSp>
          <p:nvGrpSpPr>
            <p:cNvPr id="414" name="Group 6"/>
            <p:cNvGrpSpPr/>
            <p:nvPr/>
          </p:nvGrpSpPr>
          <p:grpSpPr>
            <a:xfrm>
              <a:off x="1694160" y="2060640"/>
              <a:ext cx="5842800" cy="4463640"/>
              <a:chOff x="1694160" y="2060640"/>
              <a:chExt cx="5842800" cy="4463640"/>
            </a:xfrm>
          </p:grpSpPr>
          <p:grpSp>
            <p:nvGrpSpPr>
              <p:cNvPr id="415" name="Group 7"/>
              <p:cNvGrpSpPr/>
              <p:nvPr/>
            </p:nvGrpSpPr>
            <p:grpSpPr>
              <a:xfrm>
                <a:off x="1694160" y="2081160"/>
                <a:ext cx="5842800" cy="4443120"/>
                <a:chOff x="1694160" y="2081160"/>
                <a:chExt cx="5842800" cy="4443120"/>
              </a:xfrm>
            </p:grpSpPr>
            <p:grpSp>
              <p:nvGrpSpPr>
                <p:cNvPr id="416" name="Group 8"/>
                <p:cNvGrpSpPr/>
                <p:nvPr/>
              </p:nvGrpSpPr>
              <p:grpSpPr>
                <a:xfrm>
                  <a:off x="1694160" y="2081160"/>
                  <a:ext cx="5842800" cy="4443120"/>
                  <a:chOff x="1694160" y="2081160"/>
                  <a:chExt cx="5842800" cy="4443120"/>
                </a:xfrm>
              </p:grpSpPr>
              <p:grpSp>
                <p:nvGrpSpPr>
                  <p:cNvPr id="417" name="Group 9"/>
                  <p:cNvGrpSpPr/>
                  <p:nvPr/>
                </p:nvGrpSpPr>
                <p:grpSpPr>
                  <a:xfrm>
                    <a:off x="1694520" y="2081160"/>
                    <a:ext cx="5842440" cy="4443120"/>
                    <a:chOff x="1694520" y="2081160"/>
                    <a:chExt cx="5842440" cy="4443120"/>
                  </a:xfrm>
                </p:grpSpPr>
                <p:grpSp>
                  <p:nvGrpSpPr>
                    <p:cNvPr id="418" name="Group 10"/>
                    <p:cNvGrpSpPr/>
                    <p:nvPr/>
                  </p:nvGrpSpPr>
                  <p:grpSpPr>
                    <a:xfrm>
                      <a:off x="1694520" y="2081160"/>
                      <a:ext cx="5640840" cy="4442760"/>
                      <a:chOff x="1694520" y="2081160"/>
                      <a:chExt cx="5640840" cy="4442760"/>
                    </a:xfrm>
                  </p:grpSpPr>
                  <p:grpSp>
                    <p:nvGrpSpPr>
                      <p:cNvPr id="419" name="Group 11"/>
                      <p:cNvGrpSpPr/>
                      <p:nvPr/>
                    </p:nvGrpSpPr>
                    <p:grpSpPr>
                      <a:xfrm>
                        <a:off x="1694520" y="2081160"/>
                        <a:ext cx="4421160" cy="4442760"/>
                        <a:chOff x="1694520" y="2081160"/>
                        <a:chExt cx="4421160" cy="4442760"/>
                      </a:xfrm>
                    </p:grpSpPr>
                    <p:grpSp>
                      <p:nvGrpSpPr>
                        <p:cNvPr id="420" name="Group 12"/>
                        <p:cNvGrpSpPr/>
                        <p:nvPr/>
                      </p:nvGrpSpPr>
                      <p:grpSpPr>
                        <a:xfrm>
                          <a:off x="2279520" y="2634840"/>
                          <a:ext cx="3836160" cy="2447640"/>
                          <a:chOff x="2279520" y="2634840"/>
                          <a:chExt cx="3836160" cy="2447640"/>
                        </a:xfrm>
                      </p:grpSpPr>
                      <p:sp>
                        <p:nvSpPr>
                          <p:cNvPr id="421" name="Line 13"/>
                          <p:cNvSpPr/>
                          <p:nvPr/>
                        </p:nvSpPr>
                        <p:spPr>
                          <a:xfrm>
                            <a:off x="2279520" y="2634840"/>
                            <a:ext cx="38361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14"/>
                          <p:cNvSpPr/>
                          <p:nvPr/>
                        </p:nvSpPr>
                        <p:spPr>
                          <a:xfrm>
                            <a:off x="2279520" y="2634840"/>
                            <a:ext cx="0" cy="2447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3" name="Line 15"/>
                        <p:cNvSpPr/>
                        <p:nvPr/>
                      </p:nvSpPr>
                      <p:spPr>
                        <a:xfrm>
                          <a:off x="2279520" y="2634840"/>
                          <a:ext cx="0" cy="388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Text Box 16"/>
                        <p:cNvSpPr/>
                        <p:nvPr/>
                      </p:nvSpPr>
                      <p:spPr>
                        <a:xfrm>
                          <a:off x="2189520" y="2081160"/>
                          <a:ext cx="3970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Т</a:t>
                          </a:r>
                          <a:endParaRPr b="0" lang="en-US" sz="2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Text Box 17"/>
                        <p:cNvSpPr/>
                        <p:nvPr/>
                      </p:nvSpPr>
                      <p:spPr>
                        <a:xfrm>
                          <a:off x="1694520" y="5987520"/>
                          <a:ext cx="4366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Н</a:t>
                          </a:r>
                          <a:endParaRPr b="0" lang="en-US" sz="2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26" name="Line 18"/>
                      <p:cNvSpPr/>
                      <p:nvPr/>
                    </p:nvSpPr>
                    <p:spPr>
                      <a:xfrm>
                        <a:off x="2253600" y="2634840"/>
                        <a:ext cx="3929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Line 19"/>
                      <p:cNvSpPr/>
                      <p:nvPr/>
                    </p:nvSpPr>
                    <p:spPr>
                      <a:xfrm>
                        <a:off x="2253600" y="2634840"/>
                        <a:ext cx="4678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Text Box 20"/>
                      <p:cNvSpPr/>
                      <p:nvPr/>
                    </p:nvSpPr>
                    <p:spPr>
                      <a:xfrm>
                        <a:off x="6839280" y="2081160"/>
                        <a:ext cx="496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Т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9" name="Line 21"/>
                    <p:cNvSpPr/>
                    <p:nvPr/>
                  </p:nvSpPr>
                  <p:spPr>
                    <a:xfrm>
                      <a:off x="6932520" y="2635200"/>
                      <a:ext cx="0" cy="388908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22"/>
                    <p:cNvSpPr/>
                    <p:nvPr/>
                  </p:nvSpPr>
                  <p:spPr>
                    <a:xfrm>
                      <a:off x="2253240" y="6524280"/>
                      <a:ext cx="467928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Text Box 23"/>
                    <p:cNvSpPr/>
                    <p:nvPr/>
                  </p:nvSpPr>
                  <p:spPr>
                    <a:xfrm>
                      <a:off x="7001280" y="5987880"/>
                      <a:ext cx="535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Text Box 24"/>
                  <p:cNvSpPr/>
                  <p:nvPr/>
                </p:nvSpPr>
                <p:spPr>
                  <a:xfrm>
                    <a:off x="1694160" y="3737160"/>
                    <a:ext cx="435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Text Box 25"/>
                  <p:cNvSpPr/>
                  <p:nvPr/>
                </p:nvSpPr>
                <p:spPr>
                  <a:xfrm>
                    <a:off x="2065680" y="3571920"/>
                    <a:ext cx="3938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2f1311"/>
                        </a:solidFill>
                        <a:latin typeface="Arial"/>
                      </a:rPr>
                      <a:t>.</a:t>
                    </a:r>
                    <a:endParaRPr b="0" lang="en-US" sz="4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Line 26"/>
                <p:cNvSpPr/>
                <p:nvPr/>
              </p:nvSpPr>
              <p:spPr>
                <a:xfrm>
                  <a:off x="2253600" y="4147920"/>
                  <a:ext cx="4678920" cy="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5" name="Text Box 27"/>
                <p:cNvSpPr/>
                <p:nvPr/>
              </p:nvSpPr>
              <p:spPr>
                <a:xfrm>
                  <a:off x="6744960" y="3571920"/>
                  <a:ext cx="441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6" name="Text Box 28"/>
                <p:cNvSpPr/>
                <p:nvPr/>
              </p:nvSpPr>
              <p:spPr>
                <a:xfrm>
                  <a:off x="6934680" y="3736800"/>
                  <a:ext cx="53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Б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Rectangle 29"/>
              <p:cNvSpPr/>
              <p:nvPr/>
            </p:nvSpPr>
            <p:spPr>
              <a:xfrm>
                <a:off x="4314960" y="2081160"/>
                <a:ext cx="49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Т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8" name="Text Box 30"/>
              <p:cNvSpPr/>
              <p:nvPr/>
            </p:nvSpPr>
            <p:spPr>
              <a:xfrm>
                <a:off x="4314600" y="2060640"/>
                <a:ext cx="3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34"/>
            <p:cNvGrpSpPr/>
            <p:nvPr/>
          </p:nvGrpSpPr>
          <p:grpSpPr>
            <a:xfrm>
              <a:off x="4498560" y="2637000"/>
              <a:ext cx="537840" cy="3925440"/>
              <a:chOff x="4498560" y="2637000"/>
              <a:chExt cx="537840" cy="3925440"/>
            </a:xfrm>
          </p:grpSpPr>
          <p:sp>
            <p:nvSpPr>
              <p:cNvPr id="440" name="Line 31"/>
              <p:cNvSpPr/>
              <p:nvPr/>
            </p:nvSpPr>
            <p:spPr>
              <a:xfrm>
                <a:off x="4498560" y="2637000"/>
                <a:ext cx="0" cy="388764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1" name="Text Box 32"/>
              <p:cNvSpPr/>
              <p:nvPr/>
            </p:nvSpPr>
            <p:spPr>
              <a:xfrm>
                <a:off x="4500360" y="4098960"/>
                <a:ext cx="53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2" name="Text Box 33"/>
              <p:cNvSpPr/>
              <p:nvPr/>
            </p:nvSpPr>
            <p:spPr>
              <a:xfrm>
                <a:off x="4500720" y="60418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Н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Text Box 5"/>
          <p:cNvSpPr/>
          <p:nvPr/>
        </p:nvSpPr>
        <p:spPr>
          <a:xfrm>
            <a:off x="395280" y="1241280"/>
            <a:ext cx="100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9. Б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положение задней вытачки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 Т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: 2 – 2 =22,5:2-2=9,3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Line 37"/>
          <p:cNvSpPr/>
          <p:nvPr/>
        </p:nvSpPr>
        <p:spPr>
          <a:xfrm>
            <a:off x="2268360" y="4149720"/>
            <a:ext cx="100836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Text Box 38"/>
          <p:cNvSpPr/>
          <p:nvPr/>
        </p:nvSpPr>
        <p:spPr>
          <a:xfrm>
            <a:off x="2918160" y="409896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3"/>
          <p:cNvSpPr/>
          <p:nvPr/>
        </p:nvSpPr>
        <p:spPr>
          <a:xfrm>
            <a:off x="4140360" y="981000"/>
            <a:ext cx="3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7" name="Picture 4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32400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0. 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вести среднюю линию задн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ытач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49" name="Group 38"/>
          <p:cNvGrpSpPr/>
          <p:nvPr/>
        </p:nvGrpSpPr>
        <p:grpSpPr>
          <a:xfrm>
            <a:off x="1117440" y="836640"/>
            <a:ext cx="6525360" cy="5178960"/>
            <a:chOff x="1117440" y="836640"/>
            <a:chExt cx="6525360" cy="5178960"/>
          </a:xfrm>
        </p:grpSpPr>
        <p:grpSp>
          <p:nvGrpSpPr>
            <p:cNvPr id="450" name="Group 5"/>
            <p:cNvGrpSpPr/>
            <p:nvPr/>
          </p:nvGrpSpPr>
          <p:grpSpPr>
            <a:xfrm>
              <a:off x="1117440" y="836640"/>
              <a:ext cx="6525360" cy="5178960"/>
              <a:chOff x="1117440" y="836640"/>
              <a:chExt cx="6525360" cy="5178960"/>
            </a:xfrm>
          </p:grpSpPr>
          <p:grpSp>
            <p:nvGrpSpPr>
              <p:cNvPr id="451" name="Group 6"/>
              <p:cNvGrpSpPr/>
              <p:nvPr/>
            </p:nvGrpSpPr>
            <p:grpSpPr>
              <a:xfrm>
                <a:off x="1117440" y="836640"/>
                <a:ext cx="6525360" cy="5177880"/>
                <a:chOff x="1117440" y="836640"/>
                <a:chExt cx="6525360" cy="5177880"/>
              </a:xfrm>
            </p:grpSpPr>
            <p:grpSp>
              <p:nvGrpSpPr>
                <p:cNvPr id="452" name="Group 7"/>
                <p:cNvGrpSpPr/>
                <p:nvPr/>
              </p:nvGrpSpPr>
              <p:grpSpPr>
                <a:xfrm>
                  <a:off x="1117440" y="867960"/>
                  <a:ext cx="6525360" cy="5146560"/>
                  <a:chOff x="1117440" y="867960"/>
                  <a:chExt cx="6525360" cy="5146560"/>
                </a:xfrm>
              </p:grpSpPr>
              <p:grpSp>
                <p:nvGrpSpPr>
                  <p:cNvPr id="453" name="Group 8"/>
                  <p:cNvGrpSpPr/>
                  <p:nvPr/>
                </p:nvGrpSpPr>
                <p:grpSpPr>
                  <a:xfrm>
                    <a:off x="1117440" y="867960"/>
                    <a:ext cx="6525360" cy="5146560"/>
                    <a:chOff x="1117440" y="867960"/>
                    <a:chExt cx="6525360" cy="5146560"/>
                  </a:xfrm>
                </p:grpSpPr>
                <p:grpSp>
                  <p:nvGrpSpPr>
                    <p:cNvPr id="454" name="Group 9"/>
                    <p:cNvGrpSpPr/>
                    <p:nvPr/>
                  </p:nvGrpSpPr>
                  <p:grpSpPr>
                    <a:xfrm>
                      <a:off x="1117440" y="867960"/>
                      <a:ext cx="6525360" cy="5146560"/>
                      <a:chOff x="1117440" y="867960"/>
                      <a:chExt cx="6525360" cy="5146560"/>
                    </a:xfrm>
                  </p:grpSpPr>
                  <p:grpSp>
                    <p:nvGrpSpPr>
                      <p:cNvPr id="455" name="Group 10"/>
                      <p:cNvGrpSpPr/>
                      <p:nvPr/>
                    </p:nvGrpSpPr>
                    <p:grpSpPr>
                      <a:xfrm>
                        <a:off x="1117440" y="867960"/>
                        <a:ext cx="6303600" cy="5145840"/>
                        <a:chOff x="1117440" y="867960"/>
                        <a:chExt cx="6303600" cy="5145840"/>
                      </a:xfrm>
                    </p:grpSpPr>
                    <p:grpSp>
                      <p:nvGrpSpPr>
                        <p:cNvPr id="456" name="Group 11"/>
                        <p:cNvGrpSpPr/>
                        <p:nvPr/>
                      </p:nvGrpSpPr>
                      <p:grpSpPr>
                        <a:xfrm>
                          <a:off x="1117440" y="867960"/>
                          <a:ext cx="4989960" cy="5145840"/>
                          <a:chOff x="1117440" y="867960"/>
                          <a:chExt cx="4989960" cy="5145840"/>
                        </a:xfrm>
                      </p:grpSpPr>
                      <p:grpSp>
                        <p:nvGrpSpPr>
                          <p:cNvPr id="457" name="Group 12"/>
                          <p:cNvGrpSpPr/>
                          <p:nvPr/>
                        </p:nvGrpSpPr>
                        <p:grpSpPr>
                          <a:xfrm>
                            <a:off x="1778760" y="1503360"/>
                            <a:ext cx="4328640" cy="2838600"/>
                            <a:chOff x="1778760" y="1503360"/>
                            <a:chExt cx="4328640" cy="2838600"/>
                          </a:xfrm>
                        </p:grpSpPr>
                        <p:sp>
                          <p:nvSpPr>
                            <p:cNvPr id="458" name="Line 13"/>
                            <p:cNvSpPr/>
                            <p:nvPr/>
                          </p:nvSpPr>
                          <p:spPr>
                            <a:xfrm>
                              <a:off x="1778760" y="1503360"/>
                              <a:ext cx="43286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9" name="Line 14"/>
                            <p:cNvSpPr/>
                            <p:nvPr/>
                          </p:nvSpPr>
                          <p:spPr>
                            <a:xfrm>
                              <a:off x="1778760" y="1503360"/>
                              <a:ext cx="0" cy="28386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60" name="Line 15"/>
                          <p:cNvSpPr/>
                          <p:nvPr/>
                        </p:nvSpPr>
                        <p:spPr>
                          <a:xfrm>
                            <a:off x="1778760" y="1503360"/>
                            <a:ext cx="0" cy="4510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Text Box 16"/>
                          <p:cNvSpPr/>
                          <p:nvPr/>
                        </p:nvSpPr>
                        <p:spPr>
                          <a:xfrm>
                            <a:off x="1675440" y="867960"/>
                            <a:ext cx="397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endParaRPr b="0" lang="en-US" sz="2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" name="Text Box 17"/>
                          <p:cNvSpPr/>
                          <p:nvPr/>
                        </p:nvSpPr>
                        <p:spPr>
                          <a:xfrm>
                            <a:off x="1117440" y="5400720"/>
                            <a:ext cx="4366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Н</a:t>
                            </a:r>
                            <a:endParaRPr b="0" lang="en-US" sz="2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" name="Line 18"/>
                        <p:cNvSpPr/>
                        <p:nvPr/>
                      </p:nvSpPr>
                      <p:spPr>
                        <a:xfrm>
                          <a:off x="1749240" y="1503360"/>
                          <a:ext cx="4433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Line 19"/>
                        <p:cNvSpPr/>
                        <p:nvPr/>
                      </p:nvSpPr>
                      <p:spPr>
                        <a:xfrm>
                          <a:off x="1749240" y="1503360"/>
                          <a:ext cx="5278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Text Box 20"/>
                        <p:cNvSpPr/>
                        <p:nvPr/>
                      </p:nvSpPr>
                      <p:spPr>
                        <a:xfrm>
                          <a:off x="6924960" y="867960"/>
                          <a:ext cx="4960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Т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6" name="Line 21"/>
                      <p:cNvSpPr/>
                      <p:nvPr/>
                    </p:nvSpPr>
                    <p:spPr>
                      <a:xfrm>
                        <a:off x="7028280" y="1503360"/>
                        <a:ext cx="0" cy="451116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Line 22"/>
                      <p:cNvSpPr/>
                      <p:nvPr/>
                    </p:nvSpPr>
                    <p:spPr>
                      <a:xfrm>
                        <a:off x="1748880" y="6014520"/>
                        <a:ext cx="5279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Text Box 23"/>
                      <p:cNvSpPr/>
                      <p:nvPr/>
                    </p:nvSpPr>
                    <p:spPr>
                      <a:xfrm>
                        <a:off x="7107120" y="5400000"/>
                        <a:ext cx="5356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Н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9" name="Text Box 24"/>
                    <p:cNvSpPr/>
                    <p:nvPr/>
                  </p:nvSpPr>
                  <p:spPr>
                    <a:xfrm>
                      <a:off x="1118160" y="2788560"/>
                      <a:ext cx="435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Text Box 25"/>
                    <p:cNvSpPr/>
                    <p:nvPr/>
                  </p:nvSpPr>
                  <p:spPr>
                    <a:xfrm>
                      <a:off x="1537200" y="2589480"/>
                      <a:ext cx="444240" cy="76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1" name="Line 26"/>
                  <p:cNvSpPr/>
                  <p:nvPr/>
                </p:nvSpPr>
                <p:spPr>
                  <a:xfrm>
                    <a:off x="1749240" y="3258000"/>
                    <a:ext cx="5279040" cy="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Text Box 27"/>
                  <p:cNvSpPr/>
                  <p:nvPr/>
                </p:nvSpPr>
                <p:spPr>
                  <a:xfrm>
                    <a:off x="6816960" y="2589840"/>
                    <a:ext cx="49824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Text Box 28"/>
                  <p:cNvSpPr/>
                  <p:nvPr/>
                </p:nvSpPr>
                <p:spPr>
                  <a:xfrm>
                    <a:off x="7032600" y="279036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Rectangle 29"/>
                <p:cNvSpPr/>
                <p:nvPr/>
              </p:nvSpPr>
              <p:spPr>
                <a:xfrm>
                  <a:off x="4074840" y="867960"/>
                  <a:ext cx="49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Т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5" name="Text Box 30"/>
                <p:cNvSpPr/>
                <p:nvPr/>
              </p:nvSpPr>
              <p:spPr>
                <a:xfrm>
                  <a:off x="4072680" y="836640"/>
                  <a:ext cx="18360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31"/>
              <p:cNvGrpSpPr/>
              <p:nvPr/>
            </p:nvGrpSpPr>
            <p:grpSpPr>
              <a:xfrm>
                <a:off x="4282200" y="1505160"/>
                <a:ext cx="537480" cy="4510440"/>
                <a:chOff x="4282200" y="1505160"/>
                <a:chExt cx="537480" cy="4510440"/>
              </a:xfrm>
            </p:grpSpPr>
            <p:sp>
              <p:nvSpPr>
                <p:cNvPr id="477" name="Line 32"/>
                <p:cNvSpPr/>
                <p:nvPr/>
              </p:nvSpPr>
              <p:spPr>
                <a:xfrm>
                  <a:off x="4282200" y="1505160"/>
                  <a:ext cx="0" cy="451044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8" name="Text Box 33"/>
                <p:cNvSpPr/>
                <p:nvPr/>
              </p:nvSpPr>
              <p:spPr>
                <a:xfrm>
                  <a:off x="4283640" y="3208680"/>
                  <a:ext cx="53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Б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34"/>
                <p:cNvSpPr/>
                <p:nvPr/>
              </p:nvSpPr>
              <p:spPr>
                <a:xfrm>
                  <a:off x="4284000" y="5463000"/>
                  <a:ext cx="53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Н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0" name="Text Box 36"/>
            <p:cNvSpPr/>
            <p:nvPr/>
          </p:nvSpPr>
          <p:spPr>
            <a:xfrm>
              <a:off x="2489040" y="320904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Text Box 37"/>
            <p:cNvSpPr/>
            <p:nvPr/>
          </p:nvSpPr>
          <p:spPr>
            <a:xfrm>
              <a:off x="2699280" y="2592000"/>
              <a:ext cx="183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82" name="Line 39"/>
          <p:cNvSpPr/>
          <p:nvPr/>
        </p:nvSpPr>
        <p:spPr>
          <a:xfrm flipV="1">
            <a:off x="2843280" y="1483920"/>
            <a:ext cx="0" cy="180036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Text Box 40"/>
          <p:cNvSpPr/>
          <p:nvPr/>
        </p:nvSpPr>
        <p:spPr>
          <a:xfrm>
            <a:off x="2627280" y="9079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Text Box 42"/>
          <p:cNvSpPr/>
          <p:nvPr/>
        </p:nvSpPr>
        <p:spPr>
          <a:xfrm>
            <a:off x="1621080" y="2708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2702160" y="2708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878880" y="2708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4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4"/>
          <p:cNvSpPr/>
          <p:nvPr/>
        </p:nvSpPr>
        <p:spPr>
          <a:xfrm>
            <a:off x="376200" y="279360"/>
            <a:ext cx="81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1. 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положение передн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: 2 – 2 =24,5:2-2=10,3 см )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89" name="Group 40"/>
          <p:cNvGrpSpPr/>
          <p:nvPr/>
        </p:nvGrpSpPr>
        <p:grpSpPr>
          <a:xfrm>
            <a:off x="1405080" y="1052640"/>
            <a:ext cx="6126840" cy="4964040"/>
            <a:chOff x="1405080" y="1052640"/>
            <a:chExt cx="6126840" cy="4964040"/>
          </a:xfrm>
        </p:grpSpPr>
        <p:grpSp>
          <p:nvGrpSpPr>
            <p:cNvPr id="490" name="Group 5"/>
            <p:cNvGrpSpPr/>
            <p:nvPr/>
          </p:nvGrpSpPr>
          <p:grpSpPr>
            <a:xfrm>
              <a:off x="1405080" y="1052640"/>
              <a:ext cx="6126840" cy="4964040"/>
              <a:chOff x="1405080" y="1052640"/>
              <a:chExt cx="6126840" cy="4964040"/>
            </a:xfrm>
          </p:grpSpPr>
          <p:grpSp>
            <p:nvGrpSpPr>
              <p:cNvPr id="491" name="Group 6"/>
              <p:cNvGrpSpPr/>
              <p:nvPr/>
            </p:nvGrpSpPr>
            <p:grpSpPr>
              <a:xfrm>
                <a:off x="1405080" y="1052640"/>
                <a:ext cx="6126840" cy="4964040"/>
                <a:chOff x="1405080" y="1052640"/>
                <a:chExt cx="6126840" cy="4964040"/>
              </a:xfrm>
            </p:grpSpPr>
            <p:grpSp>
              <p:nvGrpSpPr>
                <p:cNvPr id="492" name="Group 7"/>
                <p:cNvGrpSpPr/>
                <p:nvPr/>
              </p:nvGrpSpPr>
              <p:grpSpPr>
                <a:xfrm>
                  <a:off x="1405080" y="1052640"/>
                  <a:ext cx="6126840" cy="4962960"/>
                  <a:chOff x="1405080" y="1052640"/>
                  <a:chExt cx="6126840" cy="4962960"/>
                </a:xfrm>
              </p:grpSpPr>
              <p:grpSp>
                <p:nvGrpSpPr>
                  <p:cNvPr id="493" name="Group 8"/>
                  <p:cNvGrpSpPr/>
                  <p:nvPr/>
                </p:nvGrpSpPr>
                <p:grpSpPr>
                  <a:xfrm>
                    <a:off x="1405080" y="1080360"/>
                    <a:ext cx="6126840" cy="4935240"/>
                    <a:chOff x="1405080" y="1080360"/>
                    <a:chExt cx="6126840" cy="4935240"/>
                  </a:xfrm>
                </p:grpSpPr>
                <p:grpSp>
                  <p:nvGrpSpPr>
                    <p:cNvPr id="494" name="Group 9"/>
                    <p:cNvGrpSpPr/>
                    <p:nvPr/>
                  </p:nvGrpSpPr>
                  <p:grpSpPr>
                    <a:xfrm>
                      <a:off x="1405080" y="1080360"/>
                      <a:ext cx="6126840" cy="4935240"/>
                      <a:chOff x="1405080" y="1080360"/>
                      <a:chExt cx="6126840" cy="4935240"/>
                    </a:xfrm>
                  </p:grpSpPr>
                  <p:grpSp>
                    <p:nvGrpSpPr>
                      <p:cNvPr id="495" name="Group 10"/>
                      <p:cNvGrpSpPr/>
                      <p:nvPr/>
                    </p:nvGrpSpPr>
                    <p:grpSpPr>
                      <a:xfrm>
                        <a:off x="1405080" y="1080360"/>
                        <a:ext cx="6126840" cy="4935240"/>
                        <a:chOff x="1405080" y="1080360"/>
                        <a:chExt cx="6126840" cy="4935240"/>
                      </a:xfrm>
                    </p:grpSpPr>
                    <p:grpSp>
                      <p:nvGrpSpPr>
                        <p:cNvPr id="496" name="Group 11"/>
                        <p:cNvGrpSpPr/>
                        <p:nvPr/>
                      </p:nvGrpSpPr>
                      <p:grpSpPr>
                        <a:xfrm>
                          <a:off x="1405080" y="1080360"/>
                          <a:ext cx="5916240" cy="4934520"/>
                          <a:chOff x="1405080" y="1080360"/>
                          <a:chExt cx="5916240" cy="4934520"/>
                        </a:xfrm>
                      </p:grpSpPr>
                      <p:grpSp>
                        <p:nvGrpSpPr>
                          <p:cNvPr id="497" name="Group 12"/>
                          <p:cNvGrpSpPr/>
                          <p:nvPr/>
                        </p:nvGrpSpPr>
                        <p:grpSpPr>
                          <a:xfrm>
                            <a:off x="1405080" y="1080360"/>
                            <a:ext cx="4656960" cy="4934520"/>
                            <a:chOff x="1405080" y="1080360"/>
                            <a:chExt cx="4656960" cy="4934520"/>
                          </a:xfrm>
                        </p:grpSpPr>
                        <p:grpSp>
                          <p:nvGrpSpPr>
                            <p:cNvPr id="498" name="Group 13"/>
                            <p:cNvGrpSpPr/>
                            <p:nvPr/>
                          </p:nvGrpSpPr>
                          <p:grpSpPr>
                            <a:xfrm>
                              <a:off x="2021760" y="1690920"/>
                              <a:ext cx="4040280" cy="2720880"/>
                              <a:chOff x="2021760" y="1690920"/>
                              <a:chExt cx="4040280" cy="2720880"/>
                            </a:xfrm>
                          </p:grpSpPr>
                          <p:sp>
                            <p:nvSpPr>
                              <p:cNvPr id="499" name="Line 14"/>
                              <p:cNvSpPr/>
                              <p:nvPr/>
                            </p:nvSpPr>
                            <p:spPr>
                              <a:xfrm>
                                <a:off x="2021760" y="1690920"/>
                                <a:ext cx="40402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" name="Line 15"/>
                              <p:cNvSpPr/>
                              <p:nvPr/>
                            </p:nvSpPr>
                            <p:spPr>
                              <a:xfrm>
                                <a:off x="2021760" y="1690920"/>
                                <a:ext cx="0" cy="2720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01" name="Line 16"/>
                            <p:cNvSpPr/>
                            <p:nvPr/>
                          </p:nvSpPr>
                          <p:spPr>
                            <a:xfrm>
                              <a:off x="2021760" y="1690920"/>
                              <a:ext cx="0" cy="4323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2" name="Text Box 17"/>
                            <p:cNvSpPr/>
                            <p:nvPr/>
                          </p:nvSpPr>
                          <p:spPr>
                            <a:xfrm>
                              <a:off x="1926360" y="1080360"/>
                              <a:ext cx="3970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Т</a:t>
                              </a:r>
                              <a:endParaRPr b="0" lang="en-US" sz="2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3" name="Text Box 18"/>
                            <p:cNvSpPr/>
                            <p:nvPr/>
                          </p:nvSpPr>
                          <p:spPr>
                            <a:xfrm>
                              <a:off x="1405080" y="5425560"/>
                              <a:ext cx="4366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Н</a:t>
                              </a:r>
                              <a:endParaRPr b="0" lang="en-US" sz="2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Line 19"/>
                          <p:cNvSpPr/>
                          <p:nvPr/>
                        </p:nvSpPr>
                        <p:spPr>
                          <a:xfrm>
                            <a:off x="1994400" y="1690920"/>
                            <a:ext cx="4138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5" name="Line 20"/>
                          <p:cNvSpPr/>
                          <p:nvPr/>
                        </p:nvSpPr>
                        <p:spPr>
                          <a:xfrm>
                            <a:off x="1994400" y="1690920"/>
                            <a:ext cx="49269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6" name="Text Box 21"/>
                          <p:cNvSpPr/>
                          <p:nvPr/>
                        </p:nvSpPr>
                        <p:spPr>
                          <a:xfrm>
                            <a:off x="6825240" y="1080360"/>
                            <a:ext cx="496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1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Line 22"/>
                        <p:cNvSpPr/>
                        <p:nvPr/>
                      </p:nvSpPr>
                      <p:spPr>
                        <a:xfrm>
                          <a:off x="6922440" y="1690920"/>
                          <a:ext cx="0" cy="432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23"/>
                        <p:cNvSpPr/>
                        <p:nvPr/>
                      </p:nvSpPr>
                      <p:spPr>
                        <a:xfrm>
                          <a:off x="1994040" y="6015600"/>
                          <a:ext cx="4928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Text Box 24"/>
                        <p:cNvSpPr/>
                        <p:nvPr/>
                      </p:nvSpPr>
                      <p:spPr>
                        <a:xfrm>
                          <a:off x="6996240" y="5426640"/>
                          <a:ext cx="5356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Н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0" name="Text Box 25"/>
                      <p:cNvSpPr/>
                      <p:nvPr/>
                    </p:nvSpPr>
                    <p:spPr>
                      <a:xfrm>
                        <a:off x="1405080" y="2921760"/>
                        <a:ext cx="435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endParaRPr b="0" lang="en-US" sz="2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Text Box 26"/>
                      <p:cNvSpPr/>
                      <p:nvPr/>
                    </p:nvSpPr>
                    <p:spPr>
                      <a:xfrm>
                        <a:off x="1796400" y="2732760"/>
                        <a:ext cx="414720" cy="762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2" name="Line 27"/>
                    <p:cNvSpPr/>
                    <p:nvPr/>
                  </p:nvSpPr>
                  <p:spPr>
                    <a:xfrm>
                      <a:off x="1994400" y="3373200"/>
                      <a:ext cx="492804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Text Box 28"/>
                    <p:cNvSpPr/>
                    <p:nvPr/>
                  </p:nvSpPr>
                  <p:spPr>
                    <a:xfrm>
                      <a:off x="6724800" y="2732760"/>
                      <a:ext cx="465120" cy="76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Text Box 29"/>
                    <p:cNvSpPr/>
                    <p:nvPr/>
                  </p:nvSpPr>
                  <p:spPr>
                    <a:xfrm>
                      <a:off x="6924600" y="2921760"/>
                      <a:ext cx="534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5" name="Rectangle 30"/>
                  <p:cNvSpPr/>
                  <p:nvPr/>
                </p:nvSpPr>
                <p:spPr>
                  <a:xfrm>
                    <a:off x="4163400" y="1131840"/>
                    <a:ext cx="621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Text Box 31"/>
                  <p:cNvSpPr/>
                  <p:nvPr/>
                </p:nvSpPr>
                <p:spPr>
                  <a:xfrm>
                    <a:off x="4163400" y="1052640"/>
                    <a:ext cx="182160" cy="76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Group 32"/>
                <p:cNvGrpSpPr/>
                <p:nvPr/>
              </p:nvGrpSpPr>
              <p:grpSpPr>
                <a:xfrm>
                  <a:off x="4358880" y="1693440"/>
                  <a:ext cx="538920" cy="4323240"/>
                  <a:chOff x="4358880" y="1693440"/>
                  <a:chExt cx="538920" cy="4323240"/>
                </a:xfrm>
              </p:grpSpPr>
              <p:sp>
                <p:nvSpPr>
                  <p:cNvPr id="518" name="Line 33"/>
                  <p:cNvSpPr/>
                  <p:nvPr/>
                </p:nvSpPr>
                <p:spPr>
                  <a:xfrm>
                    <a:off x="4358880" y="1693440"/>
                    <a:ext cx="0" cy="432324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Text Box 34"/>
                  <p:cNvSpPr/>
                  <p:nvPr/>
                </p:nvSpPr>
                <p:spPr>
                  <a:xfrm>
                    <a:off x="4361040" y="332424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Text Box 35"/>
                  <p:cNvSpPr/>
                  <p:nvPr/>
                </p:nvSpPr>
                <p:spPr>
                  <a:xfrm>
                    <a:off x="4362120" y="5487120"/>
                    <a:ext cx="535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Н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1" name="Text Box 36"/>
              <p:cNvSpPr/>
              <p:nvPr/>
            </p:nvSpPr>
            <p:spPr>
              <a:xfrm>
                <a:off x="2685240" y="3324960"/>
                <a:ext cx="53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2" name="Text Box 37"/>
              <p:cNvSpPr/>
              <p:nvPr/>
            </p:nvSpPr>
            <p:spPr>
              <a:xfrm>
                <a:off x="2881440" y="2735280"/>
                <a:ext cx="182160" cy="76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523" name="Line 38"/>
            <p:cNvSpPr/>
            <p:nvPr/>
          </p:nvSpPr>
          <p:spPr>
            <a:xfrm flipV="1">
              <a:off x="3079080" y="1693080"/>
              <a:ext cx="0" cy="168084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4" name="Text Box 39"/>
            <p:cNvSpPr/>
            <p:nvPr/>
          </p:nvSpPr>
          <p:spPr>
            <a:xfrm>
              <a:off x="2783160" y="1131840"/>
              <a:ext cx="6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25" name="Line 42"/>
          <p:cNvSpPr/>
          <p:nvPr/>
        </p:nvSpPr>
        <p:spPr>
          <a:xfrm flipH="1">
            <a:off x="5795640" y="3357720"/>
            <a:ext cx="115092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5437440" y="33066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7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376200" y="0"/>
            <a:ext cx="87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2. 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вести среднюю линию передн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ытач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29" name="Group 5"/>
          <p:cNvGrpSpPr/>
          <p:nvPr/>
        </p:nvGrpSpPr>
        <p:grpSpPr>
          <a:xfrm>
            <a:off x="1621080" y="981000"/>
            <a:ext cx="6386760" cy="5250240"/>
            <a:chOff x="1621080" y="981000"/>
            <a:chExt cx="6386760" cy="5250240"/>
          </a:xfrm>
        </p:grpSpPr>
        <p:grpSp>
          <p:nvGrpSpPr>
            <p:cNvPr id="530" name="Group 6"/>
            <p:cNvGrpSpPr/>
            <p:nvPr/>
          </p:nvGrpSpPr>
          <p:grpSpPr>
            <a:xfrm>
              <a:off x="1621080" y="981000"/>
              <a:ext cx="6386760" cy="5250240"/>
              <a:chOff x="1621080" y="981000"/>
              <a:chExt cx="6386760" cy="5250240"/>
            </a:xfrm>
          </p:grpSpPr>
          <p:grpSp>
            <p:nvGrpSpPr>
              <p:cNvPr id="531" name="Group 7"/>
              <p:cNvGrpSpPr/>
              <p:nvPr/>
            </p:nvGrpSpPr>
            <p:grpSpPr>
              <a:xfrm>
                <a:off x="1621080" y="981000"/>
                <a:ext cx="6386760" cy="5250240"/>
                <a:chOff x="1621080" y="981000"/>
                <a:chExt cx="6386760" cy="5250240"/>
              </a:xfrm>
            </p:grpSpPr>
            <p:grpSp>
              <p:nvGrpSpPr>
                <p:cNvPr id="532" name="Group 8"/>
                <p:cNvGrpSpPr/>
                <p:nvPr/>
              </p:nvGrpSpPr>
              <p:grpSpPr>
                <a:xfrm>
                  <a:off x="1621080" y="981000"/>
                  <a:ext cx="6386760" cy="5248800"/>
                  <a:chOff x="1621080" y="981000"/>
                  <a:chExt cx="6386760" cy="5248800"/>
                </a:xfrm>
              </p:grpSpPr>
              <p:grpSp>
                <p:nvGrpSpPr>
                  <p:cNvPr id="533" name="Group 9"/>
                  <p:cNvGrpSpPr/>
                  <p:nvPr/>
                </p:nvGrpSpPr>
                <p:grpSpPr>
                  <a:xfrm>
                    <a:off x="1621080" y="1014120"/>
                    <a:ext cx="6386760" cy="5215680"/>
                    <a:chOff x="1621080" y="1014120"/>
                    <a:chExt cx="6386760" cy="5215680"/>
                  </a:xfrm>
                </p:grpSpPr>
                <p:grpSp>
                  <p:nvGrpSpPr>
                    <p:cNvPr id="534" name="Group 10"/>
                    <p:cNvGrpSpPr/>
                    <p:nvPr/>
                  </p:nvGrpSpPr>
                  <p:grpSpPr>
                    <a:xfrm>
                      <a:off x="1621080" y="1014120"/>
                      <a:ext cx="6386760" cy="5215680"/>
                      <a:chOff x="1621080" y="1014120"/>
                      <a:chExt cx="6386760" cy="5215680"/>
                    </a:xfrm>
                  </p:grpSpPr>
                  <p:grpSp>
                    <p:nvGrpSpPr>
                      <p:cNvPr id="535" name="Group 11"/>
                      <p:cNvGrpSpPr/>
                      <p:nvPr/>
                    </p:nvGrpSpPr>
                    <p:grpSpPr>
                      <a:xfrm>
                        <a:off x="1621080" y="1014120"/>
                        <a:ext cx="6386760" cy="5215680"/>
                        <a:chOff x="1621080" y="1014120"/>
                        <a:chExt cx="6386760" cy="5215680"/>
                      </a:xfrm>
                    </p:grpSpPr>
                    <p:grpSp>
                      <p:nvGrpSpPr>
                        <p:cNvPr id="536" name="Group 12"/>
                        <p:cNvGrpSpPr/>
                        <p:nvPr/>
                      </p:nvGrpSpPr>
                      <p:grpSpPr>
                        <a:xfrm>
                          <a:off x="1621080" y="1014120"/>
                          <a:ext cx="6169680" cy="5214960"/>
                          <a:chOff x="1621080" y="1014120"/>
                          <a:chExt cx="6169680" cy="5214960"/>
                        </a:xfrm>
                      </p:grpSpPr>
                      <p:grpSp>
                        <p:nvGrpSpPr>
                          <p:cNvPr id="537" name="Group 13"/>
                          <p:cNvGrpSpPr/>
                          <p:nvPr/>
                        </p:nvGrpSpPr>
                        <p:grpSpPr>
                          <a:xfrm>
                            <a:off x="1621080" y="1014120"/>
                            <a:ext cx="4875120" cy="5214960"/>
                            <a:chOff x="1621080" y="1014120"/>
                            <a:chExt cx="4875120" cy="5214960"/>
                          </a:xfrm>
                        </p:grpSpPr>
                        <p:grpSp>
                          <p:nvGrpSpPr>
                            <p:cNvPr id="538" name="Group 14"/>
                            <p:cNvGrpSpPr/>
                            <p:nvPr/>
                          </p:nvGrpSpPr>
                          <p:grpSpPr>
                            <a:xfrm>
                              <a:off x="2266920" y="1656000"/>
                              <a:ext cx="4229280" cy="2877840"/>
                              <a:chOff x="2266920" y="1656000"/>
                              <a:chExt cx="4229280" cy="2877840"/>
                            </a:xfrm>
                          </p:grpSpPr>
                          <p:sp>
                            <p:nvSpPr>
                              <p:cNvPr id="539" name="Line 15"/>
                              <p:cNvSpPr/>
                              <p:nvPr/>
                            </p:nvSpPr>
                            <p:spPr>
                              <a:xfrm>
                                <a:off x="2266920" y="1656000"/>
                                <a:ext cx="42292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Line 16"/>
                              <p:cNvSpPr/>
                              <p:nvPr/>
                            </p:nvSpPr>
                            <p:spPr>
                              <a:xfrm>
                                <a:off x="2266920" y="1656000"/>
                                <a:ext cx="0" cy="2877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41" name="Line 17"/>
                            <p:cNvSpPr/>
                            <p:nvPr/>
                          </p:nvSpPr>
                          <p:spPr>
                            <a:xfrm>
                              <a:off x="2266920" y="1656000"/>
                              <a:ext cx="0" cy="4573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Text Box 18"/>
                            <p:cNvSpPr/>
                            <p:nvPr/>
                          </p:nvSpPr>
                          <p:spPr>
                            <a:xfrm>
                              <a:off x="2167200" y="1014120"/>
                              <a:ext cx="3970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Т</a:t>
                              </a:r>
                              <a:endParaRPr b="0" lang="en-US" sz="2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Text Box 19"/>
                            <p:cNvSpPr/>
                            <p:nvPr/>
                          </p:nvSpPr>
                          <p:spPr>
                            <a:xfrm>
                              <a:off x="1621080" y="5607360"/>
                              <a:ext cx="4366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Н</a:t>
                              </a:r>
                              <a:endParaRPr b="0" lang="en-US" sz="2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Line 20"/>
                          <p:cNvSpPr/>
                          <p:nvPr/>
                        </p:nvSpPr>
                        <p:spPr>
                          <a:xfrm>
                            <a:off x="2237760" y="1656000"/>
                            <a:ext cx="43315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Line 21"/>
                          <p:cNvSpPr/>
                          <p:nvPr/>
                        </p:nvSpPr>
                        <p:spPr>
                          <a:xfrm>
                            <a:off x="2237760" y="1656000"/>
                            <a:ext cx="5157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6" name="Text Box 22"/>
                          <p:cNvSpPr/>
                          <p:nvPr/>
                        </p:nvSpPr>
                        <p:spPr>
                          <a:xfrm>
                            <a:off x="7294680" y="1014120"/>
                            <a:ext cx="496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1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7" name="Line 23"/>
                        <p:cNvSpPr/>
                        <p:nvPr/>
                      </p:nvSpPr>
                      <p:spPr>
                        <a:xfrm>
                          <a:off x="7395840" y="1656360"/>
                          <a:ext cx="0" cy="4573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24"/>
                        <p:cNvSpPr/>
                        <p:nvPr/>
                      </p:nvSpPr>
                      <p:spPr>
                        <a:xfrm>
                          <a:off x="2237400" y="6229800"/>
                          <a:ext cx="5158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Text Box 25"/>
                        <p:cNvSpPr/>
                        <p:nvPr/>
                      </p:nvSpPr>
                      <p:spPr>
                        <a:xfrm>
                          <a:off x="7472160" y="5608440"/>
                          <a:ext cx="5356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Н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50" name="Text Box 26"/>
                      <p:cNvSpPr/>
                      <p:nvPr/>
                    </p:nvSpPr>
                    <p:spPr>
                      <a:xfrm>
                        <a:off x="1621080" y="2961360"/>
                        <a:ext cx="435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endParaRPr b="0" lang="en-US" sz="2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Text Box 27"/>
                      <p:cNvSpPr/>
                      <p:nvPr/>
                    </p:nvSpPr>
                    <p:spPr>
                      <a:xfrm>
                        <a:off x="2030760" y="2757960"/>
                        <a:ext cx="434160" cy="76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Line 28"/>
                    <p:cNvSpPr/>
                    <p:nvPr/>
                  </p:nvSpPr>
                  <p:spPr>
                    <a:xfrm>
                      <a:off x="2238120" y="3435480"/>
                      <a:ext cx="5158080" cy="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Text Box 29"/>
                    <p:cNvSpPr/>
                    <p:nvPr/>
                  </p:nvSpPr>
                  <p:spPr>
                    <a:xfrm>
                      <a:off x="7189200" y="2757960"/>
                      <a:ext cx="486720" cy="76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Text Box 30"/>
                    <p:cNvSpPr/>
                    <p:nvPr/>
                  </p:nvSpPr>
                  <p:spPr>
                    <a:xfrm>
                      <a:off x="7396200" y="2961000"/>
                      <a:ext cx="534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5" name="Rectangle 31"/>
                  <p:cNvSpPr/>
                  <p:nvPr/>
                </p:nvSpPr>
                <p:spPr>
                  <a:xfrm>
                    <a:off x="4509720" y="1014120"/>
                    <a:ext cx="49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Text Box 32"/>
                  <p:cNvSpPr/>
                  <p:nvPr/>
                </p:nvSpPr>
                <p:spPr>
                  <a:xfrm>
                    <a:off x="4507920" y="981000"/>
                    <a:ext cx="183960" cy="76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33"/>
                <p:cNvGrpSpPr/>
                <p:nvPr/>
              </p:nvGrpSpPr>
              <p:grpSpPr>
                <a:xfrm>
                  <a:off x="4712760" y="1658880"/>
                  <a:ext cx="537120" cy="4572360"/>
                  <a:chOff x="4712760" y="1658880"/>
                  <a:chExt cx="537120" cy="4572360"/>
                </a:xfrm>
              </p:grpSpPr>
              <p:sp>
                <p:nvSpPr>
                  <p:cNvPr id="558" name="Line 34"/>
                  <p:cNvSpPr/>
                  <p:nvPr/>
                </p:nvSpPr>
                <p:spPr>
                  <a:xfrm>
                    <a:off x="4712760" y="1658880"/>
                    <a:ext cx="0" cy="457236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Text Box 35"/>
                  <p:cNvSpPr/>
                  <p:nvPr/>
                </p:nvSpPr>
                <p:spPr>
                  <a:xfrm>
                    <a:off x="4714920" y="338760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Text Box 36"/>
                  <p:cNvSpPr/>
                  <p:nvPr/>
                </p:nvSpPr>
                <p:spPr>
                  <a:xfrm>
                    <a:off x="4714200" y="5672880"/>
                    <a:ext cx="535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Н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1" name="Text Box 37"/>
              <p:cNvSpPr/>
              <p:nvPr/>
            </p:nvSpPr>
            <p:spPr>
              <a:xfrm>
                <a:off x="2961000" y="3388320"/>
                <a:ext cx="53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2" name="Text Box 38"/>
              <p:cNvSpPr/>
              <p:nvPr/>
            </p:nvSpPr>
            <p:spPr>
              <a:xfrm>
                <a:off x="3166200" y="2760480"/>
                <a:ext cx="1839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563" name="Line 39"/>
            <p:cNvSpPr/>
            <p:nvPr/>
          </p:nvSpPr>
          <p:spPr>
            <a:xfrm flipV="1">
              <a:off x="3373200" y="1658880"/>
              <a:ext cx="0" cy="1777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Text Box 40"/>
            <p:cNvSpPr/>
            <p:nvPr/>
          </p:nvSpPr>
          <p:spPr>
            <a:xfrm>
              <a:off x="3063600" y="1064520"/>
              <a:ext cx="65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5" name="Text Box 42"/>
          <p:cNvSpPr/>
          <p:nvPr/>
        </p:nvSpPr>
        <p:spPr>
          <a:xfrm>
            <a:off x="5942160" y="337824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Line 45"/>
          <p:cNvSpPr/>
          <p:nvPr/>
        </p:nvSpPr>
        <p:spPr>
          <a:xfrm flipV="1">
            <a:off x="6156360" y="1628280"/>
            <a:ext cx="0" cy="179892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Text Box 46"/>
          <p:cNvSpPr/>
          <p:nvPr/>
        </p:nvSpPr>
        <p:spPr>
          <a:xfrm>
            <a:off x="5869080" y="10018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Text Box 48"/>
          <p:cNvSpPr/>
          <p:nvPr/>
        </p:nvSpPr>
        <p:spPr>
          <a:xfrm>
            <a:off x="6013440" y="2852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8"/>
          <p:cNvSpPr/>
          <p:nvPr/>
        </p:nvSpPr>
        <p:spPr>
          <a:xfrm>
            <a:off x="313380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755640" y="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3. Б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положение верши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дней 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п\в = 2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72" name="Group 45"/>
          <p:cNvGrpSpPr/>
          <p:nvPr/>
        </p:nvGrpSpPr>
        <p:grpSpPr>
          <a:xfrm>
            <a:off x="1477800" y="1052640"/>
            <a:ext cx="6061320" cy="5035320"/>
            <a:chOff x="1477800" y="1052640"/>
            <a:chExt cx="6061320" cy="5035320"/>
          </a:xfrm>
        </p:grpSpPr>
        <p:grpSp>
          <p:nvGrpSpPr>
            <p:cNvPr id="573" name="Group 5"/>
            <p:cNvGrpSpPr/>
            <p:nvPr/>
          </p:nvGrpSpPr>
          <p:grpSpPr>
            <a:xfrm>
              <a:off x="1477800" y="1052640"/>
              <a:ext cx="6061320" cy="5035320"/>
              <a:chOff x="1477800" y="1052640"/>
              <a:chExt cx="6061320" cy="5035320"/>
            </a:xfrm>
          </p:grpSpPr>
          <p:grpSp>
            <p:nvGrpSpPr>
              <p:cNvPr id="574" name="Group 6"/>
              <p:cNvGrpSpPr/>
              <p:nvPr/>
            </p:nvGrpSpPr>
            <p:grpSpPr>
              <a:xfrm>
                <a:off x="1477800" y="1052640"/>
                <a:ext cx="6061320" cy="5035320"/>
                <a:chOff x="1477800" y="1052640"/>
                <a:chExt cx="6061320" cy="5035320"/>
              </a:xfrm>
            </p:grpSpPr>
            <p:grpSp>
              <p:nvGrpSpPr>
                <p:cNvPr id="575" name="Group 7"/>
                <p:cNvGrpSpPr/>
                <p:nvPr/>
              </p:nvGrpSpPr>
              <p:grpSpPr>
                <a:xfrm>
                  <a:off x="1477800" y="1052640"/>
                  <a:ext cx="6061320" cy="5035320"/>
                  <a:chOff x="1477800" y="1052640"/>
                  <a:chExt cx="6061320" cy="5035320"/>
                </a:xfrm>
              </p:grpSpPr>
              <p:grpSp>
                <p:nvGrpSpPr>
                  <p:cNvPr id="576" name="Group 8"/>
                  <p:cNvGrpSpPr/>
                  <p:nvPr/>
                </p:nvGrpSpPr>
                <p:grpSpPr>
                  <a:xfrm>
                    <a:off x="1477800" y="1052640"/>
                    <a:ext cx="6061320" cy="5034240"/>
                    <a:chOff x="1477800" y="1052640"/>
                    <a:chExt cx="6061320" cy="5034240"/>
                  </a:xfrm>
                </p:grpSpPr>
                <p:grpSp>
                  <p:nvGrpSpPr>
                    <p:cNvPr id="577" name="Group 9"/>
                    <p:cNvGrpSpPr/>
                    <p:nvPr/>
                  </p:nvGrpSpPr>
                  <p:grpSpPr>
                    <a:xfrm>
                      <a:off x="1477800" y="1082880"/>
                      <a:ext cx="6061320" cy="5004000"/>
                      <a:chOff x="1477800" y="1082880"/>
                      <a:chExt cx="6061320" cy="5004000"/>
                    </a:xfrm>
                  </p:grpSpPr>
                  <p:grpSp>
                    <p:nvGrpSpPr>
                      <p:cNvPr id="578" name="Group 10"/>
                      <p:cNvGrpSpPr/>
                      <p:nvPr/>
                    </p:nvGrpSpPr>
                    <p:grpSpPr>
                      <a:xfrm>
                        <a:off x="1477800" y="1082880"/>
                        <a:ext cx="6061320" cy="5004000"/>
                        <a:chOff x="1477800" y="1082880"/>
                        <a:chExt cx="6061320" cy="5004000"/>
                      </a:xfrm>
                    </p:grpSpPr>
                    <p:grpSp>
                      <p:nvGrpSpPr>
                        <p:cNvPr id="579" name="Group 11"/>
                        <p:cNvGrpSpPr/>
                        <p:nvPr/>
                      </p:nvGrpSpPr>
                      <p:grpSpPr>
                        <a:xfrm>
                          <a:off x="1477800" y="1082880"/>
                          <a:ext cx="6061320" cy="5004000"/>
                          <a:chOff x="1477800" y="1082880"/>
                          <a:chExt cx="6061320" cy="5004000"/>
                        </a:xfrm>
                      </p:grpSpPr>
                      <p:grpSp>
                        <p:nvGrpSpPr>
                          <p:cNvPr id="580" name="Group 12"/>
                          <p:cNvGrpSpPr/>
                          <p:nvPr/>
                        </p:nvGrpSpPr>
                        <p:grpSpPr>
                          <a:xfrm>
                            <a:off x="1477800" y="1082880"/>
                            <a:ext cx="5852880" cy="5003280"/>
                            <a:chOff x="1477800" y="1082880"/>
                            <a:chExt cx="5852880" cy="5003280"/>
                          </a:xfrm>
                        </p:grpSpPr>
                        <p:grpSp>
                          <p:nvGrpSpPr>
                            <p:cNvPr id="581" name="Group 13"/>
                            <p:cNvGrpSpPr/>
                            <p:nvPr/>
                          </p:nvGrpSpPr>
                          <p:grpSpPr>
                            <a:xfrm>
                              <a:off x="1477800" y="1082880"/>
                              <a:ext cx="4603320" cy="5003280"/>
                              <a:chOff x="1477800" y="1082880"/>
                              <a:chExt cx="4603320" cy="5003280"/>
                            </a:xfrm>
                          </p:grpSpPr>
                          <p:grpSp>
                            <p:nvGrpSpPr>
                              <p:cNvPr id="582" name="Group 14"/>
                              <p:cNvGrpSpPr/>
                              <p:nvPr/>
                            </p:nvGrpSpPr>
                            <p:grpSpPr>
                              <a:xfrm>
                                <a:off x="2087640" y="1700640"/>
                                <a:ext cx="3993480" cy="2759760"/>
                                <a:chOff x="2087640" y="1700640"/>
                                <a:chExt cx="3993480" cy="2759760"/>
                              </a:xfrm>
                            </p:grpSpPr>
                            <p:sp>
                              <p:nvSpPr>
                                <p:cNvPr id="583" name="Line 15"/>
                                <p:cNvSpPr/>
                                <p:nvPr/>
                              </p:nvSpPr>
                              <p:spPr>
                                <a:xfrm>
                                  <a:off x="2087640" y="1700640"/>
                                  <a:ext cx="399348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4" name="Line 16"/>
                                <p:cNvSpPr/>
                                <p:nvPr/>
                              </p:nvSpPr>
                              <p:spPr>
                                <a:xfrm>
                                  <a:off x="2087640" y="1700640"/>
                                  <a:ext cx="0" cy="27597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85" name="Line 17"/>
                              <p:cNvSpPr/>
                              <p:nvPr/>
                            </p:nvSpPr>
                            <p:spPr>
                              <a:xfrm>
                                <a:off x="2087640" y="1700640"/>
                                <a:ext cx="0" cy="4385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6" name="Text Box 18"/>
                              <p:cNvSpPr/>
                              <p:nvPr/>
                            </p:nvSpPr>
                            <p:spPr>
                              <a:xfrm>
                                <a:off x="1993320" y="1082880"/>
                                <a:ext cx="3970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Т</a:t>
                                </a:r>
                                <a:endParaRPr b="0" lang="en-US" sz="2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Text Box 19"/>
                              <p:cNvSpPr/>
                              <p:nvPr/>
                            </p:nvSpPr>
                            <p:spPr>
                              <a:xfrm>
                                <a:off x="1477800" y="5488200"/>
                                <a:ext cx="4366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Н</a:t>
                                </a:r>
                                <a:endParaRPr b="0" lang="en-US" sz="2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88" name="Line 20"/>
                            <p:cNvSpPr/>
                            <p:nvPr/>
                          </p:nvSpPr>
                          <p:spPr>
                            <a:xfrm>
                              <a:off x="2060640" y="1700640"/>
                              <a:ext cx="40903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Line 21"/>
                            <p:cNvSpPr/>
                            <p:nvPr/>
                          </p:nvSpPr>
                          <p:spPr>
                            <a:xfrm>
                              <a:off x="2060640" y="1700640"/>
                              <a:ext cx="48697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Text Box 22"/>
                            <p:cNvSpPr/>
                            <p:nvPr/>
                          </p:nvSpPr>
                          <p:spPr>
                            <a:xfrm>
                              <a:off x="6834600" y="1082880"/>
                              <a:ext cx="4960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Т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1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91" name="Line 23"/>
                          <p:cNvSpPr/>
                          <p:nvPr/>
                        </p:nvSpPr>
                        <p:spPr>
                          <a:xfrm>
                            <a:off x="6931080" y="1700640"/>
                            <a:ext cx="0" cy="4386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2" name="Line 24"/>
                          <p:cNvSpPr/>
                          <p:nvPr/>
                        </p:nvSpPr>
                        <p:spPr>
                          <a:xfrm>
                            <a:off x="2060280" y="6086880"/>
                            <a:ext cx="48708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Text Box 25"/>
                          <p:cNvSpPr/>
                          <p:nvPr/>
                        </p:nvSpPr>
                        <p:spPr>
                          <a:xfrm>
                            <a:off x="7003440" y="5489280"/>
                            <a:ext cx="5356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Н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1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94" name="Text Box 26"/>
                        <p:cNvSpPr/>
                        <p:nvPr/>
                      </p:nvSpPr>
                      <p:spPr>
                        <a:xfrm>
                          <a:off x="1478880" y="2950200"/>
                          <a:ext cx="43524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Б</a:t>
                          </a:r>
                          <a:endParaRPr b="0" lang="en-US" sz="2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Text Box 27"/>
                        <p:cNvSpPr/>
                        <p:nvPr/>
                      </p:nvSpPr>
                      <p:spPr>
                        <a:xfrm>
                          <a:off x="1864800" y="2756880"/>
                          <a:ext cx="410040" cy="7606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96" name="Line 28"/>
                      <p:cNvSpPr/>
                      <p:nvPr/>
                    </p:nvSpPr>
                    <p:spPr>
                      <a:xfrm>
                        <a:off x="2060640" y="3406680"/>
                        <a:ext cx="4870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Text Box 29"/>
                      <p:cNvSpPr/>
                      <p:nvPr/>
                    </p:nvSpPr>
                    <p:spPr>
                      <a:xfrm>
                        <a:off x="6735960" y="2756880"/>
                        <a:ext cx="459720" cy="760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Text Box 30"/>
                      <p:cNvSpPr/>
                      <p:nvPr/>
                    </p:nvSpPr>
                    <p:spPr>
                      <a:xfrm>
                        <a:off x="6932880" y="295020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9" name="Rectangle 31"/>
                    <p:cNvSpPr/>
                    <p:nvPr/>
                  </p:nvSpPr>
                  <p:spPr>
                    <a:xfrm>
                      <a:off x="4205880" y="1082880"/>
                      <a:ext cx="496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Text Box 32"/>
                    <p:cNvSpPr/>
                    <p:nvPr/>
                  </p:nvSpPr>
                  <p:spPr>
                    <a:xfrm>
                      <a:off x="4204080" y="1052640"/>
                      <a:ext cx="184320" cy="76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Group 33"/>
                  <p:cNvGrpSpPr/>
                  <p:nvPr/>
                </p:nvGrpSpPr>
                <p:grpSpPr>
                  <a:xfrm>
                    <a:off x="4397400" y="1702800"/>
                    <a:ext cx="537120" cy="4385160"/>
                    <a:chOff x="4397400" y="1702800"/>
                    <a:chExt cx="537120" cy="4385160"/>
                  </a:xfrm>
                </p:grpSpPr>
                <p:sp>
                  <p:nvSpPr>
                    <p:cNvPr id="602" name="Line 34"/>
                    <p:cNvSpPr/>
                    <p:nvPr/>
                  </p:nvSpPr>
                  <p:spPr>
                    <a:xfrm>
                      <a:off x="4397400" y="1702800"/>
                      <a:ext cx="0" cy="438516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Text Box 35"/>
                    <p:cNvSpPr/>
                    <p:nvPr/>
                  </p:nvSpPr>
                  <p:spPr>
                    <a:xfrm>
                      <a:off x="4398120" y="3357000"/>
                      <a:ext cx="534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Text Box 36"/>
                    <p:cNvSpPr/>
                    <p:nvPr/>
                  </p:nvSpPr>
                  <p:spPr>
                    <a:xfrm>
                      <a:off x="4398840" y="5550840"/>
                      <a:ext cx="535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5" name="Text Box 37"/>
                <p:cNvSpPr/>
                <p:nvPr/>
              </p:nvSpPr>
              <p:spPr>
                <a:xfrm>
                  <a:off x="2742840" y="3359160"/>
                  <a:ext cx="53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Б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38"/>
                <p:cNvSpPr/>
                <p:nvPr/>
              </p:nvSpPr>
              <p:spPr>
                <a:xfrm>
                  <a:off x="2937240" y="2759400"/>
                  <a:ext cx="184320" cy="76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Line 39"/>
              <p:cNvSpPr/>
              <p:nvPr/>
            </p:nvSpPr>
            <p:spPr>
              <a:xfrm flipV="1">
                <a:off x="3132720" y="1702800"/>
                <a:ext cx="0" cy="170496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8" name="Text Box 40"/>
              <p:cNvSpPr/>
              <p:nvPr/>
            </p:nvSpPr>
            <p:spPr>
              <a:xfrm>
                <a:off x="2840400" y="1132920"/>
                <a:ext cx="61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Т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09" name="Text Box 41"/>
            <p:cNvSpPr/>
            <p:nvPr/>
          </p:nvSpPr>
          <p:spPr>
            <a:xfrm>
              <a:off x="5378400" y="335808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Text Box 42"/>
            <p:cNvSpPr/>
            <p:nvPr/>
          </p:nvSpPr>
          <p:spPr>
            <a:xfrm>
              <a:off x="5472360" y="2757600"/>
              <a:ext cx="18432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Line 43"/>
            <p:cNvSpPr/>
            <p:nvPr/>
          </p:nvSpPr>
          <p:spPr>
            <a:xfrm flipV="1">
              <a:off x="5667840" y="1702800"/>
              <a:ext cx="0" cy="170496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Text Box 44"/>
            <p:cNvSpPr/>
            <p:nvPr/>
          </p:nvSpPr>
          <p:spPr>
            <a:xfrm>
              <a:off x="5377680" y="108288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13" name="Line 47"/>
          <p:cNvSpPr/>
          <p:nvPr/>
        </p:nvSpPr>
        <p:spPr>
          <a:xfrm flipV="1">
            <a:off x="3132000" y="2924280"/>
            <a:ext cx="0" cy="5032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3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74772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92170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остроить чертеж прямой юб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53440" y="1989000"/>
            <a:ext cx="28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79280" y="2924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аучить обучающихся строить чертеж прямой юб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Развивать навык нанесения линий чертежа, моторику, глазоме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спитывать аккуратность, усидчив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53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50"/>
          <p:cNvGrpSpPr/>
          <p:nvPr/>
        </p:nvGrpSpPr>
        <p:grpSpPr>
          <a:xfrm>
            <a:off x="1404720" y="1268280"/>
            <a:ext cx="6230520" cy="5182920"/>
            <a:chOff x="1404720" y="1268280"/>
            <a:chExt cx="6230520" cy="5182920"/>
          </a:xfrm>
        </p:grpSpPr>
        <p:grpSp>
          <p:nvGrpSpPr>
            <p:cNvPr id="616" name="Group 5"/>
            <p:cNvGrpSpPr/>
            <p:nvPr/>
          </p:nvGrpSpPr>
          <p:grpSpPr>
            <a:xfrm>
              <a:off x="1404720" y="1268280"/>
              <a:ext cx="6230520" cy="5182920"/>
              <a:chOff x="1404720" y="1268280"/>
              <a:chExt cx="6230520" cy="5182920"/>
            </a:xfrm>
          </p:grpSpPr>
          <p:grpSp>
            <p:nvGrpSpPr>
              <p:cNvPr id="617" name="Group 6"/>
              <p:cNvGrpSpPr/>
              <p:nvPr/>
            </p:nvGrpSpPr>
            <p:grpSpPr>
              <a:xfrm>
                <a:off x="1404720" y="1268280"/>
                <a:ext cx="6230520" cy="5182920"/>
                <a:chOff x="1404720" y="1268280"/>
                <a:chExt cx="6230520" cy="5182920"/>
              </a:xfrm>
            </p:grpSpPr>
            <p:grpSp>
              <p:nvGrpSpPr>
                <p:cNvPr id="618" name="Group 7"/>
                <p:cNvGrpSpPr/>
                <p:nvPr/>
              </p:nvGrpSpPr>
              <p:grpSpPr>
                <a:xfrm>
                  <a:off x="1404720" y="1268280"/>
                  <a:ext cx="6230520" cy="5182920"/>
                  <a:chOff x="1404720" y="1268280"/>
                  <a:chExt cx="6230520" cy="5182920"/>
                </a:xfrm>
              </p:grpSpPr>
              <p:grpSp>
                <p:nvGrpSpPr>
                  <p:cNvPr id="619" name="Group 8"/>
                  <p:cNvGrpSpPr/>
                  <p:nvPr/>
                </p:nvGrpSpPr>
                <p:grpSpPr>
                  <a:xfrm>
                    <a:off x="1404720" y="1268280"/>
                    <a:ext cx="6230520" cy="5182920"/>
                    <a:chOff x="1404720" y="1268280"/>
                    <a:chExt cx="6230520" cy="5182920"/>
                  </a:xfrm>
                </p:grpSpPr>
                <p:grpSp>
                  <p:nvGrpSpPr>
                    <p:cNvPr id="620" name="Group 9"/>
                    <p:cNvGrpSpPr/>
                    <p:nvPr/>
                  </p:nvGrpSpPr>
                  <p:grpSpPr>
                    <a:xfrm>
                      <a:off x="1404720" y="1268280"/>
                      <a:ext cx="6230520" cy="5181840"/>
                      <a:chOff x="1404720" y="1268280"/>
                      <a:chExt cx="6230520" cy="5181840"/>
                    </a:xfrm>
                  </p:grpSpPr>
                  <p:grpSp>
                    <p:nvGrpSpPr>
                      <p:cNvPr id="621" name="Group 10"/>
                      <p:cNvGrpSpPr/>
                      <p:nvPr/>
                    </p:nvGrpSpPr>
                    <p:grpSpPr>
                      <a:xfrm>
                        <a:off x="1404720" y="1299600"/>
                        <a:ext cx="6230520" cy="5150520"/>
                        <a:chOff x="1404720" y="1299600"/>
                        <a:chExt cx="6230520" cy="5150520"/>
                      </a:xfrm>
                    </p:grpSpPr>
                    <p:grpSp>
                      <p:nvGrpSpPr>
                        <p:cNvPr id="622" name="Group 11"/>
                        <p:cNvGrpSpPr/>
                        <p:nvPr/>
                      </p:nvGrpSpPr>
                      <p:grpSpPr>
                        <a:xfrm>
                          <a:off x="1404720" y="1299600"/>
                          <a:ext cx="6230520" cy="5150520"/>
                          <a:chOff x="1404720" y="1299600"/>
                          <a:chExt cx="6230520" cy="5150520"/>
                        </a:xfrm>
                      </p:grpSpPr>
                      <p:grpSp>
                        <p:nvGrpSpPr>
                          <p:cNvPr id="623" name="Group 12"/>
                          <p:cNvGrpSpPr/>
                          <p:nvPr/>
                        </p:nvGrpSpPr>
                        <p:grpSpPr>
                          <a:xfrm>
                            <a:off x="1404720" y="1299600"/>
                            <a:ext cx="6230520" cy="5150520"/>
                            <a:chOff x="1404720" y="1299600"/>
                            <a:chExt cx="6230520" cy="5150520"/>
                          </a:xfrm>
                        </p:grpSpPr>
                        <p:grpSp>
                          <p:nvGrpSpPr>
                            <p:cNvPr id="624" name="Group 13"/>
                            <p:cNvGrpSpPr/>
                            <p:nvPr/>
                          </p:nvGrpSpPr>
                          <p:grpSpPr>
                            <a:xfrm>
                              <a:off x="1404720" y="1299600"/>
                              <a:ext cx="6017400" cy="5149800"/>
                              <a:chOff x="1404720" y="1299600"/>
                              <a:chExt cx="6017400" cy="5149800"/>
                            </a:xfrm>
                          </p:grpSpPr>
                          <p:grpSp>
                            <p:nvGrpSpPr>
                              <p:cNvPr id="625" name="Group 14"/>
                              <p:cNvGrpSpPr/>
                              <p:nvPr/>
                            </p:nvGrpSpPr>
                            <p:grpSpPr>
                              <a:xfrm>
                                <a:off x="1404720" y="1299600"/>
                                <a:ext cx="4744080" cy="5149800"/>
                                <a:chOff x="1404720" y="1299600"/>
                                <a:chExt cx="4744080" cy="5149800"/>
                              </a:xfrm>
                            </p:grpSpPr>
                            <p:grpSp>
                              <p:nvGrpSpPr>
                                <p:cNvPr id="626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033280" y="1935360"/>
                                  <a:ext cx="4115520" cy="2840760"/>
                                  <a:chOff x="2033280" y="1935360"/>
                                  <a:chExt cx="4115520" cy="2840760"/>
                                </a:xfrm>
                              </p:grpSpPr>
                              <p:sp>
                                <p:nvSpPr>
                                  <p:cNvPr id="627" name="Line 16"/>
                                  <p:cNvSpPr/>
                                  <p:nvPr/>
                                </p:nvSpPr>
                                <p:spPr>
                                  <a:xfrm>
                                    <a:off x="2033280" y="1935360"/>
                                    <a:ext cx="411552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28" name="Line 17"/>
                                  <p:cNvSpPr/>
                                  <p:nvPr/>
                                </p:nvSpPr>
                                <p:spPr>
                                  <a:xfrm>
                                    <a:off x="2033280" y="1935360"/>
                                    <a:ext cx="0" cy="2840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29" name="Line 18"/>
                                <p:cNvSpPr/>
                                <p:nvPr/>
                              </p:nvSpPr>
                              <p:spPr>
                                <a:xfrm>
                                  <a:off x="2033280" y="1935360"/>
                                  <a:ext cx="0" cy="45140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0" name="Text Box 19"/>
                                <p:cNvSpPr/>
                                <p:nvPr/>
                              </p:nvSpPr>
                              <p:spPr>
                                <a:xfrm>
                                  <a:off x="1936800" y="1299600"/>
                                  <a:ext cx="3970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Т</a:t>
                                  </a:r>
                                  <a:endParaRPr b="0" lang="en-US" sz="2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1" name="Text Box 20"/>
                                <p:cNvSpPr/>
                                <p:nvPr/>
                              </p:nvSpPr>
                              <p:spPr>
                                <a:xfrm>
                                  <a:off x="1404720" y="5835600"/>
                                  <a:ext cx="4366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Н</a:t>
                                  </a:r>
                                  <a:endParaRPr b="0" lang="en-US" sz="2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32" name="Line 21"/>
                              <p:cNvSpPr/>
                              <p:nvPr/>
                            </p:nvSpPr>
                            <p:spPr>
                              <a:xfrm>
                                <a:off x="2005200" y="1935360"/>
                                <a:ext cx="4215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" name="Line 22"/>
                              <p:cNvSpPr/>
                              <p:nvPr/>
                            </p:nvSpPr>
                            <p:spPr>
                              <a:xfrm>
                                <a:off x="2005200" y="1935360"/>
                                <a:ext cx="501876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4" name="Text Box 23"/>
                              <p:cNvSpPr/>
                              <p:nvPr/>
                            </p:nvSpPr>
                            <p:spPr>
                              <a:xfrm>
                                <a:off x="6926040" y="1299600"/>
                                <a:ext cx="4960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Т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1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5" name="Line 24"/>
                            <p:cNvSpPr/>
                            <p:nvPr/>
                          </p:nvSpPr>
                          <p:spPr>
                            <a:xfrm>
                              <a:off x="7024680" y="1935360"/>
                              <a:ext cx="0" cy="45144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6" name="Line 25"/>
                            <p:cNvSpPr/>
                            <p:nvPr/>
                          </p:nvSpPr>
                          <p:spPr>
                            <a:xfrm>
                              <a:off x="2004840" y="6450120"/>
                              <a:ext cx="50194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7" name="Text Box 26"/>
                            <p:cNvSpPr/>
                            <p:nvPr/>
                          </p:nvSpPr>
                          <p:spPr>
                            <a:xfrm>
                              <a:off x="7099560" y="5836680"/>
                              <a:ext cx="5356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Н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1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38" name="Text Box 27"/>
                          <p:cNvSpPr/>
                          <p:nvPr/>
                        </p:nvSpPr>
                        <p:spPr>
                          <a:xfrm>
                            <a:off x="1405440" y="3221640"/>
                            <a:ext cx="435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endParaRPr b="0" lang="en-US" sz="2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Text Box 28"/>
                          <p:cNvSpPr/>
                          <p:nvPr/>
                        </p:nvSpPr>
                        <p:spPr>
                          <a:xfrm>
                            <a:off x="1803600" y="3022560"/>
                            <a:ext cx="422280" cy="7628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0" name="Line 29"/>
                        <p:cNvSpPr/>
                        <p:nvPr/>
                      </p:nvSpPr>
                      <p:spPr>
                        <a:xfrm>
                          <a:off x="2005200" y="3691440"/>
                          <a:ext cx="5019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Text Box 30"/>
                        <p:cNvSpPr/>
                        <p:nvPr/>
                      </p:nvSpPr>
                      <p:spPr>
                        <a:xfrm>
                          <a:off x="6823440" y="3022560"/>
                          <a:ext cx="473760" cy="762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Text Box 31"/>
                        <p:cNvSpPr/>
                        <p:nvPr/>
                      </p:nvSpPr>
                      <p:spPr>
                        <a:xfrm>
                          <a:off x="7027560" y="3221640"/>
                          <a:ext cx="53424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Б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3" name="Rectangle 32"/>
                      <p:cNvSpPr/>
                      <p:nvPr/>
                    </p:nvSpPr>
                    <p:spPr>
                      <a:xfrm>
                        <a:off x="4216320" y="1299600"/>
                        <a:ext cx="496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Т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Text Box 33"/>
                      <p:cNvSpPr/>
                      <p:nvPr/>
                    </p:nvSpPr>
                    <p:spPr>
                      <a:xfrm>
                        <a:off x="4214520" y="1268280"/>
                        <a:ext cx="183600" cy="761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5" name="Group 34"/>
                    <p:cNvGrpSpPr/>
                    <p:nvPr/>
                  </p:nvGrpSpPr>
                  <p:grpSpPr>
                    <a:xfrm>
                      <a:off x="4413600" y="1937520"/>
                      <a:ext cx="537480" cy="4513680"/>
                      <a:chOff x="4413600" y="1937520"/>
                      <a:chExt cx="537480" cy="4513680"/>
                    </a:xfrm>
                  </p:grpSpPr>
                  <p:sp>
                    <p:nvSpPr>
                      <p:cNvPr id="646" name="Line 35"/>
                      <p:cNvSpPr/>
                      <p:nvPr/>
                    </p:nvSpPr>
                    <p:spPr>
                      <a:xfrm>
                        <a:off x="4413600" y="1937520"/>
                        <a:ext cx="0" cy="451368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Text Box 36"/>
                      <p:cNvSpPr/>
                      <p:nvPr/>
                    </p:nvSpPr>
                    <p:spPr>
                      <a:xfrm>
                        <a:off x="4415400" y="364392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Text Box 37"/>
                      <p:cNvSpPr/>
                      <p:nvPr/>
                    </p:nvSpPr>
                    <p:spPr>
                      <a:xfrm>
                        <a:off x="4415400" y="5898240"/>
                        <a:ext cx="5356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Н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49" name="Text Box 38"/>
                  <p:cNvSpPr/>
                  <p:nvPr/>
                </p:nvSpPr>
                <p:spPr>
                  <a:xfrm>
                    <a:off x="2708640" y="364248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Text Box 39"/>
                  <p:cNvSpPr/>
                  <p:nvPr/>
                </p:nvSpPr>
                <p:spPr>
                  <a:xfrm>
                    <a:off x="2908800" y="3025080"/>
                    <a:ext cx="183600" cy="76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Line 40"/>
                <p:cNvSpPr/>
                <p:nvPr/>
              </p:nvSpPr>
              <p:spPr>
                <a:xfrm flipV="1">
                  <a:off x="3110040" y="1937160"/>
                  <a:ext cx="0" cy="175500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1"/>
                <p:cNvSpPr/>
                <p:nvPr/>
              </p:nvSpPr>
              <p:spPr>
                <a:xfrm>
                  <a:off x="2808720" y="1350720"/>
                  <a:ext cx="633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Т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42"/>
              <p:cNvSpPr/>
              <p:nvPr/>
            </p:nvSpPr>
            <p:spPr>
              <a:xfrm>
                <a:off x="5423040" y="3641040"/>
                <a:ext cx="53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4" name="Text Box 43"/>
              <p:cNvSpPr/>
              <p:nvPr/>
            </p:nvSpPr>
            <p:spPr>
              <a:xfrm>
                <a:off x="5521320" y="3023280"/>
                <a:ext cx="183600" cy="7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5" name="Line 44"/>
              <p:cNvSpPr/>
              <p:nvPr/>
            </p:nvSpPr>
            <p:spPr>
              <a:xfrm flipV="1">
                <a:off x="5722560" y="1937160"/>
                <a:ext cx="0" cy="175500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6" name="Text Box 45"/>
              <p:cNvSpPr/>
              <p:nvPr/>
            </p:nvSpPr>
            <p:spPr>
              <a:xfrm>
                <a:off x="5422320" y="1299600"/>
                <a:ext cx="49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Т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57" name="Text Box 47"/>
            <p:cNvSpPr/>
            <p:nvPr/>
          </p:nvSpPr>
          <p:spPr>
            <a:xfrm>
              <a:off x="3112560" y="297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Text Box 49"/>
            <p:cNvSpPr/>
            <p:nvPr/>
          </p:nvSpPr>
          <p:spPr>
            <a:xfrm>
              <a:off x="2913120" y="260496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2f1311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59" name="Text Box 4"/>
          <p:cNvSpPr/>
          <p:nvPr/>
        </p:nvSpPr>
        <p:spPr>
          <a:xfrm>
            <a:off x="39528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4. Б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положение верши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ередней 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п\в=4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0" name="Line 51"/>
          <p:cNvSpPr/>
          <p:nvPr/>
        </p:nvSpPr>
        <p:spPr>
          <a:xfrm flipV="1">
            <a:off x="5724360" y="2997000"/>
            <a:ext cx="0" cy="71892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1" name="Text Box 52"/>
          <p:cNvSpPr/>
          <p:nvPr/>
        </p:nvSpPr>
        <p:spPr>
          <a:xfrm>
            <a:off x="5796000" y="2708280"/>
            <a:ext cx="3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3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6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5"/>
          <p:cNvSpPr/>
          <p:nvPr/>
        </p:nvSpPr>
        <p:spPr>
          <a:xfrm>
            <a:off x="4357800" y="2801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76200" y="189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5. Б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 –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пределить положение верши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оковой 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п\в=1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65" name="Group 52"/>
          <p:cNvGrpSpPr/>
          <p:nvPr/>
        </p:nvGrpSpPr>
        <p:grpSpPr>
          <a:xfrm>
            <a:off x="1333800" y="1125360"/>
            <a:ext cx="6063480" cy="4961880"/>
            <a:chOff x="1333800" y="1125360"/>
            <a:chExt cx="6063480" cy="4961880"/>
          </a:xfrm>
        </p:grpSpPr>
        <p:grpSp>
          <p:nvGrpSpPr>
            <p:cNvPr id="666" name="Group 5"/>
            <p:cNvGrpSpPr/>
            <p:nvPr/>
          </p:nvGrpSpPr>
          <p:grpSpPr>
            <a:xfrm>
              <a:off x="1333800" y="1125360"/>
              <a:ext cx="6063480" cy="4961880"/>
              <a:chOff x="1333800" y="1125360"/>
              <a:chExt cx="6063480" cy="4961880"/>
            </a:xfrm>
          </p:grpSpPr>
          <p:grpSp>
            <p:nvGrpSpPr>
              <p:cNvPr id="667" name="Group 6"/>
              <p:cNvGrpSpPr/>
              <p:nvPr/>
            </p:nvGrpSpPr>
            <p:grpSpPr>
              <a:xfrm>
                <a:off x="1333800" y="1125360"/>
                <a:ext cx="6063480" cy="4961880"/>
                <a:chOff x="1333800" y="1125360"/>
                <a:chExt cx="6063480" cy="4961880"/>
              </a:xfrm>
            </p:grpSpPr>
            <p:grpSp>
              <p:nvGrpSpPr>
                <p:cNvPr id="668" name="Group 7"/>
                <p:cNvGrpSpPr/>
                <p:nvPr/>
              </p:nvGrpSpPr>
              <p:grpSpPr>
                <a:xfrm>
                  <a:off x="1333800" y="1125360"/>
                  <a:ext cx="6063480" cy="4961880"/>
                  <a:chOff x="1333800" y="1125360"/>
                  <a:chExt cx="6063480" cy="4961880"/>
                </a:xfrm>
              </p:grpSpPr>
              <p:grpSp>
                <p:nvGrpSpPr>
                  <p:cNvPr id="669" name="Group 8"/>
                  <p:cNvGrpSpPr/>
                  <p:nvPr/>
                </p:nvGrpSpPr>
                <p:grpSpPr>
                  <a:xfrm>
                    <a:off x="1333800" y="1125360"/>
                    <a:ext cx="6063480" cy="4961880"/>
                    <a:chOff x="1333800" y="1125360"/>
                    <a:chExt cx="6063480" cy="4961880"/>
                  </a:xfrm>
                </p:grpSpPr>
                <p:grpSp>
                  <p:nvGrpSpPr>
                    <p:cNvPr id="670" name="Group 9"/>
                    <p:cNvGrpSpPr/>
                    <p:nvPr/>
                  </p:nvGrpSpPr>
                  <p:grpSpPr>
                    <a:xfrm>
                      <a:off x="1333800" y="1125360"/>
                      <a:ext cx="6063480" cy="4961880"/>
                      <a:chOff x="1333800" y="1125360"/>
                      <a:chExt cx="6063480" cy="4961880"/>
                    </a:xfrm>
                  </p:grpSpPr>
                  <p:grpSp>
                    <p:nvGrpSpPr>
                      <p:cNvPr id="671" name="Group 10"/>
                      <p:cNvGrpSpPr/>
                      <p:nvPr/>
                    </p:nvGrpSpPr>
                    <p:grpSpPr>
                      <a:xfrm>
                        <a:off x="1333800" y="1125360"/>
                        <a:ext cx="6063480" cy="4960800"/>
                        <a:chOff x="1333800" y="1125360"/>
                        <a:chExt cx="6063480" cy="4960800"/>
                      </a:xfrm>
                    </p:grpSpPr>
                    <p:grpSp>
                      <p:nvGrpSpPr>
                        <p:cNvPr id="672" name="Group 11"/>
                        <p:cNvGrpSpPr/>
                        <p:nvPr/>
                      </p:nvGrpSpPr>
                      <p:grpSpPr>
                        <a:xfrm>
                          <a:off x="1333800" y="1153080"/>
                          <a:ext cx="6063480" cy="4933080"/>
                          <a:chOff x="1333800" y="1153080"/>
                          <a:chExt cx="6063480" cy="4933080"/>
                        </a:xfrm>
                      </p:grpSpPr>
                      <p:grpSp>
                        <p:nvGrpSpPr>
                          <p:cNvPr id="673" name="Group 12"/>
                          <p:cNvGrpSpPr/>
                          <p:nvPr/>
                        </p:nvGrpSpPr>
                        <p:grpSpPr>
                          <a:xfrm>
                            <a:off x="1333800" y="1153080"/>
                            <a:ext cx="6063480" cy="4933080"/>
                            <a:chOff x="1333800" y="1153080"/>
                            <a:chExt cx="6063480" cy="4933080"/>
                          </a:xfrm>
                        </p:grpSpPr>
                        <p:grpSp>
                          <p:nvGrpSpPr>
                            <p:cNvPr id="674" name="Group 13"/>
                            <p:cNvGrpSpPr/>
                            <p:nvPr/>
                          </p:nvGrpSpPr>
                          <p:grpSpPr>
                            <a:xfrm>
                              <a:off x="1333800" y="1153080"/>
                              <a:ext cx="6063480" cy="4933080"/>
                              <a:chOff x="1333800" y="1153080"/>
                              <a:chExt cx="6063480" cy="4933080"/>
                            </a:xfrm>
                          </p:grpSpPr>
                          <p:grpSp>
                            <p:nvGrpSpPr>
                              <p:cNvPr id="675" name="Group 14"/>
                              <p:cNvGrpSpPr/>
                              <p:nvPr/>
                            </p:nvGrpSpPr>
                            <p:grpSpPr>
                              <a:xfrm>
                                <a:off x="1333800" y="1153080"/>
                                <a:ext cx="5856480" cy="4932360"/>
                                <a:chOff x="1333800" y="1153080"/>
                                <a:chExt cx="5856480" cy="4932360"/>
                              </a:xfrm>
                            </p:grpSpPr>
                            <p:grpSp>
                              <p:nvGrpSpPr>
                                <p:cNvPr id="676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1333800" y="1153080"/>
                                  <a:ext cx="4605480" cy="4932360"/>
                                  <a:chOff x="1333800" y="1153080"/>
                                  <a:chExt cx="4605480" cy="4932360"/>
                                </a:xfrm>
                              </p:grpSpPr>
                              <p:grpSp>
                                <p:nvGrpSpPr>
                                  <p:cNvPr id="677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43640" y="1763280"/>
                                    <a:ext cx="3995640" cy="2719800"/>
                                    <a:chOff x="1943640" y="1763280"/>
                                    <a:chExt cx="3995640" cy="2719800"/>
                                  </a:xfrm>
                                </p:grpSpPr>
                                <p:sp>
                                  <p:nvSpPr>
                                    <p:cNvPr id="678" name="Line 1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3640" y="1763280"/>
                                      <a:ext cx="399564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9" name="Line 1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3640" y="1763280"/>
                                      <a:ext cx="0" cy="2719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80" name="Line 19"/>
                                  <p:cNvSpPr/>
                                  <p:nvPr/>
                                </p:nvSpPr>
                                <p:spPr>
                                  <a:xfrm>
                                    <a:off x="1943640" y="1763280"/>
                                    <a:ext cx="0" cy="43221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81" name="Text Box 20"/>
                                  <p:cNvSpPr/>
                                  <p:nvPr/>
                                </p:nvSpPr>
                                <p:spPr>
                                  <a:xfrm>
                                    <a:off x="1849320" y="1153080"/>
                                    <a:ext cx="3970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Т</a:t>
                                    </a:r>
                                    <a:endParaRPr b="0" lang="en-US" sz="2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82" name="Text Box 21"/>
                                  <p:cNvSpPr/>
                                  <p:nvPr/>
                                </p:nvSpPr>
                                <p:spPr>
                                  <a:xfrm>
                                    <a:off x="1333800" y="5494320"/>
                                    <a:ext cx="4366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Н</a:t>
                                    </a:r>
                                    <a:endParaRPr b="0" lang="en-US" sz="2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83" name="Line 22"/>
                                <p:cNvSpPr/>
                                <p:nvPr/>
                              </p:nvSpPr>
                              <p:spPr>
                                <a:xfrm>
                                  <a:off x="1916640" y="1763280"/>
                                  <a:ext cx="409248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4" name="Line 23"/>
                                <p:cNvSpPr/>
                                <p:nvPr/>
                              </p:nvSpPr>
                              <p:spPr>
                                <a:xfrm>
                                  <a:off x="1916640" y="1763280"/>
                                  <a:ext cx="487224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5" name="Text Box 24"/>
                                <p:cNvSpPr/>
                                <p:nvPr/>
                              </p:nvSpPr>
                              <p:spPr>
                                <a:xfrm>
                                  <a:off x="6694200" y="1153080"/>
                                  <a:ext cx="4960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Т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1</a:t>
                                  </a:r>
                                  <a:endParaRPr b="0" lang="en-US" sz="1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86" name="Line 25"/>
                              <p:cNvSpPr/>
                              <p:nvPr/>
                            </p:nvSpPr>
                            <p:spPr>
                              <a:xfrm>
                                <a:off x="6789240" y="1763640"/>
                                <a:ext cx="0" cy="4322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7" name="Line 26"/>
                              <p:cNvSpPr/>
                              <p:nvPr/>
                            </p:nvSpPr>
                            <p:spPr>
                              <a:xfrm>
                                <a:off x="1915920" y="6086160"/>
                                <a:ext cx="487296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8" name="Text Box 27"/>
                              <p:cNvSpPr/>
                              <p:nvPr/>
                            </p:nvSpPr>
                            <p:spPr>
                              <a:xfrm>
                                <a:off x="6861600" y="5495400"/>
                                <a:ext cx="5356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Н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1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89" name="Text Box 28"/>
                            <p:cNvSpPr/>
                            <p:nvPr/>
                          </p:nvSpPr>
                          <p:spPr>
                            <a:xfrm>
                              <a:off x="1334520" y="2993400"/>
                              <a:ext cx="43524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Б</a:t>
                              </a:r>
                              <a:endParaRPr b="0" lang="en-US" sz="2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90" name="Text Box 29"/>
                            <p:cNvSpPr/>
                            <p:nvPr/>
                          </p:nvSpPr>
                          <p:spPr>
                            <a:xfrm>
                              <a:off x="1720800" y="2804760"/>
                              <a:ext cx="410040" cy="762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91" name="Line 30"/>
                          <p:cNvSpPr/>
                          <p:nvPr/>
                        </p:nvSpPr>
                        <p:spPr>
                          <a:xfrm>
                            <a:off x="1916640" y="3445200"/>
                            <a:ext cx="48726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2" name="Text Box 31"/>
                          <p:cNvSpPr/>
                          <p:nvPr/>
                        </p:nvSpPr>
                        <p:spPr>
                          <a:xfrm>
                            <a:off x="6594120" y="2804760"/>
                            <a:ext cx="459720" cy="762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3" name="Text Box 32"/>
                          <p:cNvSpPr/>
                          <p:nvPr/>
                        </p:nvSpPr>
                        <p:spPr>
                          <a:xfrm>
                            <a:off x="6790680" y="2993760"/>
                            <a:ext cx="534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1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4" name="Rectangle 33"/>
                        <p:cNvSpPr/>
                        <p:nvPr/>
                      </p:nvSpPr>
                      <p:spPr>
                        <a:xfrm>
                          <a:off x="4063320" y="1153080"/>
                          <a:ext cx="4960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Т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5" name="Text Box 34"/>
                        <p:cNvSpPr/>
                        <p:nvPr/>
                      </p:nvSpPr>
                      <p:spPr>
                        <a:xfrm>
                          <a:off x="4061160" y="1125360"/>
                          <a:ext cx="184320" cy="762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6" name="Group 35"/>
                      <p:cNvGrpSpPr/>
                      <p:nvPr/>
                    </p:nvGrpSpPr>
                    <p:grpSpPr>
                      <a:xfrm>
                        <a:off x="4254480" y="1765800"/>
                        <a:ext cx="537120" cy="4321440"/>
                        <a:chOff x="4254480" y="1765800"/>
                        <a:chExt cx="537120" cy="4321440"/>
                      </a:xfrm>
                    </p:grpSpPr>
                    <p:sp>
                      <p:nvSpPr>
                        <p:cNvPr id="697" name="Line 36"/>
                        <p:cNvSpPr/>
                        <p:nvPr/>
                      </p:nvSpPr>
                      <p:spPr>
                        <a:xfrm>
                          <a:off x="4254480" y="1765800"/>
                          <a:ext cx="0" cy="432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Text Box 37"/>
                        <p:cNvSpPr/>
                        <p:nvPr/>
                      </p:nvSpPr>
                      <p:spPr>
                        <a:xfrm>
                          <a:off x="4255560" y="3398040"/>
                          <a:ext cx="53424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Б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Text Box 38"/>
                        <p:cNvSpPr/>
                        <p:nvPr/>
                      </p:nvSpPr>
                      <p:spPr>
                        <a:xfrm>
                          <a:off x="4255920" y="5558040"/>
                          <a:ext cx="53568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Н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0" name="Text Box 39"/>
                    <p:cNvSpPr/>
                    <p:nvPr/>
                  </p:nvSpPr>
                  <p:spPr>
                    <a:xfrm>
                      <a:off x="2599920" y="3398400"/>
                      <a:ext cx="534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Text Box 40"/>
                    <p:cNvSpPr/>
                    <p:nvPr/>
                  </p:nvSpPr>
                  <p:spPr>
                    <a:xfrm>
                      <a:off x="2793240" y="2807280"/>
                      <a:ext cx="1846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2" name="Line 41"/>
                  <p:cNvSpPr/>
                  <p:nvPr/>
                </p:nvSpPr>
                <p:spPr>
                  <a:xfrm flipV="1">
                    <a:off x="2989080" y="1765800"/>
                    <a:ext cx="0" cy="168012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Text Box 42"/>
                  <p:cNvSpPr/>
                  <p:nvPr/>
                </p:nvSpPr>
                <p:spPr>
                  <a:xfrm>
                    <a:off x="2696400" y="1204560"/>
                    <a:ext cx="6148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Text Box 43"/>
                <p:cNvSpPr/>
                <p:nvPr/>
              </p:nvSpPr>
              <p:spPr>
                <a:xfrm>
                  <a:off x="5234400" y="3395160"/>
                  <a:ext cx="53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Б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44"/>
                <p:cNvSpPr/>
                <p:nvPr/>
              </p:nvSpPr>
              <p:spPr>
                <a:xfrm>
                  <a:off x="5329800" y="2805480"/>
                  <a:ext cx="18468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6" name="Line 45"/>
                <p:cNvSpPr/>
                <p:nvPr/>
              </p:nvSpPr>
              <p:spPr>
                <a:xfrm flipV="1">
                  <a:off x="5524920" y="1765800"/>
                  <a:ext cx="0" cy="1680120"/>
                </a:xfrm>
                <a:prstGeom prst="line">
                  <a:avLst/>
                </a:prstGeom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46"/>
                <p:cNvSpPr/>
                <p:nvPr/>
              </p:nvSpPr>
              <p:spPr>
                <a:xfrm>
                  <a:off x="5235120" y="1153440"/>
                  <a:ext cx="49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Т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Text Box 47"/>
              <p:cNvSpPr/>
              <p:nvPr/>
            </p:nvSpPr>
            <p:spPr>
              <a:xfrm>
                <a:off x="2990880" y="2756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9" name="Text Box 48"/>
              <p:cNvSpPr/>
              <p:nvPr/>
            </p:nvSpPr>
            <p:spPr>
              <a:xfrm>
                <a:off x="2797200" y="2405160"/>
                <a:ext cx="3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10" name="Text Box 50"/>
            <p:cNvSpPr/>
            <p:nvPr/>
          </p:nvSpPr>
          <p:spPr>
            <a:xfrm>
              <a:off x="5525640" y="2566080"/>
              <a:ext cx="4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Text Box 51"/>
            <p:cNvSpPr/>
            <p:nvPr/>
          </p:nvSpPr>
          <p:spPr>
            <a:xfrm>
              <a:off x="5330160" y="2085480"/>
              <a:ext cx="48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2f1311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12" name="Line 54"/>
          <p:cNvSpPr/>
          <p:nvPr/>
        </p:nvSpPr>
        <p:spPr>
          <a:xfrm flipV="1">
            <a:off x="4284720" y="3068280"/>
            <a:ext cx="0" cy="36036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3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6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4"/>
          <p:cNvSpPr/>
          <p:nvPr/>
        </p:nvSpPr>
        <p:spPr>
          <a:xfrm>
            <a:off x="111600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асчет раствора вытач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0" y="126828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6. Определить сумму вытачек (разницу межд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луобхватом бедер и полуобхватом талии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Сб+Пб)-(Ст+Пт)=(44+3)-(30,7+1)=15,3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7. Определить раствор боковой вытач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 15,3 : 2 = 7,7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8. Определить раствор задней вытач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 15,3 : 3 = 5,1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9. Определить раствор передней вытач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5,3 : 6 = 2,6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60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7" name="Group 57"/>
          <p:cNvGrpSpPr/>
          <p:nvPr/>
        </p:nvGrpSpPr>
        <p:grpSpPr>
          <a:xfrm>
            <a:off x="1765440" y="1844640"/>
            <a:ext cx="5788440" cy="4694760"/>
            <a:chOff x="1765440" y="1844640"/>
            <a:chExt cx="5788440" cy="4694760"/>
          </a:xfrm>
        </p:grpSpPr>
        <p:grpSp>
          <p:nvGrpSpPr>
            <p:cNvPr id="718" name="Group 7"/>
            <p:cNvGrpSpPr/>
            <p:nvPr/>
          </p:nvGrpSpPr>
          <p:grpSpPr>
            <a:xfrm>
              <a:off x="1765440" y="1844640"/>
              <a:ext cx="5788440" cy="4694760"/>
              <a:chOff x="1765440" y="1844640"/>
              <a:chExt cx="5788440" cy="4694760"/>
            </a:xfrm>
          </p:grpSpPr>
          <p:grpSp>
            <p:nvGrpSpPr>
              <p:cNvPr id="719" name="Group 8"/>
              <p:cNvGrpSpPr/>
              <p:nvPr/>
            </p:nvGrpSpPr>
            <p:grpSpPr>
              <a:xfrm>
                <a:off x="1765440" y="1844640"/>
                <a:ext cx="5788440" cy="4694760"/>
                <a:chOff x="1765440" y="1844640"/>
                <a:chExt cx="5788440" cy="4694760"/>
              </a:xfrm>
            </p:grpSpPr>
            <p:grpSp>
              <p:nvGrpSpPr>
                <p:cNvPr id="720" name="Group 9"/>
                <p:cNvGrpSpPr/>
                <p:nvPr/>
              </p:nvGrpSpPr>
              <p:grpSpPr>
                <a:xfrm>
                  <a:off x="1765440" y="1844640"/>
                  <a:ext cx="5788440" cy="4694760"/>
                  <a:chOff x="1765440" y="1844640"/>
                  <a:chExt cx="5788440" cy="4694760"/>
                </a:xfrm>
              </p:grpSpPr>
              <p:grpSp>
                <p:nvGrpSpPr>
                  <p:cNvPr id="721" name="Group 10"/>
                  <p:cNvGrpSpPr/>
                  <p:nvPr/>
                </p:nvGrpSpPr>
                <p:grpSpPr>
                  <a:xfrm>
                    <a:off x="1765440" y="1844640"/>
                    <a:ext cx="5788440" cy="4694760"/>
                    <a:chOff x="1765440" y="1844640"/>
                    <a:chExt cx="5788440" cy="4694760"/>
                  </a:xfrm>
                </p:grpSpPr>
                <p:grpSp>
                  <p:nvGrpSpPr>
                    <p:cNvPr id="722" name="Group 11"/>
                    <p:cNvGrpSpPr/>
                    <p:nvPr/>
                  </p:nvGrpSpPr>
                  <p:grpSpPr>
                    <a:xfrm>
                      <a:off x="1765440" y="1844640"/>
                      <a:ext cx="5788440" cy="4694760"/>
                      <a:chOff x="1765440" y="1844640"/>
                      <a:chExt cx="5788440" cy="4694760"/>
                    </a:xfrm>
                  </p:grpSpPr>
                  <p:grpSp>
                    <p:nvGrpSpPr>
                      <p:cNvPr id="723" name="Group 12"/>
                      <p:cNvGrpSpPr/>
                      <p:nvPr/>
                    </p:nvGrpSpPr>
                    <p:grpSpPr>
                      <a:xfrm>
                        <a:off x="1765440" y="1844640"/>
                        <a:ext cx="5788440" cy="4694760"/>
                        <a:chOff x="1765440" y="1844640"/>
                        <a:chExt cx="5788440" cy="4694760"/>
                      </a:xfrm>
                    </p:grpSpPr>
                    <p:grpSp>
                      <p:nvGrpSpPr>
                        <p:cNvPr id="724" name="Group 13"/>
                        <p:cNvGrpSpPr/>
                        <p:nvPr/>
                      </p:nvGrpSpPr>
                      <p:grpSpPr>
                        <a:xfrm>
                          <a:off x="1765440" y="1844640"/>
                          <a:ext cx="5788440" cy="4674960"/>
                          <a:chOff x="1765440" y="1844640"/>
                          <a:chExt cx="5788440" cy="4674960"/>
                        </a:xfrm>
                      </p:grpSpPr>
                      <p:grpSp>
                        <p:nvGrpSpPr>
                          <p:cNvPr id="725" name="Group 14"/>
                          <p:cNvGrpSpPr/>
                          <p:nvPr/>
                        </p:nvGrpSpPr>
                        <p:grpSpPr>
                          <a:xfrm>
                            <a:off x="1765440" y="1867680"/>
                            <a:ext cx="5788440" cy="4651920"/>
                            <a:chOff x="1765440" y="1867680"/>
                            <a:chExt cx="5788440" cy="4651920"/>
                          </a:xfrm>
                        </p:grpSpPr>
                        <p:grpSp>
                          <p:nvGrpSpPr>
                            <p:cNvPr id="726" name="Group 15"/>
                            <p:cNvGrpSpPr/>
                            <p:nvPr/>
                          </p:nvGrpSpPr>
                          <p:grpSpPr>
                            <a:xfrm>
                              <a:off x="1765440" y="1867680"/>
                              <a:ext cx="5788440" cy="4651920"/>
                              <a:chOff x="1765440" y="1867680"/>
                              <a:chExt cx="5788440" cy="4651920"/>
                            </a:xfrm>
                          </p:grpSpPr>
                          <p:grpSp>
                            <p:nvGrpSpPr>
                              <p:cNvPr id="727" name="Group 16"/>
                              <p:cNvGrpSpPr/>
                              <p:nvPr/>
                            </p:nvGrpSpPr>
                            <p:grpSpPr>
                              <a:xfrm>
                                <a:off x="1765440" y="1867680"/>
                                <a:ext cx="5788440" cy="4651920"/>
                                <a:chOff x="1765440" y="1867680"/>
                                <a:chExt cx="5788440" cy="4651920"/>
                              </a:xfrm>
                            </p:grpSpPr>
                            <p:grpSp>
                              <p:nvGrpSpPr>
                                <p:cNvPr id="728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1765440" y="1867680"/>
                                  <a:ext cx="5590080" cy="4651200"/>
                                  <a:chOff x="1765440" y="1867680"/>
                                  <a:chExt cx="5590080" cy="4651200"/>
                                </a:xfrm>
                              </p:grpSpPr>
                              <p:grpSp>
                                <p:nvGrpSpPr>
                                  <p:cNvPr id="729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65440" y="1867680"/>
                                    <a:ext cx="4376880" cy="4651200"/>
                                    <a:chOff x="1765440" y="1867680"/>
                                    <a:chExt cx="4376880" cy="4651200"/>
                                  </a:xfrm>
                                </p:grpSpPr>
                                <p:grpSp>
                                  <p:nvGrpSpPr>
                                    <p:cNvPr id="730" name="Group 1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345040" y="2446200"/>
                                      <a:ext cx="3797280" cy="2562840"/>
                                      <a:chOff x="2345040" y="2446200"/>
                                      <a:chExt cx="3797280" cy="2562840"/>
                                    </a:xfrm>
                                  </p:grpSpPr>
                                  <p:sp>
                                    <p:nvSpPr>
                                      <p:cNvPr id="731" name="Line 2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345040" y="2446200"/>
                                        <a:ext cx="379728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32" name="Line 21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345040" y="2446200"/>
                                        <a:ext cx="0" cy="256284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733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45040" y="2446200"/>
                                      <a:ext cx="0" cy="407268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4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55760" y="1867680"/>
                                      <a:ext cx="3970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Т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5" name="Text Box 2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65440" y="5958720"/>
                                      <a:ext cx="4366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Н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36" name="Line 25"/>
                                  <p:cNvSpPr/>
                                  <p:nvPr/>
                                </p:nvSpPr>
                                <p:spPr>
                                  <a:xfrm>
                                    <a:off x="2319120" y="2446200"/>
                                    <a:ext cx="388908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37" name="Line 26"/>
                                  <p:cNvSpPr/>
                                  <p:nvPr/>
                                </p:nvSpPr>
                                <p:spPr>
                                  <a:xfrm>
                                    <a:off x="2319120" y="2446200"/>
                                    <a:ext cx="463032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38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6859440" y="1867680"/>
                                    <a:ext cx="4960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Т</a:t>
                                    </a:r>
                                    <a:r>
                                      <a:rPr b="1" lang="ru-RU" sz="14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1</a:t>
                                    </a:r>
                                    <a:endParaRPr b="0" lang="en-US" sz="14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39" name="Line 28"/>
                                <p:cNvSpPr/>
                                <p:nvPr/>
                              </p:nvSpPr>
                              <p:spPr>
                                <a:xfrm>
                                  <a:off x="6949800" y="2446200"/>
                                  <a:ext cx="0" cy="4073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0" name="Line 29"/>
                                <p:cNvSpPr/>
                                <p:nvPr/>
                              </p:nvSpPr>
                              <p:spPr>
                                <a:xfrm>
                                  <a:off x="2318760" y="6519600"/>
                                  <a:ext cx="463104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1" name="Text Box 30"/>
                                <p:cNvSpPr/>
                                <p:nvPr/>
                              </p:nvSpPr>
                              <p:spPr>
                                <a:xfrm>
                                  <a:off x="7018200" y="5959440"/>
                                  <a:ext cx="5356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Н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1</a:t>
                                  </a:r>
                                  <a:endParaRPr b="0" lang="en-US" sz="1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742" name="Text Box 31"/>
                              <p:cNvSpPr/>
                              <p:nvPr/>
                            </p:nvSpPr>
                            <p:spPr>
                              <a:xfrm>
                                <a:off x="1765440" y="3603240"/>
                                <a:ext cx="43524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Б</a:t>
                                </a:r>
                                <a:endParaRPr b="0" lang="en-US" sz="2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3" name="Text Box 32"/>
                              <p:cNvSpPr/>
                              <p:nvPr/>
                            </p:nvSpPr>
                            <p:spPr>
                              <a:xfrm>
                                <a:off x="2133000" y="3427200"/>
                                <a:ext cx="389880" cy="764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4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rPr>
                                  <a:t>.</a:t>
                                </a:r>
                                <a:endParaRPr b="0" lang="en-US" sz="4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44" name="Line 33"/>
                            <p:cNvSpPr/>
                            <p:nvPr/>
                          </p:nvSpPr>
                          <p:spPr>
                            <a:xfrm>
                              <a:off x="2319120" y="4030920"/>
                              <a:ext cx="46306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5" name="Text Box 34"/>
                            <p:cNvSpPr/>
                            <p:nvPr/>
                          </p:nvSpPr>
                          <p:spPr>
                            <a:xfrm>
                              <a:off x="6764400" y="3427560"/>
                              <a:ext cx="437040" cy="764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4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rPr>
                                <a:t>.</a:t>
                              </a:r>
                              <a:endParaRPr b="0" lang="en-US" sz="4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6" name="Text Box 35"/>
                            <p:cNvSpPr/>
                            <p:nvPr/>
                          </p:nvSpPr>
                          <p:spPr>
                            <a:xfrm>
                              <a:off x="6951960" y="3603600"/>
                              <a:ext cx="53424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Б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1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47" name="Rectangle 36"/>
                          <p:cNvSpPr/>
                          <p:nvPr/>
                        </p:nvSpPr>
                        <p:spPr>
                          <a:xfrm>
                            <a:off x="4358160" y="1867680"/>
                            <a:ext cx="496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8" name="Text Box 37"/>
                          <p:cNvSpPr/>
                          <p:nvPr/>
                        </p:nvSpPr>
                        <p:spPr>
                          <a:xfrm>
                            <a:off x="4358160" y="1844640"/>
                            <a:ext cx="336240" cy="764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4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rPr>
                              <a:t>.</a:t>
                            </a:r>
                            <a:endParaRPr b="0" lang="en-US" sz="4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9" name="Group 38"/>
                        <p:cNvGrpSpPr/>
                        <p:nvPr/>
                      </p:nvGrpSpPr>
                      <p:grpSpPr>
                        <a:xfrm>
                          <a:off x="4540680" y="2448360"/>
                          <a:ext cx="537120" cy="4091040"/>
                          <a:chOff x="4540680" y="2448360"/>
                          <a:chExt cx="537120" cy="4091040"/>
                        </a:xfrm>
                      </p:grpSpPr>
                      <p:sp>
                        <p:nvSpPr>
                          <p:cNvPr id="750" name="Line 39"/>
                          <p:cNvSpPr/>
                          <p:nvPr/>
                        </p:nvSpPr>
                        <p:spPr>
                          <a:xfrm>
                            <a:off x="4540680" y="2448360"/>
                            <a:ext cx="0" cy="40726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1" name="Text Box 40"/>
                          <p:cNvSpPr/>
                          <p:nvPr/>
                        </p:nvSpPr>
                        <p:spPr>
                          <a:xfrm>
                            <a:off x="4541760" y="3983400"/>
                            <a:ext cx="534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2" name="Text Box 41"/>
                          <p:cNvSpPr/>
                          <p:nvPr/>
                        </p:nvSpPr>
                        <p:spPr>
                          <a:xfrm>
                            <a:off x="4542120" y="6018840"/>
                            <a:ext cx="5356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Н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53" name="Text Box 42"/>
                      <p:cNvSpPr/>
                      <p:nvPr/>
                    </p:nvSpPr>
                    <p:spPr>
                      <a:xfrm>
                        <a:off x="2967840" y="398340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Text Box 43"/>
                      <p:cNvSpPr/>
                      <p:nvPr/>
                    </p:nvSpPr>
                    <p:spPr>
                      <a:xfrm>
                        <a:off x="3153600" y="3429720"/>
                        <a:ext cx="336240" cy="764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4400" spc="-1" strike="noStrike">
                            <a:solidFill>
                              <a:srgbClr val="2f1311"/>
                            </a:solidFill>
                            <a:latin typeface="Arial"/>
                          </a:rPr>
                          <a:t>.</a:t>
                        </a:r>
                        <a:endParaRPr b="0" lang="en-US" sz="4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5" name="Line 44"/>
                    <p:cNvSpPr/>
                    <p:nvPr/>
                  </p:nvSpPr>
                  <p:spPr>
                    <a:xfrm flipV="1">
                      <a:off x="3338280" y="2448000"/>
                      <a:ext cx="0" cy="158364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Text Box 45"/>
                    <p:cNvSpPr/>
                    <p:nvPr/>
                  </p:nvSpPr>
                  <p:spPr>
                    <a:xfrm>
                      <a:off x="3060360" y="1919160"/>
                      <a:ext cx="584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7" name="Text Box 46"/>
                  <p:cNvSpPr/>
                  <p:nvPr/>
                </p:nvSpPr>
                <p:spPr>
                  <a:xfrm>
                    <a:off x="5473080" y="398232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Text Box 47"/>
                  <p:cNvSpPr/>
                  <p:nvPr/>
                </p:nvSpPr>
                <p:spPr>
                  <a:xfrm>
                    <a:off x="5563800" y="3428280"/>
                    <a:ext cx="336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2f1311"/>
                        </a:solidFill>
                        <a:latin typeface="Arial"/>
                      </a:rPr>
                      <a:t>.</a:t>
                    </a:r>
                    <a:endParaRPr b="0" lang="en-US" sz="4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48"/>
                  <p:cNvSpPr/>
                  <p:nvPr/>
                </p:nvSpPr>
                <p:spPr>
                  <a:xfrm flipV="1">
                    <a:off x="5748480" y="2448000"/>
                    <a:ext cx="0" cy="158364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Text Box 49"/>
                  <p:cNvSpPr/>
                  <p:nvPr/>
                </p:nvSpPr>
                <p:spPr>
                  <a:xfrm>
                    <a:off x="5472720" y="1867680"/>
                    <a:ext cx="49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Text Box 50"/>
                <p:cNvSpPr/>
                <p:nvPr/>
              </p:nvSpPr>
              <p:spPr>
                <a:xfrm>
                  <a:off x="3339720" y="33786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51"/>
                <p:cNvSpPr/>
                <p:nvPr/>
              </p:nvSpPr>
              <p:spPr>
                <a:xfrm>
                  <a:off x="3155400" y="3050640"/>
                  <a:ext cx="336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Text Box 52"/>
              <p:cNvSpPr/>
              <p:nvPr/>
            </p:nvSpPr>
            <p:spPr>
              <a:xfrm>
                <a:off x="5748840" y="3202200"/>
                <a:ext cx="45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4" name="Text Box 53"/>
              <p:cNvSpPr/>
              <p:nvPr/>
            </p:nvSpPr>
            <p:spPr>
              <a:xfrm>
                <a:off x="5563080" y="2749680"/>
                <a:ext cx="463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56"/>
            <p:cNvGrpSpPr/>
            <p:nvPr/>
          </p:nvGrpSpPr>
          <p:grpSpPr>
            <a:xfrm>
              <a:off x="4358880" y="3202200"/>
              <a:ext cx="564480" cy="846360"/>
              <a:chOff x="4358880" y="3202200"/>
              <a:chExt cx="564480" cy="846360"/>
            </a:xfrm>
          </p:grpSpPr>
          <p:sp>
            <p:nvSpPr>
              <p:cNvPr id="766" name="Text Box 6"/>
              <p:cNvSpPr/>
              <p:nvPr/>
            </p:nvSpPr>
            <p:spPr>
              <a:xfrm>
                <a:off x="4544640" y="3528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7" name="Text Box 55"/>
              <p:cNvSpPr/>
              <p:nvPr/>
            </p:nvSpPr>
            <p:spPr>
              <a:xfrm>
                <a:off x="4358880" y="3202200"/>
                <a:ext cx="3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Text Box 4"/>
          <p:cNvSpPr/>
          <p:nvPr/>
        </p:nvSpPr>
        <p:spPr>
          <a:xfrm>
            <a:off x="1763640" y="2109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строение вытаче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539640" y="836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0. Отложить от точки 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в обе стороны половин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твора боковой вытачки ( 7,7 : 2 = 3,9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Line 58"/>
          <p:cNvSpPr/>
          <p:nvPr/>
        </p:nvSpPr>
        <p:spPr>
          <a:xfrm flipH="1">
            <a:off x="4284720" y="2421000"/>
            <a:ext cx="2160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1" name="Line 59"/>
          <p:cNvSpPr/>
          <p:nvPr/>
        </p:nvSpPr>
        <p:spPr>
          <a:xfrm>
            <a:off x="4572000" y="2421000"/>
            <a:ext cx="2160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60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4"/>
          <p:cNvSpPr/>
          <p:nvPr/>
        </p:nvSpPr>
        <p:spPr>
          <a:xfrm>
            <a:off x="303120" y="18900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1. Отложить от точки 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обе стороны половин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створа задней 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5,1 : 2 = 2,6 см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774" name="Group 5"/>
          <p:cNvGrpSpPr/>
          <p:nvPr/>
        </p:nvGrpSpPr>
        <p:grpSpPr>
          <a:xfrm>
            <a:off x="1478160" y="1268280"/>
            <a:ext cx="5945760" cy="5034240"/>
            <a:chOff x="1478160" y="1268280"/>
            <a:chExt cx="5945760" cy="5034240"/>
          </a:xfrm>
        </p:grpSpPr>
        <p:grpSp>
          <p:nvGrpSpPr>
            <p:cNvPr id="775" name="Group 6"/>
            <p:cNvGrpSpPr/>
            <p:nvPr/>
          </p:nvGrpSpPr>
          <p:grpSpPr>
            <a:xfrm>
              <a:off x="1478160" y="1268280"/>
              <a:ext cx="5945760" cy="5034240"/>
              <a:chOff x="1478160" y="1268280"/>
              <a:chExt cx="5945760" cy="5034240"/>
            </a:xfrm>
          </p:grpSpPr>
          <p:grpSp>
            <p:nvGrpSpPr>
              <p:cNvPr id="776" name="Group 7"/>
              <p:cNvGrpSpPr/>
              <p:nvPr/>
            </p:nvGrpSpPr>
            <p:grpSpPr>
              <a:xfrm>
                <a:off x="1478160" y="1268280"/>
                <a:ext cx="5945760" cy="5034240"/>
                <a:chOff x="1478160" y="1268280"/>
                <a:chExt cx="5945760" cy="5034240"/>
              </a:xfrm>
            </p:grpSpPr>
            <p:grpSp>
              <p:nvGrpSpPr>
                <p:cNvPr id="777" name="Group 8"/>
                <p:cNvGrpSpPr/>
                <p:nvPr/>
              </p:nvGrpSpPr>
              <p:grpSpPr>
                <a:xfrm>
                  <a:off x="1478160" y="1268280"/>
                  <a:ext cx="5945760" cy="5034240"/>
                  <a:chOff x="1478160" y="1268280"/>
                  <a:chExt cx="5945760" cy="5034240"/>
                </a:xfrm>
              </p:grpSpPr>
              <p:grpSp>
                <p:nvGrpSpPr>
                  <p:cNvPr id="778" name="Group 9"/>
                  <p:cNvGrpSpPr/>
                  <p:nvPr/>
                </p:nvGrpSpPr>
                <p:grpSpPr>
                  <a:xfrm>
                    <a:off x="1478160" y="1268280"/>
                    <a:ext cx="5945760" cy="5034240"/>
                    <a:chOff x="1478160" y="1268280"/>
                    <a:chExt cx="5945760" cy="5034240"/>
                  </a:xfrm>
                </p:grpSpPr>
                <p:grpSp>
                  <p:nvGrpSpPr>
                    <p:cNvPr id="779" name="Group 10"/>
                    <p:cNvGrpSpPr/>
                    <p:nvPr/>
                  </p:nvGrpSpPr>
                  <p:grpSpPr>
                    <a:xfrm>
                      <a:off x="1478160" y="1268280"/>
                      <a:ext cx="5945760" cy="5034240"/>
                      <a:chOff x="1478160" y="1268280"/>
                      <a:chExt cx="5945760" cy="5034240"/>
                    </a:xfrm>
                  </p:grpSpPr>
                  <p:grpSp>
                    <p:nvGrpSpPr>
                      <p:cNvPr id="780" name="Group 11"/>
                      <p:cNvGrpSpPr/>
                      <p:nvPr/>
                    </p:nvGrpSpPr>
                    <p:grpSpPr>
                      <a:xfrm>
                        <a:off x="1478160" y="1268280"/>
                        <a:ext cx="5945760" cy="5034240"/>
                        <a:chOff x="1478160" y="1268280"/>
                        <a:chExt cx="5945760" cy="5034240"/>
                      </a:xfrm>
                    </p:grpSpPr>
                    <p:grpSp>
                      <p:nvGrpSpPr>
                        <p:cNvPr id="781" name="Group 12"/>
                        <p:cNvGrpSpPr/>
                        <p:nvPr/>
                      </p:nvGrpSpPr>
                      <p:grpSpPr>
                        <a:xfrm>
                          <a:off x="1478160" y="1268280"/>
                          <a:ext cx="5945760" cy="5033160"/>
                          <a:chOff x="1478160" y="1268280"/>
                          <a:chExt cx="5945760" cy="5033160"/>
                        </a:xfrm>
                      </p:grpSpPr>
                      <p:grpSp>
                        <p:nvGrpSpPr>
                          <p:cNvPr id="782" name="Group 13"/>
                          <p:cNvGrpSpPr/>
                          <p:nvPr/>
                        </p:nvGrpSpPr>
                        <p:grpSpPr>
                          <a:xfrm>
                            <a:off x="1478160" y="1298520"/>
                            <a:ext cx="5945760" cy="5002920"/>
                            <a:chOff x="1478160" y="1298520"/>
                            <a:chExt cx="5945760" cy="5002920"/>
                          </a:xfrm>
                        </p:grpSpPr>
                        <p:grpSp>
                          <p:nvGrpSpPr>
                            <p:cNvPr id="783" name="Group 14"/>
                            <p:cNvGrpSpPr/>
                            <p:nvPr/>
                          </p:nvGrpSpPr>
                          <p:grpSpPr>
                            <a:xfrm>
                              <a:off x="1478160" y="1298520"/>
                              <a:ext cx="5945760" cy="5002920"/>
                              <a:chOff x="1478160" y="1298520"/>
                              <a:chExt cx="5945760" cy="5002920"/>
                            </a:xfrm>
                          </p:grpSpPr>
                          <p:grpSp>
                            <p:nvGrpSpPr>
                              <p:cNvPr id="784" name="Group 15"/>
                              <p:cNvGrpSpPr/>
                              <p:nvPr/>
                            </p:nvGrpSpPr>
                            <p:grpSpPr>
                              <a:xfrm>
                                <a:off x="1478520" y="1298520"/>
                                <a:ext cx="5945400" cy="5002920"/>
                                <a:chOff x="1478520" y="1298520"/>
                                <a:chExt cx="5945400" cy="5002920"/>
                              </a:xfrm>
                            </p:grpSpPr>
                            <p:grpSp>
                              <p:nvGrpSpPr>
                                <p:cNvPr id="785" name="Group 16"/>
                                <p:cNvGrpSpPr/>
                                <p:nvPr/>
                              </p:nvGrpSpPr>
                              <p:grpSpPr>
                                <a:xfrm>
                                  <a:off x="1478520" y="1298520"/>
                                  <a:ext cx="5741280" cy="5002200"/>
                                  <a:chOff x="1478520" y="1298520"/>
                                  <a:chExt cx="5741280" cy="5002200"/>
                                </a:xfrm>
                              </p:grpSpPr>
                              <p:grpSp>
                                <p:nvGrpSpPr>
                                  <p:cNvPr id="786" name="Group 17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520" y="1298520"/>
                                    <a:ext cx="4507560" cy="5002200"/>
                                    <a:chOff x="1478520" y="1298520"/>
                                    <a:chExt cx="4507560" cy="5002200"/>
                                  </a:xfrm>
                                </p:grpSpPr>
                                <p:grpSp>
                                  <p:nvGrpSpPr>
                                    <p:cNvPr id="787" name="Group 1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075040" y="1915920"/>
                                      <a:ext cx="3911040" cy="2759400"/>
                                      <a:chOff x="2075040" y="1915920"/>
                                      <a:chExt cx="3911040" cy="2759400"/>
                                    </a:xfrm>
                                  </p:grpSpPr>
                                  <p:sp>
                                    <p:nvSpPr>
                                      <p:cNvPr id="788" name="Line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75040" y="1915920"/>
                                        <a:ext cx="39110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89" name="Line 2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75040" y="1915920"/>
                                        <a:ext cx="0" cy="27594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790" name="Line 2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75040" y="1915920"/>
                                      <a:ext cx="0" cy="4384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91" name="Text Box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82880" y="1298520"/>
                                      <a:ext cx="3970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Т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92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520" y="5703120"/>
                                      <a:ext cx="4366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Н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93" name="Line 24"/>
                                  <p:cNvSpPr/>
                                  <p:nvPr/>
                                </p:nvSpPr>
                                <p:spPr>
                                  <a:xfrm>
                                    <a:off x="2048400" y="1915920"/>
                                    <a:ext cx="400536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4" name="Line 25"/>
                                  <p:cNvSpPr/>
                                  <p:nvPr/>
                                </p:nvSpPr>
                                <p:spPr>
                                  <a:xfrm>
                                    <a:off x="2048400" y="1915920"/>
                                    <a:ext cx="476892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5" name="Text Box 26"/>
                                  <p:cNvSpPr/>
                                  <p:nvPr/>
                                </p:nvSpPr>
                                <p:spPr>
                                  <a:xfrm>
                                    <a:off x="6723720" y="1298520"/>
                                    <a:ext cx="4960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Т</a:t>
                                    </a:r>
                                    <a:r>
                                      <a:rPr b="1" lang="ru-RU" sz="14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1</a:t>
                                    </a:r>
                                    <a:endParaRPr b="0" lang="en-US" sz="14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96" name="Line 27"/>
                                <p:cNvSpPr/>
                                <p:nvPr/>
                              </p:nvSpPr>
                              <p:spPr>
                                <a:xfrm>
                                  <a:off x="6818040" y="1916280"/>
                                  <a:ext cx="0" cy="43851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7" name="Line 28"/>
                                <p:cNvSpPr/>
                                <p:nvPr/>
                              </p:nvSpPr>
                              <p:spPr>
                                <a:xfrm>
                                  <a:off x="2048040" y="6301440"/>
                                  <a:ext cx="4770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98" name="Text Box 29"/>
                                <p:cNvSpPr/>
                                <p:nvPr/>
                              </p:nvSpPr>
                              <p:spPr>
                                <a:xfrm>
                                  <a:off x="6888240" y="5704200"/>
                                  <a:ext cx="5356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Н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1</a:t>
                                  </a:r>
                                  <a:endParaRPr b="0" lang="en-US" sz="1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799" name="Text Box 30"/>
                              <p:cNvSpPr/>
                              <p:nvPr/>
                            </p:nvSpPr>
                            <p:spPr>
                              <a:xfrm>
                                <a:off x="1478160" y="3165480"/>
                                <a:ext cx="43524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Б</a:t>
                                </a:r>
                                <a:endParaRPr b="0" lang="en-US" sz="2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0" name="Text Box 31"/>
                              <p:cNvSpPr/>
                              <p:nvPr/>
                            </p:nvSpPr>
                            <p:spPr>
                              <a:xfrm>
                                <a:off x="1856880" y="2972160"/>
                                <a:ext cx="401400" cy="7606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01" name="Line 32"/>
                            <p:cNvSpPr/>
                            <p:nvPr/>
                          </p:nvSpPr>
                          <p:spPr>
                            <a:xfrm>
                              <a:off x="2048400" y="3621960"/>
                              <a:ext cx="47696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2" name="Text Box 33"/>
                            <p:cNvSpPr/>
                            <p:nvPr/>
                          </p:nvSpPr>
                          <p:spPr>
                            <a:xfrm>
                              <a:off x="6627240" y="2972160"/>
                              <a:ext cx="450000" cy="760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3" name="Text Box 34"/>
                            <p:cNvSpPr/>
                            <p:nvPr/>
                          </p:nvSpPr>
                          <p:spPr>
                            <a:xfrm>
                              <a:off x="6821640" y="3165480"/>
                              <a:ext cx="53424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Б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1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04" name="Rectangle 35"/>
                          <p:cNvSpPr/>
                          <p:nvPr/>
                        </p:nvSpPr>
                        <p:spPr>
                          <a:xfrm>
                            <a:off x="4149360" y="1298520"/>
                            <a:ext cx="496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5" name="Text Box 36"/>
                          <p:cNvSpPr/>
                          <p:nvPr/>
                        </p:nvSpPr>
                        <p:spPr>
                          <a:xfrm>
                            <a:off x="4147560" y="1268280"/>
                            <a:ext cx="185040" cy="760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6" name="Group 37"/>
                        <p:cNvGrpSpPr/>
                        <p:nvPr/>
                      </p:nvGrpSpPr>
                      <p:grpSpPr>
                        <a:xfrm>
                          <a:off x="4336920" y="1918080"/>
                          <a:ext cx="536760" cy="4384440"/>
                          <a:chOff x="4336920" y="1918080"/>
                          <a:chExt cx="536760" cy="4384440"/>
                        </a:xfrm>
                      </p:grpSpPr>
                      <p:sp>
                        <p:nvSpPr>
                          <p:cNvPr id="807" name="Line 38"/>
                          <p:cNvSpPr/>
                          <p:nvPr/>
                        </p:nvSpPr>
                        <p:spPr>
                          <a:xfrm>
                            <a:off x="4336920" y="1918080"/>
                            <a:ext cx="0" cy="4384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8" name="Text Box 39"/>
                          <p:cNvSpPr/>
                          <p:nvPr/>
                        </p:nvSpPr>
                        <p:spPr>
                          <a:xfrm>
                            <a:off x="4338720" y="3571920"/>
                            <a:ext cx="534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Text Box 40"/>
                          <p:cNvSpPr/>
                          <p:nvPr/>
                        </p:nvSpPr>
                        <p:spPr>
                          <a:xfrm>
                            <a:off x="4338000" y="5765400"/>
                            <a:ext cx="5356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Н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10" name="Text Box 41"/>
                      <p:cNvSpPr/>
                      <p:nvPr/>
                    </p:nvSpPr>
                    <p:spPr>
                      <a:xfrm>
                        <a:off x="2717280" y="357444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Text Box 42"/>
                      <p:cNvSpPr/>
                      <p:nvPr/>
                    </p:nvSpPr>
                    <p:spPr>
                      <a:xfrm>
                        <a:off x="2907000" y="2974680"/>
                        <a:ext cx="185040" cy="760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12" name="Line 43"/>
                    <p:cNvSpPr/>
                    <p:nvPr/>
                  </p:nvSpPr>
                  <p:spPr>
                    <a:xfrm flipV="1">
                      <a:off x="3098160" y="1918080"/>
                      <a:ext cx="0" cy="170460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Text Box 44"/>
                    <p:cNvSpPr/>
                    <p:nvPr/>
                  </p:nvSpPr>
                  <p:spPr>
                    <a:xfrm>
                      <a:off x="2811960" y="1348560"/>
                      <a:ext cx="6019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4" name="Text Box 45"/>
                  <p:cNvSpPr/>
                  <p:nvPr/>
                </p:nvSpPr>
                <p:spPr>
                  <a:xfrm>
                    <a:off x="5295960" y="357300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Text Box 46"/>
                  <p:cNvSpPr/>
                  <p:nvPr/>
                </p:nvSpPr>
                <p:spPr>
                  <a:xfrm>
                    <a:off x="5389560" y="2972880"/>
                    <a:ext cx="182880" cy="76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Line 47"/>
                  <p:cNvSpPr/>
                  <p:nvPr/>
                </p:nvSpPr>
                <p:spPr>
                  <a:xfrm flipV="1">
                    <a:off x="5580720" y="1917720"/>
                    <a:ext cx="0" cy="170460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Text Box 48"/>
                  <p:cNvSpPr/>
                  <p:nvPr/>
                </p:nvSpPr>
                <p:spPr>
                  <a:xfrm>
                    <a:off x="5296320" y="1298520"/>
                    <a:ext cx="49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8" name="Text Box 49"/>
                <p:cNvSpPr/>
                <p:nvPr/>
              </p:nvSpPr>
              <p:spPr>
                <a:xfrm>
                  <a:off x="3100680" y="29232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50"/>
                <p:cNvSpPr/>
                <p:nvPr/>
              </p:nvSpPr>
              <p:spPr>
                <a:xfrm>
                  <a:off x="2910240" y="2566440"/>
                  <a:ext cx="336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0" name="Text Box 51"/>
              <p:cNvSpPr/>
              <p:nvPr/>
            </p:nvSpPr>
            <p:spPr>
              <a:xfrm>
                <a:off x="5581440" y="272988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1" name="Text Box 52"/>
              <p:cNvSpPr/>
              <p:nvPr/>
            </p:nvSpPr>
            <p:spPr>
              <a:xfrm>
                <a:off x="5389920" y="2242440"/>
                <a:ext cx="477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53"/>
            <p:cNvGrpSpPr/>
            <p:nvPr/>
          </p:nvGrpSpPr>
          <p:grpSpPr>
            <a:xfrm>
              <a:off x="4149720" y="2729520"/>
              <a:ext cx="570960" cy="874800"/>
              <a:chOff x="4149720" y="2729520"/>
              <a:chExt cx="570960" cy="874800"/>
            </a:xfrm>
          </p:grpSpPr>
          <p:sp>
            <p:nvSpPr>
              <p:cNvPr id="823" name="Text Box 54"/>
              <p:cNvSpPr/>
              <p:nvPr/>
            </p:nvSpPr>
            <p:spPr>
              <a:xfrm>
                <a:off x="4341960" y="3083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4" name="Text Box 55"/>
              <p:cNvSpPr/>
              <p:nvPr/>
            </p:nvSpPr>
            <p:spPr>
              <a:xfrm>
                <a:off x="4149720" y="2729520"/>
                <a:ext cx="3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Line 56"/>
          <p:cNvSpPr/>
          <p:nvPr/>
        </p:nvSpPr>
        <p:spPr>
          <a:xfrm flipH="1">
            <a:off x="4067280" y="1916280"/>
            <a:ext cx="21744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Line 57"/>
          <p:cNvSpPr/>
          <p:nvPr/>
        </p:nvSpPr>
        <p:spPr>
          <a:xfrm>
            <a:off x="4284720" y="1916280"/>
            <a:ext cx="28728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Line 58"/>
          <p:cNvSpPr/>
          <p:nvPr/>
        </p:nvSpPr>
        <p:spPr>
          <a:xfrm flipH="1">
            <a:off x="2916000" y="1916280"/>
            <a:ext cx="21564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Line 59"/>
          <p:cNvSpPr/>
          <p:nvPr/>
        </p:nvSpPr>
        <p:spPr>
          <a:xfrm>
            <a:off x="3132000" y="1916280"/>
            <a:ext cx="14292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3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3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6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4"/>
          <p:cNvSpPr/>
          <p:nvPr/>
        </p:nvSpPr>
        <p:spPr>
          <a:xfrm>
            <a:off x="179280" y="189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2.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ложить от то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обе стороны половин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створа передней вытач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( 2,6 : 2 = 1,3 см 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831" name="Group 60"/>
          <p:cNvGrpSpPr/>
          <p:nvPr/>
        </p:nvGrpSpPr>
        <p:grpSpPr>
          <a:xfrm>
            <a:off x="1477800" y="1268280"/>
            <a:ext cx="5934600" cy="5035680"/>
            <a:chOff x="1477800" y="1268280"/>
            <a:chExt cx="5934600" cy="5035680"/>
          </a:xfrm>
        </p:grpSpPr>
        <p:grpSp>
          <p:nvGrpSpPr>
            <p:cNvPr id="832" name="Group 5"/>
            <p:cNvGrpSpPr/>
            <p:nvPr/>
          </p:nvGrpSpPr>
          <p:grpSpPr>
            <a:xfrm>
              <a:off x="1477800" y="1268280"/>
              <a:ext cx="5934600" cy="5035680"/>
              <a:chOff x="1477800" y="1268280"/>
              <a:chExt cx="5934600" cy="5035680"/>
            </a:xfrm>
          </p:grpSpPr>
          <p:grpSp>
            <p:nvGrpSpPr>
              <p:cNvPr id="833" name="Group 6"/>
              <p:cNvGrpSpPr/>
              <p:nvPr/>
            </p:nvGrpSpPr>
            <p:grpSpPr>
              <a:xfrm>
                <a:off x="1477800" y="1268280"/>
                <a:ext cx="5934600" cy="5035680"/>
                <a:chOff x="1477800" y="1268280"/>
                <a:chExt cx="5934600" cy="5035680"/>
              </a:xfrm>
            </p:grpSpPr>
            <p:grpSp>
              <p:nvGrpSpPr>
                <p:cNvPr id="834" name="Group 7"/>
                <p:cNvGrpSpPr/>
                <p:nvPr/>
              </p:nvGrpSpPr>
              <p:grpSpPr>
                <a:xfrm>
                  <a:off x="1477800" y="1268280"/>
                  <a:ext cx="5934600" cy="5035680"/>
                  <a:chOff x="1477800" y="1268280"/>
                  <a:chExt cx="5934600" cy="5035680"/>
                </a:xfrm>
              </p:grpSpPr>
              <p:grpSp>
                <p:nvGrpSpPr>
                  <p:cNvPr id="835" name="Group 8"/>
                  <p:cNvGrpSpPr/>
                  <p:nvPr/>
                </p:nvGrpSpPr>
                <p:grpSpPr>
                  <a:xfrm>
                    <a:off x="1477800" y="1268280"/>
                    <a:ext cx="5934600" cy="5035680"/>
                    <a:chOff x="1477800" y="1268280"/>
                    <a:chExt cx="5934600" cy="5035680"/>
                  </a:xfrm>
                </p:grpSpPr>
                <p:grpSp>
                  <p:nvGrpSpPr>
                    <p:cNvPr id="836" name="Group 9"/>
                    <p:cNvGrpSpPr/>
                    <p:nvPr/>
                  </p:nvGrpSpPr>
                  <p:grpSpPr>
                    <a:xfrm>
                      <a:off x="1477800" y="1268280"/>
                      <a:ext cx="5934600" cy="5035680"/>
                      <a:chOff x="1477800" y="1268280"/>
                      <a:chExt cx="5934600" cy="5035680"/>
                    </a:xfrm>
                  </p:grpSpPr>
                  <p:grpSp>
                    <p:nvGrpSpPr>
                      <p:cNvPr id="837" name="Group 10"/>
                      <p:cNvGrpSpPr/>
                      <p:nvPr/>
                    </p:nvGrpSpPr>
                    <p:grpSpPr>
                      <a:xfrm>
                        <a:off x="1477800" y="1268280"/>
                        <a:ext cx="5934600" cy="5035680"/>
                        <a:chOff x="1477800" y="1268280"/>
                        <a:chExt cx="5934600" cy="5035680"/>
                      </a:xfrm>
                    </p:grpSpPr>
                    <p:grpSp>
                      <p:nvGrpSpPr>
                        <p:cNvPr id="838" name="Group 11"/>
                        <p:cNvGrpSpPr/>
                        <p:nvPr/>
                      </p:nvGrpSpPr>
                      <p:grpSpPr>
                        <a:xfrm>
                          <a:off x="1477800" y="1268280"/>
                          <a:ext cx="5934600" cy="5035680"/>
                          <a:chOff x="1477800" y="1268280"/>
                          <a:chExt cx="5934600" cy="5035680"/>
                        </a:xfrm>
                      </p:grpSpPr>
                      <p:grpSp>
                        <p:nvGrpSpPr>
                          <p:cNvPr id="839" name="Group 12"/>
                          <p:cNvGrpSpPr/>
                          <p:nvPr/>
                        </p:nvGrpSpPr>
                        <p:grpSpPr>
                          <a:xfrm>
                            <a:off x="1477800" y="1268280"/>
                            <a:ext cx="5934600" cy="5034600"/>
                            <a:chOff x="1477800" y="1268280"/>
                            <a:chExt cx="5934600" cy="5034600"/>
                          </a:xfrm>
                        </p:grpSpPr>
                        <p:grpSp>
                          <p:nvGrpSpPr>
                            <p:cNvPr id="840" name="Group 13"/>
                            <p:cNvGrpSpPr/>
                            <p:nvPr/>
                          </p:nvGrpSpPr>
                          <p:grpSpPr>
                            <a:xfrm>
                              <a:off x="1477800" y="1298520"/>
                              <a:ext cx="5934600" cy="5004360"/>
                              <a:chOff x="1477800" y="1298520"/>
                              <a:chExt cx="5934600" cy="5004360"/>
                            </a:xfrm>
                          </p:grpSpPr>
                          <p:grpSp>
                            <p:nvGrpSpPr>
                              <p:cNvPr id="841" name="Group 14"/>
                              <p:cNvGrpSpPr/>
                              <p:nvPr/>
                            </p:nvGrpSpPr>
                            <p:grpSpPr>
                              <a:xfrm>
                                <a:off x="1477800" y="1298520"/>
                                <a:ext cx="5934600" cy="5004360"/>
                                <a:chOff x="1477800" y="1298520"/>
                                <a:chExt cx="5934600" cy="5004360"/>
                              </a:xfrm>
                            </p:grpSpPr>
                            <p:grpSp>
                              <p:nvGrpSpPr>
                                <p:cNvPr id="84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1478160" y="1298520"/>
                                  <a:ext cx="5934240" cy="5004360"/>
                                  <a:chOff x="1478160" y="1298520"/>
                                  <a:chExt cx="5934240" cy="5004360"/>
                                </a:xfrm>
                              </p:grpSpPr>
                              <p:grpSp>
                                <p:nvGrpSpPr>
                                  <p:cNvPr id="84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1298520"/>
                                    <a:ext cx="5730480" cy="5003640"/>
                                    <a:chOff x="1478160" y="1298520"/>
                                    <a:chExt cx="5730480" cy="5003640"/>
                                  </a:xfrm>
                                </p:grpSpPr>
                                <p:grpSp>
                                  <p:nvGrpSpPr>
                                    <p:cNvPr id="84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478160" y="1298520"/>
                                      <a:ext cx="4498200" cy="5003640"/>
                                      <a:chOff x="1478160" y="1298520"/>
                                      <a:chExt cx="4498200" cy="5003640"/>
                                    </a:xfrm>
                                  </p:grpSpPr>
                                  <p:grpSp>
                                    <p:nvGrpSpPr>
                                      <p:cNvPr id="845" name="Group 1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073960" y="1916280"/>
                                        <a:ext cx="3902400" cy="2760120"/>
                                        <a:chOff x="2073960" y="1916280"/>
                                        <a:chExt cx="3902400" cy="2760120"/>
                                      </a:xfrm>
                                    </p:grpSpPr>
                                    <p:sp>
                                      <p:nvSpPr>
                                        <p:cNvPr id="846" name="Line 1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73960" y="1916280"/>
                                          <a:ext cx="390240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2f1311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2f1311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47" name="Line 20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73960" y="1916280"/>
                                          <a:ext cx="0" cy="27601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2f1311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2f1311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848" name="Line 21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73960" y="1916280"/>
                                        <a:ext cx="0" cy="438588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849" name="Text Box 2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981080" y="1298520"/>
                                        <a:ext cx="397080" cy="52056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ru-RU" sz="2800" spc="-1" strike="noStrike">
                                            <a:solidFill>
                                              <a:srgbClr val="ff0000"/>
                                            </a:solidFill>
                                            <a:latin typeface="Arial"/>
                                          </a:rPr>
                                          <a:t>Т</a:t>
                                        </a:r>
                                        <a:endParaRPr b="0" lang="en-US" sz="2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850" name="Text Box 23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478160" y="5704200"/>
                                        <a:ext cx="436680" cy="52056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ru-RU" sz="2800" spc="-1" strike="noStrike">
                                            <a:solidFill>
                                              <a:srgbClr val="ff0000"/>
                                            </a:solidFill>
                                            <a:latin typeface="Arial"/>
                                          </a:rPr>
                                          <a:t>Н</a:t>
                                        </a:r>
                                        <a:endParaRPr b="0" lang="en-US" sz="2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851" name="Line 2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7320" y="1916280"/>
                                      <a:ext cx="399672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2" name="Line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7320" y="1916280"/>
                                      <a:ext cx="475848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3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712560" y="1298520"/>
                                      <a:ext cx="4960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Т</a:t>
                                      </a:r>
                                      <a:r>
                                        <a:rPr b="1" lang="ru-RU" sz="14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1</a:t>
                                      </a:r>
                                      <a:endParaRPr b="0" lang="en-US" sz="14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54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6806160" y="1916280"/>
                                    <a:ext cx="0" cy="43866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55" name="Line 28"/>
                                  <p:cNvSpPr/>
                                  <p:nvPr/>
                                </p:nvSpPr>
                                <p:spPr>
                                  <a:xfrm>
                                    <a:off x="2046600" y="6302880"/>
                                    <a:ext cx="4759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56" name="Text Box 29"/>
                                  <p:cNvSpPr/>
                                  <p:nvPr/>
                                </p:nvSpPr>
                                <p:spPr>
                                  <a:xfrm>
                                    <a:off x="6876720" y="5705280"/>
                                    <a:ext cx="5356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Н</a:t>
                                    </a:r>
                                    <a:r>
                                      <a:rPr b="1" lang="ru-RU" sz="14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1</a:t>
                                    </a:r>
                                    <a:endParaRPr b="0" lang="en-US" sz="14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57" name="Text Box 30"/>
                                <p:cNvSpPr/>
                                <p:nvPr/>
                              </p:nvSpPr>
                              <p:spPr>
                                <a:xfrm>
                                  <a:off x="1477800" y="3165840"/>
                                  <a:ext cx="43524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Б</a:t>
                                  </a:r>
                                  <a:endParaRPr b="0" lang="en-US" sz="2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58" name="Text Box 31"/>
                                <p:cNvSpPr/>
                                <p:nvPr/>
                              </p:nvSpPr>
                              <p:spPr>
                                <a:xfrm>
                                  <a:off x="1855800" y="2972520"/>
                                  <a:ext cx="400680" cy="7628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59" name="Line 32"/>
                              <p:cNvSpPr/>
                              <p:nvPr/>
                            </p:nvSpPr>
                            <p:spPr>
                              <a:xfrm>
                                <a:off x="2047320" y="3622680"/>
                                <a:ext cx="47588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0" name="Text Box 33"/>
                              <p:cNvSpPr/>
                              <p:nvPr/>
                            </p:nvSpPr>
                            <p:spPr>
                              <a:xfrm>
                                <a:off x="6615360" y="2972880"/>
                                <a:ext cx="448920" cy="7624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1" name="Text Box 34"/>
                              <p:cNvSpPr/>
                              <p:nvPr/>
                            </p:nvSpPr>
                            <p:spPr>
                              <a:xfrm>
                                <a:off x="6807960" y="3166200"/>
                                <a:ext cx="53424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Б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1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62" name="Rectangle 35"/>
                            <p:cNvSpPr/>
                            <p:nvPr/>
                          </p:nvSpPr>
                          <p:spPr>
                            <a:xfrm>
                              <a:off x="4143240" y="1298520"/>
                              <a:ext cx="4960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Т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2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63" name="Text Box 36"/>
                            <p:cNvSpPr/>
                            <p:nvPr/>
                          </p:nvSpPr>
                          <p:spPr>
                            <a:xfrm>
                              <a:off x="4141800" y="1268280"/>
                              <a:ext cx="184320" cy="761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4" name="Group 37"/>
                          <p:cNvGrpSpPr/>
                          <p:nvPr/>
                        </p:nvGrpSpPr>
                        <p:grpSpPr>
                          <a:xfrm>
                            <a:off x="4330440" y="1918440"/>
                            <a:ext cx="537120" cy="4385520"/>
                            <a:chOff x="4330440" y="1918440"/>
                            <a:chExt cx="537120" cy="4385520"/>
                          </a:xfrm>
                        </p:grpSpPr>
                        <p:sp>
                          <p:nvSpPr>
                            <p:cNvPr id="865" name="Line 38"/>
                            <p:cNvSpPr/>
                            <p:nvPr/>
                          </p:nvSpPr>
                          <p:spPr>
                            <a:xfrm>
                              <a:off x="4330440" y="1918440"/>
                              <a:ext cx="0" cy="4385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66" name="Text Box 39"/>
                            <p:cNvSpPr/>
                            <p:nvPr/>
                          </p:nvSpPr>
                          <p:spPr>
                            <a:xfrm>
                              <a:off x="4331520" y="3574800"/>
                              <a:ext cx="53424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Б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2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67" name="Text Box 40"/>
                            <p:cNvSpPr/>
                            <p:nvPr/>
                          </p:nvSpPr>
                          <p:spPr>
                            <a:xfrm>
                              <a:off x="4331880" y="5766840"/>
                              <a:ext cx="53568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Н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2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68" name="Text Box 41"/>
                        <p:cNvSpPr/>
                        <p:nvPr/>
                      </p:nvSpPr>
                      <p:spPr>
                        <a:xfrm>
                          <a:off x="2713680" y="3573360"/>
                          <a:ext cx="53424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Б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9" name="Text Box 42"/>
                        <p:cNvSpPr/>
                        <p:nvPr/>
                      </p:nvSpPr>
                      <p:spPr>
                        <a:xfrm>
                          <a:off x="2903400" y="2975040"/>
                          <a:ext cx="182160" cy="762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0" name="Line 43"/>
                      <p:cNvSpPr/>
                      <p:nvPr/>
                    </p:nvSpPr>
                    <p:spPr>
                      <a:xfrm flipV="1">
                        <a:off x="3094560" y="1918440"/>
                        <a:ext cx="0" cy="170496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1" name="Text Box 44"/>
                      <p:cNvSpPr/>
                      <p:nvPr/>
                    </p:nvSpPr>
                    <p:spPr>
                      <a:xfrm>
                        <a:off x="2809080" y="1348560"/>
                        <a:ext cx="6004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Т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2" name="Text Box 45"/>
                    <p:cNvSpPr/>
                    <p:nvPr/>
                  </p:nvSpPr>
                  <p:spPr>
                    <a:xfrm>
                      <a:off x="5287680" y="3571560"/>
                      <a:ext cx="534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Text Box 46"/>
                    <p:cNvSpPr/>
                    <p:nvPr/>
                  </p:nvSpPr>
                  <p:spPr>
                    <a:xfrm>
                      <a:off x="5380560" y="2973240"/>
                      <a:ext cx="184680" cy="763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47"/>
                    <p:cNvSpPr/>
                    <p:nvPr/>
                  </p:nvSpPr>
                  <p:spPr>
                    <a:xfrm flipV="1">
                      <a:off x="5571360" y="1918440"/>
                      <a:ext cx="0" cy="170496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Text Box 48"/>
                    <p:cNvSpPr/>
                    <p:nvPr/>
                  </p:nvSpPr>
                  <p:spPr>
                    <a:xfrm>
                      <a:off x="5287680" y="1298520"/>
                      <a:ext cx="496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6" name="Text Box 49"/>
                  <p:cNvSpPr/>
                  <p:nvPr/>
                </p:nvSpPr>
                <p:spPr>
                  <a:xfrm>
                    <a:off x="3096000" y="29253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Text Box 50"/>
                  <p:cNvSpPr/>
                  <p:nvPr/>
                </p:nvSpPr>
                <p:spPr>
                  <a:xfrm>
                    <a:off x="2907360" y="2566800"/>
                    <a:ext cx="336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2f1311"/>
                        </a:solidFill>
                        <a:latin typeface="Arial"/>
                      </a:rPr>
                      <a:t>.</a:t>
                    </a:r>
                    <a:endParaRPr b="0" lang="en-US" sz="4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8" name="Text Box 51"/>
                <p:cNvSpPr/>
                <p:nvPr/>
              </p:nvSpPr>
              <p:spPr>
                <a:xfrm>
                  <a:off x="5572080" y="2730240"/>
                  <a:ext cx="468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52"/>
                <p:cNvSpPr/>
                <p:nvPr/>
              </p:nvSpPr>
              <p:spPr>
                <a:xfrm>
                  <a:off x="5381280" y="2242800"/>
                  <a:ext cx="4762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Group 53"/>
              <p:cNvGrpSpPr/>
              <p:nvPr/>
            </p:nvGrpSpPr>
            <p:grpSpPr>
              <a:xfrm>
                <a:off x="4143960" y="2730240"/>
                <a:ext cx="570600" cy="874800"/>
                <a:chOff x="4143960" y="2730240"/>
                <a:chExt cx="570600" cy="874800"/>
              </a:xfrm>
            </p:grpSpPr>
            <p:sp>
              <p:nvSpPr>
                <p:cNvPr id="881" name="Text Box 54"/>
                <p:cNvSpPr/>
                <p:nvPr/>
              </p:nvSpPr>
              <p:spPr>
                <a:xfrm>
                  <a:off x="4335840" y="30844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82" name="Text Box 55"/>
                <p:cNvSpPr/>
                <p:nvPr/>
              </p:nvSpPr>
              <p:spPr>
                <a:xfrm>
                  <a:off x="4143960" y="2730240"/>
                  <a:ext cx="336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Line 56"/>
            <p:cNvSpPr/>
            <p:nvPr/>
          </p:nvSpPr>
          <p:spPr>
            <a:xfrm flipH="1">
              <a:off x="4046400" y="1916640"/>
              <a:ext cx="28512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Line 57"/>
            <p:cNvSpPr/>
            <p:nvPr/>
          </p:nvSpPr>
          <p:spPr>
            <a:xfrm>
              <a:off x="4331520" y="1916640"/>
              <a:ext cx="28548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Line 58"/>
            <p:cNvSpPr/>
            <p:nvPr/>
          </p:nvSpPr>
          <p:spPr>
            <a:xfrm flipH="1">
              <a:off x="2904120" y="1918440"/>
              <a:ext cx="19080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Line 59"/>
            <p:cNvSpPr/>
            <p:nvPr/>
          </p:nvSpPr>
          <p:spPr>
            <a:xfrm>
              <a:off x="3094920" y="1918440"/>
              <a:ext cx="18900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87" name="Line 61"/>
          <p:cNvSpPr/>
          <p:nvPr/>
        </p:nvSpPr>
        <p:spPr>
          <a:xfrm flipH="1">
            <a:off x="5435280" y="1916280"/>
            <a:ext cx="14436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Line 64"/>
          <p:cNvSpPr/>
          <p:nvPr/>
        </p:nvSpPr>
        <p:spPr>
          <a:xfrm>
            <a:off x="5580000" y="1916280"/>
            <a:ext cx="14436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78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0" name="Group 63"/>
          <p:cNvGrpSpPr/>
          <p:nvPr/>
        </p:nvGrpSpPr>
        <p:grpSpPr>
          <a:xfrm>
            <a:off x="1478160" y="765000"/>
            <a:ext cx="6125040" cy="5248080"/>
            <a:chOff x="1478160" y="765000"/>
            <a:chExt cx="6125040" cy="5248080"/>
          </a:xfrm>
        </p:grpSpPr>
        <p:grpSp>
          <p:nvGrpSpPr>
            <p:cNvPr id="891" name="Group 5"/>
            <p:cNvGrpSpPr/>
            <p:nvPr/>
          </p:nvGrpSpPr>
          <p:grpSpPr>
            <a:xfrm>
              <a:off x="1478160" y="765000"/>
              <a:ext cx="6125040" cy="5248080"/>
              <a:chOff x="1478160" y="765000"/>
              <a:chExt cx="6125040" cy="5248080"/>
            </a:xfrm>
          </p:grpSpPr>
          <p:grpSp>
            <p:nvGrpSpPr>
              <p:cNvPr id="892" name="Group 6"/>
              <p:cNvGrpSpPr/>
              <p:nvPr/>
            </p:nvGrpSpPr>
            <p:grpSpPr>
              <a:xfrm>
                <a:off x="1478160" y="765000"/>
                <a:ext cx="6125040" cy="5248080"/>
                <a:chOff x="1478160" y="765000"/>
                <a:chExt cx="6125040" cy="5248080"/>
              </a:xfrm>
            </p:grpSpPr>
            <p:grpSp>
              <p:nvGrpSpPr>
                <p:cNvPr id="893" name="Group 7"/>
                <p:cNvGrpSpPr/>
                <p:nvPr/>
              </p:nvGrpSpPr>
              <p:grpSpPr>
                <a:xfrm>
                  <a:off x="1478160" y="765000"/>
                  <a:ext cx="6125040" cy="5248080"/>
                  <a:chOff x="1478160" y="765000"/>
                  <a:chExt cx="6125040" cy="5248080"/>
                </a:xfrm>
              </p:grpSpPr>
              <p:grpSp>
                <p:nvGrpSpPr>
                  <p:cNvPr id="894" name="Group 8"/>
                  <p:cNvGrpSpPr/>
                  <p:nvPr/>
                </p:nvGrpSpPr>
                <p:grpSpPr>
                  <a:xfrm>
                    <a:off x="1478160" y="765000"/>
                    <a:ext cx="6125040" cy="5248080"/>
                    <a:chOff x="1478160" y="765000"/>
                    <a:chExt cx="6125040" cy="5248080"/>
                  </a:xfrm>
                </p:grpSpPr>
                <p:grpSp>
                  <p:nvGrpSpPr>
                    <p:cNvPr id="895" name="Group 9"/>
                    <p:cNvGrpSpPr/>
                    <p:nvPr/>
                  </p:nvGrpSpPr>
                  <p:grpSpPr>
                    <a:xfrm>
                      <a:off x="1478160" y="765000"/>
                      <a:ext cx="6125040" cy="5248080"/>
                      <a:chOff x="1478160" y="765000"/>
                      <a:chExt cx="6125040" cy="5248080"/>
                    </a:xfrm>
                  </p:grpSpPr>
                  <p:grpSp>
                    <p:nvGrpSpPr>
                      <p:cNvPr id="896" name="Group 10"/>
                      <p:cNvGrpSpPr/>
                      <p:nvPr/>
                    </p:nvGrpSpPr>
                    <p:grpSpPr>
                      <a:xfrm>
                        <a:off x="1478160" y="765000"/>
                        <a:ext cx="6125040" cy="5248080"/>
                        <a:chOff x="1478160" y="765000"/>
                        <a:chExt cx="6125040" cy="5248080"/>
                      </a:xfrm>
                    </p:grpSpPr>
                    <p:grpSp>
                      <p:nvGrpSpPr>
                        <p:cNvPr id="897" name="Group 11"/>
                        <p:cNvGrpSpPr/>
                        <p:nvPr/>
                      </p:nvGrpSpPr>
                      <p:grpSpPr>
                        <a:xfrm>
                          <a:off x="1478160" y="765000"/>
                          <a:ext cx="6125040" cy="5248080"/>
                          <a:chOff x="1478160" y="765000"/>
                          <a:chExt cx="6125040" cy="5248080"/>
                        </a:xfrm>
                      </p:grpSpPr>
                      <p:grpSp>
                        <p:nvGrpSpPr>
                          <p:cNvPr id="898" name="Group 12"/>
                          <p:cNvGrpSpPr/>
                          <p:nvPr/>
                        </p:nvGrpSpPr>
                        <p:grpSpPr>
                          <a:xfrm>
                            <a:off x="1478160" y="765000"/>
                            <a:ext cx="6125040" cy="5248080"/>
                            <a:chOff x="1478160" y="765000"/>
                            <a:chExt cx="6125040" cy="5248080"/>
                          </a:xfrm>
                        </p:grpSpPr>
                        <p:grpSp>
                          <p:nvGrpSpPr>
                            <p:cNvPr id="899" name="Group 13"/>
                            <p:cNvGrpSpPr/>
                            <p:nvPr/>
                          </p:nvGrpSpPr>
                          <p:grpSpPr>
                            <a:xfrm>
                              <a:off x="1478160" y="765000"/>
                              <a:ext cx="6125040" cy="5246640"/>
                              <a:chOff x="1478160" y="765000"/>
                              <a:chExt cx="6125040" cy="5246640"/>
                            </a:xfrm>
                          </p:grpSpPr>
                          <p:grpSp>
                            <p:nvGrpSpPr>
                              <p:cNvPr id="900" name="Group 14"/>
                              <p:cNvGrpSpPr/>
                              <p:nvPr/>
                            </p:nvGrpSpPr>
                            <p:grpSpPr>
                              <a:xfrm>
                                <a:off x="1478160" y="798120"/>
                                <a:ext cx="6125040" cy="5213520"/>
                                <a:chOff x="1478160" y="798120"/>
                                <a:chExt cx="6125040" cy="5213520"/>
                              </a:xfrm>
                            </p:grpSpPr>
                            <p:grpSp>
                              <p:nvGrpSpPr>
                                <p:cNvPr id="901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1478160" y="798120"/>
                                  <a:ext cx="6125040" cy="5213520"/>
                                  <a:chOff x="1478160" y="798120"/>
                                  <a:chExt cx="6125040" cy="5213520"/>
                                </a:xfrm>
                              </p:grpSpPr>
                              <p:grpSp>
                                <p:nvGrpSpPr>
                                  <p:cNvPr id="902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798120"/>
                                    <a:ext cx="6125040" cy="5213520"/>
                                    <a:chOff x="1478160" y="798120"/>
                                    <a:chExt cx="6125040" cy="5213520"/>
                                  </a:xfrm>
                                </p:grpSpPr>
                                <p:grpSp>
                                  <p:nvGrpSpPr>
                                    <p:cNvPr id="903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478160" y="798120"/>
                                      <a:ext cx="5914440" cy="5212440"/>
                                      <a:chOff x="1478160" y="798120"/>
                                      <a:chExt cx="5914440" cy="5212440"/>
                                    </a:xfrm>
                                  </p:grpSpPr>
                                  <p:grpSp>
                                    <p:nvGrpSpPr>
                                      <p:cNvPr id="904" name="Group 1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478160" y="798120"/>
                                        <a:ext cx="4655880" cy="5212440"/>
                                        <a:chOff x="1478160" y="798120"/>
                                        <a:chExt cx="4655880" cy="5212440"/>
                                      </a:xfrm>
                                    </p:grpSpPr>
                                    <p:grpSp>
                                      <p:nvGrpSpPr>
                                        <p:cNvPr id="905" name="Group 19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2094840" y="1439640"/>
                                          <a:ext cx="4039200" cy="2876760"/>
                                          <a:chOff x="2094840" y="1439640"/>
                                          <a:chExt cx="4039200" cy="2876760"/>
                                        </a:xfrm>
                                      </p:grpSpPr>
                                      <p:sp>
                                        <p:nvSpPr>
                                          <p:cNvPr id="906" name="Line 2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094840" y="1439640"/>
                                            <a:ext cx="40392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2f1311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2f1311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07" name="Line 2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094840" y="1439640"/>
                                            <a:ext cx="0" cy="2876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2f1311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2f1311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908" name="Line 2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94840" y="1439640"/>
                                          <a:ext cx="0" cy="45709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2f1311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2f1311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9" name="Text Box 2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999440" y="798120"/>
                                          <a:ext cx="397080" cy="52056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lIns="90000" rIns="90000" tIns="46800" bIns="46800" anchor="t">
                                          <a:sp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1" lang="ru-RU" sz="2800" spc="-1" strike="noStrike">
                                              <a:solidFill>
                                                <a:srgbClr val="ff0000"/>
                                              </a:solidFill>
                                              <a:latin typeface="Arial"/>
                                            </a:rPr>
                                            <a:t>Т</a:t>
                                          </a:r>
                                          <a:endParaRPr b="0" lang="en-US" sz="2800" spc="-1" strike="noStrike">
                                            <a:solidFill>
                                              <a:srgbClr val="2f1311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0" name="Text Box 2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478160" y="5389560"/>
                                          <a:ext cx="436680" cy="52056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wrap="none" lIns="90000" rIns="90000" tIns="46800" bIns="46800" anchor="t">
                                          <a:sp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1" lang="ru-RU" sz="2800" spc="-1" strike="noStrike">
                                              <a:solidFill>
                                                <a:srgbClr val="f7d47d"/>
                                              </a:solidFill>
                                              <a:latin typeface="Arial"/>
                                            </a:rPr>
                                            <a:t>Н</a:t>
                                          </a:r>
                                          <a:endParaRPr b="0" lang="en-US" sz="2800" spc="-1" strike="noStrike">
                                            <a:solidFill>
                                              <a:srgbClr val="2f1311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11" name="Line 2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67120" y="1440000"/>
                                        <a:ext cx="413712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12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67120" y="1440000"/>
                                        <a:ext cx="492552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13" name="Text Box 2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896520" y="798120"/>
                                        <a:ext cx="496080" cy="52056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ru-RU" sz="2800" spc="-1" strike="noStrike">
                                            <a:solidFill>
                                              <a:srgbClr val="ff0000"/>
                                            </a:solidFill>
                                            <a:latin typeface="Arial"/>
                                          </a:rPr>
                                          <a:t>Т</a:t>
                                        </a:r>
                                        <a:r>
                                          <a:rPr b="1" lang="ru-RU" sz="1400" spc="-1" strike="noStrike">
                                            <a:solidFill>
                                              <a:srgbClr val="ff0000"/>
                                            </a:solidFill>
                                            <a:latin typeface="Arial"/>
                                          </a:rPr>
                                          <a:t>1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14" name="Line 2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3360" y="1440000"/>
                                      <a:ext cx="0" cy="457164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5" name="Line 2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66760" y="6011640"/>
                                      <a:ext cx="492660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6" name="Text Box 3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67520" y="5390640"/>
                                      <a:ext cx="5356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Н</a:t>
                                      </a:r>
                                      <a:r>
                                        <a:rPr b="1" lang="ru-RU" sz="14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1</a:t>
                                      </a:r>
                                      <a:endParaRPr b="0" lang="en-US" sz="14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17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1478160" y="2744640"/>
                                    <a:ext cx="43524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Б</a:t>
                                    </a:r>
                                    <a:endParaRPr b="0" lang="en-US" sz="2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8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1869120" y="2541240"/>
                                    <a:ext cx="414720" cy="7610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19" name="Line 33"/>
                                <p:cNvSpPr/>
                                <p:nvPr/>
                              </p:nvSpPr>
                              <p:spPr>
                                <a:xfrm>
                                  <a:off x="2067120" y="3218400"/>
                                  <a:ext cx="492624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0" name="Text Box 34"/>
                                <p:cNvSpPr/>
                                <p:nvPr/>
                              </p:nvSpPr>
                              <p:spPr>
                                <a:xfrm>
                                  <a:off x="6796080" y="2541240"/>
                                  <a:ext cx="464760" cy="761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21" name="Text Box 35"/>
                                <p:cNvSpPr/>
                                <p:nvPr/>
                              </p:nvSpPr>
                              <p:spPr>
                                <a:xfrm>
                                  <a:off x="6995880" y="2744280"/>
                                  <a:ext cx="53424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Б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1</a:t>
                                  </a:r>
                                  <a:endParaRPr b="0" lang="en-US" sz="1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22" name="Rectangle 36"/>
                              <p:cNvSpPr/>
                              <p:nvPr/>
                            </p:nvSpPr>
                            <p:spPr>
                              <a:xfrm>
                                <a:off x="4236840" y="798120"/>
                                <a:ext cx="4960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Т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2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3" name="Text Box 37"/>
                              <p:cNvSpPr/>
                              <p:nvPr/>
                            </p:nvSpPr>
                            <p:spPr>
                              <a:xfrm>
                                <a:off x="4235400" y="765000"/>
                                <a:ext cx="182160" cy="761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4" name="Group 38"/>
                            <p:cNvGrpSpPr/>
                            <p:nvPr/>
                          </p:nvGrpSpPr>
                          <p:grpSpPr>
                            <a:xfrm>
                              <a:off x="4430880" y="1442520"/>
                              <a:ext cx="538920" cy="4570560"/>
                              <a:chOff x="4430880" y="1442520"/>
                              <a:chExt cx="538920" cy="4570560"/>
                            </a:xfrm>
                          </p:grpSpPr>
                          <p:sp>
                            <p:nvSpPr>
                              <p:cNvPr id="925" name="Line 39"/>
                              <p:cNvSpPr/>
                              <p:nvPr/>
                            </p:nvSpPr>
                            <p:spPr>
                              <a:xfrm>
                                <a:off x="4430880" y="1442520"/>
                                <a:ext cx="0" cy="45705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2f1311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6" name="Text Box 40"/>
                              <p:cNvSpPr/>
                              <p:nvPr/>
                            </p:nvSpPr>
                            <p:spPr>
                              <a:xfrm>
                                <a:off x="4433040" y="3170520"/>
                                <a:ext cx="53424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Б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2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7" name="Text Box 41"/>
                              <p:cNvSpPr/>
                              <p:nvPr/>
                            </p:nvSpPr>
                            <p:spPr>
                              <a:xfrm>
                                <a:off x="4434120" y="5455080"/>
                                <a:ext cx="53568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Н</a:t>
                                </a:r>
                                <a:r>
                                  <a:rPr b="1" lang="ru-RU" sz="14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2</a:t>
                                </a:r>
                                <a:endParaRPr b="0" lang="en-US" sz="14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928" name="Text Box 42"/>
                          <p:cNvSpPr/>
                          <p:nvPr/>
                        </p:nvSpPr>
                        <p:spPr>
                          <a:xfrm>
                            <a:off x="2757960" y="3171240"/>
                            <a:ext cx="534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9" name="Text Box 43"/>
                          <p:cNvSpPr/>
                          <p:nvPr/>
                        </p:nvSpPr>
                        <p:spPr>
                          <a:xfrm>
                            <a:off x="2953800" y="2543760"/>
                            <a:ext cx="182160" cy="76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30" name="Line 44"/>
                        <p:cNvSpPr/>
                        <p:nvPr/>
                      </p:nvSpPr>
                      <p:spPr>
                        <a:xfrm flipV="1">
                          <a:off x="3151440" y="1442520"/>
                          <a:ext cx="0" cy="177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f1311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Text Box 45"/>
                        <p:cNvSpPr/>
                        <p:nvPr/>
                      </p:nvSpPr>
                      <p:spPr>
                        <a:xfrm>
                          <a:off x="2855880" y="848520"/>
                          <a:ext cx="6217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8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Т</a:t>
                          </a:r>
                          <a:r>
                            <a:rPr b="1" lang="ru-RU" sz="1400" spc="-1" strike="noStrike">
                              <a:solidFill>
                                <a:srgbClr val="ff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4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32" name="Text Box 46"/>
                      <p:cNvSpPr/>
                      <p:nvPr/>
                    </p:nvSpPr>
                    <p:spPr>
                      <a:xfrm>
                        <a:off x="5422680" y="316944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3" name="Text Box 47"/>
                      <p:cNvSpPr/>
                      <p:nvPr/>
                    </p:nvSpPr>
                    <p:spPr>
                      <a:xfrm>
                        <a:off x="5518080" y="2541960"/>
                        <a:ext cx="184680" cy="761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4" name="Line 48"/>
                      <p:cNvSpPr/>
                      <p:nvPr/>
                    </p:nvSpPr>
                    <p:spPr>
                      <a:xfrm flipV="1">
                        <a:off x="5715360" y="1442520"/>
                        <a:ext cx="0" cy="1776960"/>
                      </a:xfrm>
                      <a:prstGeom prst="line">
                        <a:avLst/>
                      </a:prstGeom>
                      <a:ln w="9360">
                        <a:solidFill>
                          <a:srgbClr val="2f13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5" name="Text Box 49"/>
                      <p:cNvSpPr/>
                      <p:nvPr/>
                    </p:nvSpPr>
                    <p:spPr>
                      <a:xfrm>
                        <a:off x="5421960" y="798840"/>
                        <a:ext cx="496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Т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36" name="Text Box 50"/>
                    <p:cNvSpPr/>
                    <p:nvPr/>
                  </p:nvSpPr>
                  <p:spPr>
                    <a:xfrm>
                      <a:off x="3153600" y="249372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Text Box 51"/>
                    <p:cNvSpPr/>
                    <p:nvPr/>
                  </p:nvSpPr>
                  <p:spPr>
                    <a:xfrm>
                      <a:off x="2957040" y="2118600"/>
                      <a:ext cx="33624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</a:t>
                      </a:r>
                      <a:endParaRPr b="0" lang="en-US" sz="4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8" name="Text Box 52"/>
                  <p:cNvSpPr/>
                  <p:nvPr/>
                </p:nvSpPr>
                <p:spPr>
                  <a:xfrm>
                    <a:off x="5716080" y="2288520"/>
                    <a:ext cx="484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Text Box 53"/>
                  <p:cNvSpPr/>
                  <p:nvPr/>
                </p:nvSpPr>
                <p:spPr>
                  <a:xfrm>
                    <a:off x="5518440" y="1780560"/>
                    <a:ext cx="4932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2f1311"/>
                        </a:solidFill>
                        <a:latin typeface="Arial"/>
                      </a:rPr>
                      <a:t>.</a:t>
                    </a:r>
                    <a:endParaRPr b="0" lang="en-US" sz="4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54"/>
                <p:cNvGrpSpPr/>
                <p:nvPr/>
              </p:nvGrpSpPr>
              <p:grpSpPr>
                <a:xfrm>
                  <a:off x="4237200" y="2288520"/>
                  <a:ext cx="576720" cy="893880"/>
                  <a:chOff x="4237200" y="2288520"/>
                  <a:chExt cx="576720" cy="893880"/>
                </a:xfrm>
              </p:grpSpPr>
              <p:sp>
                <p:nvSpPr>
                  <p:cNvPr id="941" name="Text Box 55"/>
                  <p:cNvSpPr/>
                  <p:nvPr/>
                </p:nvSpPr>
                <p:spPr>
                  <a:xfrm>
                    <a:off x="4435200" y="266184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Text Box 56"/>
                  <p:cNvSpPr/>
                  <p:nvPr/>
                </p:nvSpPr>
                <p:spPr>
                  <a:xfrm>
                    <a:off x="4237200" y="2288520"/>
                    <a:ext cx="336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2f1311"/>
                        </a:solidFill>
                        <a:latin typeface="Arial"/>
                      </a:rPr>
                      <a:t>.</a:t>
                    </a:r>
                    <a:endParaRPr b="0" lang="en-US" sz="4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3" name="Line 57"/>
              <p:cNvSpPr/>
              <p:nvPr/>
            </p:nvSpPr>
            <p:spPr>
              <a:xfrm flipH="1">
                <a:off x="4136760" y="1440720"/>
                <a:ext cx="295200" cy="0"/>
              </a:xfrm>
              <a:prstGeom prst="line">
                <a:avLst/>
              </a:prstGeom>
              <a:ln w="381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4" name="Line 58"/>
              <p:cNvSpPr/>
              <p:nvPr/>
            </p:nvSpPr>
            <p:spPr>
              <a:xfrm>
                <a:off x="4431960" y="1440720"/>
                <a:ext cx="295560" cy="0"/>
              </a:xfrm>
              <a:prstGeom prst="line">
                <a:avLst/>
              </a:prstGeom>
              <a:ln w="381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5" name="Line 59"/>
              <p:cNvSpPr/>
              <p:nvPr/>
            </p:nvSpPr>
            <p:spPr>
              <a:xfrm flipH="1">
                <a:off x="2954160" y="1442520"/>
                <a:ext cx="197640" cy="0"/>
              </a:xfrm>
              <a:prstGeom prst="line">
                <a:avLst/>
              </a:prstGeom>
              <a:ln w="381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6" name="Line 60"/>
              <p:cNvSpPr/>
              <p:nvPr/>
            </p:nvSpPr>
            <p:spPr>
              <a:xfrm>
                <a:off x="3152160" y="1442520"/>
                <a:ext cx="195480" cy="0"/>
              </a:xfrm>
              <a:prstGeom prst="line">
                <a:avLst/>
              </a:prstGeom>
              <a:ln w="381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947" name="Line 61"/>
            <p:cNvSpPr/>
            <p:nvPr/>
          </p:nvSpPr>
          <p:spPr>
            <a:xfrm flipH="1">
              <a:off x="5516640" y="1440720"/>
              <a:ext cx="19764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48" name="Line 62"/>
            <p:cNvSpPr/>
            <p:nvPr/>
          </p:nvSpPr>
          <p:spPr>
            <a:xfrm>
              <a:off x="5714640" y="1440720"/>
              <a:ext cx="197640" cy="0"/>
            </a:xfrm>
            <a:prstGeom prst="line">
              <a:avLst/>
            </a:prstGeom>
            <a:ln w="381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49" name="Text Box 4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3.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ыполнить построение вытачек и линии бо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Line 64"/>
          <p:cNvSpPr/>
          <p:nvPr/>
        </p:nvSpPr>
        <p:spPr>
          <a:xfrm>
            <a:off x="2987640" y="1413000"/>
            <a:ext cx="144360" cy="12952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1" name="Line 65"/>
          <p:cNvSpPr/>
          <p:nvPr/>
        </p:nvSpPr>
        <p:spPr>
          <a:xfrm flipH="1">
            <a:off x="3132000" y="1413000"/>
            <a:ext cx="216000" cy="12952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Line 66"/>
          <p:cNvSpPr/>
          <p:nvPr/>
        </p:nvSpPr>
        <p:spPr>
          <a:xfrm flipH="1">
            <a:off x="5724360" y="1413000"/>
            <a:ext cx="144720" cy="93636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3" name="Line 67"/>
          <p:cNvSpPr/>
          <p:nvPr/>
        </p:nvSpPr>
        <p:spPr>
          <a:xfrm>
            <a:off x="5508720" y="1413000"/>
            <a:ext cx="215640" cy="93636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Line 69"/>
          <p:cNvSpPr/>
          <p:nvPr/>
        </p:nvSpPr>
        <p:spPr>
          <a:xfrm flipV="1">
            <a:off x="4427640" y="1341360"/>
            <a:ext cx="288720" cy="15112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Line 70"/>
          <p:cNvSpPr/>
          <p:nvPr/>
        </p:nvSpPr>
        <p:spPr>
          <a:xfrm flipH="1" flipV="1">
            <a:off x="4140360" y="1341360"/>
            <a:ext cx="287280" cy="151128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Line 71"/>
          <p:cNvSpPr/>
          <p:nvPr/>
        </p:nvSpPr>
        <p:spPr>
          <a:xfrm flipH="1">
            <a:off x="3347640" y="1341360"/>
            <a:ext cx="792360" cy="7164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Line 72"/>
          <p:cNvSpPr/>
          <p:nvPr/>
        </p:nvSpPr>
        <p:spPr>
          <a:xfrm>
            <a:off x="4716360" y="1341360"/>
            <a:ext cx="792360" cy="7164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Text Box 73"/>
          <p:cNvSpPr/>
          <p:nvPr/>
        </p:nvSpPr>
        <p:spPr>
          <a:xfrm>
            <a:off x="3709440" y="836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Text Box 74"/>
          <p:cNvSpPr/>
          <p:nvPr/>
        </p:nvSpPr>
        <p:spPr>
          <a:xfrm>
            <a:off x="4717440" y="811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Freeform 76"/>
          <p:cNvSpPr/>
          <p:nvPr/>
        </p:nvSpPr>
        <p:spPr>
          <a:xfrm>
            <a:off x="4427640" y="1341360"/>
            <a:ext cx="288720" cy="1511280"/>
          </a:xfrm>
          <a:prstGeom prst="pie">
            <a:avLst/>
          </a:prstGeom>
          <a:noFill/>
          <a:ln w="381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Freeform 77"/>
          <p:cNvSpPr/>
          <p:nvPr/>
        </p:nvSpPr>
        <p:spPr>
          <a:xfrm>
            <a:off x="4140360" y="1341360"/>
            <a:ext cx="287280" cy="1511280"/>
          </a:xfrm>
          <a:prstGeom prst="pie">
            <a:avLst/>
          </a:prstGeom>
          <a:noFill/>
          <a:ln w="381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3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3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3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3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16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4"/>
          <p:cNvSpPr/>
          <p:nvPr/>
        </p:nvSpPr>
        <p:spPr>
          <a:xfrm>
            <a:off x="17928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4.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бвести контур чертежа сплошной основ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лини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64" name="Group 77"/>
          <p:cNvGrpSpPr/>
          <p:nvPr/>
        </p:nvGrpSpPr>
        <p:grpSpPr>
          <a:xfrm>
            <a:off x="1621080" y="1125360"/>
            <a:ext cx="5804280" cy="4961520"/>
            <a:chOff x="1621080" y="1125360"/>
            <a:chExt cx="5804280" cy="4961520"/>
          </a:xfrm>
        </p:grpSpPr>
        <p:sp>
          <p:nvSpPr>
            <p:cNvPr id="965" name="Freeform 75"/>
            <p:cNvSpPr/>
            <p:nvPr/>
          </p:nvSpPr>
          <p:spPr>
            <a:xfrm>
              <a:off x="4128120" y="1605600"/>
              <a:ext cx="278640" cy="1600560"/>
            </a:xfrm>
            <a:prstGeom prst="pie">
              <a:avLst/>
            </a:prstGeom>
            <a:noFill/>
            <a:ln w="9360">
              <a:solidFill>
                <a:srgbClr val="2f13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6" name="Line 69"/>
            <p:cNvSpPr/>
            <p:nvPr/>
          </p:nvSpPr>
          <p:spPr>
            <a:xfrm flipH="1" flipV="1">
              <a:off x="4128120" y="1605600"/>
              <a:ext cx="278640" cy="160056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7" name="Freeform 74"/>
            <p:cNvSpPr/>
            <p:nvPr/>
          </p:nvSpPr>
          <p:spPr>
            <a:xfrm>
              <a:off x="4407120" y="1605600"/>
              <a:ext cx="278640" cy="1600560"/>
            </a:xfrm>
            <a:prstGeom prst="pie">
              <a:avLst/>
            </a:prstGeom>
            <a:noFill/>
            <a:ln w="9360">
              <a:solidFill>
                <a:srgbClr val="2f13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968" name="Group 8"/>
            <p:cNvGrpSpPr/>
            <p:nvPr/>
          </p:nvGrpSpPr>
          <p:grpSpPr>
            <a:xfrm>
              <a:off x="1621080" y="1125360"/>
              <a:ext cx="5804280" cy="4961520"/>
              <a:chOff x="1621080" y="1125360"/>
              <a:chExt cx="5804280" cy="4961520"/>
            </a:xfrm>
          </p:grpSpPr>
          <p:grpSp>
            <p:nvGrpSpPr>
              <p:cNvPr id="969" name="Group 9"/>
              <p:cNvGrpSpPr/>
              <p:nvPr/>
            </p:nvGrpSpPr>
            <p:grpSpPr>
              <a:xfrm>
                <a:off x="1621080" y="1125360"/>
                <a:ext cx="5804280" cy="4961520"/>
                <a:chOff x="1621080" y="1125360"/>
                <a:chExt cx="5804280" cy="4961520"/>
              </a:xfrm>
            </p:grpSpPr>
            <p:grpSp>
              <p:nvGrpSpPr>
                <p:cNvPr id="970" name="Group 10"/>
                <p:cNvGrpSpPr/>
                <p:nvPr/>
              </p:nvGrpSpPr>
              <p:grpSpPr>
                <a:xfrm>
                  <a:off x="1621080" y="1125360"/>
                  <a:ext cx="5804280" cy="4961520"/>
                  <a:chOff x="1621080" y="1125360"/>
                  <a:chExt cx="5804280" cy="4961520"/>
                </a:xfrm>
              </p:grpSpPr>
              <p:grpSp>
                <p:nvGrpSpPr>
                  <p:cNvPr id="971" name="Group 11"/>
                  <p:cNvGrpSpPr/>
                  <p:nvPr/>
                </p:nvGrpSpPr>
                <p:grpSpPr>
                  <a:xfrm>
                    <a:off x="1621080" y="1125360"/>
                    <a:ext cx="5804280" cy="4961520"/>
                    <a:chOff x="1621080" y="1125360"/>
                    <a:chExt cx="5804280" cy="4961520"/>
                  </a:xfrm>
                </p:grpSpPr>
                <p:grpSp>
                  <p:nvGrpSpPr>
                    <p:cNvPr id="972" name="Group 12"/>
                    <p:cNvGrpSpPr/>
                    <p:nvPr/>
                  </p:nvGrpSpPr>
                  <p:grpSpPr>
                    <a:xfrm>
                      <a:off x="1621080" y="1125360"/>
                      <a:ext cx="5804280" cy="4961520"/>
                      <a:chOff x="1621080" y="1125360"/>
                      <a:chExt cx="5804280" cy="4961520"/>
                    </a:xfrm>
                  </p:grpSpPr>
                  <p:grpSp>
                    <p:nvGrpSpPr>
                      <p:cNvPr id="973" name="Group 13"/>
                      <p:cNvGrpSpPr/>
                      <p:nvPr/>
                    </p:nvGrpSpPr>
                    <p:grpSpPr>
                      <a:xfrm>
                        <a:off x="1621080" y="1125360"/>
                        <a:ext cx="5804280" cy="4961520"/>
                        <a:chOff x="1621080" y="1125360"/>
                        <a:chExt cx="5804280" cy="4961520"/>
                      </a:xfrm>
                    </p:grpSpPr>
                    <p:grpSp>
                      <p:nvGrpSpPr>
                        <p:cNvPr id="974" name="Group 14"/>
                        <p:cNvGrpSpPr/>
                        <p:nvPr/>
                      </p:nvGrpSpPr>
                      <p:grpSpPr>
                        <a:xfrm>
                          <a:off x="1621080" y="1125360"/>
                          <a:ext cx="5804280" cy="4960440"/>
                          <a:chOff x="1621080" y="1125360"/>
                          <a:chExt cx="5804280" cy="4960440"/>
                        </a:xfrm>
                      </p:grpSpPr>
                      <p:grpSp>
                        <p:nvGrpSpPr>
                          <p:cNvPr id="975" name="Group 15"/>
                          <p:cNvGrpSpPr/>
                          <p:nvPr/>
                        </p:nvGrpSpPr>
                        <p:grpSpPr>
                          <a:xfrm>
                            <a:off x="1621080" y="1153080"/>
                            <a:ext cx="5804280" cy="4932720"/>
                            <a:chOff x="1621080" y="1153080"/>
                            <a:chExt cx="5804280" cy="4932720"/>
                          </a:xfrm>
                        </p:grpSpPr>
                        <p:grpSp>
                          <p:nvGrpSpPr>
                            <p:cNvPr id="976" name="Group 16"/>
                            <p:cNvGrpSpPr/>
                            <p:nvPr/>
                          </p:nvGrpSpPr>
                          <p:grpSpPr>
                            <a:xfrm>
                              <a:off x="1621080" y="1153080"/>
                              <a:ext cx="5804280" cy="4932720"/>
                              <a:chOff x="1621080" y="1153080"/>
                              <a:chExt cx="5804280" cy="4932720"/>
                            </a:xfrm>
                          </p:grpSpPr>
                          <p:grpSp>
                            <p:nvGrpSpPr>
                              <p:cNvPr id="977" name="Group 17"/>
                              <p:cNvGrpSpPr/>
                              <p:nvPr/>
                            </p:nvGrpSpPr>
                            <p:grpSpPr>
                              <a:xfrm>
                                <a:off x="1621080" y="1153080"/>
                                <a:ext cx="5804280" cy="4932720"/>
                                <a:chOff x="1621080" y="1153080"/>
                                <a:chExt cx="5804280" cy="4932720"/>
                              </a:xfrm>
                            </p:grpSpPr>
                            <p:grpSp>
                              <p:nvGrpSpPr>
                                <p:cNvPr id="978" name="Group 18"/>
                                <p:cNvGrpSpPr/>
                                <p:nvPr/>
                              </p:nvGrpSpPr>
                              <p:grpSpPr>
                                <a:xfrm>
                                  <a:off x="1621080" y="1153080"/>
                                  <a:ext cx="5607360" cy="4932000"/>
                                  <a:chOff x="1621080" y="1153080"/>
                                  <a:chExt cx="5607360" cy="4932000"/>
                                </a:xfrm>
                              </p:grpSpPr>
                              <p:grpSp>
                                <p:nvGrpSpPr>
                                  <p:cNvPr id="979" name="Group 19"/>
                                  <p:cNvGrpSpPr/>
                                  <p:nvPr/>
                                </p:nvGrpSpPr>
                                <p:grpSpPr>
                                  <a:xfrm>
                                    <a:off x="1621080" y="1153080"/>
                                    <a:ext cx="4391280" cy="4932000"/>
                                    <a:chOff x="1621080" y="1153080"/>
                                    <a:chExt cx="4391280" cy="4932000"/>
                                  </a:xfrm>
                                </p:grpSpPr>
                                <p:grpSp>
                                  <p:nvGrpSpPr>
                                    <p:cNvPr id="980" name="Group 20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202480" y="1763280"/>
                                      <a:ext cx="3809880" cy="2719800"/>
                                      <a:chOff x="2202480" y="1763280"/>
                                      <a:chExt cx="3809880" cy="2719800"/>
                                    </a:xfrm>
                                  </p:grpSpPr>
                                  <p:sp>
                                    <p:nvSpPr>
                                      <p:cNvPr id="981" name="Line 21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2480" y="1763280"/>
                                        <a:ext cx="380988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82" name="Line 2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2480" y="1763280"/>
                                        <a:ext cx="0" cy="27198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2f1311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2f1311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83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02480" y="1763280"/>
                                      <a:ext cx="0" cy="4321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2f1311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4" name="Text Box 2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12480" y="1153080"/>
                                      <a:ext cx="3970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Т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5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621080" y="5493960"/>
                                      <a:ext cx="436680" cy="52056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800" spc="-1" strike="noStrike">
                                          <a:solidFill>
                                            <a:srgbClr val="ff0000"/>
                                          </a:solidFill>
                                          <a:latin typeface="Arial"/>
                                        </a:rPr>
                                        <a:t>Н</a:t>
                                      </a:r>
                                      <a:endParaRPr b="0" lang="en-US" sz="2800" spc="-1" strike="noStrike">
                                        <a:solidFill>
                                          <a:srgbClr val="2f1311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86" name="Line 26"/>
                                  <p:cNvSpPr/>
                                  <p:nvPr/>
                                </p:nvSpPr>
                                <p:spPr>
                                  <a:xfrm>
                                    <a:off x="2176560" y="1763280"/>
                                    <a:ext cx="39024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87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2176560" y="1763280"/>
                                    <a:ext cx="464616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2f1311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88" name="Text Box 28"/>
                                  <p:cNvSpPr/>
                                  <p:nvPr/>
                                </p:nvSpPr>
                                <p:spPr>
                                  <a:xfrm>
                                    <a:off x="6732360" y="1153080"/>
                                    <a:ext cx="496080" cy="5205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8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Т</a:t>
                                    </a:r>
                                    <a:r>
                                      <a:rPr b="1" lang="ru-RU" sz="1400" spc="-1" strike="noStrike">
                                        <a:solidFill>
                                          <a:srgbClr val="ff0000"/>
                                        </a:solidFill>
                                        <a:latin typeface="Arial"/>
                                      </a:rPr>
                                      <a:t>1</a:t>
                                    </a:r>
                                    <a:endParaRPr b="0" lang="en-US" sz="1400" spc="-1" strike="noStrike">
                                      <a:solidFill>
                                        <a:srgbClr val="2f1311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89" name="Line 29"/>
                                <p:cNvSpPr/>
                                <p:nvPr/>
                              </p:nvSpPr>
                              <p:spPr>
                                <a:xfrm>
                                  <a:off x="6823080" y="1763640"/>
                                  <a:ext cx="0" cy="43221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90" name="Line 30"/>
                                <p:cNvSpPr/>
                                <p:nvPr/>
                              </p:nvSpPr>
                              <p:spPr>
                                <a:xfrm>
                                  <a:off x="2176200" y="6085800"/>
                                  <a:ext cx="464688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2f1311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91" name="Text Box 31"/>
                                <p:cNvSpPr/>
                                <p:nvPr/>
                              </p:nvSpPr>
                              <p:spPr>
                                <a:xfrm>
                                  <a:off x="6889680" y="5495040"/>
                                  <a:ext cx="535680" cy="5205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8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Н</a:t>
                                  </a:r>
                                  <a:r>
                                    <a:rPr b="1" lang="ru-RU" sz="1400" spc="-1" strike="noStrike">
                                      <a:solidFill>
                                        <a:srgbClr val="ff0000"/>
                                      </a:solidFill>
                                      <a:latin typeface="Arial"/>
                                    </a:rPr>
                                    <a:t>1</a:t>
                                  </a:r>
                                  <a:endParaRPr b="0" lang="en-US" sz="1400" spc="-1" strike="noStrike">
                                    <a:solidFill>
                                      <a:srgbClr val="2f1311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92" name="Text Box 32"/>
                              <p:cNvSpPr/>
                              <p:nvPr/>
                            </p:nvSpPr>
                            <p:spPr>
                              <a:xfrm>
                                <a:off x="1621800" y="2993400"/>
                                <a:ext cx="435240" cy="5205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800" spc="-1" strike="noStrike">
                                    <a:solidFill>
                                      <a:srgbClr val="ff0000"/>
                                    </a:solidFill>
                                    <a:latin typeface="Arial"/>
                                  </a:rPr>
                                  <a:t>Б</a:t>
                                </a:r>
                                <a:endParaRPr b="0" lang="en-US" sz="2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3" name="Text Box 33"/>
                              <p:cNvSpPr/>
                              <p:nvPr/>
                            </p:nvSpPr>
                            <p:spPr>
                              <a:xfrm>
                                <a:off x="1989720" y="2804400"/>
                                <a:ext cx="390960" cy="7621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2f1311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94" name="Line 34"/>
                            <p:cNvSpPr/>
                            <p:nvPr/>
                          </p:nvSpPr>
                          <p:spPr>
                            <a:xfrm>
                              <a:off x="2176560" y="3444840"/>
                              <a:ext cx="46465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2f1311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5" name="Text Box 35"/>
                            <p:cNvSpPr/>
                            <p:nvPr/>
                          </p:nvSpPr>
                          <p:spPr>
                            <a:xfrm>
                              <a:off x="6637320" y="2804760"/>
                              <a:ext cx="438480" cy="762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6" name="Text Box 36"/>
                            <p:cNvSpPr/>
                            <p:nvPr/>
                          </p:nvSpPr>
                          <p:spPr>
                            <a:xfrm>
                              <a:off x="6824520" y="2993400"/>
                              <a:ext cx="534240" cy="520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8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Б</a:t>
                              </a:r>
                              <a:r>
                                <a:rPr b="1" lang="ru-RU" sz="1400" spc="-1" strike="noStrike">
                                  <a:solidFill>
                                    <a:srgbClr val="ff0000"/>
                                  </a:solidFill>
                                  <a:latin typeface="Arial"/>
                                </a:rPr>
                                <a:t>1</a:t>
                              </a:r>
                              <a:endParaRPr b="0" lang="en-US" sz="1400" spc="-1" strike="noStrike">
                                <a:solidFill>
                                  <a:srgbClr val="2f1311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97" name="Rectangle 37"/>
                          <p:cNvSpPr/>
                          <p:nvPr/>
                        </p:nvSpPr>
                        <p:spPr>
                          <a:xfrm>
                            <a:off x="4223520" y="1153080"/>
                            <a:ext cx="4960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Т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8" name="Text Box 38"/>
                          <p:cNvSpPr/>
                          <p:nvPr/>
                        </p:nvSpPr>
                        <p:spPr>
                          <a:xfrm>
                            <a:off x="4221720" y="1125360"/>
                            <a:ext cx="184320" cy="762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9" name="Group 39"/>
                        <p:cNvGrpSpPr/>
                        <p:nvPr/>
                      </p:nvGrpSpPr>
                      <p:grpSpPr>
                        <a:xfrm>
                          <a:off x="4406040" y="1765800"/>
                          <a:ext cx="537120" cy="4321080"/>
                          <a:chOff x="4406040" y="1765800"/>
                          <a:chExt cx="537120" cy="4321080"/>
                        </a:xfrm>
                      </p:grpSpPr>
                      <p:sp>
                        <p:nvSpPr>
                          <p:cNvPr id="1000" name="Line 40"/>
                          <p:cNvSpPr/>
                          <p:nvPr/>
                        </p:nvSpPr>
                        <p:spPr>
                          <a:xfrm>
                            <a:off x="4406040" y="1765800"/>
                            <a:ext cx="0" cy="432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2f1311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1" name="Text Box 41"/>
                          <p:cNvSpPr/>
                          <p:nvPr/>
                        </p:nvSpPr>
                        <p:spPr>
                          <a:xfrm>
                            <a:off x="4407120" y="3398040"/>
                            <a:ext cx="53424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Б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2" name="Text Box 42"/>
                          <p:cNvSpPr/>
                          <p:nvPr/>
                        </p:nvSpPr>
                        <p:spPr>
                          <a:xfrm>
                            <a:off x="4407480" y="5557680"/>
                            <a:ext cx="535680" cy="520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8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Н</a:t>
                            </a:r>
                            <a:r>
                              <a:rPr b="1" lang="ru-RU" sz="1400" spc="-1" strike="noStrike">
                                <a:solidFill>
                                  <a:srgbClr val="ff0000"/>
                                </a:solidFill>
                                <a:latin typeface="Arial"/>
                              </a:rPr>
                              <a:t>2</a:t>
                            </a:r>
                            <a:endParaRPr b="0" lang="en-US" sz="14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03" name="Text Box 43"/>
                      <p:cNvSpPr/>
                      <p:nvPr/>
                    </p:nvSpPr>
                    <p:spPr>
                      <a:xfrm>
                        <a:off x="2828160" y="3398040"/>
                        <a:ext cx="534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8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Б</a:t>
                        </a:r>
                        <a:r>
                          <a:rPr b="1" lang="ru-RU" sz="14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4" name="Text Box 44"/>
                      <p:cNvSpPr/>
                      <p:nvPr/>
                    </p:nvSpPr>
                    <p:spPr>
                      <a:xfrm>
                        <a:off x="3012840" y="2807280"/>
                        <a:ext cx="184320" cy="762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05" name="Line 45"/>
                    <p:cNvSpPr/>
                    <p:nvPr/>
                  </p:nvSpPr>
                  <p:spPr>
                    <a:xfrm flipV="1">
                      <a:off x="3199320" y="1765440"/>
                      <a:ext cx="0" cy="1680120"/>
                    </a:xfrm>
                    <a:prstGeom prst="line">
                      <a:avLst/>
                    </a:prstGeom>
                    <a:ln w="9360">
                      <a:solidFill>
                        <a:srgbClr val="2f13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Text Box 46"/>
                    <p:cNvSpPr/>
                    <p:nvPr/>
                  </p:nvSpPr>
                  <p:spPr>
                    <a:xfrm>
                      <a:off x="2920320" y="1204560"/>
                      <a:ext cx="5864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7" name="Text Box 47"/>
                  <p:cNvSpPr/>
                  <p:nvPr/>
                </p:nvSpPr>
                <p:spPr>
                  <a:xfrm>
                    <a:off x="5341320" y="3394800"/>
                    <a:ext cx="5342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Б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Text Box 48"/>
                  <p:cNvSpPr/>
                  <p:nvPr/>
                </p:nvSpPr>
                <p:spPr>
                  <a:xfrm>
                    <a:off x="5431320" y="2805480"/>
                    <a:ext cx="18432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9"/>
                  <p:cNvSpPr/>
                  <p:nvPr/>
                </p:nvSpPr>
                <p:spPr>
                  <a:xfrm flipV="1">
                    <a:off x="5617440" y="1765440"/>
                    <a:ext cx="0" cy="1680120"/>
                  </a:xfrm>
                  <a:prstGeom prst="line">
                    <a:avLst/>
                  </a:prstGeom>
                  <a:ln w="9360">
                    <a:solidFill>
                      <a:srgbClr val="2f13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Text Box 50"/>
                  <p:cNvSpPr/>
                  <p:nvPr/>
                </p:nvSpPr>
                <p:spPr>
                  <a:xfrm>
                    <a:off x="5340960" y="1153440"/>
                    <a:ext cx="496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ff0000"/>
                        </a:solidFill>
                        <a:latin typeface="Arial"/>
                      </a:rPr>
                      <a:t>Т</a:t>
                    </a:r>
                    <a:r>
                      <a:rPr b="1" lang="ru-RU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1" name="Text Box 51"/>
                <p:cNvSpPr/>
                <p:nvPr/>
              </p:nvSpPr>
              <p:spPr>
                <a:xfrm>
                  <a:off x="3201480" y="27565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012" name="Text Box 52"/>
                <p:cNvSpPr/>
                <p:nvPr/>
              </p:nvSpPr>
              <p:spPr>
                <a:xfrm>
                  <a:off x="3015720" y="2404800"/>
                  <a:ext cx="336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400" spc="-1" strike="noStrike">
                      <a:solidFill>
                        <a:srgbClr val="2f1311"/>
                      </a:solidFill>
                      <a:latin typeface="Arial"/>
                    </a:rPr>
                    <a:t>.</a:t>
                  </a:r>
                  <a:endParaRPr b="0" lang="en-US" sz="4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 Box 53"/>
              <p:cNvSpPr/>
              <p:nvPr/>
            </p:nvSpPr>
            <p:spPr>
              <a:xfrm>
                <a:off x="5618520" y="256572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14" name="Text Box 54"/>
              <p:cNvSpPr/>
              <p:nvPr/>
            </p:nvSpPr>
            <p:spPr>
              <a:xfrm>
                <a:off x="5432040" y="2085480"/>
                <a:ext cx="465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55"/>
            <p:cNvGrpSpPr/>
            <p:nvPr/>
          </p:nvGrpSpPr>
          <p:grpSpPr>
            <a:xfrm>
              <a:off x="4224240" y="2566080"/>
              <a:ext cx="564840" cy="871560"/>
              <a:chOff x="4224240" y="2566080"/>
              <a:chExt cx="564840" cy="871560"/>
            </a:xfrm>
          </p:grpSpPr>
          <p:sp>
            <p:nvSpPr>
              <p:cNvPr id="1016" name="Text Box 56"/>
              <p:cNvSpPr/>
              <p:nvPr/>
            </p:nvSpPr>
            <p:spPr>
              <a:xfrm>
                <a:off x="4410360" y="2917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17" name="Text Box 57"/>
              <p:cNvSpPr/>
              <p:nvPr/>
            </p:nvSpPr>
            <p:spPr>
              <a:xfrm>
                <a:off x="4224240" y="2566080"/>
                <a:ext cx="336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2f1311"/>
                    </a:solidFill>
                    <a:latin typeface="Arial"/>
                  </a:rPr>
                  <a:t>.</a:t>
                </a:r>
                <a:endParaRPr b="0" lang="en-US" sz="4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18" name="Line 58"/>
            <p:cNvSpPr/>
            <p:nvPr/>
          </p:nvSpPr>
          <p:spPr>
            <a:xfrm flipH="1">
              <a:off x="4128120" y="1764360"/>
              <a:ext cx="27864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9" name="Line 59"/>
            <p:cNvSpPr/>
            <p:nvPr/>
          </p:nvSpPr>
          <p:spPr>
            <a:xfrm>
              <a:off x="4407120" y="1764360"/>
              <a:ext cx="27864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0" name="Line 60"/>
            <p:cNvSpPr/>
            <p:nvPr/>
          </p:nvSpPr>
          <p:spPr>
            <a:xfrm flipH="1">
              <a:off x="3012840" y="1766160"/>
              <a:ext cx="18612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1" name="Line 61"/>
            <p:cNvSpPr/>
            <p:nvPr/>
          </p:nvSpPr>
          <p:spPr>
            <a:xfrm>
              <a:off x="3199680" y="1766160"/>
              <a:ext cx="18432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2" name="Line 62"/>
            <p:cNvSpPr/>
            <p:nvPr/>
          </p:nvSpPr>
          <p:spPr>
            <a:xfrm flipH="1">
              <a:off x="5429880" y="1764360"/>
              <a:ext cx="18612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Line 63"/>
            <p:cNvSpPr/>
            <p:nvPr/>
          </p:nvSpPr>
          <p:spPr>
            <a:xfrm>
              <a:off x="5616720" y="1764360"/>
              <a:ext cx="186120" cy="0"/>
            </a:xfrm>
            <a:prstGeom prst="line">
              <a:avLst/>
            </a:prstGeom>
            <a:ln w="3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4" name="Line 64"/>
            <p:cNvSpPr/>
            <p:nvPr/>
          </p:nvSpPr>
          <p:spPr>
            <a:xfrm>
              <a:off x="3013200" y="1766160"/>
              <a:ext cx="186120" cy="12798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5" name="Line 65"/>
            <p:cNvSpPr/>
            <p:nvPr/>
          </p:nvSpPr>
          <p:spPr>
            <a:xfrm flipH="1">
              <a:off x="3199680" y="1766160"/>
              <a:ext cx="184320" cy="12798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6" name="Line 66"/>
            <p:cNvSpPr/>
            <p:nvPr/>
          </p:nvSpPr>
          <p:spPr>
            <a:xfrm flipH="1">
              <a:off x="5616360" y="1766160"/>
              <a:ext cx="186120" cy="960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Line 67"/>
            <p:cNvSpPr/>
            <p:nvPr/>
          </p:nvSpPr>
          <p:spPr>
            <a:xfrm>
              <a:off x="5430240" y="1766160"/>
              <a:ext cx="186120" cy="960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Line 68"/>
            <p:cNvSpPr/>
            <p:nvPr/>
          </p:nvSpPr>
          <p:spPr>
            <a:xfrm flipV="1">
              <a:off x="4407120" y="1605600"/>
              <a:ext cx="278640" cy="160056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3384360" y="1605600"/>
              <a:ext cx="743760" cy="1602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Line 71"/>
            <p:cNvSpPr/>
            <p:nvPr/>
          </p:nvSpPr>
          <p:spPr>
            <a:xfrm>
              <a:off x="4686120" y="1605600"/>
              <a:ext cx="744120" cy="1602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Text Box 72"/>
            <p:cNvSpPr/>
            <p:nvPr/>
          </p:nvSpPr>
          <p:spPr>
            <a:xfrm>
              <a:off x="3663000" y="1180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1,5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Text Box 73"/>
            <p:cNvSpPr/>
            <p:nvPr/>
          </p:nvSpPr>
          <p:spPr>
            <a:xfrm>
              <a:off x="4661640" y="11995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1,5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33" name="Line 76"/>
          <p:cNvSpPr/>
          <p:nvPr/>
        </p:nvSpPr>
        <p:spPr>
          <a:xfrm flipV="1">
            <a:off x="2195640" y="1773000"/>
            <a:ext cx="0" cy="431964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Line 78"/>
          <p:cNvSpPr/>
          <p:nvPr/>
        </p:nvSpPr>
        <p:spPr>
          <a:xfrm>
            <a:off x="2195640" y="1773360"/>
            <a:ext cx="793800" cy="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Line 79"/>
          <p:cNvSpPr/>
          <p:nvPr/>
        </p:nvSpPr>
        <p:spPr>
          <a:xfrm>
            <a:off x="2987640" y="1773360"/>
            <a:ext cx="214200" cy="122400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6" name="Line 81"/>
          <p:cNvSpPr/>
          <p:nvPr/>
        </p:nvSpPr>
        <p:spPr>
          <a:xfrm flipV="1">
            <a:off x="3203640" y="1773360"/>
            <a:ext cx="144360" cy="122400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7" name="Line 82"/>
          <p:cNvSpPr/>
          <p:nvPr/>
        </p:nvSpPr>
        <p:spPr>
          <a:xfrm flipV="1">
            <a:off x="3348000" y="1628640"/>
            <a:ext cx="792360" cy="14472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Freeform 152"/>
          <p:cNvSpPr/>
          <p:nvPr/>
        </p:nvSpPr>
        <p:spPr>
          <a:xfrm>
            <a:off x="4140360" y="1628640"/>
            <a:ext cx="287280" cy="1440000"/>
          </a:xfrm>
          <a:prstGeom prst="pie">
            <a:avLst/>
          </a:prstGeom>
          <a:noFill/>
          <a:ln w="5724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Line 153"/>
          <p:cNvSpPr/>
          <p:nvPr/>
        </p:nvSpPr>
        <p:spPr>
          <a:xfrm>
            <a:off x="4427640" y="3141720"/>
            <a:ext cx="0" cy="295128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Freeform 154"/>
          <p:cNvSpPr/>
          <p:nvPr/>
        </p:nvSpPr>
        <p:spPr>
          <a:xfrm>
            <a:off x="4427640" y="1628640"/>
            <a:ext cx="288720" cy="1584360"/>
          </a:xfrm>
          <a:prstGeom prst="pie">
            <a:avLst/>
          </a:prstGeom>
          <a:noFill/>
          <a:ln w="5724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1" name="Line 155"/>
          <p:cNvSpPr/>
          <p:nvPr/>
        </p:nvSpPr>
        <p:spPr>
          <a:xfrm>
            <a:off x="4716360" y="1628640"/>
            <a:ext cx="719280" cy="14472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Line 156"/>
          <p:cNvSpPr/>
          <p:nvPr/>
        </p:nvSpPr>
        <p:spPr>
          <a:xfrm>
            <a:off x="5435640" y="1773360"/>
            <a:ext cx="144360" cy="86364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Line 157"/>
          <p:cNvSpPr/>
          <p:nvPr/>
        </p:nvSpPr>
        <p:spPr>
          <a:xfrm flipH="1">
            <a:off x="5579640" y="1773360"/>
            <a:ext cx="214200" cy="93492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4" name="Line 158"/>
          <p:cNvSpPr/>
          <p:nvPr/>
        </p:nvSpPr>
        <p:spPr>
          <a:xfrm>
            <a:off x="5796000" y="1773360"/>
            <a:ext cx="1008000" cy="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Line 159"/>
          <p:cNvSpPr/>
          <p:nvPr/>
        </p:nvSpPr>
        <p:spPr>
          <a:xfrm>
            <a:off x="6804000" y="1773360"/>
            <a:ext cx="0" cy="431964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Line 160"/>
          <p:cNvSpPr/>
          <p:nvPr/>
        </p:nvSpPr>
        <p:spPr>
          <a:xfrm>
            <a:off x="2195640" y="6093000"/>
            <a:ext cx="4608360" cy="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3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3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3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3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3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3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3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3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3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3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8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3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7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j0291984"/>
          <p:cNvPicPr/>
          <p:nvPr/>
        </p:nvPicPr>
        <p:blipFill>
          <a:blip r:embed="rId2"/>
          <a:stretch/>
        </p:blipFill>
        <p:spPr>
          <a:xfrm>
            <a:off x="1547640" y="836640"/>
            <a:ext cx="5629320" cy="568800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6"/>
          <p:cNvSpPr/>
          <p:nvPr/>
        </p:nvSpPr>
        <p:spPr>
          <a:xfrm>
            <a:off x="1042920" y="26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ертеж гото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6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30"/>
          <p:cNvGrpSpPr/>
          <p:nvPr/>
        </p:nvGrpSpPr>
        <p:grpSpPr>
          <a:xfrm>
            <a:off x="1547640" y="1052280"/>
            <a:ext cx="5616360" cy="5400720"/>
            <a:chOff x="1547640" y="1052280"/>
            <a:chExt cx="5616360" cy="5400720"/>
          </a:xfrm>
        </p:grpSpPr>
        <p:grpSp>
          <p:nvGrpSpPr>
            <p:cNvPr id="201" name="Group 19"/>
            <p:cNvGrpSpPr/>
            <p:nvPr/>
          </p:nvGrpSpPr>
          <p:grpSpPr>
            <a:xfrm>
              <a:off x="1547640" y="1052280"/>
              <a:ext cx="2746080" cy="5400360"/>
              <a:chOff x="1547640" y="1052280"/>
              <a:chExt cx="2746080" cy="5400360"/>
            </a:xfrm>
          </p:grpSpPr>
          <p:sp>
            <p:nvSpPr>
              <p:cNvPr id="202" name="Line 4"/>
              <p:cNvSpPr/>
              <p:nvPr/>
            </p:nvSpPr>
            <p:spPr>
              <a:xfrm>
                <a:off x="1547640" y="1157400"/>
                <a:ext cx="0" cy="529524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3" name="Line 5"/>
              <p:cNvSpPr/>
              <p:nvPr/>
            </p:nvSpPr>
            <p:spPr>
              <a:xfrm>
                <a:off x="1547640" y="1157400"/>
                <a:ext cx="874800" cy="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Line 6"/>
              <p:cNvSpPr/>
              <p:nvPr/>
            </p:nvSpPr>
            <p:spPr>
              <a:xfrm>
                <a:off x="2422440" y="1157400"/>
                <a:ext cx="374040" cy="15897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 flipV="1">
                <a:off x="2796840" y="1157400"/>
                <a:ext cx="250200" cy="15897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6" name="Line 8"/>
              <p:cNvSpPr/>
              <p:nvPr/>
            </p:nvSpPr>
            <p:spPr>
              <a:xfrm flipV="1">
                <a:off x="3047040" y="1052280"/>
                <a:ext cx="748440" cy="1047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>
                <a:off x="3795840" y="1052640"/>
                <a:ext cx="497880" cy="1694520"/>
              </a:xfrm>
              <a:prstGeom prst="pie">
                <a:avLst/>
              </a:prstGeom>
              <a:noFill/>
              <a:ln w="7632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Line 17"/>
              <p:cNvSpPr/>
              <p:nvPr/>
            </p:nvSpPr>
            <p:spPr>
              <a:xfrm>
                <a:off x="4293720" y="2747160"/>
                <a:ext cx="0" cy="37051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Line 18"/>
              <p:cNvSpPr/>
              <p:nvPr/>
            </p:nvSpPr>
            <p:spPr>
              <a:xfrm>
                <a:off x="1547640" y="6452640"/>
                <a:ext cx="2746080" cy="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10" name="Line 21"/>
            <p:cNvSpPr/>
            <p:nvPr/>
          </p:nvSpPr>
          <p:spPr>
            <a:xfrm>
              <a:off x="4294080" y="6453000"/>
              <a:ext cx="286992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 flipV="1">
              <a:off x="7164000" y="1157400"/>
              <a:ext cx="0" cy="5295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Line 23"/>
            <p:cNvSpPr/>
            <p:nvPr/>
          </p:nvSpPr>
          <p:spPr>
            <a:xfrm>
              <a:off x="6167880" y="1157400"/>
              <a:ext cx="99576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Line 24"/>
            <p:cNvSpPr/>
            <p:nvPr/>
          </p:nvSpPr>
          <p:spPr>
            <a:xfrm flipH="1">
              <a:off x="6040800" y="1157400"/>
              <a:ext cx="126360" cy="9550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 flipH="1" flipV="1">
              <a:off x="5790600" y="1157040"/>
              <a:ext cx="250200" cy="9550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Line 26"/>
            <p:cNvSpPr/>
            <p:nvPr/>
          </p:nvSpPr>
          <p:spPr>
            <a:xfrm flipH="1" flipV="1">
              <a:off x="4918320" y="1052280"/>
              <a:ext cx="872280" cy="10476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4294080" y="1052640"/>
              <a:ext cx="624600" cy="1905120"/>
            </a:xfrm>
            <a:prstGeom prst="pie">
              <a:avLst/>
            </a:prstGeom>
            <a:noFill/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7" name="Text Box 32"/>
          <p:cNvSpPr/>
          <p:nvPr/>
        </p:nvSpPr>
        <p:spPr>
          <a:xfrm>
            <a:off x="32400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Детали прямой юбки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1619280" y="393372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дне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лотнищ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4284720" y="39337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ередне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лотнищ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3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8"/>
          <p:cNvGrpSpPr/>
          <p:nvPr/>
        </p:nvGrpSpPr>
        <p:grpSpPr>
          <a:xfrm>
            <a:off x="4678200" y="0"/>
            <a:ext cx="4465080" cy="6857640"/>
            <a:chOff x="4678200" y="0"/>
            <a:chExt cx="4465080" cy="6857640"/>
          </a:xfrm>
        </p:grpSpPr>
        <p:pic>
          <p:nvPicPr>
            <p:cNvPr id="222" name="Picture 5" descr=""/>
            <p:cNvPicPr/>
            <p:nvPr/>
          </p:nvPicPr>
          <p:blipFill>
            <a:blip r:embed="rId2"/>
            <a:stretch/>
          </p:blipFill>
          <p:spPr>
            <a:xfrm>
              <a:off x="4678200" y="0"/>
              <a:ext cx="4375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6"/>
            <p:cNvSpPr/>
            <p:nvPr/>
          </p:nvSpPr>
          <p:spPr>
            <a:xfrm>
              <a:off x="8795880" y="140436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6996240" y="462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5" name="Text Box 9"/>
          <p:cNvSpPr/>
          <p:nvPr/>
        </p:nvSpPr>
        <p:spPr>
          <a:xfrm>
            <a:off x="0" y="3333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ля построения чертеж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ы прямой юб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нимают мерк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116000" y="2060640"/>
            <a:ext cx="31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-обхват тал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-обхват бедер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-длина спины до тал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-длина изде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рки для построения чертежа основы прямой юб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0" y="105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Чертеж выполняют на правую половину фигуры, поэтому мерки обхватов записывают в половинном размере. Мерки длин записывают полность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0" name="Group 78"/>
          <p:cNvGrpSpPr/>
          <p:nvPr/>
        </p:nvGrpSpPr>
        <p:grpSpPr>
          <a:xfrm>
            <a:off x="0" y="2133720"/>
            <a:ext cx="9143640" cy="4723920"/>
            <a:chOff x="0" y="2133720"/>
            <a:chExt cx="9143640" cy="4723920"/>
          </a:xfrm>
        </p:grpSpPr>
        <p:sp>
          <p:nvSpPr>
            <p:cNvPr id="231" name="Rectangle 27"/>
            <p:cNvSpPr/>
            <p:nvPr/>
          </p:nvSpPr>
          <p:spPr>
            <a:xfrm>
              <a:off x="5463720" y="5994000"/>
              <a:ext cx="3679920" cy="86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Определение длины изделия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3349800" y="5994000"/>
              <a:ext cx="2113560" cy="86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Д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882000" y="5994000"/>
              <a:ext cx="2467800" cy="86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Длина изделия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Rectangle 24"/>
            <p:cNvSpPr/>
            <p:nvPr/>
          </p:nvSpPr>
          <p:spPr>
            <a:xfrm>
              <a:off x="0" y="5994000"/>
              <a:ext cx="882000" cy="86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Rectangle 23"/>
            <p:cNvSpPr/>
            <p:nvPr/>
          </p:nvSpPr>
          <p:spPr>
            <a:xfrm>
              <a:off x="5463720" y="4919400"/>
              <a:ext cx="367992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Определение расстояния от линии талии до линии бедер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3349800" y="4919400"/>
              <a:ext cx="211356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Дтс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882000" y="4919400"/>
              <a:ext cx="246780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Длина спины до тали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Rectangle 20"/>
            <p:cNvSpPr/>
            <p:nvPr/>
          </p:nvSpPr>
          <p:spPr>
            <a:xfrm>
              <a:off x="0" y="4919400"/>
              <a:ext cx="88200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5463720" y="4055400"/>
              <a:ext cx="3679920" cy="864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Определение ширины изделия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Rectangle 18"/>
            <p:cNvSpPr/>
            <p:nvPr/>
          </p:nvSpPr>
          <p:spPr>
            <a:xfrm>
              <a:off x="3349800" y="4055400"/>
              <a:ext cx="2113560" cy="864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Сб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882000" y="4055400"/>
              <a:ext cx="2467800" cy="864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Полуобхват бедер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Rectangle 16"/>
            <p:cNvSpPr/>
            <p:nvPr/>
          </p:nvSpPr>
          <p:spPr>
            <a:xfrm>
              <a:off x="0" y="4055400"/>
              <a:ext cx="882000" cy="864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5463720" y="2980800"/>
              <a:ext cx="367992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Определение длины пояса, корсажа, расчет вытачек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3349800" y="2980800"/>
              <a:ext cx="211356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Ст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882000" y="2980800"/>
              <a:ext cx="246780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Полуобхват тали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0" y="2980800"/>
              <a:ext cx="882000" cy="107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5463720" y="2133720"/>
              <a:ext cx="3679920" cy="84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Назначение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мерок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3349800" y="2133720"/>
              <a:ext cx="2113560" cy="84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Обозначение мерок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882000" y="2133720"/>
              <a:ext cx="2467800" cy="84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Название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мерок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Rectangle 8"/>
            <p:cNvSpPr/>
            <p:nvPr/>
          </p:nvSpPr>
          <p:spPr>
            <a:xfrm>
              <a:off x="0" y="2133720"/>
              <a:ext cx="882000" cy="84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№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п\п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0" y="2133720"/>
              <a:ext cx="9143640" cy="0"/>
            </a:xfrm>
            <a:prstGeom prst="line">
              <a:avLst/>
            </a:prstGeom>
            <a:ln cap="sq"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0" y="2980800"/>
              <a:ext cx="9143640" cy="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0" y="4055400"/>
              <a:ext cx="9143640" cy="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>
              <a:off x="0" y="4919400"/>
              <a:ext cx="9143640" cy="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0" y="5994000"/>
              <a:ext cx="9143640" cy="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Line 33"/>
            <p:cNvSpPr/>
            <p:nvPr/>
          </p:nvSpPr>
          <p:spPr>
            <a:xfrm>
              <a:off x="0" y="6857640"/>
              <a:ext cx="9143640" cy="0"/>
            </a:xfrm>
            <a:prstGeom prst="line">
              <a:avLst/>
            </a:prstGeom>
            <a:ln cap="sq"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Line 34"/>
            <p:cNvSpPr/>
            <p:nvPr/>
          </p:nvSpPr>
          <p:spPr>
            <a:xfrm>
              <a:off x="0" y="2133720"/>
              <a:ext cx="0" cy="4723920"/>
            </a:xfrm>
            <a:prstGeom prst="line">
              <a:avLst/>
            </a:prstGeom>
            <a:ln cap="sq"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882000" y="2133720"/>
              <a:ext cx="0" cy="47239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>
              <a:off x="3349800" y="2133720"/>
              <a:ext cx="0" cy="47239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Line 37"/>
            <p:cNvSpPr/>
            <p:nvPr/>
          </p:nvSpPr>
          <p:spPr>
            <a:xfrm>
              <a:off x="5463720" y="2133720"/>
              <a:ext cx="0" cy="47239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Line 38"/>
            <p:cNvSpPr/>
            <p:nvPr/>
          </p:nvSpPr>
          <p:spPr>
            <a:xfrm>
              <a:off x="9143640" y="2133720"/>
              <a:ext cx="0" cy="4723920"/>
            </a:xfrm>
            <a:prstGeom prst="line">
              <a:avLst/>
            </a:prstGeom>
            <a:ln cap="sq"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0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строение чертежа основы прямой юбки на 84-й размер, рост 164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4920" y="2133720"/>
          <a:ext cx="9109080" cy="2514600"/>
        </p:xfrm>
        <a:graphic>
          <a:graphicData uri="http://schemas.openxmlformats.org/drawingml/2006/table">
            <a:tbl>
              <a:tblPr/>
              <a:tblGrid>
                <a:gridCol w="662040"/>
                <a:gridCol w="3876480"/>
                <a:gridCol w="2284560"/>
                <a:gridCol w="22860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рок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означение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рок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рки на 84-й размер, см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уобхват тали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.7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уобхват бедер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б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лина спины до тали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т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.7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лина издели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64"/>
          <p:cNvSpPr/>
          <p:nvPr/>
        </p:nvSpPr>
        <p:spPr>
          <a:xfrm>
            <a:off x="2627280" y="141300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МЕР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Text Box 73"/>
          <p:cNvSpPr/>
          <p:nvPr/>
        </p:nvSpPr>
        <p:spPr>
          <a:xfrm>
            <a:off x="2268360" y="472428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рибав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332000" y="5373720"/>
          <a:ext cx="6095880" cy="1243080"/>
        </p:xfrm>
        <a:graphic>
          <a:graphicData uri="http://schemas.openxmlformats.org/drawingml/2006/table">
            <a:tbl>
              <a:tblPr/>
              <a:tblGrid>
                <a:gridCol w="360360"/>
                <a:gridCol w="3240000"/>
                <a:gridCol w="1224000"/>
                <a:gridCol w="1271520"/>
              </a:tblGrid>
              <a:tr h="12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бавка к полуобхвату тали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бавка к полуобхвату бедер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т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б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6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строение чертеж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966600" y="100332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строить прямой угол 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Line 34"/>
          <p:cNvSpPr/>
          <p:nvPr/>
        </p:nvSpPr>
        <p:spPr>
          <a:xfrm>
            <a:off x="1547640" y="1989000"/>
            <a:ext cx="525636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Line 35"/>
          <p:cNvSpPr/>
          <p:nvPr/>
        </p:nvSpPr>
        <p:spPr>
          <a:xfrm>
            <a:off x="1547640" y="1989000"/>
            <a:ext cx="0" cy="410400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1405440" y="1433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79280" y="355680"/>
            <a:ext cx="9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. ТН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мерить длину изделия ( Ди=60см 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1547640" y="1700280"/>
            <a:ext cx="5184720" cy="2448000"/>
            <a:chOff x="1547640" y="1700280"/>
            <a:chExt cx="5184720" cy="2448000"/>
          </a:xfrm>
        </p:grpSpPr>
        <p:sp>
          <p:nvSpPr>
            <p:cNvPr id="277" name="Line 6"/>
            <p:cNvSpPr/>
            <p:nvPr/>
          </p:nvSpPr>
          <p:spPr>
            <a:xfrm>
              <a:off x="1547640" y="1700280"/>
              <a:ext cx="5184720" cy="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1547640" y="1700280"/>
              <a:ext cx="0" cy="244800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9" name="Line 8"/>
          <p:cNvSpPr/>
          <p:nvPr/>
        </p:nvSpPr>
        <p:spPr>
          <a:xfrm>
            <a:off x="1547640" y="1700280"/>
            <a:ext cx="0" cy="388944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478520" y="11462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097640" y="5052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4"/>
          <p:cNvGrpSpPr/>
          <p:nvPr/>
        </p:nvGrpSpPr>
        <p:grpSpPr>
          <a:xfrm>
            <a:off x="1405440" y="1506600"/>
            <a:ext cx="3403080" cy="4443480"/>
            <a:chOff x="1405440" y="1506600"/>
            <a:chExt cx="3403080" cy="4443480"/>
          </a:xfrm>
        </p:grpSpPr>
        <p:grpSp>
          <p:nvGrpSpPr>
            <p:cNvPr id="284" name="Group 5"/>
            <p:cNvGrpSpPr/>
            <p:nvPr/>
          </p:nvGrpSpPr>
          <p:grpSpPr>
            <a:xfrm>
              <a:off x="1855440" y="2060640"/>
              <a:ext cx="2953080" cy="2448000"/>
              <a:chOff x="1855440" y="2060640"/>
              <a:chExt cx="2953080" cy="2448000"/>
            </a:xfrm>
          </p:grpSpPr>
          <p:sp>
            <p:nvSpPr>
              <p:cNvPr id="285" name="Line 6"/>
              <p:cNvSpPr/>
              <p:nvPr/>
            </p:nvSpPr>
            <p:spPr>
              <a:xfrm>
                <a:off x="1855440" y="2060640"/>
                <a:ext cx="2953080" cy="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6" name="Line 7"/>
              <p:cNvSpPr/>
              <p:nvPr/>
            </p:nvSpPr>
            <p:spPr>
              <a:xfrm>
                <a:off x="1855440" y="2060640"/>
                <a:ext cx="0" cy="2448000"/>
              </a:xfrm>
              <a:prstGeom prst="line">
                <a:avLst/>
              </a:prstGeom>
              <a:ln w="936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87" name="Line 8"/>
            <p:cNvSpPr/>
            <p:nvPr/>
          </p:nvSpPr>
          <p:spPr>
            <a:xfrm>
              <a:off x="1855440" y="2060640"/>
              <a:ext cx="0" cy="388944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786320" y="1506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1405440" y="5413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90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1255680" y="284040"/>
            <a:ext cx="73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. ТТ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пределить ширину издел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( Сб + Пб = 44+3=47см 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Line 33"/>
          <p:cNvSpPr/>
          <p:nvPr/>
        </p:nvSpPr>
        <p:spPr>
          <a:xfrm>
            <a:off x="1835280" y="2060640"/>
            <a:ext cx="432108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6158160" y="1484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2:13:48Z</dcterms:created>
  <dc:creator>нет</dc:creator>
  <dc:description/>
  <dc:language>en-US</dc:language>
  <cp:lastModifiedBy>teacher</cp:lastModifiedBy>
  <dcterms:modified xsi:type="dcterms:W3CDTF">2021-12-07T10:49:26Z</dcterms:modified>
  <cp:revision>26</cp:revision>
  <dc:subject/>
  <dc:title>Построение чертежа прямой юбки.</dc:title>
</cp:coreProperties>
</file>