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1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C431-9F63-4027-9DC3-9C7B26610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919-18E2-40E4-B1E8-56C8287727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E19-6AEB-4D21-B9DC-E39ABC22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3AC-B714-421C-8FDC-F81A1E2E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89D-86BE-449B-8FEA-A7D4D7A2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3DC-C959-40F3-AB7B-E82516C7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AFB0-4A16-4554-93A9-22A3466D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FCF-D2B1-4DB0-BE0F-C6AA07B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3AD7-CC03-47F9-B4B1-424FB183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3C2-ED28-4D62-BF4A-317197A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154D-6720-4E6B-B4F2-71187B0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B76-7B01-47E9-B635-848A38A9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EA8D-71D8-4C16-8518-0DC77DB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CA6-F6BF-454F-A006-4513D58A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CEC-6265-4CE4-BC97-E33670A2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442-C8BB-4CF0-88F1-4AB0BA1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57FE-7E83-4D48-AF70-DB3CB46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2AE-3C3A-40A7-9CFF-284AACD0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77B3-6724-49C2-AA0E-9BC554B0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1225-9D63-4571-901D-67625C95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0EDE-7444-4BF1-9E8B-1EFCF6A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8F71-2BF1-4CC6-A873-2949992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0B2C-31E3-4A88-9AF4-99EF965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620D-B284-4177-9E54-7F6379F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89E-8518-4425-B3F8-0CDB9F1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6C4B-49C2-491B-AA57-6591086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78E9-E431-4735-A9EB-F570A298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8F34-8D1B-4E8E-93CC-2A29F61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D9A2-2523-4D23-BE8A-D790253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70CD-87F9-4C44-8812-D62A5DBB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85E4-4659-47FE-A221-A86241AB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D18B-BA88-44A3-A233-915C6A54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2761-9A48-442A-B00D-EB5320C2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D9F4-B02A-451B-8BBE-550A13D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3835-9D35-4549-BB9C-0C0CC669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C26-BE3F-485E-A028-290B94E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7BE7-98A2-48CA-9D48-5C472761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13C7-15B8-4FF6-829C-19DE539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F69A-4BB6-4F12-ACF5-EFBD366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E663-5BA8-4450-BA9B-9CB91E2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00F3-4802-490F-BACA-8958ECF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6802-BF33-4787-B30C-55935F1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8F2F-3FB2-4BA7-86FA-5FE912D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1CFA-5458-427C-AB3B-DD12F0F1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3912-F1FF-4CD2-979F-C1AE3C8D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A31-DE91-4BD0-94F6-82F7BFF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513-EE09-4B17-8A3F-3B7FE07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85B-76C8-47A5-BED3-56B7BC7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695-8654-4807-ACED-6981B25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BB-41A7-470A-B382-904E22A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A0F-1858-444C-9E68-3D6B41EA97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B2A-EC13-4A0B-A926-CA053CAB4C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32BF-4232-4B8C-8F00-E998588039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46E-E57D-4CAB-A483-A2F9B24A87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851960" cy="2333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355640" y="5732640"/>
            <a:ext cx="411012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аботала: Гудакова С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6" descr="тематика определяется индивидуально - Почему дети разные. Почему одни дети ведут себя спокойно, а другие неутешно."/>
          <p:cNvPicPr/>
          <p:nvPr/>
        </p:nvPicPr>
        <p:blipFill>
          <a:blip r:embed="rId2"/>
          <a:stretch/>
        </p:blipFill>
        <p:spPr>
          <a:xfrm>
            <a:off x="3340080" y="3139920"/>
            <a:ext cx="30621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атр на пальцах –вот это да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8" descr="DSC04590.JPG"/>
          <p:cNvPicPr/>
          <p:nvPr/>
        </p:nvPicPr>
        <p:blipFill>
          <a:blip r:embed="rId1"/>
          <a:stretch/>
        </p:blipFill>
        <p:spPr>
          <a:xfrm rot="20382000">
            <a:off x="911160" y="1703160"/>
            <a:ext cx="329112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DSC04709.JPG"/>
          <p:cNvPicPr/>
          <p:nvPr/>
        </p:nvPicPr>
        <p:blipFill>
          <a:blip r:embed="rId2"/>
          <a:stretch/>
        </p:blipFill>
        <p:spPr>
          <a:xfrm rot="928200">
            <a:off x="3871800" y="1967040"/>
            <a:ext cx="46292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616536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гнитная доска -  придумываем сказку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DSC04467.JPG"/>
          <p:cNvPicPr/>
          <p:nvPr/>
        </p:nvPicPr>
        <p:blipFill>
          <a:blip r:embed="rId1"/>
          <a:stretch/>
        </p:blipFill>
        <p:spPr>
          <a:xfrm>
            <a:off x="900000" y="10526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скажем сказки по картинкам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DSC04450.JPG"/>
          <p:cNvPicPr/>
          <p:nvPr/>
        </p:nvPicPr>
        <p:blipFill>
          <a:blip r:embed="rId1"/>
          <a:stretch/>
        </p:blipFill>
        <p:spPr>
          <a:xfrm>
            <a:off x="1258920" y="1197000"/>
            <a:ext cx="72230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т какое интенсивное движение.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к же быть пешеходу? Поможет светофор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Содержимое 3" descr="DSC04566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нтересно было на занятии.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Давайте в это поиграем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DSC04392.JPG"/>
          <p:cNvPicPr/>
          <p:nvPr/>
        </p:nvPicPr>
        <p:blipFill>
          <a:blip r:embed="rId1"/>
          <a:stretch/>
        </p:blipFill>
        <p:spPr>
          <a:xfrm>
            <a:off x="1258920" y="1268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3" descr=""/>
          <p:cNvPicPr/>
          <p:nvPr/>
        </p:nvPicPr>
        <p:blipFill>
          <a:blip r:embed="rId1"/>
          <a:stretch/>
        </p:blipFill>
        <p:spPr>
          <a:xfrm>
            <a:off x="49320" y="189000"/>
            <a:ext cx="8826480" cy="121284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6" descr="DSC04387.JPG"/>
          <p:cNvPicPr/>
          <p:nvPr/>
        </p:nvPicPr>
        <p:blipFill>
          <a:blip r:embed="rId2"/>
          <a:stretch/>
        </p:blipFill>
        <p:spPr>
          <a:xfrm>
            <a:off x="1403280" y="1197000"/>
            <a:ext cx="70786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Давай и ты шофер и я шофер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DSC04720.JPG"/>
          <p:cNvPicPr/>
          <p:nvPr/>
        </p:nvPicPr>
        <p:blipFill>
          <a:blip r:embed="rId1"/>
          <a:stretch/>
        </p:blipFill>
        <p:spPr>
          <a:xfrm>
            <a:off x="1447920" y="1268280"/>
            <a:ext cx="6815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ундучок превращений –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вот ты мама, а я дочка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10" descr="DSC04568.JPG"/>
          <p:cNvPicPr/>
          <p:nvPr/>
        </p:nvPicPr>
        <p:blipFill>
          <a:blip r:embed="rId1"/>
          <a:stretch/>
        </p:blipFill>
        <p:spPr>
          <a:xfrm>
            <a:off x="949320" y="1413000"/>
            <a:ext cx="67914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311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Наши первые роли,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5" descr="DSC04745"/>
          <p:cNvPicPr/>
          <p:nvPr/>
        </p:nvPicPr>
        <p:blipFill>
          <a:blip r:embed="rId1"/>
          <a:stretch/>
        </p:blipFill>
        <p:spPr>
          <a:xfrm>
            <a:off x="1042920" y="4149720"/>
            <a:ext cx="3160800" cy="2370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DSC04754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DSC04762"/>
          <p:cNvPicPr/>
          <p:nvPr/>
        </p:nvPicPr>
        <p:blipFill>
          <a:blip r:embed="rId3"/>
          <a:stretch/>
        </p:blipFill>
        <p:spPr>
          <a:xfrm>
            <a:off x="755640" y="1268280"/>
            <a:ext cx="36622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Это тоже роли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5" descr="DSC04748"/>
          <p:cNvPicPr/>
          <p:nvPr/>
        </p:nvPicPr>
        <p:blipFill>
          <a:blip r:embed="rId1"/>
          <a:stretch/>
        </p:blipFill>
        <p:spPr>
          <a:xfrm>
            <a:off x="900000" y="981000"/>
            <a:ext cx="7201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2495520" cy="3811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Вторая младшая Группа 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Солнышко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5" descr="7889041a0eaf430ef1c76a26e9.jpg"/>
          <p:cNvPicPr/>
          <p:nvPr/>
        </p:nvPicPr>
        <p:blipFill>
          <a:blip r:embed="rId1"/>
          <a:stretch/>
        </p:blipFill>
        <p:spPr>
          <a:xfrm rot="420000">
            <a:off x="3033360" y="512280"/>
            <a:ext cx="5734080" cy="5877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7" name="Rectangle 5"/>
          <p:cNvSpPr/>
          <p:nvPr/>
        </p:nvSpPr>
        <p:spPr>
          <a:xfrm>
            <a:off x="250920" y="49089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группе «Солнышко» тепл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ям в «Солнышке» светл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десь девочки  и мальч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солнечные зай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Свобода выбора места игры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Содержимое 8" descr="DSC03787.JPG"/>
          <p:cNvPicPr/>
          <p:nvPr/>
        </p:nvPicPr>
        <p:blipFill>
          <a:blip r:embed="rId1"/>
          <a:stretch/>
        </p:blipFill>
        <p:spPr>
          <a:xfrm>
            <a:off x="1646280" y="1484280"/>
            <a:ext cx="645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Контейнер превращается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3" descr="DSC03791.JPG"/>
          <p:cNvPicPr/>
          <p:nvPr/>
        </p:nvPicPr>
        <p:blipFill>
          <a:blip r:embed="rId1"/>
          <a:stretch/>
        </p:blipFill>
        <p:spPr>
          <a:xfrm>
            <a:off x="1403280" y="1413000"/>
            <a:ext cx="67914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не прищепки помогают-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 в них играю, а они пальчики развивают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3" descr="DSC04497.JPG"/>
          <p:cNvPicPr/>
          <p:nvPr/>
        </p:nvPicPr>
        <p:blipFill>
          <a:blip r:embed="rId1"/>
          <a:stretch/>
        </p:blipFill>
        <p:spPr>
          <a:xfrm>
            <a:off x="611280" y="1844640"/>
            <a:ext cx="80373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482472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полу играть чудесно,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обычно, интересно.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рышки я  в узор сложу,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ем ребятам покажу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3" descr="DSC04518.JPG"/>
          <p:cNvPicPr/>
          <p:nvPr/>
        </p:nvPicPr>
        <p:blipFill>
          <a:blip r:embed="rId1"/>
          <a:stretch/>
        </p:blipFill>
        <p:spPr>
          <a:xfrm>
            <a:off x="1332000" y="2517840"/>
            <a:ext cx="7100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Такие разные бу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Содержимое 3" descr="DSC04501.JPG"/>
          <p:cNvPicPr/>
          <p:nvPr/>
        </p:nvPicPr>
        <p:blipFill>
          <a:blip r:embed="rId1"/>
          <a:stretch/>
        </p:blipFill>
        <p:spPr>
          <a:xfrm>
            <a:off x="395280" y="3429000"/>
            <a:ext cx="4005360" cy="300528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DSC04486.JPG"/>
          <p:cNvPicPr/>
          <p:nvPr/>
        </p:nvPicPr>
        <p:blipFill>
          <a:blip r:embed="rId2"/>
          <a:stretch/>
        </p:blipFill>
        <p:spPr>
          <a:xfrm>
            <a:off x="4251240" y="1341360"/>
            <a:ext cx="4510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Это мы чаем рисуем!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3" descr="DSC03919.JPG"/>
          <p:cNvPicPr/>
          <p:nvPr/>
        </p:nvPicPr>
        <p:blipFill>
          <a:blip r:embed="rId1"/>
          <a:stretch/>
        </p:blipFill>
        <p:spPr>
          <a:xfrm>
            <a:off x="662040" y="1484280"/>
            <a:ext cx="8031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308800" cy="121284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3" descr="DSC04261.JPG"/>
          <p:cNvPicPr/>
          <p:nvPr/>
        </p:nvPicPr>
        <p:blipFill>
          <a:blip r:embed="rId2"/>
          <a:stretch/>
        </p:blipFill>
        <p:spPr>
          <a:xfrm rot="20452800">
            <a:off x="682560" y="2311560"/>
            <a:ext cx="3764160" cy="2823840"/>
          </a:xfrm>
          <a:prstGeom prst="rect">
            <a:avLst/>
          </a:prstGeom>
          <a:ln w="0">
            <a:noFill/>
          </a:ln>
        </p:spPr>
      </p:pic>
      <p:pic>
        <p:nvPicPr>
          <p:cNvPr id="264" name="Содержимое 8" descr="DSC04369.JPG"/>
          <p:cNvPicPr/>
          <p:nvPr/>
        </p:nvPicPr>
        <p:blipFill>
          <a:blip r:embed="rId3"/>
          <a:stretch/>
        </p:blipFill>
        <p:spPr>
          <a:xfrm>
            <a:off x="5076720" y="1989000"/>
            <a:ext cx="33242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7045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«Я на манке люблю рисовать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аль рисунок домой нельзя взять…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Содержимое 3" descr="DSC0442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о я с песком играю, 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 собой сам убираю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3" descr="DSC04475.JPG"/>
          <p:cNvPicPr/>
          <p:nvPr/>
        </p:nvPicPr>
        <p:blipFill>
          <a:blip r:embed="rId1"/>
          <a:stretch/>
        </p:blipFill>
        <p:spPr>
          <a:xfrm>
            <a:off x="539640" y="2133720"/>
            <a:ext cx="4148280" cy="31114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3" descr="DSC04481.JPG"/>
          <p:cNvPicPr/>
          <p:nvPr/>
        </p:nvPicPr>
        <p:blipFill>
          <a:blip r:embed="rId2"/>
          <a:stretch/>
        </p:blipFill>
        <p:spPr>
          <a:xfrm rot="1458000">
            <a:off x="4245120" y="2573280"/>
            <a:ext cx="4224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Такая разная мозаика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9" descr="DSC03667.JPG"/>
          <p:cNvPicPr/>
          <p:nvPr/>
        </p:nvPicPr>
        <p:blipFill>
          <a:blip r:embed="rId1"/>
          <a:stretch/>
        </p:blipFill>
        <p:spPr>
          <a:xfrm rot="19995000">
            <a:off x="666720" y="2049120"/>
            <a:ext cx="4219560" cy="316548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8" descr="DSC03664.JPG"/>
          <p:cNvPicPr/>
          <p:nvPr/>
        </p:nvPicPr>
        <p:blipFill>
          <a:blip r:embed="rId2"/>
          <a:stretch/>
        </p:blipFill>
        <p:spPr>
          <a:xfrm rot="1242000">
            <a:off x="4379400" y="1986120"/>
            <a:ext cx="3921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Основные требования к предметно-развивающей среде в свете ФГОС Д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но-развивающая среда обеспечива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ксимальную реализацию образовательного потенциа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тупность сред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то предполагает свободный доступ воспитанников к играм, игрушкам, материалам, пособиям, обеспечивающих все основ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ибкое и вариативное использование простран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зможность общения 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местной деятельности детей и взрослых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еспечение двигательной активности детей, а также возможность уедин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ам себе декора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3" descr="DSC04506.JPG"/>
          <p:cNvPicPr/>
          <p:nvPr/>
        </p:nvPicPr>
        <p:blipFill>
          <a:blip r:embed="rId1"/>
          <a:stretch/>
        </p:blipFill>
        <p:spPr>
          <a:xfrm>
            <a:off x="1042920" y="3573360"/>
            <a:ext cx="364644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Содержимое 3" descr="DSC04704.JPG"/>
          <p:cNvPicPr/>
          <p:nvPr/>
        </p:nvPicPr>
        <p:blipFill>
          <a:blip r:embed="rId2"/>
          <a:stretch/>
        </p:blipFill>
        <p:spPr>
          <a:xfrm>
            <a:off x="5292720" y="2060640"/>
            <a:ext cx="3502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тихий уголок»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вобода в НОД-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«мы активно познаем!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Содержимое 8" descr="DSC03768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Свобода выбора материала-</a:t>
            </a:r>
            <a:br>
              <a:rPr sz="4600"/>
            </a:b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«Мы -  творцы!»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ЯДОМ ИЛИ ВМЕСТЕ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03280" y="5373360"/>
            <a:ext cx="634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е дело сближае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Содержимое 3" descr="DSC04606.JPG"/>
          <p:cNvPicPr/>
          <p:nvPr/>
        </p:nvPicPr>
        <p:blipFill>
          <a:blip r:embed="rId1"/>
          <a:stretch/>
        </p:blipFill>
        <p:spPr>
          <a:xfrm>
            <a:off x="2987640" y="2133720"/>
            <a:ext cx="38829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59280" y="54900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о книжки надо листать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 заданья выполнять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Содержимое 3" descr="DSC04582.JPG"/>
          <p:cNvPicPr/>
          <p:nvPr/>
        </p:nvPicPr>
        <p:blipFill>
          <a:blip r:embed="rId1"/>
          <a:stretch/>
        </p:blipFill>
        <p:spPr>
          <a:xfrm>
            <a:off x="468360" y="1844640"/>
            <a:ext cx="7057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ем вместе в 1 игру – учимся делиться, уступать, договариватьс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3" descr="DSC04605.JPG"/>
          <p:cNvPicPr/>
          <p:nvPr/>
        </p:nvPicPr>
        <p:blipFill>
          <a:blip r:embed="rId1"/>
          <a:stretch/>
        </p:blipFill>
        <p:spPr>
          <a:xfrm>
            <a:off x="1476360" y="2205000"/>
            <a:ext cx="59371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53276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 одним столом сидим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лом заняты одним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Содержимое 3" descr="DSC04666.JPG"/>
          <p:cNvPicPr/>
          <p:nvPr/>
        </p:nvPicPr>
        <p:blipFill>
          <a:blip r:embed="rId1"/>
          <a:stretch/>
        </p:blipFill>
        <p:spPr>
          <a:xfrm>
            <a:off x="2627280" y="1484280"/>
            <a:ext cx="5851440" cy="438948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250920" y="580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по трафарета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Играем рядом, но почти вместе…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Содержимое 3" descr="DSC04696.JPG"/>
          <p:cNvPicPr/>
          <p:nvPr/>
        </p:nvPicPr>
        <p:blipFill>
          <a:blip r:embed="rId1"/>
          <a:stretch/>
        </p:blipFill>
        <p:spPr>
          <a:xfrm>
            <a:off x="684360" y="2924280"/>
            <a:ext cx="4078080" cy="3058920"/>
          </a:xfrm>
          <a:prstGeom prst="rect">
            <a:avLst/>
          </a:prstGeom>
          <a:ln w="0">
            <a:noFill/>
          </a:ln>
        </p:spPr>
      </p:pic>
      <p:pic>
        <p:nvPicPr>
          <p:cNvPr id="294" name="Содержимое 3" descr="DSC04699.JPG"/>
          <p:cNvPicPr/>
          <p:nvPr/>
        </p:nvPicPr>
        <p:blipFill>
          <a:blip r:embed="rId2"/>
          <a:stretch/>
        </p:blipFill>
        <p:spPr>
          <a:xfrm>
            <a:off x="5076720" y="1484280"/>
            <a:ext cx="3357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Спасибо за внимание - Картинка 18872/70"/>
          <p:cNvPicPr/>
          <p:nvPr/>
        </p:nvPicPr>
        <p:blipFill>
          <a:blip r:embed="rId1"/>
          <a:stretch/>
        </p:blipFill>
        <p:spPr>
          <a:xfrm>
            <a:off x="-125280" y="-136440"/>
            <a:ext cx="93265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риативность предметно-пространственной среды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268280"/>
            <a:ext cx="46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группе различных пространств (для игры, конструирования, уединения и пр.), а также разнообразных материалов, игр, игрушек и оборудования, для свободного выбора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8" descr="DSC04266.JPG"/>
          <p:cNvPicPr/>
          <p:nvPr/>
        </p:nvPicPr>
        <p:blipFill>
          <a:blip r:embed="rId1"/>
          <a:stretch/>
        </p:blipFill>
        <p:spPr>
          <a:xfrm>
            <a:off x="5292720" y="1700280"/>
            <a:ext cx="361152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ступность предметно-пространственной сре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628640"/>
            <a:ext cx="3240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бодный доступ воспитанников к играм, игрушкам, материалам, пособиям, обеспечивающим все основные виды детской актив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6" descr="DSC04254.JPG"/>
          <p:cNvPicPr/>
          <p:nvPr/>
        </p:nvPicPr>
        <p:blipFill>
          <a:blip r:embed="rId1"/>
          <a:stretch/>
        </p:blipFill>
        <p:spPr>
          <a:xfrm>
            <a:off x="3780000" y="1989000"/>
            <a:ext cx="518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езопасность предметно-пространственной среды.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64000" y="1916280"/>
            <a:ext cx="30355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тветствие всех её элементов требованиям по обеспечению надёжности и безопасности их использ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7" descr="DSC04259.JPG"/>
          <p:cNvPicPr/>
          <p:nvPr/>
        </p:nvPicPr>
        <p:blipFill>
          <a:blip r:embed="rId1"/>
          <a:stretch/>
        </p:blipFill>
        <p:spPr>
          <a:xfrm>
            <a:off x="1258920" y="1557360"/>
            <a:ext cx="36147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т как петушок помог зайчик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5" descr="DSC04751"/>
          <p:cNvPicPr/>
          <p:nvPr/>
        </p:nvPicPr>
        <p:blipFill>
          <a:blip r:embed="rId1"/>
          <a:stretch/>
        </p:blipFill>
        <p:spPr>
          <a:xfrm>
            <a:off x="971640" y="105264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эти артисты бумажные. Мы вместе их делал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DSC04716.JPG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6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308800" cy="15177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DSC04461.JPG"/>
          <p:cNvPicPr/>
          <p:nvPr/>
        </p:nvPicPr>
        <p:blipFill>
          <a:blip r:embed="rId2"/>
          <a:stretch/>
        </p:blipFill>
        <p:spPr>
          <a:xfrm>
            <a:off x="395280" y="270828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3" descr="DSC04455.JPG"/>
          <p:cNvPicPr/>
          <p:nvPr/>
        </p:nvPicPr>
        <p:blipFill>
          <a:blip r:embed="rId3"/>
          <a:stretch/>
        </p:blipFill>
        <p:spPr>
          <a:xfrm>
            <a:off x="3780000" y="1341360"/>
            <a:ext cx="47257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9:13:26Z</dcterms:created>
  <dc:creator>Света</dc:creator>
  <dc:description/>
  <dc:language>en-US</dc:language>
  <cp:lastModifiedBy>User</cp:lastModifiedBy>
  <dcterms:modified xsi:type="dcterms:W3CDTF">2022-04-09T17:36:00Z</dcterms:modified>
  <cp:revision>35</cp:revision>
  <dc:subject/>
  <dc:title>Предметная  среда</dc:title>
</cp:coreProperties>
</file>