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6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28.jpeg" ContentType="image/jpeg"/>
  <Override PartName="/ppt/media/image51.jpeg" ContentType="image/jpeg"/>
  <Override PartName="/ppt/media/image7.jpeg" ContentType="image/jpeg"/>
  <Override PartName="/ppt/media/image12.jpeg" ContentType="image/jpeg"/>
  <Override PartName="/ppt/media/image33.jpeg" ContentType="image/jpeg"/>
  <Override PartName="/ppt/media/image34.jpeg" ContentType="image/jpeg"/>
  <Override PartName="/ppt/media/image3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1.jpeg" ContentType="image/jpeg"/>
  <Override PartName="/ppt/media/image45.jpeg" ContentType="image/jpeg"/>
  <Override PartName="/ppt/media/image44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5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D3B7-17A4-4887-A82D-363DBF48F2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6F7B-0736-48E8-8408-4E1DA51826F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D1F9-EAB5-429B-8A15-8BB588B7C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4076-5A29-4EA4-AE83-9FD128F0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7D75-9968-4DE0-8340-D3FE1A74A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98AB-D6E9-470F-B781-C2112D72A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58BA-46D2-4E70-B537-8730AF26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630D-28EB-4CF2-9767-A7F74827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1E31-0802-4402-A30C-1668C619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4853-6E39-4696-A5AE-4E2B1A04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CB7A-564E-4F83-93D3-0666E845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ED76-3E94-4395-BD94-5FAE6EA2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ABD6-3CC6-4F71-A277-6A2975E1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4B38-CBB3-41C2-9D07-C97DC9F1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E6D6-81EF-437D-AB7F-041339D6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9BB9-8C04-4664-8B63-AF798CE3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A321-8F81-477A-A001-61BC40B6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7FE1-4E06-4CDA-BB69-C0EE7D90A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2B01-C1F9-49F2-A4D1-9C50653C5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4FD6B-D991-47D2-8E56-7C49EEB06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0884A-A7C9-4668-80C2-50CAEC54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01621-5AFD-48D3-A5F5-BDDD486D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08AF2-7D7A-464E-81D0-DFBDC88E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ADEF8-072A-440F-B9E0-06F34AFA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6A04-4E66-436B-AE6B-0B3C99D5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9E12A-6A5B-4562-877E-F7DFBB82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04905-00C2-4554-82A5-CB994C33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9A989-1A9E-4769-8C19-9761E423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DA3F6-8D2D-4390-9AD4-7506187B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3236A-02E9-4289-8DC4-71846106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F6E60-C6C6-4955-8491-A9055E1C8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38E79-583B-4154-A7CC-65EC7EC8E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47C12-8166-4E84-A224-75553FF8D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B5A64-1B81-4E17-A2E7-87A21D2C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05716-69A8-43BB-B894-9579C84D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B6D3-DEF1-40C6-8A58-477B507B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309FB-F986-4CE4-8057-749F7C3C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2348C-55DA-4094-BB0B-4A928FED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F380F-6B96-42CD-842F-D8C662FF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A8275-6611-4449-AEF2-F95A7D7C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126EB-42F0-4142-BDBA-B49B1757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B203E-41F0-44D6-8A5C-2BA25917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3C956-1B59-45A5-A629-A7FD3507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DF734-C752-455C-9C13-6EE05E37E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0FDF0-BA5E-4993-A915-CBEB9C1B3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9971-922C-43A7-8AD7-A28745BF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1326-3AD5-4FAF-8020-E0D36E3F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5AAB-483A-4D24-843D-A2BD2649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83FD-94AA-43C3-B255-D718839D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1B62-F9CF-45F6-B119-055C1619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9000-C39A-4A15-B398-87B454445EC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7551-A57C-4B21-9DF3-4A56DE6047E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C8B2-CF24-4312-938D-F64627F6C58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1DB4-966E-4B98-AB50-D53F46DD3BC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682560" y="549360"/>
            <a:ext cx="7851960" cy="23335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355640" y="5732640"/>
            <a:ext cx="4110120" cy="792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работала: Гудакова С.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6" descr="тематика определяется индивидуально - Почему дети разные. Почему одни дети ведут себя спокойно, а другие неутешно."/>
          <p:cNvPicPr/>
          <p:nvPr/>
        </p:nvPicPr>
        <p:blipFill>
          <a:blip r:embed="rId2"/>
          <a:stretch/>
        </p:blipFill>
        <p:spPr>
          <a:xfrm>
            <a:off x="3340080" y="3139920"/>
            <a:ext cx="306216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еатр на пальцах –вот это да…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7" name="Содержимое 8" descr="DSC04590.JPG"/>
          <p:cNvPicPr/>
          <p:nvPr/>
        </p:nvPicPr>
        <p:blipFill>
          <a:blip r:embed="rId1"/>
          <a:stretch/>
        </p:blipFill>
        <p:spPr>
          <a:xfrm rot="20382000">
            <a:off x="911160" y="1703160"/>
            <a:ext cx="3291120" cy="4389480"/>
          </a:xfrm>
          <a:prstGeom prst="rect">
            <a:avLst/>
          </a:prstGeom>
          <a:ln w="0">
            <a:noFill/>
          </a:ln>
        </p:spPr>
      </p:pic>
      <p:pic>
        <p:nvPicPr>
          <p:cNvPr id="228" name="Содержимое 3" descr="DSC04709.JPG"/>
          <p:cNvPicPr/>
          <p:nvPr/>
        </p:nvPicPr>
        <p:blipFill>
          <a:blip r:embed="rId2"/>
          <a:stretch/>
        </p:blipFill>
        <p:spPr>
          <a:xfrm rot="928200">
            <a:off x="3871800" y="1967040"/>
            <a:ext cx="462924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6165360"/>
            <a:ext cx="822960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Магнитная доска -  придумываем сказку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0" name="Содержимое 3" descr="DSC04467.JPG"/>
          <p:cNvPicPr/>
          <p:nvPr/>
        </p:nvPicPr>
        <p:blipFill>
          <a:blip r:embed="rId1"/>
          <a:stretch/>
        </p:blipFill>
        <p:spPr>
          <a:xfrm>
            <a:off x="900000" y="1052640"/>
            <a:ext cx="66438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асскажем сказки по картинкам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2" name="Содержимое 3" descr="DSC04450.JPG"/>
          <p:cNvPicPr/>
          <p:nvPr/>
        </p:nvPicPr>
        <p:blipFill>
          <a:blip r:embed="rId1"/>
          <a:stretch/>
        </p:blipFill>
        <p:spPr>
          <a:xfrm>
            <a:off x="1258920" y="1197000"/>
            <a:ext cx="722304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от какое интенсивное движение. 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ак же быть пешеходу? Поможет светофор!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4" name="Содержимое 3" descr="DSC04566.JPG"/>
          <p:cNvPicPr/>
          <p:nvPr/>
        </p:nvPicPr>
        <p:blipFill>
          <a:blip r:embed="rId1"/>
          <a:stretch/>
        </p:blipFill>
        <p:spPr>
          <a:xfrm>
            <a:off x="1258920" y="1413000"/>
            <a:ext cx="655308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97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Интересно было на занятии. 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Давайте в это поиграем!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6" name="Содержимое 3" descr="DSC04392.JPG"/>
          <p:cNvPicPr/>
          <p:nvPr/>
        </p:nvPicPr>
        <p:blipFill>
          <a:blip r:embed="rId1"/>
          <a:stretch/>
        </p:blipFill>
        <p:spPr>
          <a:xfrm>
            <a:off x="1258920" y="1268280"/>
            <a:ext cx="7128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3" descr=""/>
          <p:cNvPicPr/>
          <p:nvPr/>
        </p:nvPicPr>
        <p:blipFill>
          <a:blip r:embed="rId1"/>
          <a:stretch/>
        </p:blipFill>
        <p:spPr>
          <a:xfrm>
            <a:off x="49320" y="189000"/>
            <a:ext cx="8826480" cy="1212840"/>
          </a:xfrm>
          <a:prstGeom prst="rect">
            <a:avLst/>
          </a:prstGeom>
          <a:ln w="0">
            <a:noFill/>
          </a:ln>
        </p:spPr>
      </p:pic>
      <p:pic>
        <p:nvPicPr>
          <p:cNvPr id="238" name="Содержимое 6" descr="DSC04387.JPG"/>
          <p:cNvPicPr/>
          <p:nvPr/>
        </p:nvPicPr>
        <p:blipFill>
          <a:blip r:embed="rId2"/>
          <a:stretch/>
        </p:blipFill>
        <p:spPr>
          <a:xfrm>
            <a:off x="1403280" y="1197000"/>
            <a:ext cx="707868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420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Arial"/>
              </a:rPr>
              <a:t>Давай и ты шофер и я шофер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0" name="Содержимое 3" descr="DSC04720.JPG"/>
          <p:cNvPicPr/>
          <p:nvPr/>
        </p:nvPicPr>
        <p:blipFill>
          <a:blip r:embed="rId1"/>
          <a:stretch/>
        </p:blipFill>
        <p:spPr>
          <a:xfrm>
            <a:off x="1447920" y="1268280"/>
            <a:ext cx="68151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ундучок превращений –</a:t>
            </a:r>
            <a:br>
              <a:rPr sz="4000"/>
            </a:br>
            <a:r>
              <a:rPr b="1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вот ты мама, а я дочка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2" name="Содержимое 10" descr="DSC04568.JPG"/>
          <p:cNvPicPr/>
          <p:nvPr/>
        </p:nvPicPr>
        <p:blipFill>
          <a:blip r:embed="rId1"/>
          <a:stretch/>
        </p:blipFill>
        <p:spPr>
          <a:xfrm>
            <a:off x="949320" y="1413000"/>
            <a:ext cx="6791400" cy="50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93116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Arial"/>
              </a:rPr>
              <a:t>Наши первые роли, 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Picture 5" descr="DSC04745"/>
          <p:cNvPicPr/>
          <p:nvPr/>
        </p:nvPicPr>
        <p:blipFill>
          <a:blip r:embed="rId1"/>
          <a:stretch/>
        </p:blipFill>
        <p:spPr>
          <a:xfrm>
            <a:off x="1042920" y="4149720"/>
            <a:ext cx="3160800" cy="23702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DSC04754"/>
          <p:cNvPicPr/>
          <p:nvPr/>
        </p:nvPicPr>
        <p:blipFill>
          <a:blip r:embed="rId2"/>
          <a:stretch/>
        </p:blipFill>
        <p:spPr>
          <a:xfrm>
            <a:off x="4572000" y="3500280"/>
            <a:ext cx="4176720" cy="3132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DSC04762"/>
          <p:cNvPicPr/>
          <p:nvPr/>
        </p:nvPicPr>
        <p:blipFill>
          <a:blip r:embed="rId3"/>
          <a:stretch/>
        </p:blipFill>
        <p:spPr>
          <a:xfrm>
            <a:off x="755640" y="1268280"/>
            <a:ext cx="366228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Arial"/>
              </a:rPr>
              <a:t>Это тоже роли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8" name="Picture 5" descr="DSC04748"/>
          <p:cNvPicPr/>
          <p:nvPr/>
        </p:nvPicPr>
        <p:blipFill>
          <a:blip r:embed="rId1"/>
          <a:stretch/>
        </p:blipFill>
        <p:spPr>
          <a:xfrm>
            <a:off x="900000" y="981000"/>
            <a:ext cx="720108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2495520" cy="381168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Monotype Corsiva"/>
              </a:rPr>
              <a:t>Вторая младшая Группа  </a:t>
            </a: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«Солнышко»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Рисунок 5" descr="7889041a0eaf430ef1c76a26e9.jpg"/>
          <p:cNvPicPr/>
          <p:nvPr/>
        </p:nvPicPr>
        <p:blipFill>
          <a:blip r:embed="rId1"/>
          <a:stretch/>
        </p:blipFill>
        <p:spPr>
          <a:xfrm rot="420000">
            <a:off x="3033360" y="512280"/>
            <a:ext cx="5734080" cy="587700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sp>
        <p:nvSpPr>
          <p:cNvPr id="207" name="Rectangle 5"/>
          <p:cNvSpPr/>
          <p:nvPr/>
        </p:nvSpPr>
        <p:spPr>
          <a:xfrm>
            <a:off x="250920" y="4908960"/>
            <a:ext cx="453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группе «Солнышко» тепло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тям в «Солнышке» светло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десь девочки  и мальчи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к солнечные зайч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Arial"/>
              </a:rPr>
              <a:t>Свобода выбора места игры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0" name="Содержимое 8" descr="DSC03787.JPG"/>
          <p:cNvPicPr/>
          <p:nvPr/>
        </p:nvPicPr>
        <p:blipFill>
          <a:blip r:embed="rId1"/>
          <a:stretch/>
        </p:blipFill>
        <p:spPr>
          <a:xfrm>
            <a:off x="1646280" y="1484280"/>
            <a:ext cx="645156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Arial"/>
              </a:rPr>
              <a:t>Контейнер превращается…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2" name="Содержимое 3" descr="DSC03791.JPG"/>
          <p:cNvPicPr/>
          <p:nvPr/>
        </p:nvPicPr>
        <p:blipFill>
          <a:blip r:embed="rId1"/>
          <a:stretch/>
        </p:blipFill>
        <p:spPr>
          <a:xfrm>
            <a:off x="1403280" y="1413000"/>
            <a:ext cx="6791400" cy="50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50752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Мне прищепки помогают-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я в них играю, а они пальчики развивают!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4" name="Содержимое 3" descr="DSC04497.JPG"/>
          <p:cNvPicPr/>
          <p:nvPr/>
        </p:nvPicPr>
        <p:blipFill>
          <a:blip r:embed="rId1"/>
          <a:stretch/>
        </p:blipFill>
        <p:spPr>
          <a:xfrm>
            <a:off x="611280" y="1844640"/>
            <a:ext cx="803736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411280" y="333360"/>
            <a:ext cx="4824720" cy="1790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На полу играть чудесно, </a:t>
            </a:r>
            <a:br>
              <a:rPr sz="2800"/>
            </a:br>
            <a:r>
              <a:rPr b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Необычно, интересно.</a:t>
            </a:r>
            <a:br>
              <a:rPr sz="2800"/>
            </a:br>
            <a:r>
              <a:rPr b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рышки я  в узор сложу,</a:t>
            </a:r>
            <a:br>
              <a:rPr sz="2800"/>
            </a:br>
            <a:r>
              <a:rPr b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сем ребятам покажу!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6" name="Содержимое 3" descr="DSC04518.JPG"/>
          <p:cNvPicPr/>
          <p:nvPr/>
        </p:nvPicPr>
        <p:blipFill>
          <a:blip r:embed="rId1"/>
          <a:stretch/>
        </p:blipFill>
        <p:spPr>
          <a:xfrm>
            <a:off x="1332000" y="2517840"/>
            <a:ext cx="710064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Arial"/>
              </a:rPr>
              <a:t>Такие разные бус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8" name="Содержимое 3" descr="DSC04501.JPG"/>
          <p:cNvPicPr/>
          <p:nvPr/>
        </p:nvPicPr>
        <p:blipFill>
          <a:blip r:embed="rId1"/>
          <a:stretch/>
        </p:blipFill>
        <p:spPr>
          <a:xfrm>
            <a:off x="395280" y="3429000"/>
            <a:ext cx="4005360" cy="3005280"/>
          </a:xfrm>
          <a:prstGeom prst="rect">
            <a:avLst/>
          </a:prstGeom>
          <a:ln w="0">
            <a:noFill/>
          </a:ln>
        </p:spPr>
      </p:pic>
      <p:pic>
        <p:nvPicPr>
          <p:cNvPr id="259" name="Содержимое 3" descr="DSC04486.JPG"/>
          <p:cNvPicPr/>
          <p:nvPr/>
        </p:nvPicPr>
        <p:blipFill>
          <a:blip r:embed="rId2"/>
          <a:stretch/>
        </p:blipFill>
        <p:spPr>
          <a:xfrm>
            <a:off x="4251240" y="1341360"/>
            <a:ext cx="45100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Arial"/>
              </a:rPr>
              <a:t>Это мы чаем рисуем!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1" name="Содержимое 3" descr="DSC03919.JPG"/>
          <p:cNvPicPr/>
          <p:nvPr/>
        </p:nvPicPr>
        <p:blipFill>
          <a:blip r:embed="rId1"/>
          <a:stretch/>
        </p:blipFill>
        <p:spPr>
          <a:xfrm>
            <a:off x="662040" y="1484280"/>
            <a:ext cx="803124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3" descr=""/>
          <p:cNvPicPr/>
          <p:nvPr/>
        </p:nvPicPr>
        <p:blipFill>
          <a:blip r:embed="rId1"/>
          <a:stretch/>
        </p:blipFill>
        <p:spPr>
          <a:xfrm>
            <a:off x="457200" y="334800"/>
            <a:ext cx="8308800" cy="1212840"/>
          </a:xfrm>
          <a:prstGeom prst="rect">
            <a:avLst/>
          </a:prstGeom>
          <a:ln w="0">
            <a:noFill/>
          </a:ln>
        </p:spPr>
      </p:pic>
      <p:pic>
        <p:nvPicPr>
          <p:cNvPr id="263" name="Содержимое 3" descr="DSC04261.JPG"/>
          <p:cNvPicPr/>
          <p:nvPr/>
        </p:nvPicPr>
        <p:blipFill>
          <a:blip r:embed="rId2"/>
          <a:stretch/>
        </p:blipFill>
        <p:spPr>
          <a:xfrm rot="20452800">
            <a:off x="682560" y="2311560"/>
            <a:ext cx="3764160" cy="2823840"/>
          </a:xfrm>
          <a:prstGeom prst="rect">
            <a:avLst/>
          </a:prstGeom>
          <a:ln w="0">
            <a:noFill/>
          </a:ln>
        </p:spPr>
      </p:pic>
      <p:pic>
        <p:nvPicPr>
          <p:cNvPr id="264" name="Содержимое 8" descr="DSC04369.JPG"/>
          <p:cNvPicPr/>
          <p:nvPr/>
        </p:nvPicPr>
        <p:blipFill>
          <a:blip r:embed="rId3"/>
          <a:stretch/>
        </p:blipFill>
        <p:spPr>
          <a:xfrm>
            <a:off x="5076720" y="1989000"/>
            <a:ext cx="3324240" cy="44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0920" y="7045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«Я на манке люблю рисовать, 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Жаль рисунок домой нельзя взять…»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6" name="Содержимое 3" descr="DSC04424.JPG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512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Это я с песком играю, </a:t>
            </a:r>
            <a:br>
              <a:rPr sz="4000"/>
            </a:br>
            <a:r>
              <a:rPr b="1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за собой сам убираю!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8" name="Содержимое 3" descr="DSC04475.JPG"/>
          <p:cNvPicPr/>
          <p:nvPr/>
        </p:nvPicPr>
        <p:blipFill>
          <a:blip r:embed="rId1"/>
          <a:stretch/>
        </p:blipFill>
        <p:spPr>
          <a:xfrm>
            <a:off x="539640" y="2133720"/>
            <a:ext cx="4148280" cy="3111480"/>
          </a:xfrm>
          <a:prstGeom prst="rect">
            <a:avLst/>
          </a:prstGeom>
          <a:ln w="0">
            <a:noFill/>
          </a:ln>
        </p:spPr>
      </p:pic>
      <p:pic>
        <p:nvPicPr>
          <p:cNvPr id="269" name="Содержимое 3" descr="DSC04481.JPG"/>
          <p:cNvPicPr/>
          <p:nvPr/>
        </p:nvPicPr>
        <p:blipFill>
          <a:blip r:embed="rId2"/>
          <a:stretch/>
        </p:blipFill>
        <p:spPr>
          <a:xfrm rot="1458000">
            <a:off x="4245120" y="2573280"/>
            <a:ext cx="42242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Arial"/>
              </a:rPr>
              <a:t>Такая разная мозаика.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1" name="Содержимое 9" descr="DSC03667.JPG"/>
          <p:cNvPicPr/>
          <p:nvPr/>
        </p:nvPicPr>
        <p:blipFill>
          <a:blip r:embed="rId1"/>
          <a:stretch/>
        </p:blipFill>
        <p:spPr>
          <a:xfrm rot="19995000">
            <a:off x="666720" y="2049120"/>
            <a:ext cx="4219560" cy="3165480"/>
          </a:xfrm>
          <a:prstGeom prst="rect">
            <a:avLst/>
          </a:prstGeom>
          <a:ln w="0">
            <a:noFill/>
          </a:ln>
        </p:spPr>
      </p:pic>
      <p:pic>
        <p:nvPicPr>
          <p:cNvPr id="272" name="Содержимое 8" descr="DSC03664.JPG"/>
          <p:cNvPicPr/>
          <p:nvPr/>
        </p:nvPicPr>
        <p:blipFill>
          <a:blip r:embed="rId2"/>
          <a:stretch/>
        </p:blipFill>
        <p:spPr>
          <a:xfrm rot="1242000">
            <a:off x="4379400" y="1986120"/>
            <a:ext cx="392112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Arial"/>
              </a:rPr>
              <a:t>Основные требования к предметно-развивающей среде в свете ФГОС ДО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351640" cy="49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едметно-развивающая среда обеспечивает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аксимальную реализацию образовательного потенциал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ступность среды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что предполагает свободный доступ воспитанников к играм, игрушкам, материалам, пособиям, обеспечивающих все основные виды деятельнос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Гибкое и вариативное использование пространств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озможность общения и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овместной деятельности детей и взрослых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беспечение двигательной активности детей, а также возможность уедине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Arial"/>
              </a:rPr>
              <a:t>Сам себе декоратор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4" name="Содержимое 3" descr="DSC04506.JPG"/>
          <p:cNvPicPr/>
          <p:nvPr/>
        </p:nvPicPr>
        <p:blipFill>
          <a:blip r:embed="rId1"/>
          <a:stretch/>
        </p:blipFill>
        <p:spPr>
          <a:xfrm>
            <a:off x="1042920" y="3573360"/>
            <a:ext cx="3646440" cy="2735280"/>
          </a:xfrm>
          <a:prstGeom prst="rect">
            <a:avLst/>
          </a:prstGeom>
          <a:ln w="0">
            <a:noFill/>
          </a:ln>
        </p:spPr>
      </p:pic>
      <p:pic>
        <p:nvPicPr>
          <p:cNvPr id="275" name="Содержимое 3" descr="DSC04704.JPG"/>
          <p:cNvPicPr/>
          <p:nvPr/>
        </p:nvPicPr>
        <p:blipFill>
          <a:blip r:embed="rId2"/>
          <a:stretch/>
        </p:blipFill>
        <p:spPr>
          <a:xfrm>
            <a:off x="5292720" y="2060640"/>
            <a:ext cx="350208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«тихий уголок»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Arial"/>
              </a:rPr>
              <a:t>Свобода в НОД-</a:t>
            </a:r>
            <a:br>
              <a:rPr sz="5000"/>
            </a:br>
            <a:r>
              <a:rPr b="0" lang="ru-RU" sz="5000" spc="-1" strike="noStrike">
                <a:solidFill>
                  <a:srgbClr val="04617b"/>
                </a:solidFill>
                <a:latin typeface="Arial"/>
              </a:rPr>
              <a:t>«мы активно познаем!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9" name="Содержимое 8" descr="DSC03768.JPG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Arial"/>
              </a:rPr>
              <a:t>Свобода выбора материала-</a:t>
            </a:r>
            <a:br>
              <a:rPr sz="4600"/>
            </a:br>
            <a:r>
              <a:rPr b="0" lang="ru-RU" sz="4600" spc="-1" strike="noStrike">
                <a:solidFill>
                  <a:srgbClr val="04617b"/>
                </a:solidFill>
                <a:latin typeface="Arial"/>
              </a:rPr>
              <a:t>«Мы -  творцы!»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ЯДОМ ИЛИ ВМЕСТЕ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403280" y="5373360"/>
            <a:ext cx="634680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ное дело сближает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4" name="Содержимое 3" descr="DSC04606.JPG"/>
          <p:cNvPicPr/>
          <p:nvPr/>
        </p:nvPicPr>
        <p:blipFill>
          <a:blip r:embed="rId1"/>
          <a:stretch/>
        </p:blipFill>
        <p:spPr>
          <a:xfrm>
            <a:off x="2987640" y="2133720"/>
            <a:ext cx="388296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59280" y="549000"/>
            <a:ext cx="5627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Это книжки надо листать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 заданья выполнять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6" name="Содержимое 3" descr="DSC04582.JPG"/>
          <p:cNvPicPr/>
          <p:nvPr/>
        </p:nvPicPr>
        <p:blipFill>
          <a:blip r:embed="rId1"/>
          <a:stretch/>
        </p:blipFill>
        <p:spPr>
          <a:xfrm>
            <a:off x="468360" y="1844640"/>
            <a:ext cx="70578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граем вместе в 1 игру – учимся делиться, уступать, договариваться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8" name="Содержимое 3" descr="DSC04605.JPG"/>
          <p:cNvPicPr/>
          <p:nvPr/>
        </p:nvPicPr>
        <p:blipFill>
          <a:blip r:embed="rId1"/>
          <a:stretch/>
        </p:blipFill>
        <p:spPr>
          <a:xfrm>
            <a:off x="1476360" y="2205000"/>
            <a:ext cx="593712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532764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За одним столом сидим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Делом заняты одним!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0" name="Содержимое 3" descr="DSC04666.JPG"/>
          <p:cNvPicPr/>
          <p:nvPr/>
        </p:nvPicPr>
        <p:blipFill>
          <a:blip r:embed="rId1"/>
          <a:stretch/>
        </p:blipFill>
        <p:spPr>
          <a:xfrm>
            <a:off x="2627280" y="1484280"/>
            <a:ext cx="5851440" cy="438948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3"/>
          <p:cNvSpPr/>
          <p:nvPr/>
        </p:nvSpPr>
        <p:spPr>
          <a:xfrm>
            <a:off x="250920" y="580536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ем по трафаретам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Arial"/>
              </a:rPr>
              <a:t>Играем рядом, но почти вместе…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3" name="Содержимое 3" descr="DSC04696.JPG"/>
          <p:cNvPicPr/>
          <p:nvPr/>
        </p:nvPicPr>
        <p:blipFill>
          <a:blip r:embed="rId1"/>
          <a:stretch/>
        </p:blipFill>
        <p:spPr>
          <a:xfrm>
            <a:off x="684360" y="2924280"/>
            <a:ext cx="4078080" cy="3058920"/>
          </a:xfrm>
          <a:prstGeom prst="rect">
            <a:avLst/>
          </a:prstGeom>
          <a:ln w="0">
            <a:noFill/>
          </a:ln>
        </p:spPr>
      </p:pic>
      <p:pic>
        <p:nvPicPr>
          <p:cNvPr id="294" name="Содержимое 3" descr="DSC04699.JPG"/>
          <p:cNvPicPr/>
          <p:nvPr/>
        </p:nvPicPr>
        <p:blipFill>
          <a:blip r:embed="rId2"/>
          <a:stretch/>
        </p:blipFill>
        <p:spPr>
          <a:xfrm>
            <a:off x="5076720" y="1484280"/>
            <a:ext cx="33577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Спасибо за внимание - Картинка 18872/70"/>
          <p:cNvPicPr/>
          <p:nvPr/>
        </p:nvPicPr>
        <p:blipFill>
          <a:blip r:embed="rId1"/>
          <a:stretch/>
        </p:blipFill>
        <p:spPr>
          <a:xfrm>
            <a:off x="-125280" y="-136440"/>
            <a:ext cx="932652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ариативность предметно-пространственной среды.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9640" y="1268280"/>
            <a:ext cx="4608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в группе различных пространств (для игры, конструирования, уединения и пр.), а также разнообразных материалов, игр, игрушек и оборудования, для свободного выбора дете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ческую сменяемость игрового материала, появление новых предметов, стимулирующих игровую, двигательную, познавательную и исследовательскую активность дете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Содержимое 8" descr="DSC04266.JPG"/>
          <p:cNvPicPr/>
          <p:nvPr/>
        </p:nvPicPr>
        <p:blipFill>
          <a:blip r:embed="rId1"/>
          <a:stretch/>
        </p:blipFill>
        <p:spPr>
          <a:xfrm>
            <a:off x="5292720" y="1700280"/>
            <a:ext cx="361152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Доступность предметно-пространственной среды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8360" y="1628640"/>
            <a:ext cx="32400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вободный доступ воспитанников к играм, игрушкам, материалам, пособиям, обеспечивающим все основные виды детской активност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Содержимое 6" descr="DSC04254.JPG"/>
          <p:cNvPicPr/>
          <p:nvPr/>
        </p:nvPicPr>
        <p:blipFill>
          <a:blip r:embed="rId1"/>
          <a:stretch/>
        </p:blipFill>
        <p:spPr>
          <a:xfrm>
            <a:off x="3780000" y="1989000"/>
            <a:ext cx="51829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Безопасность предметно-пространственной среды.</a:t>
            </a:r>
            <a:r>
              <a:rPr b="0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364000" y="1916280"/>
            <a:ext cx="303552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ответствие всех её элементов требованиям по обеспечению надёжности и безопасности их использова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Содержимое 7" descr="DSC04259.JPG"/>
          <p:cNvPicPr/>
          <p:nvPr/>
        </p:nvPicPr>
        <p:blipFill>
          <a:blip r:embed="rId1"/>
          <a:stretch/>
        </p:blipFill>
        <p:spPr>
          <a:xfrm>
            <a:off x="1258920" y="1557360"/>
            <a:ext cx="361476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420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Вот как петушок помог зайчику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Picture 5" descr="DSC04751"/>
          <p:cNvPicPr/>
          <p:nvPr/>
        </p:nvPicPr>
        <p:blipFill>
          <a:blip r:embed="rId1"/>
          <a:stretch/>
        </p:blipFill>
        <p:spPr>
          <a:xfrm>
            <a:off x="971640" y="1052640"/>
            <a:ext cx="74167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594972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А эти артисты бумажные. Мы вместе их делали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Содержимое 3" descr="DSC04716.JPG"/>
          <p:cNvPicPr/>
          <p:nvPr/>
        </p:nvPicPr>
        <p:blipFill>
          <a:blip r:embed="rId1"/>
          <a:stretch/>
        </p:blipFill>
        <p:spPr>
          <a:xfrm>
            <a:off x="684360" y="260280"/>
            <a:ext cx="763272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6" descr=""/>
          <p:cNvPicPr/>
          <p:nvPr/>
        </p:nvPicPr>
        <p:blipFill>
          <a:blip r:embed="rId1"/>
          <a:stretch/>
        </p:blipFill>
        <p:spPr>
          <a:xfrm>
            <a:off x="457200" y="-42840"/>
            <a:ext cx="8308800" cy="151776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7" descr="DSC04461.JPG"/>
          <p:cNvPicPr/>
          <p:nvPr/>
        </p:nvPicPr>
        <p:blipFill>
          <a:blip r:embed="rId2"/>
          <a:stretch/>
        </p:blipFill>
        <p:spPr>
          <a:xfrm>
            <a:off x="395280" y="2708280"/>
            <a:ext cx="4032360" cy="3816360"/>
          </a:xfrm>
          <a:prstGeom prst="rect">
            <a:avLst/>
          </a:prstGeom>
          <a:ln w="0">
            <a:noFill/>
          </a:ln>
        </p:spPr>
      </p:pic>
      <p:pic>
        <p:nvPicPr>
          <p:cNvPr id="225" name="Содержимое 3" descr="DSC04455.JPG"/>
          <p:cNvPicPr/>
          <p:nvPr/>
        </p:nvPicPr>
        <p:blipFill>
          <a:blip r:embed="rId3"/>
          <a:stretch/>
        </p:blipFill>
        <p:spPr>
          <a:xfrm>
            <a:off x="3780000" y="1341360"/>
            <a:ext cx="472572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3T19:13:26Z</dcterms:created>
  <dc:creator>Света</dc:creator>
  <dc:description/>
  <dc:language>en-US</dc:language>
  <cp:lastModifiedBy>User</cp:lastModifiedBy>
  <dcterms:modified xsi:type="dcterms:W3CDTF">2022-04-09T17:36:00Z</dcterms:modified>
  <cp:revision>35</cp:revision>
  <dc:subject/>
  <dc:title>Предметная  среда</dc:title>
</cp:coreProperties>
</file>