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gif" ContentType="image/gif"/>
  <Override PartName="/ppt/media/image14.png" ContentType="image/png"/>
  <Override PartName="/ppt/media/image17.jpeg" ContentType="image/jpeg"/>
  <Override PartName="/ppt/media/image15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FC3-A224-4FD2-B4AA-8663DE60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81E-0FDB-4266-9AD4-EB7F4DDE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607-7362-44D1-B033-84B1D4F6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8DD-F860-4F77-B29D-36CF1BBB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83F-B046-4CEB-A2B0-08770E58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0BE-0445-4846-B7C5-EB09E302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27E-2B35-415B-8443-26644C14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B08-0303-414F-816B-9D005829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705-1D81-4261-9528-EE9A23D4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F90-CB4C-484D-B5B9-991897F3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12A-2444-4E7B-BB8A-74B1C4C9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A5A-5060-4623-B36D-F3464CF1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720D-E5BC-427D-A5AB-E6FCDF85BE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РРЕРР"/>
          <p:cNvPicPr/>
          <p:nvPr/>
        </p:nvPicPr>
        <p:blipFill>
          <a:blip r:embed="rId1"/>
          <a:srcRect l="3530" t="0" r="4845" b="1758"/>
          <a:stretch/>
        </p:blipFill>
        <p:spPr>
          <a:xfrm>
            <a:off x="1752480" y="1676520"/>
            <a:ext cx="1828800" cy="426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137707"/>
          <p:cNvPicPr/>
          <p:nvPr/>
        </p:nvPicPr>
        <p:blipFill>
          <a:blip r:embed="rId2"/>
          <a:stretch/>
        </p:blipFill>
        <p:spPr>
          <a:xfrm>
            <a:off x="5334120" y="1523880"/>
            <a:ext cx="1981080" cy="469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Ko4ergin"/>
          <p:cNvPicPr/>
          <p:nvPr/>
        </p:nvPicPr>
        <p:blipFill>
          <a:blip r:embed="rId3"/>
          <a:stretch/>
        </p:blipFill>
        <p:spPr>
          <a:xfrm>
            <a:off x="533520" y="1523880"/>
            <a:ext cx="7924680" cy="4930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 rot="234600">
            <a:off x="762120" y="304560"/>
            <a:ext cx="7391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265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26000"/>
                </a:gradFill>
                <a:latin typeface="Impact"/>
              </a:rPr>
              <a:t>Математи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26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069920" y="311040"/>
            <a:ext cx="6705720" cy="18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17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остоятельная работ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6" descr="1246282795_0051"/>
          <p:cNvPicPr/>
          <p:nvPr/>
        </p:nvPicPr>
        <p:blipFill>
          <a:blip r:embed="rId1"/>
          <a:srcRect l="7400" t="0" r="3598" b="4788"/>
          <a:stretch/>
        </p:blipFill>
        <p:spPr>
          <a:xfrm>
            <a:off x="4114800" y="1981080"/>
            <a:ext cx="4464000" cy="467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fa24c56c98ed"/>
          <p:cNvPicPr/>
          <p:nvPr/>
        </p:nvPicPr>
        <p:blipFill>
          <a:blip r:embed="rId2"/>
          <a:srcRect l="11110" t="1612" r="8332" b="3224"/>
          <a:stretch/>
        </p:blipFill>
        <p:spPr>
          <a:xfrm>
            <a:off x="1219320" y="2209680"/>
            <a:ext cx="2209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Выбери башн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85800" y="3581280"/>
            <a:ext cx="2133720" cy="2424240"/>
          </a:xfrm>
          <a:prstGeom prst="upArrow">
            <a:avLst>
              <a:gd name="adj1" fmla="val 55611"/>
              <a:gd name="adj2" fmla="val 29035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2590920" y="3581280"/>
            <a:ext cx="2133360" cy="2424240"/>
          </a:xfrm>
          <a:prstGeom prst="upArrow">
            <a:avLst>
              <a:gd name="adj1" fmla="val 55611"/>
              <a:gd name="adj2" fmla="val 29040"/>
            </a:avLst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257800" y="1143000"/>
            <a:ext cx="3124080" cy="4862520"/>
          </a:xfrm>
          <a:prstGeom prst="upArrow">
            <a:avLst>
              <a:gd name="adj1" fmla="val 55611"/>
              <a:gd name="adj2" fmla="val 39776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3962520" y="2438280"/>
            <a:ext cx="2514600" cy="3567240"/>
          </a:xfrm>
          <a:prstGeom prst="upArrow">
            <a:avLst>
              <a:gd name="adj1" fmla="val 55611"/>
              <a:gd name="adj2" fmla="val 36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 rot="5400000">
            <a:off x="1523520" y="3733560"/>
            <a:ext cx="4572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5400000">
            <a:off x="3429000" y="3733560"/>
            <a:ext cx="4572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 rot="5400000">
            <a:off x="5029200" y="2666880"/>
            <a:ext cx="4572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5400000">
            <a:off x="6552720" y="1599840"/>
            <a:ext cx="4572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500" y="2045"/>
                  <a:pt x="11400" y="5080"/>
                  <a:pt x="11400" y="10800"/>
                </a:cubicBezTo>
                <a:cubicBezTo>
                  <a:pt x="11400" y="16520"/>
                  <a:pt x="16500" y="195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1447920" y="4495680"/>
            <a:ext cx="60948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4952880" y="3429000"/>
            <a:ext cx="60984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2"/>
          <p:cNvSpPr/>
          <p:nvPr/>
        </p:nvSpPr>
        <p:spPr>
          <a:xfrm>
            <a:off x="3352680" y="4495680"/>
            <a:ext cx="60984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3"/>
          <p:cNvSpPr/>
          <p:nvPr/>
        </p:nvSpPr>
        <p:spPr>
          <a:xfrm>
            <a:off x="6477120" y="3581280"/>
            <a:ext cx="60948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4"/>
          <p:cNvSpPr/>
          <p:nvPr/>
        </p:nvSpPr>
        <p:spPr>
          <a:xfrm>
            <a:off x="6477120" y="2514600"/>
            <a:ext cx="60948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5"/>
          <p:cNvSpPr/>
          <p:nvPr/>
        </p:nvSpPr>
        <p:spPr>
          <a:xfrm>
            <a:off x="4952880" y="4724280"/>
            <a:ext cx="60984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6477120" y="4648320"/>
            <a:ext cx="609480" cy="76176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116000" y="2060640"/>
            <a:ext cx="7729560" cy="4392720"/>
            <a:chOff x="1116000" y="2060640"/>
            <a:chExt cx="7729560" cy="4392720"/>
          </a:xfrm>
        </p:grpSpPr>
        <p:sp>
          <p:nvSpPr>
            <p:cNvPr id="48" name="Rectangle 4"/>
            <p:cNvSpPr/>
            <p:nvPr/>
          </p:nvSpPr>
          <p:spPr>
            <a:xfrm>
              <a:off x="7596360" y="3213000"/>
              <a:ext cx="10411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7667640" y="4508640"/>
              <a:ext cx="11145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1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1711440" y="2060640"/>
              <a:ext cx="11142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7"/>
            <p:cNvSpPr/>
            <p:nvPr/>
          </p:nvSpPr>
          <p:spPr>
            <a:xfrm>
              <a:off x="1116000" y="227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>
              <a:off x="6245280" y="2347920"/>
              <a:ext cx="817560" cy="7938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9"/>
            <p:cNvSpPr/>
            <p:nvPr/>
          </p:nvSpPr>
          <p:spPr>
            <a:xfrm>
              <a:off x="2825640" y="227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0"/>
            <p:cNvSpPr/>
            <p:nvPr/>
          </p:nvSpPr>
          <p:spPr>
            <a:xfrm>
              <a:off x="8028000" y="551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1"/>
            <p:cNvSpPr/>
            <p:nvPr/>
          </p:nvSpPr>
          <p:spPr>
            <a:xfrm>
              <a:off x="6948360" y="3933720"/>
              <a:ext cx="817560" cy="79236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6300720" y="5661000"/>
              <a:ext cx="817560" cy="79236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3"/>
            <p:cNvSpPr/>
            <p:nvPr/>
          </p:nvSpPr>
          <p:spPr>
            <a:xfrm>
              <a:off x="4535640" y="227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4"/>
            <p:cNvSpPr/>
            <p:nvPr/>
          </p:nvSpPr>
          <p:spPr>
            <a:xfrm>
              <a:off x="4572000" y="5661000"/>
              <a:ext cx="817560" cy="79236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"/>
            <p:cNvSpPr/>
            <p:nvPr/>
          </p:nvSpPr>
          <p:spPr>
            <a:xfrm>
              <a:off x="7880400" y="2347920"/>
              <a:ext cx="817560" cy="7938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6"/>
            <p:cNvSpPr/>
            <p:nvPr/>
          </p:nvSpPr>
          <p:spPr>
            <a:xfrm>
              <a:off x="6838920" y="2060640"/>
              <a:ext cx="111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7"/>
            <p:cNvSpPr/>
            <p:nvPr/>
          </p:nvSpPr>
          <p:spPr>
            <a:xfrm>
              <a:off x="5130720" y="2060640"/>
              <a:ext cx="1114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1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>
              <a:off x="1933560" y="2708280"/>
              <a:ext cx="89208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3643200" y="2708280"/>
              <a:ext cx="89244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3421080" y="2060640"/>
              <a:ext cx="1114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1"/>
            <p:cNvSpPr/>
            <p:nvPr/>
          </p:nvSpPr>
          <p:spPr>
            <a:xfrm>
              <a:off x="5292720" y="5300640"/>
              <a:ext cx="111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>
              <a:off x="7524720" y="4724280"/>
              <a:ext cx="863640" cy="792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 flipH="1">
              <a:off x="7451640" y="3141720"/>
              <a:ext cx="874800" cy="7920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4"/>
            <p:cNvSpPr/>
            <p:nvPr/>
          </p:nvSpPr>
          <p:spPr>
            <a:xfrm>
              <a:off x="7062840" y="2708280"/>
              <a:ext cx="81756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5353200" y="2708280"/>
              <a:ext cx="89208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 flipH="1">
              <a:off x="5364000" y="6021360"/>
              <a:ext cx="96696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 flipH="1">
              <a:off x="7093080" y="5950080"/>
              <a:ext cx="89208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7020000" y="5300640"/>
              <a:ext cx="111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теперь поиграем!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перёд  за волшебным клубоч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84328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442764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622764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7956720" y="2349360"/>
            <a:ext cx="863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6948360" y="393372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7885080" y="5516640"/>
            <a:ext cx="9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6300720" y="566100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8" descr="fs_00002142"/>
          <p:cNvPicPr/>
          <p:nvPr/>
        </p:nvPicPr>
        <p:blipFill>
          <a:blip r:embed="rId1"/>
          <a:srcRect l="6827" t="5299" r="9095" b="4682"/>
          <a:stretch/>
        </p:blipFill>
        <p:spPr>
          <a:xfrm>
            <a:off x="914400" y="3505320"/>
            <a:ext cx="281952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Три дороги пройдёшь,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путь к Кощею найдё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1"/>
          <a:stretch/>
        </p:blipFill>
        <p:spPr>
          <a:xfrm>
            <a:off x="2438280" y="2971800"/>
            <a:ext cx="4572000" cy="31860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85" name="Picture 8" descr="ivan_tsarevich_i_seriy_volk"/>
          <p:cNvPicPr/>
          <p:nvPr/>
        </p:nvPicPr>
        <p:blipFill>
          <a:blip r:embed="rId2"/>
          <a:stretch/>
        </p:blipFill>
        <p:spPr>
          <a:xfrm>
            <a:off x="762120" y="15238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0099"/>
                </a:solidFill>
                <a:uFillTx/>
                <a:latin typeface="Kozuka Mincho Pro B"/>
              </a:rPr>
              <a:t>Прове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1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, 2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3, 4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6, 7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9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2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, 4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6, 8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3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, 8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6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7"/>
          <p:cNvPicPr/>
          <p:nvPr/>
        </p:nvPicPr>
        <p:blipFill>
          <a:blip r:embed="rId2"/>
          <a:stretch/>
        </p:blipFill>
        <p:spPr>
          <a:xfrm>
            <a:off x="304920" y="2438280"/>
            <a:ext cx="48006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1005_40"/>
          <p:cNvPicPr/>
          <p:nvPr/>
        </p:nvPicPr>
        <p:blipFill>
          <a:blip r:embed="rId1"/>
          <a:stretch/>
        </p:blipFill>
        <p:spPr>
          <a:xfrm>
            <a:off x="1523880" y="304920"/>
            <a:ext cx="5943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Зада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380520"/>
            <a:ext cx="29718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c544f1acf05"/>
          <p:cNvPicPr/>
          <p:nvPr/>
        </p:nvPicPr>
        <p:blipFill>
          <a:blip r:embed="rId1"/>
          <a:stretch/>
        </p:blipFill>
        <p:spPr>
          <a:xfrm>
            <a:off x="3429000" y="380880"/>
            <a:ext cx="5359320" cy="5867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228600" y="1371600"/>
            <a:ext cx="31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 ворон на крышу с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ещё к ним прилет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чайте быстро, сме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х их прилете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om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bird35"/>
          <p:cNvPicPr/>
          <p:nvPr/>
        </p:nvPicPr>
        <p:blipFill>
          <a:blip r:embed="rId2"/>
          <a:stretch/>
        </p:blipFill>
        <p:spPr>
          <a:xfrm>
            <a:off x="2987640" y="189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bird35"/>
          <p:cNvPicPr/>
          <p:nvPr/>
        </p:nvPicPr>
        <p:blipFill>
          <a:blip r:embed="rId3"/>
          <a:stretch/>
        </p:blipFill>
        <p:spPr>
          <a:xfrm>
            <a:off x="-1405080" y="4869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ird35"/>
          <p:cNvPicPr/>
          <p:nvPr/>
        </p:nvPicPr>
        <p:blipFill>
          <a:blip r:embed="rId4"/>
          <a:stretch/>
        </p:blipFill>
        <p:spPr>
          <a:xfrm>
            <a:off x="1979640" y="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bird35"/>
          <p:cNvPicPr/>
          <p:nvPr/>
        </p:nvPicPr>
        <p:blipFill>
          <a:blip r:embed="rId5"/>
          <a:stretch/>
        </p:blipFill>
        <p:spPr>
          <a:xfrm>
            <a:off x="5435640" y="1989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bird35"/>
          <p:cNvPicPr/>
          <p:nvPr/>
        </p:nvPicPr>
        <p:blipFill>
          <a:blip r:embed="rId6"/>
          <a:stretch/>
        </p:blipFill>
        <p:spPr>
          <a:xfrm>
            <a:off x="4356000" y="1413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bird35"/>
          <p:cNvPicPr/>
          <p:nvPr/>
        </p:nvPicPr>
        <p:blipFill>
          <a:blip r:embed="rId7"/>
          <a:stretch/>
        </p:blipFill>
        <p:spPr>
          <a:xfrm>
            <a:off x="3203640" y="1125360"/>
            <a:ext cx="895320" cy="89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bird35"/>
          <p:cNvPicPr/>
          <p:nvPr/>
        </p:nvPicPr>
        <p:blipFill>
          <a:blip r:embed="rId8"/>
          <a:stretch/>
        </p:blipFill>
        <p:spPr>
          <a:xfrm>
            <a:off x="-1116000" y="3645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1763640" y="5661000"/>
            <a:ext cx="5400720" cy="86364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050920" y="5589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348000" y="558972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627280" y="5589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211640" y="558972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076720" y="5589720"/>
            <a:ext cx="7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651640" y="5661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(в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1763640" y="5661000"/>
            <a:ext cx="5472360" cy="93672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195640" y="566100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твет: 7 воро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C 0.00087 -0.00139 0.00556 -0.00672 0.00608 -0.00834 C 0.00694 -0.00996 0.00677 -0.01274 0.00764 -0.01436 C 0.01042 -0.01945 0.01476 -0.02362 0.01823 -0.02824 C 0.02465 -0.03681 0.03056 -0.04885 0.03924 -0.05278 C 0.04844 -0.06436 0.05903 -0.07385 0.06962 -0.08287 C 0.07396 -0.08658 0.07674 -0.09098 0.0816 -0.09283 C 0.08646 -0.09954 0.0934 -0.1044 0.09983 -0.10718 C 0.10504 -0.11412 0.11163 -0.11737 0.11806 -0.1213 C 0.12101 -0.12315 0.12274 -0.12778 0.1257 -0.1294 C 0.12951 -0.13125 0.13767 -0.13357 0.13767 -0.13357 C 0.15712 -0.13241 0.16493 -0.1338 0.18021 -0.12755 C 0.18212 -0.12454 0.18611 -0.12292 0.18629 -0.11945 C 0.1875 -0.09815 0.18524 -0.09283 0.17413 -0.08287 C 0.16806 -0.0838 0.16181 -0.08287 0.1559 -0.08473 C 0.15087 -0.08658 0.14722 -0.09283 0.14236 -0.09491 C 0.13906 -0.09954 0.13455 -0.10232 0.1316 -0.10718 C 0.12639 -0.11598 0.12431 -0.12778 0.11962 -0.1375 C 0.11788 -0.1463 0.11615 -0.1544 0.11493 -0.16389 C 0.11441 -0.17246 0.11354 -0.18102 0.11354 -0.19005 C 0.11354 -0.22408 0.11389 -0.25602 0.12413 -0.28681 C 0.12708 -0.29584 0.12795 -0.30394 0.13316 -0.31135 C 0.13542 -0.31991 0.13767 -0.3294 0.14236 -0.33565 C 0.14774 -0.35047 0.15347 -0.36783 0.16198 -0.3801 C 0.16389 -0.38774 0.16684 -0.39653 0.17101 -0.40232 C 0.1724 -0.40764 0.18229 -0.43125 0.18629 -0.43658 C 0.18889 -0.44375 0.19271 -0.44769 0.19531 -0.45487 C 0.19879 -0.46436 0.19861 -0.475 0.20434 -0.48311 C 0.20781 -0.50116 0.20608 -0.49399 0.20903 -0.5051 C 0.20677 -0.54005 0.20972 -0.53403 0.1816 -0.53125 C 0.17448 -0.52524 0.1658 -0.52246 0.15903 -0.51528 C 0.1526 -0.50857 0.14965 -0.49862 0.14375 -0.49098 C 0.13646 -0.45811 0.13924 -0.47014 0.13924 -0.41644 E">
                                      <p:cBhvr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11 -0.01296 C 0.15261 -0.00717 0.1658 -0.00347 0.17795 0.00324 C 0.20521 0.00255 0.23247 0.00232 0.25972 0.00116 C 0.26719 0.00093 0.2757 -0.00347 0.28247 -0.00694 C 0.28802 -0.00972 0.29913 -0.01504 0.29913 -0.01481 C 0.30469 -0.02199 0.3125 -0.02546 0.31893 -0.03102 C 0.34011 -0.04907 0.32101 -0.03542 0.33559 -0.04537 C 0.34184 -0.05555 0.34948 -0.06366 0.35834 -0.06944 C 0.36493 -0.08148 0.37639 -0.09282 0.38559 -0.10185 C 0.39566 -0.12245 0.379 -0.08981 0.39462 -0.11389 C 0.39618 -0.1162 0.39636 -0.11967 0.39775 -0.12199 C 0.4033 -0.13148 0.41302 -0.14491 0.42049 -0.15231 C 0.42604 -0.16759 0.43525 -0.17963 0.44306 -0.19282 C 0.44722 -0.19977 0.44896 -0.20671 0.45382 -0.21296 C 0.45764 -0.22338 0.4625 -0.22986 0.46736 -0.23912 C 0.47275 -0.24954 0.47639 -0.26065 0.48108 -0.27153 C 0.49115 -0.29491 0.47986 -0.2625 0.49011 -0.28981 C 0.49288 -0.29699 0.49479 -0.30486 0.49775 -0.31204 C 0.5 -0.31759 0.50521 -0.32801 0.50521 -0.32778 C 0.50747 -0.33981 0.51216 -0.35139 0.5158 -0.3625 C 0.51945 -0.37315 0.52118 -0.38542 0.52344 -0.39676 C 0.52292 -0.41296 0.52327 -0.42917 0.52188 -0.44537 C 0.52118 -0.45324 0.50382 -0.46852 0.49913 -0.47153 C 0.49358 -0.47893 0.48698 -0.4831 0.47952 -0.48565 C 0.47292 -0.4919 0.46476 -0.49375 0.45677 -0.49583 C 0.42084 -0.49375 0.42813 -0.49421 0.40382 -0.48565 C 0.40226 -0.48426 0.40087 -0.48264 0.39913 -0.48171 C 0.39532 -0.47986 0.38716 -0.47754 0.38716 -0.47731 C 0.37813 -0.4662 0.37136 -0.45301 0.36285 -0.4412 C 0.36129 -0.43518 0.35886 -0.43241 0.35677 -0.42708 E"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257800" y="457200"/>
            <a:ext cx="37339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Змея Горыныча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 головы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а у его старшего брат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4 головы больш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Сколько голов у старшего бра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1c2e779de98"/>
          <p:cNvPicPr/>
          <p:nvPr/>
        </p:nvPicPr>
        <p:blipFill>
          <a:blip r:embed="rId1"/>
          <a:srcRect l="0" t="0" r="1496" b="0"/>
          <a:stretch/>
        </p:blipFill>
        <p:spPr>
          <a:xfrm>
            <a:off x="228600" y="228600"/>
            <a:ext cx="5029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Составь фигу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2338200" cy="5273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2095560" cy="5334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3"/>
          <p:cNvPicPr/>
          <p:nvPr/>
        </p:nvPicPr>
        <p:blipFill>
          <a:blip r:embed="rId3"/>
          <a:srcRect l="5513" t="1980" r="7705" b="7230"/>
          <a:stretch/>
        </p:blipFill>
        <p:spPr>
          <a:xfrm>
            <a:off x="4343400" y="304920"/>
            <a:ext cx="4471920" cy="62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бзев</dc:creator>
  <dc:description/>
  <dc:language>en-US</dc:language>
  <cp:lastModifiedBy>RePack by Diakov</cp:lastModifiedBy>
  <dcterms:modified xsi:type="dcterms:W3CDTF">2022-04-09T20:38:3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