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99FF-23AF-40D4-B69E-B389CC57F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A474-18BA-403A-BC96-F9A345D2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E282-8C7B-4DD9-BE17-3C6263530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308A-1E02-4A6C-8357-C4658A75C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2AD2-19D8-40CF-AD71-77252DF3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1E44-498C-4CD1-A8CF-E733E851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B800-3FE5-4F7F-8047-3F218A01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3765-8F29-46BC-9C57-F289F9C6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D6DC-82E3-4707-AB15-DB089275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9863-30C1-481D-9D48-7314836D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3989-E0A7-4352-9F6C-85AB3BF3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F9D6-2A1A-49B7-900C-AC4C1346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1FDE-2103-47B2-B2C8-B7E8A70DD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hyperlink" Target="file:///tmp/home/.config/libreoffice/4/user/gallery/click.wav" TargetMode="External"/><Relationship Id="rId11" Type="http://schemas.openxmlformats.org/officeDocument/2006/relationships/hyperlink" Target="file:///tmp/home/.config/libreoffice/4/user/gallery/click.wav" TargetMode="External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hyperlink" Target="file:///tmp/home/.config/libreoffice/4/user/gallery/hammer.wav" TargetMode="External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415960" y="442800"/>
            <a:ext cx="4892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терактивная дидактическая иг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Овощи и фрукты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авитель : Дели Олеся Иван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ат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3022560" y="2203560"/>
            <a:ext cx="4013280" cy="401292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3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72360" y="5640480"/>
            <a:ext cx="159696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корзина" descr=""/>
          <p:cNvPicPr/>
          <p:nvPr/>
        </p:nvPicPr>
        <p:blipFill>
          <a:blip r:embed="rId1"/>
          <a:stretch/>
        </p:blipFill>
        <p:spPr>
          <a:xfrm>
            <a:off x="6188040" y="3803760"/>
            <a:ext cx="2965320" cy="3095640"/>
          </a:xfrm>
          <a:prstGeom prst="rect">
            <a:avLst/>
          </a:prstGeom>
          <a:ln w="0">
            <a:noFill/>
          </a:ln>
        </p:spPr>
      </p:pic>
      <p:pic>
        <p:nvPicPr>
          <p:cNvPr id="45" name="яблоко" descr=""/>
          <p:cNvPicPr/>
          <p:nvPr/>
        </p:nvPicPr>
        <p:blipFill>
          <a:blip r:embed="rId2"/>
          <a:stretch/>
        </p:blipFill>
        <p:spPr>
          <a:xfrm>
            <a:off x="495360" y="814320"/>
            <a:ext cx="1463760" cy="1528920"/>
          </a:xfrm>
          <a:prstGeom prst="rect">
            <a:avLst/>
          </a:prstGeom>
          <a:ln w="0">
            <a:noFill/>
          </a:ln>
        </p:spPr>
      </p:pic>
      <p:pic>
        <p:nvPicPr>
          <p:cNvPr id="46" name="апельсин" descr=""/>
          <p:cNvPicPr/>
          <p:nvPr/>
        </p:nvPicPr>
        <p:blipFill>
          <a:blip r:embed="rId3"/>
          <a:stretch/>
        </p:blipFill>
        <p:spPr>
          <a:xfrm>
            <a:off x="4243320" y="1579680"/>
            <a:ext cx="1455840" cy="1946160"/>
          </a:xfrm>
          <a:prstGeom prst="rect">
            <a:avLst/>
          </a:prstGeom>
          <a:ln w="0">
            <a:noFill/>
          </a:ln>
        </p:spPr>
      </p:pic>
      <p:pic>
        <p:nvPicPr>
          <p:cNvPr id="47" name="огурец" descr=""/>
          <p:cNvPicPr/>
          <p:nvPr/>
        </p:nvPicPr>
        <p:blipFill>
          <a:blip r:embed="rId4"/>
          <a:stretch/>
        </p:blipFill>
        <p:spPr>
          <a:xfrm rot="16608000">
            <a:off x="2570040" y="1006200"/>
            <a:ext cx="1673280" cy="1257480"/>
          </a:xfrm>
          <a:prstGeom prst="rect">
            <a:avLst/>
          </a:prstGeom>
          <a:ln w="0">
            <a:noFill/>
          </a:ln>
        </p:spPr>
      </p:pic>
      <p:pic>
        <p:nvPicPr>
          <p:cNvPr id="48" name="лимон" descr=""/>
          <p:cNvPicPr/>
          <p:nvPr/>
        </p:nvPicPr>
        <p:blipFill>
          <a:blip r:embed="rId5"/>
          <a:stretch/>
        </p:blipFill>
        <p:spPr>
          <a:xfrm>
            <a:off x="595440" y="2552760"/>
            <a:ext cx="2077920" cy="1938240"/>
          </a:xfrm>
          <a:prstGeom prst="rect">
            <a:avLst/>
          </a:prstGeom>
          <a:ln w="0">
            <a:noFill/>
          </a:ln>
        </p:spPr>
      </p:pic>
      <p:pic>
        <p:nvPicPr>
          <p:cNvPr id="49" name="баклажан" descr=""/>
          <p:cNvPicPr/>
          <p:nvPr/>
        </p:nvPicPr>
        <p:blipFill>
          <a:blip r:embed="rId6"/>
          <a:stretch/>
        </p:blipFill>
        <p:spPr>
          <a:xfrm rot="3288000">
            <a:off x="5393160" y="2079720"/>
            <a:ext cx="2495880" cy="1236960"/>
          </a:xfrm>
          <a:prstGeom prst="rect">
            <a:avLst/>
          </a:prstGeom>
          <a:ln w="0">
            <a:noFill/>
          </a:ln>
        </p:spPr>
      </p:pic>
      <p:pic>
        <p:nvPicPr>
          <p:cNvPr id="50" name="груша" descr=""/>
          <p:cNvPicPr/>
          <p:nvPr/>
        </p:nvPicPr>
        <p:blipFill>
          <a:blip r:embed="rId7"/>
          <a:stretch/>
        </p:blipFill>
        <p:spPr>
          <a:xfrm>
            <a:off x="517680" y="4491000"/>
            <a:ext cx="1566720" cy="1938240"/>
          </a:xfrm>
          <a:prstGeom prst="rect">
            <a:avLst/>
          </a:prstGeom>
          <a:ln w="0">
            <a:noFill/>
          </a:ln>
        </p:spPr>
      </p:pic>
      <p:pic>
        <p:nvPicPr>
          <p:cNvPr id="51" name="перец" descr=""/>
          <p:cNvPicPr/>
          <p:nvPr/>
        </p:nvPicPr>
        <p:blipFill>
          <a:blip r:embed="rId8"/>
          <a:stretch/>
        </p:blipFill>
        <p:spPr>
          <a:xfrm>
            <a:off x="4125960" y="4292640"/>
            <a:ext cx="1506600" cy="1515960"/>
          </a:xfrm>
          <a:prstGeom prst="rect">
            <a:avLst/>
          </a:prstGeom>
          <a:ln w="0">
            <a:noFill/>
          </a:ln>
        </p:spPr>
      </p:pic>
      <p:pic>
        <p:nvPicPr>
          <p:cNvPr id="52" name="помидор" descr=""/>
          <p:cNvPicPr/>
          <p:nvPr/>
        </p:nvPicPr>
        <p:blipFill>
          <a:blip r:embed="rId9"/>
          <a:stretch/>
        </p:blipFill>
        <p:spPr>
          <a:xfrm>
            <a:off x="6872400" y="1022400"/>
            <a:ext cx="1500120" cy="1676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21"/>
          <p:cNvSpPr/>
          <p:nvPr/>
        </p:nvSpPr>
        <p:spPr>
          <a:xfrm>
            <a:off x="2898720" y="20016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ери овощи в корзин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Стрелка вправо 22">
            <a:hlinkClick r:id="" action="ppaction://hlinkshowjump?jump=nextslide"/>
            <a:hlinkClick r:id="rId10"/>
          </p:cNvPr>
          <p:cNvSpPr/>
          <p:nvPr/>
        </p:nvSpPr>
        <p:spPr>
          <a:xfrm>
            <a:off x="4017960" y="5964120"/>
            <a:ext cx="1579680" cy="8035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00cc99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Скругленный прямоугольник 28">
            <a:hlinkClick r:id="" action="ppaction://hlinkshowjump?jump=endshow"/>
          </p:cNvPr>
          <p:cNvSpPr/>
          <p:nvPr/>
        </p:nvSpPr>
        <p:spPr>
          <a:xfrm>
            <a:off x="8312040" y="200160"/>
            <a:ext cx="723960" cy="64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Стрелка влево 30">
            <a:hlinkClick r:id="" action="ppaction://hlinkshowjump?jump=previousslide"/>
            <a:hlinkClick r:id="rId11"/>
          </p:cNvPr>
          <p:cNvSpPr/>
          <p:nvPr/>
        </p:nvSpPr>
        <p:spPr>
          <a:xfrm>
            <a:off x="2328840" y="6027840"/>
            <a:ext cx="1393920" cy="72396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00cc99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93 0.0743 L -0.01893 0.07453 C -0.02049 0.0956 -0.02101 0.09282 -0.01893 0.11666 C -0.01841 0.12338 -0.01702 0.13009 -0.0165 0.1368 C -0.01493 0.15509 -0.01632 0.14791 -0.01372 0.15902 C -0.01337 0.16967 -0.01302 0.18055 -0.0125 0.19143 C -0.00973 0.24768 -0.01268 0.16412 -0.0099 0.24375 C -0.00938 0.2574 -0.00938 0.27083 -0.00868 0.28426 C -0.00799 0.29629 -0.00677 0.30856 -0.00608 0.3206 C -0.00452 0.34467 -0.00556 0.33402 -0.00348 0.35301 C -0.00261 0.37245 -0.00191 0.39189 -0.00087 0.41157 C -0.00052 0.42014 -0.00035 0.42893 0.00052 0.43773 C 0.00052 0.43981 0.00121 0.44189 0.00156 0.44375 C 0.00468 0.50231 0.00087 0.42361 0.00434 0.52268 C 0.00555 0.56111 0.00555 0.53426 0.00555 0.5449 E">
                                      <p:cBhvr>
                                        <p:cTn id="26" dur="125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62 -0.05185 L 0.01562 -0.05162 C 0.02413 -0.04445 0.0316 -0.03681 0.04323 -0.0294 C 0.04757 -0.02662 0.05608 -0.02454 0.06146 -0.02199 C 0.06892 -0.01806 0.07639 -0.0081 0.08055 -0.0044 C 0.10729 0.02083 0.06996 -0.01829 0.09878 0.01319 C 0.10191 0.02083 0.10295 0.02847 0.10833 0.03588 C 0.10937 0.03842 0.11805 0.04074 0.11805 0.04352 C 0.11805 0.07268 0.11371 0.10208 0.10833 0.13125 C 0.10625 0.14028 0.09549 0.15717 0.08924 0.16667 C 0.07535 0.23009 0.08055 0.19352 0.08055 0.27731 L 0.08055 0.27778 E">
                                      <p:cBhvr>
                                        <p:cTn id="31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975 -0.11134 L 0.08975 -0.11111 C 0.10364 -0.11088 0.11771 -0.11088 0.13159 -0.10949 C 0.14843 -0.10764 0.14288 -0.10602 0.15364 -0.10347 C 0.16041 -0.10162 0.16909 -0.10046 0.17569 -0.0993 C 0.17916 -0.09861 0.18246 -0.09815 0.18593 -0.09722 C 0.21962 -0.08981 0.17291 -0.1 0.19982 -0.09328 C 0.20312 -0.09236 0.20659 -0.0919 0.20972 -0.0912 C 0.22135 -0.08912 0.22552 -0.08865 0.23802 -0.08727 L 0.2559 -0.08518 C 0.25868 -0.08495 0.28732 -0.08078 0.296 -0.07916 C 0.29878 -0.0787 0.30139 -0.07778 0.30399 -0.07708 C 0.31319 -0.07523 0.32291 -0.07361 0.33212 -0.07106 C 0.35659 -0.06389 0.31423 -0.07569 0.346 -0.06504 C 0.3493 -0.06389 0.35295 -0.06389 0.35625 -0.06296 C 0.36024 -0.0618 0.36423 -0.06018 0.36805 -0.05903 L 0.3743 -0.05694 L 0.38021 -0.05486 L 0.38628 -0.05278 C 0.38837 -0.05162 0.3901 -0.05 0.39218 -0.04884 C 0.39757 -0.04606 0.4033 -0.04421 0.40833 -0.04074 L 0.41423 -0.0368 C 0.42569 -0.01944 0.41059 -0.03981 0.4243 -0.0287 C 0.43559 -0.01944 0.41892 -0.02407 0.43246 -0.01041 L 0.43455 -0.00833 L 0.38021 -0.05486 E">
                                      <p:cBhvr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8681 L -0.00104 -0.08658 C 0.00243 -0.08357 0.00573 -0.07987 0.00955 -0.07686 C 0.01146 -0.07524 0.01371 -0.07454 0.01545 -0.07269 C 0.01736 -0.07107 0.0184 -0.06829 0.02014 -0.06667 C 0.02708 -0.06019 0.02483 -0.06551 0.03073 -0.05857 C 0.03385 -0.05487 0.03628 -0.04977 0.03976 -0.04653 C 0.04236 -0.04422 0.04844 -0.03889 0.05035 -0.03635 C 0.06163 -0.0213 0.04878 -0.0338 0.05955 -0.02431 C 0.06632 -0.01065 0.05746 -0.02686 0.07014 -0.01019 C 0.07135 -0.00834 0.07187 -0.00579 0.07309 -0.00417 C 0.09115 0.0199 0.07118 -0.01112 0.08681 0.01203 C 0.08941 0.01597 0.09167 0.02037 0.09427 0.02407 C 0.09427 0.0243 0.11146 0.04722 0.11406 0.05046 L 0.12014 0.05856 C 0.12101 0.05995 0.12205 0.06134 0.12309 0.0625 C 0.14462 0.08541 0.11597 0.05439 0.13819 0.08078 C 0.1401 0.08287 0.14253 0.08449 0.14427 0.0868 C 0.14566 0.08842 0.14601 0.0912 0.1474 0.09282 C 0.14965 0.09583 0.1526 0.09791 0.15486 0.10092 C 0.15625 0.10254 0.15677 0.10509 0.15799 0.10694 C 0.15937 0.10926 0.16111 0.11088 0.1625 0.11296 C 0.1651 0.11689 0.16736 0.12129 0.16996 0.12523 C 0.19132 0.15671 0.16198 0.1125 0.18212 0.13935 C 0.19201 0.15231 0.18073 0.14745 0.19878 0.16365 C 0.20955 0.17314 0.1967 0.16064 0.20799 0.17569 C 0.2092 0.17731 0.21094 0.17824 0.2125 0.17963 C 0.22031 0.18726 0.21823 0.18541 0.22604 0.19583 C 0.2276 0.19791 0.22951 0.19953 0.23056 0.20185 C 0.23264 0.20601 0.23403 0.21064 0.23663 0.21412 C 0.23767 0.21551 0.23889 0.21666 0.23976 0.21805 C 0.24115 0.22037 0.24583 0.22893 0.24722 0.23217 C 0.24844 0.23495 0.24913 0.23773 0.25035 0.24027 C 0.25121 0.24236 0.25243 0.24421 0.2533 0.24629 C 0.25451 0.24907 0.25521 0.25185 0.25642 0.25439 C 0.25729 0.25648 0.25868 0.25833 0.25937 0.26041 C 0.26562 0.27731 0.25521 0.25532 0.26389 0.27268 C 0.26562 0.27939 0.26545 0.27986 0.26858 0.2868 C 0.27031 0.29097 0.27413 0.29745 0.27604 0.30092 C 0.27639 0.30277 0.27812 0.31273 0.27917 0.31504 C 0.28333 0.32523 0.28351 0.325 0.28819 0.33125 C 0.28924 0.33402 0.28993 0.3368 0.29115 0.33935 C 0.29253 0.34166 0.29444 0.34328 0.29583 0.34537 C 0.2974 0.34791 0.29878 0.35069 0.30035 0.35347 C 0.30139 0.35532 0.3026 0.3574 0.3033 0.35949 C 0.30399 0.36134 0.30382 0.36388 0.30486 0.36551 C 0.30746 0.37013 0.31163 0.37291 0.31389 0.37777 C 0.32101 0.39189 0.31215 0.3743 0.32153 0.39189 C 0.32465 0.39768 0.32847 0.40763 0.33368 0.40995 L 0.33819 0.41203 C 0.34687 0.42361 0.33854 0.41435 0.34722 0.42013 C 0.34896 0.42129 0.35017 0.42314 0.35174 0.42407 C 0.36354 0.43101 0.35816 0.42453 0.3625 0.43032 L 0.3625 0.43055 E">
                                      <p:cBhvr>
                                        <p:cTn id="41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корзина" descr=""/>
          <p:cNvPicPr/>
          <p:nvPr/>
        </p:nvPicPr>
        <p:blipFill>
          <a:blip r:embed="rId1"/>
          <a:stretch/>
        </p:blipFill>
        <p:spPr>
          <a:xfrm>
            <a:off x="6004080" y="3605040"/>
            <a:ext cx="3278160" cy="34243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5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126280" y="227160"/>
            <a:ext cx="731880" cy="695160"/>
          </a:xfrm>
          <a:prstGeom prst="rect">
            <a:avLst/>
          </a:prstGeom>
          <a:ln w="0">
            <a:noFill/>
          </a:ln>
        </p:spPr>
      </p:pic>
      <p:sp>
        <p:nvSpPr>
          <p:cNvPr id="59" name="Стрелка вправо 7">
            <a:hlinkClick r:id="" action="ppaction://hlinkshowjump?jump=nextslide"/>
            <a:hlinkClick r:id="rId3"/>
          </p:cNvPr>
          <p:cNvSpPr/>
          <p:nvPr/>
        </p:nvSpPr>
        <p:spPr>
          <a:xfrm>
            <a:off x="4890960" y="619272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00cc99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Стрелка влево 8">
            <a:hlinkClick r:id="" action="ppaction://hlinkshowjump?jump=previousslide"/>
            <a:hlinkClick r:id="rId4"/>
          </p:cNvPr>
          <p:cNvSpPr/>
          <p:nvPr/>
        </p:nvSpPr>
        <p:spPr>
          <a:xfrm>
            <a:off x="3587760" y="6192720"/>
            <a:ext cx="979560" cy="4842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00cc99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лимон" descr=""/>
          <p:cNvPicPr/>
          <p:nvPr/>
        </p:nvPicPr>
        <p:blipFill>
          <a:blip r:embed="rId5"/>
          <a:stretch/>
        </p:blipFill>
        <p:spPr>
          <a:xfrm>
            <a:off x="260280" y="414360"/>
            <a:ext cx="1782720" cy="173664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2442960" y="460440"/>
            <a:ext cx="35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ери фрукты в корзин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апельсин" descr=""/>
          <p:cNvPicPr/>
          <p:nvPr/>
        </p:nvPicPr>
        <p:blipFill>
          <a:blip r:embed="rId6"/>
          <a:stretch/>
        </p:blipFill>
        <p:spPr>
          <a:xfrm>
            <a:off x="6923160" y="1197000"/>
            <a:ext cx="1538280" cy="2057400"/>
          </a:xfrm>
          <a:prstGeom prst="rect">
            <a:avLst/>
          </a:prstGeom>
          <a:ln w="0">
            <a:noFill/>
          </a:ln>
        </p:spPr>
      </p:pic>
      <p:pic>
        <p:nvPicPr>
          <p:cNvPr id="64" name="помидор" descr=""/>
          <p:cNvPicPr/>
          <p:nvPr/>
        </p:nvPicPr>
        <p:blipFill>
          <a:blip r:embed="rId7"/>
          <a:stretch/>
        </p:blipFill>
        <p:spPr>
          <a:xfrm>
            <a:off x="4881600" y="1273320"/>
            <a:ext cx="1704960" cy="1904760"/>
          </a:xfrm>
          <a:prstGeom prst="rect">
            <a:avLst/>
          </a:prstGeom>
          <a:ln w="0">
            <a:noFill/>
          </a:ln>
        </p:spPr>
      </p:pic>
      <p:pic>
        <p:nvPicPr>
          <p:cNvPr id="65" name="перец" descr=""/>
          <p:cNvPicPr/>
          <p:nvPr/>
        </p:nvPicPr>
        <p:blipFill>
          <a:blip r:embed="rId8"/>
          <a:stretch/>
        </p:blipFill>
        <p:spPr>
          <a:xfrm>
            <a:off x="301680" y="2550960"/>
            <a:ext cx="1828800" cy="1841760"/>
          </a:xfrm>
          <a:prstGeom prst="rect">
            <a:avLst/>
          </a:prstGeom>
          <a:ln w="0">
            <a:noFill/>
          </a:ln>
        </p:spPr>
      </p:pic>
      <p:pic>
        <p:nvPicPr>
          <p:cNvPr id="66" name="груша" descr=""/>
          <p:cNvPicPr/>
          <p:nvPr/>
        </p:nvPicPr>
        <p:blipFill>
          <a:blip r:embed="rId9"/>
          <a:stretch/>
        </p:blipFill>
        <p:spPr>
          <a:xfrm>
            <a:off x="2797200" y="1224000"/>
            <a:ext cx="1581120" cy="2109600"/>
          </a:xfrm>
          <a:prstGeom prst="rect">
            <a:avLst/>
          </a:prstGeom>
          <a:ln w="0">
            <a:noFill/>
          </a:ln>
        </p:spPr>
      </p:pic>
      <p:pic>
        <p:nvPicPr>
          <p:cNvPr id="67" name="яблоко" descr=""/>
          <p:cNvPicPr/>
          <p:nvPr/>
        </p:nvPicPr>
        <p:blipFill>
          <a:blip r:embed="rId10"/>
          <a:stretch/>
        </p:blipFill>
        <p:spPr>
          <a:xfrm>
            <a:off x="3710160" y="3763800"/>
            <a:ext cx="1765080" cy="1843200"/>
          </a:xfrm>
          <a:prstGeom prst="rect">
            <a:avLst/>
          </a:prstGeom>
          <a:ln w="0">
            <a:noFill/>
          </a:ln>
        </p:spPr>
      </p:pic>
      <p:pic>
        <p:nvPicPr>
          <p:cNvPr id="68" name="морковь" descr=""/>
          <p:cNvPicPr/>
          <p:nvPr/>
        </p:nvPicPr>
        <p:blipFill>
          <a:blip r:embed="rId11"/>
          <a:stretch/>
        </p:blipFill>
        <p:spPr>
          <a:xfrm rot="3603600">
            <a:off x="1580760" y="3922560"/>
            <a:ext cx="1504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54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4.16667E-006 0.00023 C 0.00138 0.00532 0.0026 0.01088 0.00451 0.01597 C 0.00607 0.02037 0.01059 0.02824 0.01059 0.02847 C 0.01093 0.03078 0.0125 0.03935 0.01354 0.04236 C 0.01458 0.04537 0.02013 0.05463 0.02118 0.05648 C 0.0217 0.05856 0.02222 0.06041 0.02257 0.0625 C 0.02378 0.06921 0.0243 0.07615 0.02569 0.08264 C 0.02621 0.08565 0.02795 0.08796 0.02864 0.09074 C 0.03055 0.09722 0.0302 0.10509 0.03316 0.11111 C 0.0375 0.11967 0.03541 0.11481 0.03923 0.12523 C 0.03975 0.12777 0.04132 0.13634 0.04236 0.13935 C 0.04305 0.14143 0.04427 0.14328 0.04531 0.14537 L 0.04982 0.16365 L 0.05138 0.16967 C 0.05191 0.1743 0.05225 0.17916 0.05295 0.18379 C 0.05329 0.18588 0.05399 0.18773 0.05451 0.18981 C 0.05503 0.19259 0.05538 0.19514 0.0559 0.19791 C 0.05694 0.20208 0.05902 0.20995 0.05902 0.21018 C 0.06163 0.2375 0.0592 0.21597 0.06198 0.23634 C 0.0625 0.24027 0.06302 0.24444 0.06354 0.24838 C 0.06406 0.25301 0.06441 0.25787 0.0651 0.2625 C 0.06701 0.27523 0.06823 0.27916 0.07118 0.29074 C 0.07152 0.29629 0.07187 0.30162 0.07257 0.30694 C 0.07291 0.30902 0.07378 0.31088 0.07413 0.31296 C 0.0776 0.33634 0.07378 0.31967 0.07708 0.33333 C 0.0776 0.34143 0.07795 0.34953 0.07864 0.3574 C 0.07916 0.3625 0.08107 0.36574 0.08316 0.36967 C 0.08472 0.37245 0.08628 0.375 0.08784 0.37777 C 0.08819 0.37963 0.08767 0.38333 0.08923 0.38379 C 0.0934 0.38518 0.09479 0.37615 0.09531 0.37361 C 0.09548 0.37291 0.09531 0.37222 0.09531 0.37176 L 0.09531 0.37199 L 0.09531 0.37176 E">
                                      <p:cBhvr>
                                        <p:cTn id="62" dur="125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64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96 -0.09838 L 0.04496 -0.09815 C 0.06146 -0.09629 0.05729 -0.09791 0.07222 -0.09236 C 0.07361 -0.0919 0.07517 -0.09143 0.07673 -0.09051 C 0.0783 -0.08935 0.07968 -0.0875 0.08125 -0.08634 C 0.08524 -0.08356 0.08923 -0.08102 0.0934 -0.07824 C 0.09531 -0.07685 0.09722 -0.07523 0.09948 -0.0743 C 0.1059 -0.07129 0.10243 -0.07268 0.11007 -0.07014 L 0.12361 -0.0581 C 0.12517 -0.05671 0.12673 -0.05555 0.12812 -0.05416 C 0.13021 -0.05208 0.13194 -0.04954 0.1342 -0.04791 C 0.146 -0.04028 0.14687 -0.04051 0.15694 -0.03796 C 0.17222 -0.02778 0.15191 -0.04028 0.17205 -0.03194 C 0.17725 -0.02963 0.18212 -0.02616 0.18732 -0.02384 C 0.19027 -0.02245 0.19323 -0.02083 0.19635 -0.01967 L 0.2085 -0.01574 C 0.20989 -0.01435 0.21128 -0.01273 0.21302 -0.01157 C 0.22014 -0.00741 0.22361 -0.00741 0.23125 -0.00555 C 0.23264 -0.00416 0.23402 -0.00254 0.23576 -0.00162 C 0.23854 0.00023 0.24184 0.00116 0.24479 0.00255 C 0.24635 0.00324 0.24791 0.00347 0.2493 0.0044 C 0.25139 0.00579 0.2533 0.00764 0.25538 0.00857 C 0.25781 0.00972 0.26041 0.00972 0.26302 0.01065 C 0.26562 0.01134 0.27083 0.01296 0.27361 0.01459 C 0.28941 0.02361 0.27014 0.01435 0.28576 0.0206 C 0.28871 0.02176 0.29166 0.02338 0.29479 0.02477 L 0.2993 0.02662 C 0.30191 0.03009 0.30486 0.03287 0.30694 0.03681 C 0.30902 0.04097 0.31232 0.04931 0.31597 0.05301 C 0.31684 0.05394 0.31805 0.0544 0.31909 0.05509 L 0.31909 0.05533 E">
                                      <p:cBhvr>
                                        <p:cTn id="67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7.40741E-006 C 0.00348 0.00393 0.00712 0.00786 0.01059 0.01203 C 0.01216 0.01388 0.01337 0.01643 0.01511 0.01805 C 0.01632 0.01921 0.01806 0.01944 0.01962 0.02013 C 0.02257 0.02407 0.02518 0.02893 0.02865 0.03217 C 0.03021 0.03356 0.03177 0.03472 0.03334 0.03634 C 0.0349 0.03796 0.03594 0.04073 0.03785 0.04235 C 0.03907 0.04351 0.04098 0.04328 0.04237 0.04421 C 0.04393 0.04536 0.04549 0.04698 0.04688 0.04837 C 0.05105 0.05231 0.05452 0.0574 0.05903 0.06041 C 0.06858 0.06689 0.06302 0.06342 0.0757 0.0706 C 0.07726 0.07268 0.07848 0.07499 0.08021 0.07661 C 0.08594 0.08217 0.09306 0.08888 0.1 0.09282 C 0.10139 0.09374 0.10296 0.09421 0.10452 0.0949 C 0.10608 0.09675 0.10712 0.09953 0.10903 0.10092 C 0.12362 0.11203 0.10747 0.09397 0.11962 0.10694 C 0.12084 0.1081 0.12153 0.10995 0.12275 0.11087 C 0.12552 0.11388 0.12917 0.11573 0.13177 0.11897 C 0.13473 0.12314 0.13733 0.128 0.1408 0.13124 C 0.15209 0.1412 0.13837 0.12823 0.15 0.1412 C 0.15139 0.14282 0.15313 0.14374 0.15452 0.14536 C 0.15764 0.14907 0.16059 0.15347 0.16355 0.1574 C 0.16858 0.16411 0.17066 0.16597 0.17414 0.17569 C 0.17518 0.17823 0.17605 0.18101 0.17726 0.18379 C 0.17917 0.18796 0.18334 0.19583 0.18334 0.19583 C 0.18646 0.21272 0.18264 0.19606 0.18785 0.20995 C 0.1941 0.22661 0.18368 0.20462 0.19237 0.22198 C 0.19289 0.22407 0.19306 0.22638 0.19393 0.22823 C 0.19462 0.22985 0.19636 0.23055 0.19688 0.23217 C 0.19983 0.24004 0.19705 0.23935 0.2 0.24629 C 0.20122 0.2493 0.20296 0.25161 0.20452 0.25439 C 0.21077 0.27916 0.20382 0.25462 0.21216 0.27661 C 0.21285 0.27847 0.21285 0.28078 0.21355 0.28263 C 0.21441 0.28495 0.2158 0.28657 0.21667 0.28865 C 0.2224 0.30393 0.21632 0.29421 0.22431 0.30485 C 0.22466 0.30694 0.225 0.30902 0.2257 0.31087 C 0.22743 0.31527 0.23177 0.32314 0.23177 0.32314 C 0.23507 0.34027 0.23056 0.32268 0.23785 0.33726 C 0.23872 0.33888 0.23855 0.34143 0.23941 0.34328 C 0.24705 0.36157 0.24271 0.34976 0.25 0.36157 C 0.26059 0.37823 0.24427 0.35578 0.25764 0.3736 C 0.25799 0.37569 0.25816 0.378 0.25903 0.37962 C 0.26025 0.38147 0.26372 0.38379 0.26372 0.38379 E">
                                      <p:cBhvr>
                                        <p:cTn id="72" dur="1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-3.7037E-007 C 0.0059 0.00254 0.01197 0.00578 0.01805 0.00787 C 0.02013 0.00856 0.02222 0.00903 0.02413 0.00995 C 0.02673 0.01111 0.02916 0.01273 0.03177 0.01412 C 0.03472 0.01551 0.04079 0.01805 0.04079 0.01805 C 0.05399 0.03264 0.04513 0.02407 0.05746 0.03426 C 0.06423 0.03981 0.05954 0.03727 0.06666 0.04028 C 0.06753 0.04166 0.0684 0.04352 0.06961 0.04444 C 0.07152 0.0456 0.07361 0.0456 0.07569 0.04629 C 0.07725 0.04699 0.07881 0.04745 0.0802 0.04838 C 0.08628 0.05185 0.08506 0.05254 0.09079 0.0544 C 0.0934 0.05532 0.09583 0.05555 0.09843 0.05648 C 0.09999 0.05694 0.10138 0.05787 0.10295 0.05856 C 0.10694 0.05995 0.11111 0.06065 0.1151 0.0625 C 0.12604 0.06736 0.11232 0.06157 0.12569 0.06666 C 0.12725 0.06713 0.12864 0.06805 0.1302 0.06852 C 0.13315 0.06944 0.13628 0.0699 0.1394 0.0706 C 0.14374 0.07338 0.14548 0.07523 0.14999 0.07662 C 0.15242 0.07754 0.15503 0.07801 0.15746 0.0787 C 0.16163 0.07986 0.16562 0.08148 0.16961 0.08264 C 0.17517 0.08449 0.18072 0.08541 0.18628 0.0868 C 0.19496 0.09444 0.18784 0.08912 0.20295 0.0949 C 0.20607 0.09606 0.20902 0.09745 0.21215 0.09884 C 0.21354 0.09953 0.2151 0.10046 0.21666 0.10092 L 0.22413 0.10301 C 0.23958 0.11319 0.21753 0.09907 0.24392 0.11296 C 0.24635 0.11435 0.24895 0.11597 0.25156 0.11713 C 0.25538 0.11875 0.25972 0.11944 0.26354 0.12106 C 0.26822 0.12315 0.27256 0.12592 0.27725 0.12708 C 0.2868 0.12963 0.28229 0.12824 0.29079 0.13125 C 0.29652 0.13565 0.29965 0.13912 0.30607 0.1412 C 0.30902 0.14236 0.31215 0.14259 0.3151 0.14328 C 0.33194 0.15463 0.31076 0.1412 0.32725 0.1493 C 0.32933 0.15046 0.33124 0.15231 0.33333 0.15347 C 0.3368 0.15509 0.34045 0.15578 0.34392 0.1574 C 0.346 0.15856 0.34791 0.16041 0.34999 0.16157 C 0.35138 0.16227 0.35295 0.16296 0.35451 0.16342 C 0.35902 0.16759 0.35972 0.16852 0.3651 0.17153 C 0.36874 0.17361 0.37187 0.17407 0.37569 0.17569 C 0.37725 0.17615 0.37881 0.17708 0.3802 0.17778 C 0.38124 0.17963 0.38177 0.1824 0.38333 0.18379 C 0.38697 0.18727 0.39166 0.18842 0.39548 0.1919 C 0.39704 0.19305 0.39843 0.19467 0.39999 0.19583 C 0.40138 0.19676 0.40312 0.19699 0.40451 0.19791 C 0.40642 0.19907 0.41423 0.20694 0.4151 0.20787 C 0.41683 0.20972 0.41805 0.21227 0.41961 0.21412 C 0.421 0.21551 0.42291 0.21643 0.4243 0.21805 C 0.42742 0.22176 0.43038 0.22615 0.43333 0.23009 L 0.44236 0.24236 C 0.44392 0.24444 0.44513 0.24676 0.44704 0.24838 C 0.45156 0.25254 0.45225 0.25231 0.45607 0.25856 C 0.46128 0.26666 0.46197 0.27199 0.46961 0.2787 C 0.47725 0.28541 0.47291 0.28102 0.48177 0.29282 C 0.48333 0.2949 0.48524 0.29653 0.48645 0.29884 C 0.48732 0.30092 0.48802 0.30324 0.4894 0.30486 C 0.49322 0.30949 0.49878 0.31157 0.50156 0.31713 C 0.50677 0.32754 0.5019 0.31944 0.50902 0.32708 C 0.51666 0.33518 0.50729 0.32685 0.5151 0.33727 C 0.51649 0.33889 0.51822 0.34004 0.51979 0.3412 C 0.52222 0.34629 0.52413 0.34953 0.52569 0.35555 C 0.52656 0.3581 0.52673 0.36088 0.52725 0.36342 C 0.52777 0.36551 0.52829 0.36759 0.52881 0.36967 C 0.53211 0.42662 0.52864 0.37291 0.53177 0.40995 C 0.53246 0.41666 0.53263 0.42361 0.53333 0.43009 C 0.53367 0.4324 0.53454 0.43426 0.53489 0.43634 C 0.53541 0.43889 0.53697 0.45139 0.53784 0.4544 C 0.54062 0.46319 0.54305 0.46944 0.54704 0.47662 C 0.54843 0.4794 0.54999 0.48194 0.55156 0.48472 C 0.5526 0.4868 0.55364 0.48865 0.55451 0.49074 C 0.55572 0.49352 0.55624 0.49653 0.55763 0.49884 C 0.56145 0.50602 0.56597 0.5074 0.57117 0.51296 C 0.58749 0.53032 0.56649 0.5125 0.58489 0.52708 C 0.59166 0.54074 0.58367 0.52754 0.59253 0.53518 C 0.59427 0.5368 0.59531 0.53958 0.59704 0.5412 C 0.59843 0.54282 0.59999 0.54398 0.60156 0.54537 C 0.61597 0.55926 0.6085 0.55578 0.61979 0.55949 C 0.6217 0.56157 0.62395 0.56342 0.62586 0.56551 C 0.62742 0.56736 0.62864 0.57014 0.63038 0.57153 C 0.63159 0.57291 0.63333 0.57291 0.63489 0.57361 C 0.64947 0.58819 0.63385 0.57407 0.64548 0.58171 C 0.64704 0.58287 0.64861 0.58426 0.64999 0.58565 C 0.65121 0.58703 0.6519 0.58889 0.65312 0.58981 C 0.65451 0.59097 0.65607 0.5912 0.65763 0.5919 C 0.66006 0.59514 0.66371 0.5993 0.66527 0.60393 C 0.66562 0.60509 0.66527 0.60671 0.66527 0.6081 E">
                                      <p:cBhvr>
                                        <p:cTn id="77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155080" y="214200"/>
            <a:ext cx="73188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21T08:25:12Z</dcterms:created>
  <dc:creator>Admin</dc:creator>
  <dc:description/>
  <dc:language>en-US</dc:language>
  <cp:lastModifiedBy>Сергей</cp:lastModifiedBy>
  <dcterms:modified xsi:type="dcterms:W3CDTF">2022-04-09T08:47:27Z</dcterms:modified>
  <cp:revision>20</cp:revision>
  <dc:subject/>
  <dc:title>PowerPoint Presentation</dc:title>
</cp:coreProperties>
</file>