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8F6A-5E67-47F3-8268-33E3A97D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793A-FD7A-422C-9BEF-AFF55226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9F40-2545-4157-A4E8-3EE93DAB9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B29E-C32D-4099-B4F9-D03D123FA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B800-134E-4376-B179-6A362E7A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E3CB-1538-47C6-94FF-84DE64C8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FC78-42B7-49A6-9C2A-9754DC59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61D1-5A92-4556-BD4B-12162658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8D84-2B44-43A4-8FE4-E3025B8C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4C22-0B0C-4BF8-9123-74407D98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E902-C37E-46BA-B22A-E53DFB7D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F711-9D16-4CD0-BB74-417FE95D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D067-0E1A-4756-A5CA-64C22E8191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drugaya-arh.ru/200-text/arh-slov/pic-hata1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hyperlink" Target="http://img1.liveinternet.ru/images/attach/c/3/77/406/77406103_4bf4f21c80ff5351d55169f7c800b18e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a18003.rimg.info/icon/17615530005312f4a72fc8da96650b9b0eba3897cf.jpg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900igr.net/datas/istorija/Russkij-byt/0027-027-Pech.jpg" TargetMode="External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142920" y="71424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радиции и культура русского наро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5643720" y="3286080"/>
            <a:ext cx="328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: Дрыгин В.А.,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ДОУ №5 «Тополек»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Жармухамбетова В.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-142920"/>
            <a:ext cx="9334440" cy="7000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https://pp.userapi.com/c848636/v848636268/b8222/6bNI1b1l9Ek.jpg"/>
          <p:cNvPicPr/>
          <p:nvPr/>
        </p:nvPicPr>
        <p:blipFill>
          <a:blip r:embed="rId2"/>
          <a:stretch/>
        </p:blipFill>
        <p:spPr>
          <a:xfrm>
            <a:off x="3929040" y="500040"/>
            <a:ext cx="4929120" cy="587052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4"/>
          <p:cNvSpPr/>
          <p:nvPr/>
        </p:nvSpPr>
        <p:spPr>
          <a:xfrm>
            <a:off x="285840" y="428760"/>
            <a:ext cx="350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емьи были больш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Жили вместе бабушки с дедушками, их дети и вну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емье было несколько детей. Старшие дети помогали младшим и уважали взросл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7"/>
          <p:cNvSpPr/>
          <p:nvPr/>
        </p:nvSpPr>
        <p:spPr>
          <a:xfrm>
            <a:off x="500040" y="357120"/>
            <a:ext cx="32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м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0"/>
            <a:ext cx="9334440" cy="700092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7"/>
          <p:cNvSpPr/>
          <p:nvPr/>
        </p:nvSpPr>
        <p:spPr>
          <a:xfrm>
            <a:off x="214200" y="428760"/>
            <a:ext cx="89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кла- обер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8"/>
          <p:cNvSpPr/>
          <p:nvPr/>
        </p:nvSpPr>
        <p:spPr>
          <a:xfrm>
            <a:off x="214200" y="100008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ая кукла с давних времён делалась из веточек и лоскутиков, сухой трав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лы символизировали всё тайное и волшебное, что есть в душе челов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553" descr="Русская народна кукла"/>
          <p:cNvPicPr/>
          <p:nvPr/>
        </p:nvPicPr>
        <p:blipFill>
          <a:blip r:embed="rId2"/>
          <a:stretch/>
        </p:blipFill>
        <p:spPr>
          <a:xfrm>
            <a:off x="214200" y="1928880"/>
            <a:ext cx="2887920" cy="30002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576" descr="Берегиня"/>
          <p:cNvPicPr/>
          <p:nvPr/>
        </p:nvPicPr>
        <p:blipFill>
          <a:blip r:embed="rId3"/>
          <a:stretch/>
        </p:blipFill>
        <p:spPr>
          <a:xfrm>
            <a:off x="3286080" y="1928880"/>
            <a:ext cx="2571840" cy="28922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578" descr="http://img-fotki.yandex.ru/get/6005/zaryanka-tlt.6/0_5a158_871afc8a_M"/>
          <p:cNvPicPr/>
          <p:nvPr/>
        </p:nvPicPr>
        <p:blipFill>
          <a:blip r:embed="rId4"/>
          <a:stretch/>
        </p:blipFill>
        <p:spPr>
          <a:xfrm>
            <a:off x="6072120" y="1857240"/>
            <a:ext cx="26161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0"/>
            <a:ext cx="9334440" cy="7000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ttps://i.pinimg.com/originals/b4/a1/12/b4a112be9a98ec94407da509172421fe.jpg"/>
          <p:cNvPicPr/>
          <p:nvPr/>
        </p:nvPicPr>
        <p:blipFill>
          <a:blip r:embed="rId2"/>
          <a:stretch/>
        </p:blipFill>
        <p:spPr>
          <a:xfrm>
            <a:off x="214200" y="85716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https://ds04.infourok.ru/uploads/ex/0cad/00004744-4ad0e729/hello_html_m698a0f3c.jpg"/>
          <p:cNvPicPr/>
          <p:nvPr/>
        </p:nvPicPr>
        <p:blipFill>
          <a:blip r:embed="rId3"/>
          <a:srcRect l="23197" t="2497" r="0" b="0"/>
          <a:stretch/>
        </p:blipFill>
        <p:spPr>
          <a:xfrm>
            <a:off x="4257720" y="3571920"/>
            <a:ext cx="4886280" cy="32860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6"/>
          <p:cNvSpPr/>
          <p:nvPr/>
        </p:nvSpPr>
        <p:spPr>
          <a:xfrm>
            <a:off x="4500720" y="78588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иняные игру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7"/>
          <p:cNvSpPr/>
          <p:nvPr/>
        </p:nvSpPr>
        <p:spPr>
          <a:xfrm>
            <a:off x="285840" y="4286160"/>
            <a:ext cx="40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ымковская игру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4500720" y="292896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лимоновская игру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-142920"/>
            <a:ext cx="9334440" cy="70009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3"/>
          <p:cNvSpPr/>
          <p:nvPr/>
        </p:nvSpPr>
        <p:spPr>
          <a:xfrm>
            <a:off x="500040" y="57168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народный фолькл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https://ds04.infourok.ru/uploads/ex/05a8/00127c37-aaa035bd/hello_html_4d656db4.jpg"/>
          <p:cNvPicPr/>
          <p:nvPr/>
        </p:nvPicPr>
        <p:blipFill>
          <a:blip r:embed="rId2"/>
          <a:stretch/>
        </p:blipFill>
        <p:spPr>
          <a:xfrm>
            <a:off x="1214280" y="1071720"/>
            <a:ext cx="6715440" cy="42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-142920"/>
            <a:ext cx="9334440" cy="70009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https://s57.radikal.ru/i156/1501/4a/cb2599d2ee96.jpg"/>
          <p:cNvPicPr/>
          <p:nvPr/>
        </p:nvPicPr>
        <p:blipFill>
          <a:blip r:embed="rId2"/>
          <a:stretch/>
        </p:blipFill>
        <p:spPr>
          <a:xfrm>
            <a:off x="214200" y="1214280"/>
            <a:ext cx="3786480" cy="28022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4"/>
          <p:cNvSpPr/>
          <p:nvPr/>
        </p:nvSpPr>
        <p:spPr>
          <a:xfrm>
            <a:off x="1071720" y="57168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гадай русскую народную сказ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https://s017.radikal.ru/i415/1501/db/1f1c2cc3a8ca.jpg"/>
          <p:cNvPicPr/>
          <p:nvPr/>
        </p:nvPicPr>
        <p:blipFill>
          <a:blip r:embed="rId3"/>
          <a:stretch/>
        </p:blipFill>
        <p:spPr>
          <a:xfrm>
            <a:off x="5210280" y="1285920"/>
            <a:ext cx="3933720" cy="2714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Ð¢ÑÐ¸ Ð¼ÐµÐ´Ð²ÐµÐ´Ñ - ÑÑÑÑÐºÐ°Ñ Ð½Ð°ÑÐ¾Ð´Ð½Ð°Ñ ÑÐºÐ°Ð·ÐºÐ°"/>
          <p:cNvPicPr/>
          <p:nvPr/>
        </p:nvPicPr>
        <p:blipFill>
          <a:blip r:embed="rId4"/>
          <a:stretch/>
        </p:blipFill>
        <p:spPr>
          <a:xfrm>
            <a:off x="214200" y="4143240"/>
            <a:ext cx="3772080" cy="2571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Ð Ð¿ÑÐµÐ´Ð½Ð¾Ð²Ð¾Ð³Ð¾Ð´Ð½ÑÑ Ð¿Ð¾ÑÑ ÑÐ¾Ð»ÑÐºÐ¾ ÑÐºÐ°Ð·ÐºÐ¸ ÑÐºÐ°Ð·ÑÐ²Ð°ÑÑ. Ð Ð²Ð¾Ñ Ð¸ ÑÑÑÑÐºÐ¸Ðµ Ð½Ð°ÑÐ¾Ð´Ð½ÑÐµ Ð¿Ð¾ÑÐ»Ð¾Ð²Ð¸ÑÑ Ð¸ Ð¿Ð¾Ð³Ð¾Ð²Ð¾ÑÐºÐ¸ Ð¾ ÑÐºÐ°Ð·ÐºÐ°Ñ. ÐÑÐ°ÑÐ¸Ð²ÑÐµ Ð¸ Ð¼ÑÐ´ÑÑÐµ!"/>
          <p:cNvPicPr/>
          <p:nvPr/>
        </p:nvPicPr>
        <p:blipFill>
          <a:blip r:embed="rId5"/>
          <a:stretch/>
        </p:blipFill>
        <p:spPr>
          <a:xfrm>
            <a:off x="5324400" y="4143240"/>
            <a:ext cx="38196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-3240" y="-114480"/>
            <a:ext cx="9334440" cy="700092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"/>
          <p:cNvSpPr/>
          <p:nvPr/>
        </p:nvSpPr>
        <p:spPr>
          <a:xfrm>
            <a:off x="900000" y="692280"/>
            <a:ext cx="293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бывай русские народные традиции. Знание вековой культуры русского народа обогатит тебя духов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1" descr=""/>
          <p:cNvPicPr/>
          <p:nvPr/>
        </p:nvPicPr>
        <p:blipFill>
          <a:blip r:embed="rId2"/>
          <a:stretch/>
        </p:blipFill>
        <p:spPr>
          <a:xfrm>
            <a:off x="4859280" y="476280"/>
            <a:ext cx="414972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-142920"/>
            <a:ext cx="9334440" cy="700092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2"/>
          <p:cNvSpPr/>
          <p:nvPr/>
        </p:nvSpPr>
        <p:spPr>
          <a:xfrm>
            <a:off x="344520" y="2081160"/>
            <a:ext cx="864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214200" y="235728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-7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1"/>
          <p:cNvSpPr/>
          <p:nvPr/>
        </p:nvSpPr>
        <p:spPr>
          <a:xfrm>
            <a:off x="468360" y="981000"/>
            <a:ext cx="820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щать детей к истокам русской культу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ать развивать у детей интерес и любовь к русской национальной культуре, народному творчеству, обычаям, традициям, к народным играм; развивать эстетическое и нравственное восприятие мира; дать представление об устройстве дома, об истории народного костюма; создание условий, способствующих воспитанию детей дошкольного возраста средствами народной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totalarch.com/files/gallery/gc_2016_12_04.jpg"/>
          <p:cNvPicPr/>
          <p:nvPr/>
        </p:nvPicPr>
        <p:blipFill>
          <a:blip r:embed="rId2"/>
          <a:stretch/>
        </p:blipFill>
        <p:spPr>
          <a:xfrm>
            <a:off x="285840" y="714240"/>
            <a:ext cx="4236840" cy="2786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http://www.drugaya-arh.ru/200-text/arh-slov/pic-hata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2071800"/>
            <a:ext cx="4373640" cy="298116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4643280" y="714240"/>
            <a:ext cx="428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давно на Руси жили в деревянных домах. Строили их из бревен и называли изб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6"/>
          <p:cNvSpPr/>
          <p:nvPr/>
        </p:nvSpPr>
        <p:spPr>
          <a:xfrm>
            <a:off x="285840" y="214200"/>
            <a:ext cx="85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ая из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7"/>
          <p:cNvSpPr/>
          <p:nvPr/>
        </p:nvSpPr>
        <p:spPr>
          <a:xfrm>
            <a:off x="5572080" y="1000080"/>
            <a:ext cx="30006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традиционный дом состоит из двух частей: холодной (сени, клеть, подклеть) и тёплой (там, где находилась печь).  Всё в доме было продуманно до мелочей и выверено веками. Дом строился из сосны. А крышу крыли соломой или осиновыми дощечками. Передний конец крыши имел конёк – знак устремления. Только русские сравнивали дом с колесницей, которая должна привести семью к лучшему будущему. Снаружи дома украшались резьб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s://kelohouse.ru/images/lemex/160x127x36.jpg.pagespeed.ic.32IzTC0jLc.jpg"/>
          <p:cNvPicPr/>
          <p:nvPr/>
        </p:nvPicPr>
        <p:blipFill>
          <a:blip r:embed="rId2"/>
          <a:stretch/>
        </p:blipFill>
        <p:spPr>
          <a:xfrm>
            <a:off x="214200" y="1000080"/>
            <a:ext cx="52387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900igr.net/up/datai/263465/0001-001-.jpg"/>
          <p:cNvPicPr/>
          <p:nvPr/>
        </p:nvPicPr>
        <p:blipFill>
          <a:blip r:embed="rId2"/>
          <a:stretch/>
        </p:blipFill>
        <p:spPr>
          <a:xfrm>
            <a:off x="0" y="-142920"/>
            <a:ext cx="9334440" cy="7000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http://www.art-catalog.ru/data_picture_2016/picture/129/11682.jpg"/>
          <p:cNvPicPr/>
          <p:nvPr/>
        </p:nvPicPr>
        <p:blipFill>
          <a:blip r:embed="rId3"/>
          <a:stretch/>
        </p:blipFill>
        <p:spPr>
          <a:xfrm>
            <a:off x="214200" y="642960"/>
            <a:ext cx="4808520" cy="3357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http://img1.liveinternet.ru/images/attach/c/3/77/406/77406103_4bf4f21c80ff5351d55169f7c800b18e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4920" y="2571840"/>
            <a:ext cx="4429080" cy="405756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8"/>
          <p:cNvSpPr/>
          <p:nvPr/>
        </p:nvSpPr>
        <p:spPr>
          <a:xfrm>
            <a:off x="5000760" y="571680"/>
            <a:ext cx="414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бе была одна комната – горница. Она была и кухней и спальней. В обстановке избы нет ни одного лишнего предмета, каждая вещь имеет свое строго определенное назначение и мес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9"/>
          <p:cNvSpPr/>
          <p:nvPr/>
        </p:nvSpPr>
        <p:spPr>
          <a:xfrm>
            <a:off x="214200" y="3929040"/>
            <a:ext cx="435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нице стояли сундуки, которые служили хозяевам вместо шкафов, тумбочек.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их хранили одежду, ткани, украшения. Чем больше сундуков было в доме, тем богаче считалась сем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-142920"/>
            <a:ext cx="9334440" cy="70009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571680" y="285840"/>
            <a:ext cx="814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ая печь в из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http://a18003.rimg.info/icon/17615530005312f4a72fc8da96650b9b0eba3897cf.jpg">
            <a:hlinkClick r:id="rId2"/>
          </p:cNvPr>
          <p:cNvPicPr/>
          <p:nvPr/>
        </p:nvPicPr>
        <p:blipFill>
          <a:blip r:embed="rId3"/>
          <a:srcRect l="0" t="0" r="0" b="8825"/>
          <a:stretch/>
        </p:blipFill>
        <p:spPr>
          <a:xfrm>
            <a:off x="214200" y="2928960"/>
            <a:ext cx="4500720" cy="3751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http://900igr.net/datas/istorija/Russkij-byt/0027-027-Pech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84920" y="857160"/>
            <a:ext cx="4159080" cy="2457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https://media.informpskov.ru/pictures/20101113111940.jpg"/>
          <p:cNvPicPr/>
          <p:nvPr/>
        </p:nvPicPr>
        <p:blipFill>
          <a:blip r:embed="rId6"/>
          <a:stretch/>
        </p:blipFill>
        <p:spPr>
          <a:xfrm>
            <a:off x="5000760" y="3571920"/>
            <a:ext cx="4143240" cy="30319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6"/>
          <p:cNvSpPr/>
          <p:nvPr/>
        </p:nvSpPr>
        <p:spPr>
          <a:xfrm>
            <a:off x="214200" y="64296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реди горницы ставили печь. О ней говорили: «Печь – всему голова»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а – значит, самая главная. Топили печь дровами. Русская печь, как мать родная, накормит и обогреет, когда надо вылечит и обсуши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угуне готовили пищу. Ухват использовали для того, чтобы достать из печи чугунок с горячей едой на ст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-142920"/>
            <a:ext cx="9334440" cy="70009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357120" y="428760"/>
            <a:ext cx="878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Руси за водой ходили с коромысл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" descr="tropa_922"/>
          <p:cNvPicPr/>
          <p:nvPr/>
        </p:nvPicPr>
        <p:blipFill>
          <a:blip r:embed="rId2"/>
          <a:stretch/>
        </p:blipFill>
        <p:spPr>
          <a:xfrm>
            <a:off x="285840" y="928800"/>
            <a:ext cx="3571920" cy="2984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://content.foto.mail.ru/mail/lyudmila-1946/_blogs/i-18110.jpg"/>
          <p:cNvPicPr/>
          <p:nvPr/>
        </p:nvPicPr>
        <p:blipFill>
          <a:blip r:embed="rId3"/>
          <a:stretch/>
        </p:blipFill>
        <p:spPr>
          <a:xfrm>
            <a:off x="4000680" y="928800"/>
            <a:ext cx="5186160" cy="3071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im0-tub-ru.yandex.net/i?id=123309110-36-72&amp;n=21"/>
          <p:cNvPicPr/>
          <p:nvPr/>
        </p:nvPicPr>
        <p:blipFill>
          <a:blip r:embed="rId4"/>
          <a:stretch/>
        </p:blipFill>
        <p:spPr>
          <a:xfrm>
            <a:off x="3500280" y="3429000"/>
            <a:ext cx="26560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-142920"/>
            <a:ext cx="9334440" cy="7000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ttp://wlooks.ru/images/article/orig/2016/11/russkij-narodnyj-russkij-kostyum-2.jpg"/>
          <p:cNvPicPr/>
          <p:nvPr/>
        </p:nvPicPr>
        <p:blipFill>
          <a:blip r:embed="rId2"/>
          <a:srcRect l="0" t="1098" r="50834" b="0"/>
          <a:stretch/>
        </p:blipFill>
        <p:spPr>
          <a:xfrm>
            <a:off x="214200" y="928800"/>
            <a:ext cx="3857760" cy="54925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3"/>
          <p:cNvSpPr/>
          <p:nvPr/>
        </p:nvSpPr>
        <p:spPr>
          <a:xfrm>
            <a:off x="357120" y="428760"/>
            <a:ext cx="878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национальный костю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4286160" y="1000080"/>
            <a:ext cx="4857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е традиционные наряды всегда делились 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седневные и праздничны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иболее роскошной считалась одежд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ого цве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ряды для женщин всегда были интереснее и разнообразнее мужских. Со времен Древней Рус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ский костю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л из сорочницы (простой рубахи в пол), сарафана и передника. Неотъемлемой частью любого традиционного наряда всегда была вышивка. В каждой губернии она отличалась цветами и узорами. Вышивкой украшали подол и рука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ской костю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стоял из простой рубахи, штанов и поя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0"/>
            <a:ext cx="9334440" cy="70009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2"/>
          <p:cNvSpPr/>
          <p:nvPr/>
        </p:nvSpPr>
        <p:spPr>
          <a:xfrm>
            <a:off x="857160" y="57168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ап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i?id=17692540-52-72&amp;n=21"/>
          <p:cNvPicPr/>
          <p:nvPr/>
        </p:nvPicPr>
        <p:blipFill>
          <a:blip r:embed="rId2"/>
          <a:stretch/>
        </p:blipFill>
        <p:spPr>
          <a:xfrm>
            <a:off x="500040" y="571680"/>
            <a:ext cx="3286080" cy="3192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i?id=431694681-20-72&amp;n=21"/>
          <p:cNvPicPr/>
          <p:nvPr/>
        </p:nvPicPr>
        <p:blipFill>
          <a:blip r:embed="rId3"/>
          <a:stretch/>
        </p:blipFill>
        <p:spPr>
          <a:xfrm>
            <a:off x="5429160" y="571680"/>
            <a:ext cx="3429000" cy="32112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5"/>
          <p:cNvSpPr/>
          <p:nvPr/>
        </p:nvSpPr>
        <p:spPr>
          <a:xfrm>
            <a:off x="142920" y="3857760"/>
            <a:ext cx="90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пти – один из самых древних видов обуви. Делались лапти и из коры ракиты (верзки), ивы (ивняки), вяза (вязовики), березы (берестянники), дуба (дубовики), из тала (шелюжники), из пеньковых оческов, старых веревок (курпы, крутцы, чуни, шептуны), из конского волоса – грив и хвостов – (волосянники), и даже из соломы (соломенник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5:48:04Z</dcterms:created>
  <dc:creator>DESIGN</dc:creator>
  <dc:description/>
  <dc:language>en-US</dc:language>
  <cp:lastModifiedBy>пк</cp:lastModifiedBy>
  <dcterms:modified xsi:type="dcterms:W3CDTF">2022-04-09T11:34:55Z</dcterms:modified>
  <cp:revision>184</cp:revision>
  <dc:subject/>
  <dc:title>Слайд 1</dc:title>
</cp:coreProperties>
</file>