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1DC-9ACF-493B-B4FF-6AF445CE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7FD-D440-4D12-9F96-938A7E6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63E-DF1E-48FD-9CC2-0D9D4186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54C-FFBE-4386-AE6E-3DD5ED7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F97-6455-42F0-BB04-6396F9A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8B6-0FD6-4E62-8A62-584EC3A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F96-395B-42E6-8E18-326491EF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1A4-B4A3-4AD1-930C-36960BC7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D1C-24A1-430C-B07F-BB4B420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07D-8E11-48A0-9802-05E92154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42-D02D-4CC3-948F-C86AF8A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D5A-7751-4FEA-8568-7B77F728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067E-C78D-4F6D-9692-7D4DB67C7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drugaya-arh.ru/200-text/arh-slov/pic-hata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hyperlink" Target="http://img1.liveinternet.ru/images/attach/c/3/77/406/77406103_4bf4f21c80ff5351d55169f7c800b18e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18003.rimg.info/icon/17615530005312f4a72fc8da96650b9b0eba3897cf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900igr.net/datas/istorija/Russkij-byt/0027-027-Pech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42920" y="71424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адиции и культура русско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643720" y="3286080"/>
            <a:ext cx="328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: Дрыгин В.А.,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5 «Тополек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Жармухамбетова В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s://pp.userapi.com/c848636/v848636268/b8222/6bNI1b1l9Ek.jpg"/>
          <p:cNvPicPr/>
          <p:nvPr/>
        </p:nvPicPr>
        <p:blipFill>
          <a:blip r:embed="rId2"/>
          <a:stretch/>
        </p:blipFill>
        <p:spPr>
          <a:xfrm>
            <a:off x="3929040" y="500040"/>
            <a:ext cx="4929120" cy="5870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85840" y="42876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и были 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 вместе бабушки с дедушками, их дети и вн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е было несколько детей. Старшие дети помогали младшим и уважали взросл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00040" y="357120"/>
            <a:ext cx="32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14200" y="42876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14200" y="10000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кукла с давних времён делалась из веточек и лоскутиков, сухой тра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53" descr="Русская народна кукла"/>
          <p:cNvPicPr/>
          <p:nvPr/>
        </p:nvPicPr>
        <p:blipFill>
          <a:blip r:embed="rId2"/>
          <a:stretch/>
        </p:blipFill>
        <p:spPr>
          <a:xfrm>
            <a:off x="214200" y="1928880"/>
            <a:ext cx="288792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76" descr="Берегиня"/>
          <p:cNvPicPr/>
          <p:nvPr/>
        </p:nvPicPr>
        <p:blipFill>
          <a:blip r:embed="rId3"/>
          <a:stretch/>
        </p:blipFill>
        <p:spPr>
          <a:xfrm>
            <a:off x="3286080" y="1928880"/>
            <a:ext cx="2571840" cy="2892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78" descr="http://img-fotki.yandex.ru/get/6005/zaryanka-tlt.6/0_5a158_871afc8a_M"/>
          <p:cNvPicPr/>
          <p:nvPr/>
        </p:nvPicPr>
        <p:blipFill>
          <a:blip r:embed="rId4"/>
          <a:stretch/>
        </p:blipFill>
        <p:spPr>
          <a:xfrm>
            <a:off x="6072120" y="1857240"/>
            <a:ext cx="2616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s://i.pinimg.com/originals/b4/a1/12/b4a112be9a98ec94407da509172421fe.jpg"/>
          <p:cNvPicPr/>
          <p:nvPr/>
        </p:nvPicPr>
        <p:blipFill>
          <a:blip r:embed="rId2"/>
          <a:stretch/>
        </p:blipFill>
        <p:spPr>
          <a:xfrm>
            <a:off x="214200" y="8571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s://ds04.infourok.ru/uploads/ex/0cad/00004744-4ad0e729/hello_html_m698a0f3c.jpg"/>
          <p:cNvPicPr/>
          <p:nvPr/>
        </p:nvPicPr>
        <p:blipFill>
          <a:blip r:embed="rId3"/>
          <a:srcRect l="23197" t="2497" r="0" b="0"/>
          <a:stretch/>
        </p:blipFill>
        <p:spPr>
          <a:xfrm>
            <a:off x="4257720" y="3571920"/>
            <a:ext cx="4886280" cy="3286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4500720" y="7858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няные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85840" y="428616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ымк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4500720" y="29289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имон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500040" y="5716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s://ds04.infourok.ru/uploads/ex/05a8/00127c37-aaa035bd/hello_html_4d656db4.jpg"/>
          <p:cNvPicPr/>
          <p:nvPr/>
        </p:nvPicPr>
        <p:blipFill>
          <a:blip r:embed="rId2"/>
          <a:stretch/>
        </p:blipFill>
        <p:spPr>
          <a:xfrm>
            <a:off x="1214280" y="1071720"/>
            <a:ext cx="67154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s://s57.radikal.ru/i156/1501/4a/cb2599d2ee96.jpg"/>
          <p:cNvPicPr/>
          <p:nvPr/>
        </p:nvPicPr>
        <p:blipFill>
          <a:blip r:embed="rId2"/>
          <a:stretch/>
        </p:blipFill>
        <p:spPr>
          <a:xfrm>
            <a:off x="214200" y="1214280"/>
            <a:ext cx="3786480" cy="28022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071720" y="571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адай русскую народную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s://s017.radikal.ru/i415/1501/db/1f1c2cc3a8ca.jpg"/>
          <p:cNvPicPr/>
          <p:nvPr/>
        </p:nvPicPr>
        <p:blipFill>
          <a:blip r:embed="rId3"/>
          <a:stretch/>
        </p:blipFill>
        <p:spPr>
          <a:xfrm>
            <a:off x="5210280" y="1285920"/>
            <a:ext cx="3933720" cy="271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Ð¢ÑÐ¸ Ð¼ÐµÐ´Ð²ÐµÐ´Ñ - ÑÑÑÑÐºÐ°Ñ Ð½Ð°ÑÐ¾Ð´Ð½Ð°Ñ ÑÐºÐ°Ð·ÐºÐ°"/>
          <p:cNvPicPr/>
          <p:nvPr/>
        </p:nvPicPr>
        <p:blipFill>
          <a:blip r:embed="rId4"/>
          <a:stretch/>
        </p:blipFill>
        <p:spPr>
          <a:xfrm>
            <a:off x="214200" y="41432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Ð Ð¿ÑÐµÐ´Ð½Ð¾Ð²Ð¾Ð³Ð¾Ð´Ð½ÑÑ Ð¿Ð¾ÑÑ ÑÐ¾Ð»ÑÐºÐ¾ ÑÐºÐ°Ð·ÐºÐ¸ ÑÐºÐ°Ð·ÑÐ²Ð°ÑÑ. Ð Ð²Ð¾Ñ Ð¸ ÑÑÑÑÐºÐ¸Ðµ Ð½Ð°ÑÐ¾Ð´Ð½ÑÐµ Ð¿Ð¾ÑÐ»Ð¾Ð²Ð¸ÑÑ Ð¸ Ð¿Ð¾Ð³Ð¾Ð²Ð¾ÑÐºÐ¸ Ð¾ ÑÐºÐ°Ð·ÐºÐ°Ñ. ÐÑÐ°ÑÐ¸Ð²ÑÐµ Ð¸ Ð¼ÑÐ´ÑÑÐµ!"/>
          <p:cNvPicPr/>
          <p:nvPr/>
        </p:nvPicPr>
        <p:blipFill>
          <a:blip r:embed="rId5"/>
          <a:stretch/>
        </p:blipFill>
        <p:spPr>
          <a:xfrm>
            <a:off x="5324400" y="4143240"/>
            <a:ext cx="3819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-3240" y="-11448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900000" y="692280"/>
            <a:ext cx="29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й русские народные традиции. Знание вековой культуры русского народа обогатит тебя духо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1497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344520" y="2081160"/>
            <a:ext cx="864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214200" y="23572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68360" y="98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детей к истокам русск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у детей интерес и любовь к русской национальной культуре, народному творчеству, обычаям, традициям, к народным играм; развивать эстетическое и нравственное восприятие мира; дать представление об устройстве дома, об истории народного костюма; создание условий, способствующих воспитанию детей дошкольного возраста средствами на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totalarch.com/files/gallery/gc_2016_12_04.jpg"/>
          <p:cNvPicPr/>
          <p:nvPr/>
        </p:nvPicPr>
        <p:blipFill>
          <a:blip r:embed="rId2"/>
          <a:stretch/>
        </p:blipFill>
        <p:spPr>
          <a:xfrm>
            <a:off x="285840" y="714240"/>
            <a:ext cx="423684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www.drugaya-arh.ru/200-text/arh-slov/pic-hata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071800"/>
            <a:ext cx="437364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643280" y="714240"/>
            <a:ext cx="428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авно на Руси жили в деревянных домах. Строили их из бревен и называли изб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8584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572080" y="1000080"/>
            <a:ext cx="30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Передний конец крыши имел конёк – знак устремления. Только русские сравнивали дом с колесницей, которая должна привести семью к лучшему будущему. Снаружи дома украшались резь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kelohouse.ru/images/lemex/160x127x36.jpg.pagespeed.ic.32IzTC0jLc.jpg"/>
          <p:cNvPicPr/>
          <p:nvPr/>
        </p:nvPicPr>
        <p:blipFill>
          <a:blip r:embed="rId2"/>
          <a:stretch/>
        </p:blipFill>
        <p:spPr>
          <a:xfrm>
            <a:off x="214200" y="10000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art-catalog.ru/data_picture_2016/picture/129/11682.jpg"/>
          <p:cNvPicPr/>
          <p:nvPr/>
        </p:nvPicPr>
        <p:blipFill>
          <a:blip r:embed="rId3"/>
          <a:stretch/>
        </p:blipFill>
        <p:spPr>
          <a:xfrm>
            <a:off x="214200" y="642960"/>
            <a:ext cx="480852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mg1.liveinternet.ru/images/attach/c/3/77/406/77406103_4bf4f21c80ff5351d55169f7c800b18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571840"/>
            <a:ext cx="4429080" cy="4057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5000760" y="57168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е была одна комната – горница. Она была и кухней и спальней. В обстановке избы нет ни одного лишнего предмета, каждая вещь имеет свое строго определенное назначение и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214200" y="3929040"/>
            <a:ext cx="43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нице стояли сундуки, которые служили хозяевам вместо шкафов, тумбочек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хранили одежду, ткани, украшения. Чем больше сундуков было в доме, тем богаче считалась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571680" y="28584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a18003.rimg.info/icon/17615530005312f4a72fc8da96650b9b0eba3897cf.jpg">
            <a:hlinkClick r:id="rId2"/>
          </p:cNvPr>
          <p:cNvPicPr/>
          <p:nvPr/>
        </p:nvPicPr>
        <p:blipFill>
          <a:blip r:embed="rId3"/>
          <a:srcRect l="0" t="0" r="0" b="8825"/>
          <a:stretch/>
        </p:blipFill>
        <p:spPr>
          <a:xfrm>
            <a:off x="214200" y="2928960"/>
            <a:ext cx="4500720" cy="37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900igr.net/datas/istorija/Russkij-byt/0027-027-Pe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84920" y="857160"/>
            <a:ext cx="4159080" cy="24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s://media.informpskov.ru/pictures/20101113111940.jpg"/>
          <p:cNvPicPr/>
          <p:nvPr/>
        </p:nvPicPr>
        <p:blipFill>
          <a:blip r:embed="rId6"/>
          <a:stretch/>
        </p:blipFill>
        <p:spPr>
          <a:xfrm>
            <a:off x="5000760" y="3571920"/>
            <a:ext cx="4143240" cy="3031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1420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и горницы ставили печь. О ней говорили: «Печь – всему голова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– значит, самая главная. Топили печь дровами. Русская печь, как мать родная, накормит и обогреет, когда надо вылечит и обсуш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гуне готовили пищу. Ухват использовали для того, чтобы достать из печи чугунок с горячей едой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tropa_922"/>
          <p:cNvPicPr/>
          <p:nvPr/>
        </p:nvPicPr>
        <p:blipFill>
          <a:blip r:embed="rId2"/>
          <a:stretch/>
        </p:blipFill>
        <p:spPr>
          <a:xfrm>
            <a:off x="285840" y="928800"/>
            <a:ext cx="3571920" cy="298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content.foto.mail.ru/mail/lyudmila-1946/_blogs/i-18110.jpg"/>
          <p:cNvPicPr/>
          <p:nvPr/>
        </p:nvPicPr>
        <p:blipFill>
          <a:blip r:embed="rId3"/>
          <a:stretch/>
        </p:blipFill>
        <p:spPr>
          <a:xfrm>
            <a:off x="4000680" y="928800"/>
            <a:ext cx="51861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0-tub-ru.yandex.net/i?id=123309110-36-72&amp;n=21"/>
          <p:cNvPicPr/>
          <p:nvPr/>
        </p:nvPicPr>
        <p:blipFill>
          <a:blip r:embed="rId4"/>
          <a:stretch/>
        </p:blipFill>
        <p:spPr>
          <a:xfrm>
            <a:off x="3500280" y="3429000"/>
            <a:ext cx="2656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looks.ru/images/article/orig/2016/11/russkij-narodnyj-russkij-kostyum-2.jpg"/>
          <p:cNvPicPr/>
          <p:nvPr/>
        </p:nvPicPr>
        <p:blipFill>
          <a:blip r:embed="rId2"/>
          <a:srcRect l="0" t="1098" r="50834" b="0"/>
          <a:stretch/>
        </p:blipFill>
        <p:spPr>
          <a:xfrm>
            <a:off x="214200" y="928800"/>
            <a:ext cx="3857760" cy="5492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86160" y="100008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традиционные наряды всегда делилис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ые и празднич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оскошной считалась одеж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го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яды для женщин всегда были интереснее и разнообразнее мужских. Со времен Древней Рус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л из сорочницы (простой рубахи в пол), сарафана и передника. Неотъемлемой частью любого традиционного наряда всегда была вышивка. В каждой губернии она отличалась цветами и узорами. Вышивкой украшали подол и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л из простой рубахи, штанов и поя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857160" y="5716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?id=17692540-52-72&amp;n=21"/>
          <p:cNvPicPr/>
          <p:nvPr/>
        </p:nvPicPr>
        <p:blipFill>
          <a:blip r:embed="rId2"/>
          <a:stretch/>
        </p:blipFill>
        <p:spPr>
          <a:xfrm>
            <a:off x="500040" y="571680"/>
            <a:ext cx="3286080" cy="319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?id=431694681-20-72&amp;n=21"/>
          <p:cNvPicPr/>
          <p:nvPr/>
        </p:nvPicPr>
        <p:blipFill>
          <a:blip r:embed="rId3"/>
          <a:stretch/>
        </p:blipFill>
        <p:spPr>
          <a:xfrm>
            <a:off x="5429160" y="571680"/>
            <a:ext cx="3429000" cy="3211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42920" y="3857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пк</cp:lastModifiedBy>
  <dcterms:modified xsi:type="dcterms:W3CDTF">2022-04-09T11:34:55Z</dcterms:modified>
  <cp:revision>184</cp:revision>
  <dc:subject/>
  <dc:title>Слайд 1</dc:title>
</cp:coreProperties>
</file>