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F376-7061-420B-B6C6-B180BB00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CE67-BDF6-4C08-8FC4-5702960C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8EE-36D6-4AD1-9641-C7CD31E8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F89B-F77E-4518-A61C-6FEAFEBD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EB2A-8B54-43BB-B174-24EF4629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84E8-A375-42A2-8947-1A86AD91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E6AC-959F-4587-A811-D719D44D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0EDD-AB7C-4811-BCBD-9FC48441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AB97-1281-4F26-9B92-CEC358B3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7F90-1BF4-4C84-A60B-6605AC72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32D5-C08F-455A-80DF-3F569A7F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3B8B-C176-406C-B9CB-EBCEBA41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71C5-2048-4C48-BF16-571BFC61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212D-4C3C-49B6-ADC9-A62509C3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E1EC-02ED-48A7-A3B7-35EB25B6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694F-DC6B-4513-A29F-BD537B33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6614-D08E-4E6F-87E1-2B1B55C5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B54CE-8134-4429-8596-27BD9CFC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70D6B-AC40-446A-9DD3-A3406366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5AECA-65C8-4573-B574-AD4B9786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B7CEF-49AE-4B90-95BA-4A009E3F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DC94B-4DE6-41FB-A482-4211F24C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4544-1915-48FC-9755-A8AB78D2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34DAB-870B-447A-88C4-69876116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DD955-799D-4568-81A3-89317A09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C34AB-139F-43E4-B56C-026A36C4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CCF3AF-CFD0-470E-9EB2-591B9E25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361A5-AAAE-44E5-B45D-4CED933F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D3106-D35E-4D0C-A04D-FEBA1E36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36540-47EB-4B22-B5C1-94B53880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D614A-A8BD-45DD-8A61-3E3DE21E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56C30-11E6-49D4-96A0-64AAB2E0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2895C-A9A3-447F-8486-FD94EF9D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7B4F-3CDC-4228-A893-9B51E983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D3652-5663-4591-922D-0C91034C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E3A7A-F86C-4C95-B6BB-4B03F0C8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D8A2F-C952-4C37-8B42-8133EBB4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2AB32-6B63-47A3-803F-ADEA7F78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8D648-7323-4E7E-8256-54EC80EF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B8EA8-5148-4898-8A2C-3D86EFF3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C3690-0089-42FF-BA18-6BEDE610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27915-9B8B-4866-B944-79A1605A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D5C8D-EC6E-4060-A588-8602FB58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A6DE03-0B86-4394-8163-ABAFD7AC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CAB-2E60-4D75-B6BF-BB33A5BD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68C8D1-D49E-41BD-9955-E3FA467B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10CA32-E16F-44D7-AEE9-7E243C6B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BF916F-F13B-471D-9E5E-BD043449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809A24-BA05-4236-88F8-55D9B073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FAF990-FACA-4C66-8C10-BCD3ACDF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26B4F-1189-4B3D-B9BB-B5DD6BBA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736A07-FBAC-47B8-950B-807D5F09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9A6E86-EE18-4A0A-B345-3F037197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E345A-0B04-45A3-97B4-C9359FAA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91D565-3021-4D7A-8639-E6EAB5D7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428-9FD7-4C43-BFEB-231A3F0B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41689-29B2-4295-8834-BA320976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FAD812-7768-4C86-8BE7-EBFA8F53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65007-E4EF-445B-95A7-697AFED4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D0BF7B-C33B-4F68-A148-0B27E11B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3EFFFD-F14A-41B6-BC61-0C6E5DA0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D59662-B29F-45BC-88C5-0C1D3303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418AF9-C845-4A1D-BCE0-025188EA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3EBD09-9036-46D2-86BA-2D0E1C57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146942-A094-4FA0-88CC-05F3C5C2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94C6C7-B43A-450D-8180-7BD6E52F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4E8-CAEC-4C8A-8453-B4F2F421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8CFBB6-18EE-4460-8AD7-FE12099E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865D9D-C292-4301-A0DA-4AA813CB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6CD32F-F3FD-4A2F-859F-6EB7654F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D3057D-FAA9-4D43-BF51-30162998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2A5A52-C8B9-4D39-BE8F-895BE92E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61F668-6CB4-4992-9346-F3478798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1B3422-7FB7-4E63-B1F1-34F8DED4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6E2074-E9AB-49FF-85AE-DDE861AA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41310-E2DA-4FB5-B9F0-6DF91994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E1FE8B-9AF8-4A2D-8A3E-C6F6EA01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736-694D-4A99-8A9F-40041242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A78725-DAEB-4443-BB76-936546A0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81AAAC-34EE-40FD-B673-8F828602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46BF6E-7BAD-4F70-9CED-F7D22222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CFF0D2-2908-4E14-B848-01B1B6E6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87C7E4-5A05-4CF6-A591-0AEC7856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914-6EB5-421B-A5CB-E65239B2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9737-5A79-48A7-8C49-4DBECFE81D9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38DA-8B82-4C19-A346-688C475CEEF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86F1-2C3A-4435-ADCA-A9DEE5D7B85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E610-E5FA-4BD6-B60C-8743F91C1F0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9FAC-7455-406C-82BB-4FB03CC7C11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7DF6-F067-4C64-894B-B6A7A49DB00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0815-C078-4AC7-ACEF-4C35B43C8F6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08660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осударственное бюджетное общеобразовательное   учреждение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арской области средняя общеобразовательная школ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№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 «Образовательный центр» имени 21 армии Вооруженных сил СССР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.г.т. Стройкерамика   муниципального района Волжский Самарской области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уктурное подразделение «Детский сад «Солнышко»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r>
              <a:rPr b="1" lang="ru-RU" sz="2200" spc="-1" strike="noStrike">
                <a:solidFill>
                  <a:srgbClr val="ed6613"/>
                </a:solidFill>
                <a:latin typeface="Century Schoolbook"/>
              </a:rPr>
              <a:t>Работа с родителями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d6613"/>
                </a:solidFill>
                <a:latin typeface="Century Schoolbook"/>
              </a:rPr>
              <a:t>      </a:t>
            </a:r>
            <a:r>
              <a:rPr b="1" lang="ru-RU" sz="2200" spc="-1" strike="noStrike">
                <a:solidFill>
                  <a:srgbClr val="ed6613"/>
                </a:solidFill>
                <a:latin typeface="Century Schoolbook"/>
              </a:rPr>
              <a:t>в условиях ДОУ с приоритетом физкультурно-оздоровительного направления развития дете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ff"/>
                </a:solidFill>
                <a:latin typeface="Century Schoolbook"/>
              </a:rPr>
              <a:t>  </a:t>
            </a:r>
            <a:r>
              <a:rPr b="1" lang="ru-RU" sz="1300" spc="-1" strike="noStrike">
                <a:solidFill>
                  <a:srgbClr val="0000ff"/>
                </a:solidFill>
                <a:latin typeface="Century Schoolbook"/>
              </a:rPr>
              <a:t>Инструктор по физической культуре: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ff"/>
                </a:solidFill>
                <a:latin typeface="Century Schoolbook"/>
              </a:rPr>
              <a:t>Косица Наталья Сергеевна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2133720" y="1447560"/>
            <a:ext cx="3124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Брошюры помогаю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родителям узнать о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етском саде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Брошюры могут описать концепцию детского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ада и дать общую информацию о нем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5410080" y="609480"/>
            <a:ext cx="3297240" cy="935280"/>
            <a:chOff x="5410080" y="609480"/>
            <a:chExt cx="3297240" cy="935280"/>
          </a:xfrm>
        </p:grpSpPr>
        <p:sp>
          <p:nvSpPr>
            <p:cNvPr id="389" name="Rectangle 5" hidden="1"/>
            <p:cNvSpPr/>
            <p:nvPr/>
          </p:nvSpPr>
          <p:spPr>
            <a:xfrm>
              <a:off x="5410080" y="609480"/>
              <a:ext cx="3297240" cy="9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Rectangle 6"/>
            <p:cNvSpPr/>
            <p:nvPr/>
          </p:nvSpPr>
          <p:spPr>
            <a:xfrm>
              <a:off x="5410080" y="1289520"/>
              <a:ext cx="790920" cy="2552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Rectangle 7"/>
            <p:cNvSpPr/>
            <p:nvPr/>
          </p:nvSpPr>
          <p:spPr>
            <a:xfrm>
              <a:off x="5410080" y="609480"/>
              <a:ext cx="2550960" cy="6800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AutoShape 8"/>
            <p:cNvSpPr/>
            <p:nvPr/>
          </p:nvSpPr>
          <p:spPr>
            <a:xfrm>
              <a:off x="5733000" y="863640"/>
              <a:ext cx="2556720" cy="5108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Text Box 9"/>
            <p:cNvSpPr/>
            <p:nvPr/>
          </p:nvSpPr>
          <p:spPr>
            <a:xfrm>
              <a:off x="6067080" y="974520"/>
              <a:ext cx="264024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cc0033"/>
                  </a:solidFill>
                  <a:latin typeface="Times New Roman"/>
                  <a:ea typeface="Arial"/>
                </a:rPr>
                <a:t>МДОУ детский сад №</a:t>
              </a:r>
              <a:r>
                <a:rPr b="1" i="1" lang="en-US" sz="1400" spc="-1" strike="noStrike">
                  <a:solidFill>
                    <a:srgbClr val="cc0033"/>
                  </a:solidFill>
                  <a:latin typeface="Times New Roman"/>
                  <a:ea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AutoShape 10"/>
            <p:cNvSpPr/>
            <p:nvPr/>
          </p:nvSpPr>
          <p:spPr>
            <a:xfrm>
              <a:off x="5922360" y="687600"/>
              <a:ext cx="2506320" cy="97920"/>
            </a:xfrm>
            <a:prstGeom prst="roundRect">
              <a:avLst>
                <a:gd name="adj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3120" bIns="33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Text Box 11"/>
            <p:cNvSpPr/>
            <p:nvPr/>
          </p:nvSpPr>
          <p:spPr>
            <a:xfrm>
              <a:off x="6067080" y="687600"/>
              <a:ext cx="2324880" cy="9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Text Box 12"/>
            <p:cNvSpPr/>
            <p:nvPr/>
          </p:nvSpPr>
          <p:spPr>
            <a:xfrm>
              <a:off x="7961040" y="785520"/>
              <a:ext cx="746280" cy="9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Text Box 13"/>
            <p:cNvSpPr/>
            <p:nvPr/>
          </p:nvSpPr>
          <p:spPr>
            <a:xfrm>
              <a:off x="7961040" y="880200"/>
              <a:ext cx="746280" cy="9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98" name="Picture 14" descr="Физкуль на улице 2008 021"/>
          <p:cNvPicPr/>
          <p:nvPr/>
        </p:nvPicPr>
        <p:blipFill>
          <a:blip r:embed="rId1"/>
          <a:stretch/>
        </p:blipFill>
        <p:spPr>
          <a:xfrm>
            <a:off x="5410080" y="1600200"/>
            <a:ext cx="3264120" cy="244800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15"/>
          <p:cNvGrpSpPr/>
          <p:nvPr/>
        </p:nvGrpSpPr>
        <p:grpSpPr>
          <a:xfrm>
            <a:off x="5410080" y="4114800"/>
            <a:ext cx="3297240" cy="2286000"/>
            <a:chOff x="5410080" y="4114800"/>
            <a:chExt cx="3297240" cy="2286000"/>
          </a:xfrm>
        </p:grpSpPr>
        <p:sp>
          <p:nvSpPr>
            <p:cNvPr id="400" name="Rectangle 16" hidden="1"/>
            <p:cNvSpPr/>
            <p:nvPr/>
          </p:nvSpPr>
          <p:spPr>
            <a:xfrm>
              <a:off x="5410080" y="4114800"/>
              <a:ext cx="3297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Rectangle 17"/>
            <p:cNvSpPr/>
            <p:nvPr/>
          </p:nvSpPr>
          <p:spPr>
            <a:xfrm>
              <a:off x="5410080" y="4114800"/>
              <a:ext cx="3297240" cy="228600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Text Box 18"/>
            <p:cNvSpPr/>
            <p:nvPr/>
          </p:nvSpPr>
          <p:spPr>
            <a:xfrm>
              <a:off x="5548680" y="4186440"/>
              <a:ext cx="3020040" cy="19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rmAutofit/>
            </a:bodyPr>
            <a:p>
              <a:pPr algn="ctr">
                <a:lnSpc>
                  <a:spcPct val="10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cc0033"/>
                  </a:solidFill>
                  <a:latin typeface="Times New Roman"/>
                  <a:ea typeface="Arial"/>
                </a:rPr>
                <a:t>«</a:t>
              </a:r>
              <a:r>
                <a:rPr b="1" i="1" lang="ru-RU" sz="1600" spc="-1" strike="noStrike">
                  <a:solidFill>
                    <a:srgbClr val="cc0033"/>
                  </a:solidFill>
                  <a:latin typeface="Times New Roman"/>
                  <a:ea typeface="Arial"/>
                </a:rPr>
                <a:t>Организация работы  по созданию системы оздоровительных  и профилактических мероприятий в ДОУ</a:t>
              </a:r>
              <a:r>
                <a:rPr b="1" i="1" lang="en-US" sz="1600" spc="-1" strike="noStrike">
                  <a:solidFill>
                    <a:srgbClr val="cc0033"/>
                  </a:solidFill>
                  <a:latin typeface="Times New Roman"/>
                  <a:ea typeface="Arial"/>
                </a:rPr>
                <a:t>»</a:t>
              </a:r>
              <a:r>
                <a:rPr b="1" i="1" lang="ru-RU" sz="1600" spc="-1" strike="noStrike">
                  <a:solidFill>
                    <a:srgbClr val="cc0033"/>
                  </a:solidFill>
                  <a:latin typeface="Times New Roman"/>
                  <a:ea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cc0033"/>
                  </a:solidFill>
                  <a:latin typeface="Times New Roman"/>
                  <a:ea typeface="Arial"/>
                </a:rPr>
                <a:t>п. Стройкерамика </a:t>
              </a:r>
              <a:r>
                <a:rPr b="0" i="1" lang="en-US" sz="1200" spc="-1" strike="noStrike">
                  <a:solidFill>
                    <a:srgbClr val="cc0033"/>
                  </a:solidFill>
                  <a:latin typeface="Times New Roman"/>
                  <a:ea typeface="Arial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Line 19"/>
            <p:cNvSpPr/>
            <p:nvPr/>
          </p:nvSpPr>
          <p:spPr>
            <a:xfrm>
              <a:off x="5410080" y="4114800"/>
              <a:ext cx="32972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724280" y="533520"/>
            <a:ext cx="4419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Verdana"/>
              </a:rPr>
              <a:t>КОНСУЛЬТАЦИИ «НЕБОЛЕЙКИНА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Rectangle 3"/>
          <p:cNvSpPr/>
          <p:nvPr/>
        </p:nvSpPr>
        <p:spPr>
          <a:xfrm flipV="1" rot="10806000">
            <a:off x="2520" y="1679400"/>
            <a:ext cx="41878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4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5"/>
          <p:cNvSpPr/>
          <p:nvPr/>
        </p:nvSpPr>
        <p:spPr>
          <a:xfrm>
            <a:off x="6629400" y="1523880"/>
            <a:ext cx="2057400" cy="685800"/>
          </a:xfrm>
          <a:prstGeom prst="rect">
            <a:avLst/>
          </a:prstGeom>
          <a:solidFill>
            <a:srgbClr val="ffffff"/>
          </a:solidFill>
          <a:ln cap="rnd" w="698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Arial"/>
              </a:rPr>
              <a:t>Ч И С Т О Т А –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Arial"/>
              </a:rPr>
              <a:t>ЗАЛОГ ЗДОРОВЬЯ 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6553080" y="4267080"/>
            <a:ext cx="2438640" cy="118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Arial"/>
                <a:ea typeface="Arial"/>
              </a:rPr>
              <a:t>Если ты весь день трудился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Arial"/>
                <a:ea typeface="Arial"/>
              </a:rPr>
              <a:t>Бегал, прыгал, веселился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Arial"/>
                <a:ea typeface="Arial"/>
              </a:rPr>
              <a:t>Надо телу отдохнуть 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  <a:ea typeface="Arial"/>
              </a:rPr>
              <a:t>—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Arial"/>
                <a:ea typeface="Arial"/>
              </a:rPr>
              <a:t>Надо тело сполоснуть!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Arial"/>
                <a:ea typeface="Arial"/>
              </a:rPr>
              <a:t>Чтоб росло и крепло тел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5029200" y="3581280"/>
            <a:ext cx="1371600" cy="190512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8"/>
          <p:cNvSpPr/>
          <p:nvPr/>
        </p:nvSpPr>
        <p:spPr>
          <a:xfrm>
            <a:off x="6400800" y="2438280"/>
            <a:ext cx="2209680" cy="17366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Arial"/>
                <a:ea typeface="Arial"/>
              </a:rPr>
              <a:t>Нужен здесь уход умелый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Arial"/>
                <a:ea typeface="Arial"/>
              </a:rPr>
              <a:t>Тренируй и закаляй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Arial"/>
                <a:ea typeface="Arial"/>
              </a:rPr>
              <a:t>На ночь в душе полива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Arial"/>
                <a:ea typeface="Arial"/>
              </a:rPr>
              <a:t>Если день твой перегружен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Arial"/>
                <a:ea typeface="Arial"/>
              </a:rPr>
              <a:t>Душ, как воздух, телу нужен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Rectangle 12"/>
          <p:cNvSpPr/>
          <p:nvPr/>
        </p:nvSpPr>
        <p:spPr>
          <a:xfrm>
            <a:off x="1219320" y="1066680"/>
            <a:ext cx="3504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Rectangle 13"/>
          <p:cNvSpPr/>
          <p:nvPr/>
        </p:nvSpPr>
        <p:spPr>
          <a:xfrm>
            <a:off x="1828800" y="1066680"/>
            <a:ext cx="3048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Газеты можно выпускать один раз в месяц, чтобы постоянно обеспе-чивать семьи раз-нообразной инфор-мацией, направ-ленной на форми-рование здорового образа жизни детей и родител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599840" y="5486040"/>
            <a:ext cx="70866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портивные детско-родительские праздник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4" name="Picture 4" descr="осень 2009 054"/>
          <p:cNvPicPr/>
          <p:nvPr/>
        </p:nvPicPr>
        <p:blipFill>
          <a:blip r:embed="rId1"/>
          <a:stretch/>
        </p:blipFill>
        <p:spPr>
          <a:xfrm>
            <a:off x="2057400" y="533520"/>
            <a:ext cx="61722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676160" y="5409720"/>
            <a:ext cx="701028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здоровительные мероприятия с родителям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6" name="Picture 4" descr="2010 012"/>
          <p:cNvPicPr/>
          <p:nvPr/>
        </p:nvPicPr>
        <p:blipFill>
          <a:blip r:embed="rId1"/>
          <a:stretch/>
        </p:blipFill>
        <p:spPr>
          <a:xfrm>
            <a:off x="1957320" y="457200"/>
            <a:ext cx="6237360" cy="48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1676160" y="500364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портивные детско-родительские соревно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8" name="Picture 4" descr="февраль 2010 019"/>
          <p:cNvPicPr/>
          <p:nvPr/>
        </p:nvPicPr>
        <p:blipFill>
          <a:blip r:embed="rId1"/>
          <a:stretch/>
        </p:blipFill>
        <p:spPr>
          <a:xfrm>
            <a:off x="1981080" y="533520"/>
            <a:ext cx="6408720" cy="43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2285640" y="38052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Список литературы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imes New Roman"/>
              </a:rPr>
              <a:t>1.  Арнаутова Е.П. «Преемственные связи ДОУ, школы и родителей», М., 2006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imes New Roman"/>
              </a:rPr>
              <a:t>2.   Бейн К. «Доброе утро! Мы рады, что ты здесь!», Самара, 2004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imes New Roman"/>
              </a:rPr>
              <a:t>3.   Волкова В.А., Соколова Н.Б. «Воспитательная система ДОУ», М., 2007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imes New Roman"/>
              </a:rPr>
              <a:t>4.  Данилина Т.А., Ладога Т.С., Зуйкова М.Б. «Взаимодействие дошкольного учреждения с социумом», М., 2003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imes New Roman"/>
              </a:rPr>
              <a:t>5.  Дронова Т.Н. «Вместе с семьей», М., 2005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imes New Roman"/>
              </a:rPr>
              <a:t>6.  Зверева О.Л., Кротова Т.В. «Общение педагога с родителями в ДОУ», М., 2005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imes New Roman"/>
              </a:rPr>
              <a:t>7.  Зенина Т.Н. «Родительские собрания в детском саду», М., 2007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imes New Roman"/>
              </a:rPr>
              <a:t>8. Козлова А.В., Демеулина Р.Т. «Работа ДОУ с семьей», М., 2004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imes New Roman"/>
              </a:rPr>
              <a:t>9. Козырева О.В. «Оздоровительно-развивающие игры для дошкольников», М., 2007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imes New Roman"/>
              </a:rPr>
              <a:t>10.Мушенок Н.И. «Роль семьи в формировании социально активной личности», Самара, 1992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2285640" y="6091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БЛАГОДАРИМ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АС ЗА ВНИМАНИЕ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i-main-pic" descr="Картинка 182 из 121854"/>
          <p:cNvPicPr/>
          <p:nvPr/>
        </p:nvPicPr>
        <p:blipFill>
          <a:blip r:embed="rId1"/>
          <a:stretch/>
        </p:blipFill>
        <p:spPr>
          <a:xfrm>
            <a:off x="3276720" y="236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2285640" y="53352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entury Schoolbook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Century Schoolbook"/>
              </a:rPr>
              <a:t>Чтобы сильным, ловким быть                                                                                                                           Нужно с солнышком дружить,                                                                                                                       Утром раньше всех вставать.                                                                                                                          И зарядку выполнять.                                                                                                                                     Все</a:t>
            </a:r>
            <a:r>
              <a:rPr b="1" lang="en-US" sz="18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Century Schoolbook"/>
              </a:rPr>
              <a:t>мы любим физкультуру,                                                                                                                             Любим бегать и скакать,                                                                                                                                   Умываться тоже любим,                                                                                                                                Любим песни петь, играт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Рисунок 25" descr="http://ds16balahna.edusite.ru/images/67259002.png"/>
          <p:cNvPicPr/>
          <p:nvPr/>
        </p:nvPicPr>
        <p:blipFill>
          <a:blip r:embed="rId1"/>
          <a:stretch/>
        </p:blipFill>
        <p:spPr>
          <a:xfrm>
            <a:off x="2209680" y="3352680"/>
            <a:ext cx="2144880" cy="309240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25" descr="http://ds16balahna.edusite.ru/images/67259002.png"/>
          <p:cNvPicPr/>
          <p:nvPr/>
        </p:nvPicPr>
        <p:blipFill>
          <a:blip r:embed="rId2"/>
          <a:stretch/>
        </p:blipFill>
        <p:spPr>
          <a:xfrm>
            <a:off x="6095880" y="3352680"/>
            <a:ext cx="213372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2209680" y="304920"/>
            <a:ext cx="6477120" cy="60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Детский сад — один из важнейших социальных институтов, обеспечивающих  воспитательный процесс   и  реальное  взаимодействие ребенка, родителей и социума. Деятельность родителей и педагогов  в  интересах  ребенка  может быть успешной   только  в    том   случае,  если   они станут   союзниками,  что  позволит  им лучше узнать    ребенка,     увидеть    его    в    разных ситуациях,  и таким образом помочь взрослым в  понимании  индивидуальных   особенностей детей, развитии  их  способностей, формировании   ценностных     жизненных     ориентиров, преодолении       негативных      поступков     и проявлений    в     поведен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2286000" y="304920"/>
            <a:ext cx="6400800" cy="60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овременная концепция  сотрудничества педагогов и родителей предполагает следующие этапы  работы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- информационно-подготовительный этап (педагогическая диагностика семьи)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- второй этап - непосредственное включение родителей в деятельность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- третий этап - оказание педагогической поддержки семье, т.е. повышение ее педагогической осведомлен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286000" y="967320"/>
            <a:ext cx="6172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Первый этап - «Давайте познакомимся!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На этом этапе происходит знакомство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родителей с детским садом, с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образовательными программами 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технологиями, с педагогически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коллективом и раскрывает перед ни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возможности совместной работы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Перед тем как ребенок начнет посещать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детский сад, родители должны прийти н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занятия и познакомить с педагогам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другими детьми и вообще с детским сад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2286000" y="923040"/>
            <a:ext cx="632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Второй этап - «Давайте подружимся!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На этом этапе родителям предлагаютс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уже активные методы взаимодейств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тренинги, «круглые столы», игров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семинар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После того как ребенок записан в детск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сад, вводные собрания для родителе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помогают им встретиться с воспитателя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и другими родителями, узнать и ребенка, 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его семью в домашней обстанов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2286000" y="788400"/>
            <a:ext cx="640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Третий этап - «Давайте узнавать вместе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На этом этапе можно говорить о функционировании родительско-педагогичес-кого сообщества, направляющего свою деятельность на развитие ребенка. На этом этапе следует планировать конференции – формальные собрания, предназначен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для того, чтобы обсуждать успехи детей 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давать возможность родителям делитьс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своими идеями и проблема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2285640" y="456840"/>
            <a:ext cx="617220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едагогическая осведомленность родите-лей включает следующие компоненты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тепень участия родителей в воспитательном процесс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нимание и осознание ответственности за физическое развитие ребен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Уровень педагогический знаний родителей (знания о развитии, воспитании и обучении детей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тиль педагогического общения с ребенком (практические умения по организации жизнедеятельности ребенка в семье, осуществления воспитательной деятельности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ФОРМЫ РАБОТЫ С РОДИТЕЛЯМИ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285640" y="1752120"/>
            <a:ext cx="61722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ндивидуальные и групповые бесед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Родительские собр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«Круглые столы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емина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Тренинг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Чаепит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портивные соревнования, КВ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Экскурс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5:14:01Z</dcterms:created>
  <dc:creator>Ксюша</dc:creator>
  <dc:description/>
  <dc:language>en-US</dc:language>
  <cp:lastModifiedBy>Наташа</cp:lastModifiedBy>
  <dcterms:modified xsi:type="dcterms:W3CDTF">2022-04-09T03:42:57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